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8565-2511-4AD6-B7C8-CA2BC744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E782-6ED1-4AF1-9EC5-93C24B1D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69BD9-1A46-4446-A587-1DBBFC77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08056-B7B7-4BAB-B75C-7C30329E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778A9-C915-48E3-A22E-7573D9D4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41E75-9E17-4935-B6DE-F3815BA0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46DC9-4C03-4BCD-8BED-98EE5696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A0C70-1E42-418C-BFB1-EC456DE3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185F6-BAA7-4306-B1CC-AE3FA628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1F3CA-7366-4AF4-BC98-6F656965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4F337-5A06-4744-B88D-2F1AF5577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5EB0A-C423-48A0-B57A-33A07C315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28DF-CB37-49C7-B8DE-E1D0F656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CE5AE-C5A7-4028-8E10-5477C937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2ABD1-4633-4E57-9040-434C543A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57ED63-DE1F-4DA4-87BA-FAD559EE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15286-41CA-47ED-A94A-D9CFA0BB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261CA-DC08-4207-A5E3-C6286851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B7C7A-A47A-4814-8B4D-684264A9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EA026-F2A6-481B-8F78-907AE0A9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84A97-DE6E-4D03-A0EB-D7198185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27553-18C1-4AE7-A1C9-3DCE7438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31383-CF08-4C2F-94CB-21B0F6CB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EC0A-C667-4085-BFA6-2D04FD78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093DB-F275-4FFD-84A6-7C113241C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6D6E0-5F15-4AB5-A888-AECA42E7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D4AEA-76D2-478D-892C-62336F0C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A189A-71F3-4E47-B960-90FB6CEB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E260F-5D83-4CDB-9E71-A92E8D47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DC338-986A-4AFE-B5DF-4CA4FEEE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0E311-8BBA-4B16-892D-2C65907F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AB3D4-DBD5-42D1-BB7C-832618B2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2B557-7A94-4E5B-9C96-30ECBACC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FC73A-1A45-426E-A23B-50F9069B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5DE1-474D-4DC7-966B-346B61C0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54107-FDE8-4C21-AF18-EB2C2C04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802E3-07F7-4713-9D85-FDDAFE1D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40CBC-59F3-4236-8EC9-0A99523F8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4592BB-8B35-45B3-AAF0-43E26221D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A753CC-2D7F-4C91-9E0C-1EA7A4B1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37F618-7AA0-4F83-AD2F-2406FC48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69994F-CA6C-49BD-822A-33049091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F497E8-C3DF-46F6-8AA2-7CA0A2BA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D9F181-248B-4E30-9E09-74DF439C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12581-100E-49AE-B2C8-CF979625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82D7-1381-41D2-815B-FD57071D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A58311-E8D9-4A00-8A54-4F53C807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4EA5A7-C3E5-492B-ADA0-4F0FF442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23F7C-53B7-4C26-92B2-3C6CB873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24FA2-87BE-41BA-9BED-F8C9DCBE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B63138-522B-44D9-A6F5-F7960B9E8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3ADAF6-42D0-4813-A1C5-DD212E8A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2F6237-750F-4D34-8BF4-F6479719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64E27C-C995-4A9C-BB26-986F9034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28EC4D-72D9-423F-80E1-2AA5916A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30FC4A-1B96-4236-8F6E-C511C96B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692C-EC68-44F2-8CFD-58BF92C5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D8D498-E053-4FF1-9876-25096C9D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8D4B94-47F9-420F-AB29-7DC9BA72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EBFABB-AC88-453E-B310-4209037C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E756F0-8A77-4A6E-82A7-849F3D9A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473C1A-A754-4B8F-AB0A-220027AE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56BC6E-3AB7-42F8-BFEA-3797A815C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154F3F-0CB3-408A-A699-4932C579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266C52-0FE2-4147-874F-850C018EC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2D5B38-4760-4FCE-BD2A-B3075ABB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7297A0-90AE-498B-9D34-5A44E969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B486-37FF-4BC4-8A2E-48DCED6F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7395BD-770A-41FC-8640-93300DD3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3E41AC-5358-41F1-AE83-1822BE4D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2F1715-C869-479C-A473-EF329636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024F11-8F89-4620-859A-CCD67C58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D8B18E-B59F-4606-99F0-ADDB9837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6285BE-727F-4823-ABBE-C7B8436B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F260B3-69E5-41C0-96CD-5D8C2FEB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780038-7071-4E65-B195-EEEC655F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DCC779-B322-485B-B432-C0081B50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385D-863D-4337-8F70-ED53F9EC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F3DC-FC91-4DED-8E66-CBB43D5A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703B-BF35-4E0A-8E74-0F401235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2883-F36E-4287-A8EE-3B19A66F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6774-B8B5-4227-9AF3-C2F35DD9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D66D-A3B5-4171-98FC-BB5772B9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760C-FFFD-4843-9049-26F1A1D7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9F93-0435-41B5-8967-328E092C9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1B4D-4DA5-4169-A813-CBFC5E10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E29388-CB54-4AC5-890C-B14CC750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8B530B-2E52-4C05-B6DF-2FD38E67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993184-AED6-4EBA-AD14-4C885B8E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537BC7-D816-43A9-BBF1-C8CE2BF5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356B82-77AA-4562-80A8-8ED23DE6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98DD-E639-4C08-B7D8-5BDDF5A4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CBCB00-AEEA-4439-B90C-763CA032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8048AD-3F67-4070-9F39-B6E48E98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863C76-AE21-4A48-9E74-DC55F4C4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3474E4-A8AC-41E5-B81F-EFD632C2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0CB75E-BC99-483C-A244-421408EA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C91DA0-C13E-4D2C-A6CB-888AEDCE1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F01138-18FB-416C-A794-C428FE96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FFDD7-8B7B-4562-8DCD-0C57EE96C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FCC1A-1BED-4178-A3A6-9B3956D4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662E5-FE3E-4B53-8BC8-199A39C5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EA93-993B-4218-A7FB-6D21D9F2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49FEF-7E10-4D8E-8802-A6746E95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C54CE-02BD-476B-85A4-BF81BA59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EABA1-1F9A-4C54-BC14-7BDF396C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28FB2-D7EA-46C8-85CC-62CFFE34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520D8-4F38-41FD-AFCD-D983B288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0EAFA-B367-4553-B9A5-C6440BD8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43024-7D40-4405-B4F1-A37B557A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61297-498E-44BB-AAD5-8E8F84D43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26125-2E5E-48C8-B777-013A73D7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C9279-E2DC-4C76-907F-CADB34EB3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2FF3-759D-497F-99FD-049253D6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B131A-D621-4053-B7AE-F2AB2EFD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B52BA-3AB7-44E0-B3C3-BEE05D0D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8A8A0-C47A-4241-A4C1-5C03D893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890B8-3116-49A5-AD71-BB435552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1BE7A-5355-4617-AE24-D1BB9688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A402F-2739-410D-A1C8-6A8AF1E6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96573-815B-451E-BCC1-1DF5E007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F473C-23F1-4B08-A496-F2073080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01CA3-7FA7-4C4E-924F-262D2A41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A2ED5-3734-4BB9-8602-F75E62A3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E1F7-8A94-4C89-8AF0-B457B76C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928E8-67C0-4A9F-97BC-0FE2CD464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CA03F-86E4-4395-B8AD-AB1241D6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1944B-A059-4643-B42E-22A0D86F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A7134-D64C-47B8-871A-8E249191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33151-4E07-464D-9891-24CD2784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3FE4F-5C0C-4E6C-A04B-20D4226B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8AF23-CC1E-4A27-A2BC-C7E137AB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7CDD7-B308-473F-8692-CFA0AFD7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26C76-AD2C-428C-89BD-2B6A343D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94A15-D428-42E3-8805-213D887E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63B6-BEE2-4F32-A747-9D1F2118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327E3-5242-43B3-BE87-99E37149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FD151-F6CC-4FB1-A2A1-8A00ABE9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DB776-D926-4B6B-BE19-D0A927EC0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1E301-89F7-4EA1-9541-1E79D80E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47937-473A-4263-B716-4E694761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A9550-17BA-4529-B5F8-729CAFDA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14C52-6EEC-4B35-ACF4-02362825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B50AD-F8A3-49FC-9F1E-56745319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7B2B5-3EB4-4DA9-9D47-2BF1D479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758C3-7DA2-4083-9385-32D895BF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34B3-397F-4E65-B918-C3982078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D4231-4769-473A-8893-657DF176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D1713-ECE8-4F8D-A41B-3B3904F6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63F52-DA2B-446E-A770-A4E4BBCA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E85D7-76EC-4662-9AF4-3C38F6FC5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7BD68-5FE2-44DC-94F1-A3774651E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98A7B-2879-4BE0-B53D-79D2D554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662C8-10EA-4CC4-8C34-0C566FBD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2075B-55BA-4EEA-A453-5B92D05B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FF3C4-5215-4EA0-AF29-80060856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38E44-C278-4B5F-AD46-DCAA9123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6281-244F-4055-863B-E7DBE7C9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BA09E-1433-445F-AF4C-A30C77AC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CD642-2BBD-4908-9BB4-1C28803F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1EEC4-631B-45D9-8607-4328ADDC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3FD5D-AED3-4F1C-AF94-F0FA558B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70A4A-BCAF-4B7D-BB41-2300CEA8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FD1CD-AADF-4A4E-ABB9-C7E9794DD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6D5A8-90B0-48C8-99CA-58031808C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F349D-B276-47C6-BC57-8C0C4699B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6D4BB-FF7D-4612-B9FA-976F340F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D4C5B-BCA1-4A34-9A96-3B2662AD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32B4-223E-4510-8899-80BE5D177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E5B7-C257-4F28-80DF-46AAC387DF0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AB2F-DCD2-4A40-94AA-0296268F98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3F02-0017-41B6-A8EF-68E3B06D26F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7D88-26B1-4458-B8C8-4CC67B93E2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7671-E10D-422B-8B23-F2995734C14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8BF3-DC3C-4B2C-8C6D-187E70D54D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D52B-3517-4DA7-AF3A-9FDBC9E35E9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32F0-78F5-4770-AF6E-266236482A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E021-B21A-4FB9-B331-6A1958F53B4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4614-6C60-4851-9918-343898F9CD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823C-2D11-4BE6-8829-C0823082556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3DC1-594E-43BF-A776-20185A1F09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D54C-927B-4140-837B-C4AB1F1AB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D543-9771-435D-8C72-C898B5BE5DE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D77C-0520-46AB-81FC-10AB78A1C9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B0DC-B443-4210-841C-A83055180CF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93AC-9159-4674-8EC0-B188059E0B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6230-2A8A-4B90-91B7-0F055544A4D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B989-6100-4EAB-B642-97229175ED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BC72-D016-41C7-8CD8-F9F2C9EC49A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526E-10E9-46C7-AB5A-8715781479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620F-AAE7-4086-83C9-58574AB1F4D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51C7-C5E5-41A2-B8DA-48B434E43A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1340-1FD0-454E-83FA-7BC96062D4A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4206-9B93-4FD3-99FC-660091CB04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18840" y="255600"/>
            <a:ext cx="79563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第五章       电流和电路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第五章 电流和电路</a:t>
            </a:r>
            <a:br>
              <a:rPr sz="4400"/>
            </a:b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第一节   电荷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学习目标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认识摩擦起电现象，正负电荷的规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知道两种电荷相互作用的规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知道验电器的原理、中和现象、电荷 量的意义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市场上出售一种能滚动的毛刷，当毛刷在毛料衣服上刷动时，可以将灰尘及微小脏物吸入刷内，这是因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用丝线悬挂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三个通草球，其中任意两个靠近时都相互吸引，则（  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三个小球只有一个带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三个小球都带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三个小球中肯定有一个不带电，另外两个带异种电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三个小球中肯定有一个不带电，另外两个带同种电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带正电的玻璃棒与已经带了电的验电器金属球接触时，验电器的金属箔片先闭合后张开。下列说法正确的是（   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验电器原来带正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验电器原来带负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玻璃棒上的电子向验电器上移动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验电器上的电子向玻璃棒上移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3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3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一、摩擦起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物体具有吸引轻小物体的性质，我们就说该物体带了电或者带了电荷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摩擦起电：用摩擦的方法使物体带电叫摩擦起电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带了电的物体叫带电体，有吸引轻小物体的性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二、两种电荷及相互作用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自然界中只存在两种电荷，即正电荷和负电荷，规定：用丝绸摩擦过的玻璃棒所带的电荷叫正电荷，用毛皮摩擦过的橡胶棒所带电荷叫负电荷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电荷间相互作用的规律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同种电荷互相排斥，异种电荷互相吸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三、验电器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构造：金属球、金属箔、金属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作用：检验物体是否带电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原理：同种电荷互相排斥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且所带电荷量越多金属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张开的角度越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检验方法：让物体接触验电器的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金属球若金属箔片张开，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明物体 带了电。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四、小结：检验物体是否带电的方法：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用验电器来检验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能否吸引轻小物体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电荷之间相互作用的性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五、电荷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定义：电荷的多少叫电荷量。符号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单位：库仑，符号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六、中和现象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等量的异种电荷放在一起完全抵消的现象叫中和现象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中和现象并不是电荷的消失，而是电荷发生了转移，使正、负电荷抵消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七、课堂练习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下列物体一定带负电的是（　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与玻璃棒摩擦过的丝绸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与带正电的物体接触后的验电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失去电子的塑料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与带正电的物体相吸的轻小物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小明用一带电体去靠近悬吊在丝线上的泡沫塑料小球，观察到小球先被吸引，与带电体接触后又立即被带电体推开，你知道原因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06:14:37Z</dcterms:created>
  <dc:creator>《初中物理在线》课件库 www.czwlzx.com</dc:creator>
  <dc:description>《初中物理在线》课件库 www.czwlzx.com</dc:description>
  <dc:language>en-US</dc:language>
  <cp:lastModifiedBy>a</cp:lastModifiedBy>
  <dcterms:modified xsi:type="dcterms:W3CDTF">2015-03-17T06:11:10Z</dcterms:modified>
  <cp:revision>16</cp:revision>
  <dc:subject/>
  <dc:title>第五章       电流和电路 第一节   电荷  </dc:title>
</cp:coreProperties>
</file>