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media/image4.jpeg" ContentType="image/jpeg"/>
  <Override PartName="/ppt/media/image10.wmf" ContentType="image/x-wmf"/>
  <Override PartName="/ppt/media/image12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106F-3785-40C0-85F2-E2AF25483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5E43-5F28-43F0-A801-9B3F6EC9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C76EA-E227-4412-8CA5-D9039CEB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43717-F06C-4D4A-9478-078DF8A2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DFD2E-20F4-481D-AF68-09118B1A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FDAA3-48BA-4FC5-8C2F-B184AC55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D9A4D-E4AF-40E4-9720-64E03F80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1F65A-AA91-4D77-8A6C-7CED06E6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2C58A-5985-46ED-A660-9A1EE0DC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61DD8-778A-476A-A63E-2DE0AEABE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502E6-39FB-44D9-9A65-70B8870E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8B04D-2752-4FB5-A5D5-A40246AA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DFA2-D61E-4E2C-99D9-876B66191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57A3C4-F8EC-4778-8087-8ACA9A4A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D9B917-06F4-4A9B-A3D5-39B8C8B3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7AB12-6371-46D5-AF28-DC268DC9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EFB6F-49BC-4DDF-9F86-083F46C9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13FA4-6C74-49B7-B480-7082099E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02CF93-BF23-4ACE-86BC-7F8A53E3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0DC2B-0D00-40C2-9A97-61FF6774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1E10E-C86B-48EC-BA0E-05389116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7319E-3C56-4528-B0C4-A8933F8E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A3971-731D-4CED-8213-172C51EC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AEBF-3E61-491D-91F7-930E31F5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80B8B-0956-40DF-8A45-F485CBD64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80219-5DB7-4912-947C-919FE947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13FAF-89C2-4503-99FC-30B8899A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57FD7-335C-463C-BA16-B926C65D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E34FA-FFE8-471B-B7CF-FCBC84D7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16EA4-6C2C-4040-8AE7-7F572290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13D84-04CD-4D68-8239-DBFDC011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D92EC-EBC7-4A61-9CDC-E89C2ED0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8E712-5408-488E-B621-FBACAFC6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54223-61EB-4E77-A8FB-8562B2F4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59BC-52AC-4971-A0A2-88CD66B0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8D3EF-E3E2-4A6C-ADD3-83E80473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42268-6925-465D-AEBD-448B97B0B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1F043-6685-4418-A950-7A990B08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A12DF-C0B3-42B9-893A-DE63084C0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A3503-D918-41D1-9F3C-00CC8042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04E2F-7A46-4B14-B94A-898A074E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1DF25-C2E8-4306-A15D-E3751023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47A350-593C-4146-9E34-D7827652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54270D-03CC-477F-884D-15A344F3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FAD4EB-D31C-4094-9899-22BC96BD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F3B1-E759-455C-AF14-8950671F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1715B8-59AE-4E26-B407-525B4C94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5214B6-3D38-4AB2-BDA4-CD0F6FC8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60C6E-7B8C-4425-BB4F-DB22693F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C7A5CF-943D-4FB5-9CFD-892F48C0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9ACD30-4CD8-4245-B05A-99E3E991B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D70A26-9855-4B3E-9796-528789C5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5E46BC-0802-4183-B570-F7F497E2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35DD93-F20F-449A-841B-8A2CEDC0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89329B-2CF4-43E9-8EF7-9B60BE0A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830F63-D823-4B1F-BFDC-29A9F4E9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A6D8-FB03-407B-9313-FA0F096F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42548C-32E4-41CA-ADDB-DE134B5A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DF8352-D57D-4EBD-AB22-5FF5A7E5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48E1E7-3057-44E6-AF9B-57D89704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75B97C-1671-4B45-A00E-AAD28892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6AEB83-8B6B-4195-8E2F-482B325A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345284-EAE6-4C17-8A41-19F80D67E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7D0095-4826-4A84-972D-A1310085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2D7A7D-A3B0-4B07-B4BE-EF6DD051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2F3668-36C7-4893-8FE7-4C0107C5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64EABB-4BF9-41CB-AD3B-63D74113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886F-88A9-45D3-ACA7-0AAC3304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629FF2-7286-4700-98E2-B80CEAB2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C4EBEA-E268-4D9C-A059-B30AFB63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94337F-4378-4130-BC6A-FEE83218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27BF3B-AC99-49A4-8F4A-C6790235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55681C-3F6D-4E47-912D-96B6C59C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4AD22B-64E9-4703-8712-CE11D641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076719-1F59-4A53-AC21-AAE51D46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FE489D-B54B-4894-9EEA-15D224C0B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DED64B-CDD8-42E4-AF1D-11AF630B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7D65-5DE2-448F-9C46-B1AE3BA1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9FF6-E8EB-4E93-864F-06167561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845C-7397-4C6D-B342-A34A6E4F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15BD-23B7-43B1-8AF9-FB87F96D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C680-1375-44A4-9F3E-42D16DDB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0970-B712-4681-802F-323B9B76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5940-AA68-4287-A319-C513AD18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A345-F41B-48EB-B47C-21C94ABB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2C39-0DDE-46A6-99A9-3D9F312D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B5F39-23AA-4841-B1F7-CF92DF6A0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9C764-7495-4036-8E2C-F7F43DDC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F82B7-BDC2-470E-A2B0-760528B4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703E2-CC9C-4597-8DA4-4CD2D991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9848B-C31F-4587-86A0-BA5409FE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E621-CD2F-4F5D-8428-3134B718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5C18E-3A45-4B15-8061-631C95B0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96CC3-D1EB-48F4-BDFF-2ED16B1B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B5DED-17CA-4545-972E-B40E01A2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4BF83-70F2-48E1-87BE-97845469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45FA0-42E6-48C2-BC34-254E288C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3684A-749B-4844-9731-CCDCA1F9D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12225-1422-409B-8407-2B5F9D4A8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68E4B-25A6-4FB4-94A7-4F5AD879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A7E93-1DC8-49A8-B369-6234192B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01FB7-34C1-4F21-AA7B-C5000BC0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D4D6-ED50-4EE5-867C-0B74D8FA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07359-17E7-4955-A003-A6DE71CB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01B5D-5968-4FF5-A09E-F39A8CBF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21F9B-ED24-45FC-8AA7-92B05B62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C5375-CB5D-48EF-93C1-EA92032C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95C32-6A27-4E41-B9B0-BFCE9AB2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6A32F-B3E6-4B05-9BFB-E930165E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28BF7-E363-4EB9-8DBD-BCB73DD1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FE98C-1F42-4645-96C8-C6B93D5A8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F476A-AF3B-4A8B-9A22-995E1E3B0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185E4-CA91-45A2-9836-F7E17992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BEEF-7D3D-49EC-942A-7997640B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6A4D0-D130-4BC0-BB69-5F891BDD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A47D0-A589-4E80-A1A2-E6F2DD0C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A1BC8-C8C5-4A91-B525-EA49F148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48A5F-E19A-48C1-B363-C6C414D3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DE088-4F41-4AF2-896E-99FCD0DF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85D17-EADC-4E3A-B8D9-4268EFF1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A3538-2337-4BCF-B029-7CBC738D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802D8-8C20-4BF4-BB40-3DF0F32E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A275B-9024-4C5A-9116-12CC8899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00396-0829-4761-AE0D-53667C3D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C0AB-B606-451A-A9EA-21E19DE1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40AEA-B375-4DF0-8658-8E1FA120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35B07-7072-472D-8A7C-58AE365A5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3AFE5-7794-4D99-B0DC-99040A92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D6F56-1A5A-4E9B-8F8A-0876FFCF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4A410-8544-4FB7-ACAA-D05855E9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E3425-7AAB-4E8A-AA16-C6F877A7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F868D-3F62-4123-A5D4-31300B45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2AABE-6A8C-45A1-A6FE-966CCCFE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533E1-EE35-4FD6-B727-0540940B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1228B-12FF-4A28-80F4-CB05B22A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40BD-7CF0-447E-8413-373DEB3C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43146-87C2-4F2D-BAA1-B79FBD1A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085B3-ECC3-435E-87D8-13F49A144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0F286-04C7-4C4D-89A1-9DCB7FA0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51D64-BF75-4503-B6AA-B1EBC0FC6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0AF78-3B70-4368-A496-7902F86C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AF905-2369-475A-BFC5-64F10845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6E051-586F-44E5-93DE-AB2DC9EC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E6E1E-8665-4D83-A0DB-37754E8D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8EC27-3DDB-4B9C-A917-94A53371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C04F6-C338-4307-BFB5-51A4494A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9DFD-7B09-4BC9-A317-1CD11831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42875-589B-487A-9AF0-3A855926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E4920-CF93-4911-9B2B-83324D04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0A288-3B90-4371-B199-11898CCE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AB6FB-38D4-441D-A752-75D1A1E74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66742-3AF0-4DE4-92F3-983D29F77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FF7DA-4788-47F5-9444-6313942B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DEAC4-77F9-4A93-BCA1-6CD91DE2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B23F1-FED1-4D2A-A166-2F98A60E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57444-F6EE-4586-B03D-1C7E4553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9353D-5436-4F68-B4A7-2FBEE2BA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E3A4-6FC8-409A-BB87-FA422622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178E3-A077-47BB-A249-0A4CFBA5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FC144-A338-4A67-91B7-42A51B65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391C0-0296-4B09-8B14-E3CE175A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7E883-4CF7-492A-9CE9-A44BD234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45BE8-6FCC-4FF6-A41C-505433C6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7EFD1-86CA-454C-A226-B3F38CBAD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722AF-6ED0-45B8-BB60-D3C91E65A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46ED9-0888-4657-B2B9-75E753171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54072-B777-4077-B5BB-FC4D6D75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F4448-DDC9-426A-A285-0C10B9AA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FE5A-1DE8-4475-A291-4F5EB3AE0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7143-0082-40C0-A0E5-2F1866A537B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87C5-2853-4565-BDA8-CE58969319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EE32-033F-46A8-BF4D-5769C6CAF37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A470-651B-4DDA-8E29-6B1A94D8FF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93FA-FF51-4326-9A9F-469E3770575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5CB7-F6E5-4ED1-9973-7D0772D0EB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7465-2549-44AC-85B0-3071B84C795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FB23-9D61-4F8E-9A76-1903722A68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4995-DFD9-436F-B6D5-E476695CA25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75C1-C358-478C-80E9-E35AE40040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1F11-AC0B-485F-8BC1-590835F2D68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8DF6-EB44-42EC-A994-223C7C71C5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98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99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00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101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2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03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04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5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06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7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8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689E-C110-448B-B01E-C48FABCF9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0584-B931-43F0-AF82-F11707E4DF2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AD1A-D28E-4EB3-8F70-0593FBD0A3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3516-ABB4-4BF7-BB9C-AB3B733EF11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AC9A-64CA-42E2-B967-799A6EBF8E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157E-0C1C-4737-BB34-2A6B7E36F69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5744-A7BD-4054-892D-C77E41A0C4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0D58-C3DB-4328-AEF3-D6A92518A80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B770-67B3-4427-A584-5020333665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A826-0AF5-4D2A-85B9-75F4B75ABFB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0248-0067-4132-9094-E75FDAA457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6842-5BEE-4080-B505-60E676508A8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96B7-C8ED-4666-92D4-8697702221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5"/>
          <p:cNvSpPr/>
          <p:nvPr/>
        </p:nvSpPr>
        <p:spPr>
          <a:xfrm>
            <a:off x="3505320" y="441972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ff"/>
                </a:solidFill>
                <a:latin typeface="Times New Roman"/>
              </a:rPr>
              <a:t>杨振宁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2" name="WordArt 6"/>
          <p:cNvSpPr txBox="1"/>
          <p:nvPr/>
        </p:nvSpPr>
        <p:spPr>
          <a:xfrm>
            <a:off x="1219320" y="685800"/>
            <a:ext cx="4724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楷体"/>
              </a:rPr>
              <a:t>邓稼先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楷体"/>
              <a:ea typeface="华文楷体"/>
            </a:endParaRPr>
          </a:p>
        </p:txBody>
      </p:sp>
      <p:pic>
        <p:nvPicPr>
          <p:cNvPr id="603" name="Picture 10" descr="djx3"/>
          <p:cNvPicPr/>
          <p:nvPr/>
        </p:nvPicPr>
        <p:blipFill>
          <a:blip r:embed="rId1"/>
          <a:stretch/>
        </p:blipFill>
        <p:spPr>
          <a:xfrm>
            <a:off x="6553080" y="533520"/>
            <a:ext cx="2239920" cy="3733560"/>
          </a:xfrm>
          <a:prstGeom prst="rect">
            <a:avLst/>
          </a:prstGeom>
          <a:ln w="203040">
            <a:solidFill>
              <a:srgbClr val="f8f8f8"/>
            </a:solidFill>
            <a:miter/>
          </a:ln>
        </p:spPr>
      </p:pic>
      <p:pic>
        <p:nvPicPr>
          <p:cNvPr id="604" name="Picture 11" descr="杨振宁"/>
          <p:cNvPicPr/>
          <p:nvPr/>
        </p:nvPicPr>
        <p:blipFill>
          <a:blip r:embed="rId2"/>
          <a:stretch/>
        </p:blipFill>
        <p:spPr>
          <a:xfrm>
            <a:off x="380880" y="2971800"/>
            <a:ext cx="2378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6"/>
          <p:cNvSpPr/>
          <p:nvPr/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00"/>
                </a:solidFill>
                <a:latin typeface="黑体"/>
                <a:ea typeface="黑体"/>
              </a:rPr>
              <a:t>这是</a:t>
            </a:r>
            <a:r>
              <a:rPr b="1" lang="en-US" sz="3000" spc="-1" strike="noStrike">
                <a:solidFill>
                  <a:srgbClr val="00ff00"/>
                </a:solidFill>
                <a:latin typeface="黑体"/>
                <a:ea typeface="黑体"/>
              </a:rPr>
              <a:t>1898</a:t>
            </a:r>
            <a:r>
              <a:rPr b="1" lang="zh-CN" sz="3000" spc="-1" strike="noStrike">
                <a:solidFill>
                  <a:srgbClr val="00ff00"/>
                </a:solidFill>
                <a:latin typeface="黑体"/>
                <a:ea typeface="黑体"/>
              </a:rPr>
              <a:t>年中日甲午战争中几幅照片，那是任人宰割的时代，是有亡国灭种的危险的时代。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25" name="Picture 7" descr="01"/>
          <p:cNvPicPr/>
          <p:nvPr/>
        </p:nvPicPr>
        <p:blipFill>
          <a:blip r:embed="rId1"/>
          <a:stretch/>
        </p:blipFill>
        <p:spPr>
          <a:xfrm>
            <a:off x="380880" y="1447920"/>
            <a:ext cx="4267440" cy="25048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8" descr="YZ8"/>
          <p:cNvPicPr/>
          <p:nvPr/>
        </p:nvPicPr>
        <p:blipFill>
          <a:blip r:embed="rId2"/>
          <a:stretch/>
        </p:blipFill>
        <p:spPr>
          <a:xfrm>
            <a:off x="4724280" y="1447920"/>
            <a:ext cx="4038840" cy="22860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9" descr="11"/>
          <p:cNvPicPr/>
          <p:nvPr/>
        </p:nvPicPr>
        <p:blipFill>
          <a:blip r:embed="rId3"/>
          <a:stretch/>
        </p:blipFill>
        <p:spPr>
          <a:xfrm>
            <a:off x="457200" y="3886200"/>
            <a:ext cx="4191120" cy="27432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0" descr="81"/>
          <p:cNvPicPr/>
          <p:nvPr/>
        </p:nvPicPr>
        <p:blipFill>
          <a:blip r:embed="rId4"/>
          <a:stretch/>
        </p:blipFill>
        <p:spPr>
          <a:xfrm>
            <a:off x="4724280" y="3863880"/>
            <a:ext cx="40388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3" descr="01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601992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4"/>
          <p:cNvSpPr/>
          <p:nvPr/>
        </p:nvSpPr>
        <p:spPr>
          <a:xfrm>
            <a:off x="457200" y="53352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八国联军攻陷的北京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7" descr="YZ8"/>
          <p:cNvPicPr/>
          <p:nvPr/>
        </p:nvPicPr>
        <p:blipFill>
          <a:blip r:embed="rId1"/>
          <a:stretch/>
        </p:blipFill>
        <p:spPr>
          <a:xfrm>
            <a:off x="457200" y="533520"/>
            <a:ext cx="8381880" cy="5790960"/>
          </a:xfrm>
          <a:prstGeom prst="rect">
            <a:avLst/>
          </a:prstGeom>
          <a:ln w="0">
            <a:noFill/>
          </a:ln>
        </p:spPr>
      </p:pic>
      <p:sp>
        <p:nvSpPr>
          <p:cNvPr id="632" name="Text Box 8"/>
          <p:cNvSpPr/>
          <p:nvPr/>
        </p:nvSpPr>
        <p:spPr>
          <a:xfrm>
            <a:off x="3886200" y="60948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甲午战争黄海大战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3" descr="11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94360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4"/>
          <p:cNvSpPr/>
          <p:nvPr/>
        </p:nvSpPr>
        <p:spPr>
          <a:xfrm>
            <a:off x="609480" y="53352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幼圆"/>
              </a:rPr>
              <a:t>日军屠杀大连、旅顺居民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3" descr="81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5943600"/>
          </a:xfrm>
          <a:prstGeom prst="rect">
            <a:avLst/>
          </a:prstGeom>
          <a:ln w="0">
            <a:noFill/>
          </a:ln>
        </p:spPr>
      </p:pic>
      <p:sp>
        <p:nvSpPr>
          <p:cNvPr id="636" name="Text Box 4"/>
          <p:cNvSpPr/>
          <p:nvPr/>
        </p:nvSpPr>
        <p:spPr>
          <a:xfrm>
            <a:off x="762120" y="0"/>
            <a:ext cx="8076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7" name="Text Box 5"/>
          <p:cNvSpPr/>
          <p:nvPr/>
        </p:nvSpPr>
        <p:spPr>
          <a:xfrm>
            <a:off x="533520" y="609480"/>
            <a:ext cx="55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被带上枷锁的中国人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2"/>
          <p:cNvSpPr/>
          <p:nvPr/>
        </p:nvSpPr>
        <p:spPr>
          <a:xfrm>
            <a:off x="533520" y="243828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Times New Roman"/>
              </a:rPr>
              <a:t>先概述我国近一百多年的历史，是为了说明邓稼先是对中华民族从“任人宰割”到“站起来了”这一巨大转变做出贡献的科学家，是对历史的发展产生巨大影响的历史人物。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9" name="Text Box 3"/>
          <p:cNvSpPr/>
          <p:nvPr/>
        </p:nvSpPr>
        <p:spPr>
          <a:xfrm>
            <a:off x="175248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幼圆"/>
                <a:ea typeface="幼圆"/>
              </a:rPr>
              <a:t>在写邓稼先之前</a:t>
            </a:r>
            <a:r>
              <a:rPr b="1" lang="en-US" sz="4400" spc="-1" strike="noStrike">
                <a:solidFill>
                  <a:srgbClr val="00ff00"/>
                </a:solidFill>
                <a:latin typeface="幼圆"/>
                <a:ea typeface="幼圆"/>
              </a:rPr>
              <a:t>,</a:t>
            </a:r>
            <a:r>
              <a:rPr b="1" lang="zh-CN" sz="4400" spc="-1" strike="noStrike">
                <a:solidFill>
                  <a:srgbClr val="00ff00"/>
                </a:solidFill>
                <a:latin typeface="幼圆"/>
                <a:ea typeface="幼圆"/>
              </a:rPr>
              <a:t>为什么先概述我国近一百多年以来的历史</a:t>
            </a:r>
            <a:r>
              <a:rPr b="1" lang="en-US" sz="4400" spc="-1" strike="noStrike">
                <a:solidFill>
                  <a:srgbClr val="00ff00"/>
                </a:solidFill>
                <a:latin typeface="幼圆"/>
                <a:ea typeface="幼圆"/>
              </a:rPr>
              <a:t>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40" name="Picture 4" descr="often_055"/>
          <p:cNvPicPr/>
          <p:nvPr/>
        </p:nvPicPr>
        <p:blipFill>
          <a:blip r:embed="rId1"/>
          <a:stretch/>
        </p:blipFill>
        <p:spPr>
          <a:xfrm>
            <a:off x="457200" y="457200"/>
            <a:ext cx="12906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982_第一颗原子弹"/>
          <p:cNvPicPr/>
          <p:nvPr/>
        </p:nvPicPr>
        <p:blipFill>
          <a:blip r:embed="rId1"/>
          <a:srcRect l="0" t="0" r="199" b="0"/>
          <a:stretch/>
        </p:blipFill>
        <p:spPr>
          <a:xfrm>
            <a:off x="533520" y="289080"/>
            <a:ext cx="4495680" cy="656892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3"/>
          <p:cNvSpPr/>
          <p:nvPr/>
        </p:nvSpPr>
        <p:spPr>
          <a:xfrm>
            <a:off x="5867280" y="457200"/>
            <a:ext cx="281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  <a:ea typeface="黑体"/>
              </a:rPr>
              <a:t>1964</a:t>
            </a:r>
            <a:r>
              <a:rPr b="0" lang="zh-CN" sz="6000" spc="-1" strike="noStrike">
                <a:solidFill>
                  <a:srgbClr val="f8f8f8"/>
                </a:solidFill>
                <a:latin typeface="Times New Roman"/>
                <a:ea typeface="黑体"/>
              </a:rPr>
              <a:t>年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  <a:ea typeface="黑体"/>
              </a:rPr>
              <a:t>10</a:t>
            </a:r>
            <a:r>
              <a:rPr b="0" lang="zh-CN" sz="6000" spc="-1" strike="noStrike">
                <a:solidFill>
                  <a:srgbClr val="f8f8f8"/>
                </a:solidFill>
                <a:latin typeface="Times New Roman"/>
                <a:ea typeface="黑体"/>
              </a:rPr>
              <a:t>月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  <a:ea typeface="黑体"/>
              </a:rPr>
              <a:t>16</a:t>
            </a:r>
            <a:r>
              <a:rPr b="0" lang="zh-CN" sz="6000" spc="-1" strike="noStrike">
                <a:solidFill>
                  <a:srgbClr val="f8f8f8"/>
                </a:solidFill>
                <a:latin typeface="Times New Roman"/>
                <a:ea typeface="黑体"/>
              </a:rPr>
              <a:t>日中国爆炸了第一颗原子弹。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3"/>
          <p:cNvSpPr/>
          <p:nvPr/>
        </p:nvSpPr>
        <p:spPr>
          <a:xfrm>
            <a:off x="5867280" y="1143000"/>
            <a:ext cx="281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1964</a:t>
            </a:r>
            <a:r>
              <a:rPr b="0" lang="zh-CN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年</a:t>
            </a:r>
            <a:r>
              <a:rPr b="0" lang="en-US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10</a:t>
            </a:r>
            <a:r>
              <a:rPr b="0" lang="zh-CN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月</a:t>
            </a:r>
            <a:r>
              <a:rPr b="0" lang="en-US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16</a:t>
            </a:r>
            <a:r>
              <a:rPr b="0" lang="zh-CN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日中国爆炸了第一颗原子弹。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44" name="Picture 4" descr="k129061210981825292"/>
          <p:cNvPicPr/>
          <p:nvPr/>
        </p:nvPicPr>
        <p:blipFill>
          <a:blip r:embed="rId1"/>
          <a:stretch/>
        </p:blipFill>
        <p:spPr>
          <a:xfrm>
            <a:off x="609480" y="380880"/>
            <a:ext cx="4953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2"/>
          <p:cNvSpPr/>
          <p:nvPr/>
        </p:nvSpPr>
        <p:spPr>
          <a:xfrm>
            <a:off x="5867280" y="685800"/>
            <a:ext cx="281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  <a:ea typeface="黑体"/>
              </a:rPr>
              <a:t>1967</a:t>
            </a:r>
            <a:r>
              <a:rPr b="0" lang="zh-CN" sz="6000" spc="-1" strike="noStrike">
                <a:solidFill>
                  <a:srgbClr val="f8f8f8"/>
                </a:solidFill>
                <a:latin typeface="Times New Roman"/>
                <a:ea typeface="黑体"/>
              </a:rPr>
              <a:t>年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  <a:ea typeface="黑体"/>
              </a:rPr>
              <a:t>6</a:t>
            </a:r>
            <a:r>
              <a:rPr b="0" lang="zh-CN" sz="6000" spc="-1" strike="noStrike">
                <a:solidFill>
                  <a:srgbClr val="f8f8f8"/>
                </a:solidFill>
                <a:latin typeface="Times New Roman"/>
                <a:ea typeface="黑体"/>
              </a:rPr>
              <a:t>月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  <a:ea typeface="黑体"/>
              </a:rPr>
              <a:t>17</a:t>
            </a:r>
            <a:r>
              <a:rPr b="0" lang="zh-CN" sz="6000" spc="-1" strike="noStrike">
                <a:solidFill>
                  <a:srgbClr val="f8f8f8"/>
                </a:solidFill>
                <a:latin typeface="Times New Roman"/>
                <a:ea typeface="黑体"/>
              </a:rPr>
              <a:t>日中国爆炸了第一颗氢弹。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46" name="Picture 3" descr="yz1"/>
          <p:cNvPicPr/>
          <p:nvPr/>
        </p:nvPicPr>
        <p:blipFill>
          <a:blip r:embed="rId1"/>
          <a:stretch/>
        </p:blipFill>
        <p:spPr>
          <a:xfrm>
            <a:off x="457200" y="457200"/>
            <a:ext cx="516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2"/>
          <p:cNvSpPr/>
          <p:nvPr/>
        </p:nvSpPr>
        <p:spPr>
          <a:xfrm>
            <a:off x="228600" y="38088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8f8f8"/>
                </a:solidFill>
                <a:latin typeface="Times New Roman"/>
                <a:ea typeface="黑体"/>
              </a:rPr>
              <a:t>为什么要拿美国科学家奥本海默与邓稼先作比较？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48" name="Picture 3" descr="yz4"/>
          <p:cNvPicPr/>
          <p:nvPr/>
        </p:nvPicPr>
        <p:blipFill>
          <a:blip r:embed="rId1"/>
          <a:stretch/>
        </p:blipFill>
        <p:spPr>
          <a:xfrm>
            <a:off x="762120" y="2209680"/>
            <a:ext cx="3128760" cy="43434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" descr="ABHM"/>
          <p:cNvPicPr/>
          <p:nvPr/>
        </p:nvPicPr>
        <p:blipFill>
          <a:blip r:embed="rId2"/>
          <a:stretch/>
        </p:blipFill>
        <p:spPr>
          <a:xfrm>
            <a:off x="5029200" y="2209680"/>
            <a:ext cx="28144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733560" y="457200"/>
            <a:ext cx="38098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ahoma"/>
                <a:ea typeface="隶书"/>
              </a:rPr>
              <a:t>人物介绍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380880" y="1676520"/>
            <a:ext cx="8382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              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邓稼先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1924—1986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），安徽省怀宁县人，中国研制和发展核武器的重要技术领导人，为我国成功研制原子弹、氢弹和新型核武器做出了重大贡献。</a:t>
            </a: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1999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年党中央、国务院、中央军委给他追授了“两弹一星功勋奖章”。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07" name="Picture 4" descr="邓稼先"/>
          <p:cNvPicPr/>
          <p:nvPr/>
        </p:nvPicPr>
        <p:blipFill>
          <a:blip r:embed="rId1"/>
          <a:stretch/>
        </p:blipFill>
        <p:spPr>
          <a:xfrm>
            <a:off x="533520" y="228600"/>
            <a:ext cx="2133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2"/>
          <p:cNvSpPr/>
          <p:nvPr/>
        </p:nvSpPr>
        <p:spPr>
          <a:xfrm>
            <a:off x="685800" y="22860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邓稼先与奥本海默进行了比较：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651" name="Group 3"/>
          <p:cNvGrpSpPr/>
          <p:nvPr/>
        </p:nvGrpSpPr>
        <p:grpSpPr>
          <a:xfrm>
            <a:off x="385920" y="1066680"/>
            <a:ext cx="3433320" cy="2098800"/>
            <a:chOff x="385920" y="1066680"/>
            <a:chExt cx="3433320" cy="2098800"/>
          </a:xfrm>
        </p:grpSpPr>
        <p:sp>
          <p:nvSpPr>
            <p:cNvPr id="652" name="Text Box 4"/>
            <p:cNvSpPr/>
            <p:nvPr/>
          </p:nvSpPr>
          <p:spPr>
            <a:xfrm>
              <a:off x="385920" y="1066680"/>
              <a:ext cx="1218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ff00"/>
                  </a:solidFill>
                  <a:latin typeface="Times New Roman"/>
                  <a:ea typeface="楷体_GB2312"/>
                </a:rPr>
                <a:t>职务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3" name="Text Box 5"/>
            <p:cNvSpPr/>
            <p:nvPr/>
          </p:nvSpPr>
          <p:spPr>
            <a:xfrm>
              <a:off x="385920" y="1752480"/>
              <a:ext cx="1218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ff00"/>
                  </a:solidFill>
                  <a:latin typeface="Times New Roman"/>
                  <a:ea typeface="楷体_GB2312"/>
                </a:rPr>
                <a:t>功劳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4" name="Rectangle 6"/>
            <p:cNvSpPr/>
            <p:nvPr/>
          </p:nvSpPr>
          <p:spPr>
            <a:xfrm>
              <a:off x="715680" y="246204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ff00"/>
                  </a:solidFill>
                  <a:latin typeface="Times New Roman"/>
                  <a:ea typeface="楷体_GB2312"/>
                </a:rPr>
                <a:t>学术水平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5" name="AutoShape 7"/>
            <p:cNvSpPr/>
            <p:nvPr/>
          </p:nvSpPr>
          <p:spPr>
            <a:xfrm>
              <a:off x="2416680" y="1219320"/>
              <a:ext cx="405720" cy="1904760"/>
            </a:xfrm>
            <a:custGeom>
              <a:avLst/>
              <a:gdLst>
                <a:gd name="textAreaLeft" fmla="*/ 0 w 405720"/>
                <a:gd name="textAreaRight" fmla="*/ 146520 w 405720"/>
                <a:gd name="textAreaTop" fmla="*/ 49680 h 1904760"/>
                <a:gd name="textAreaBottom" fmla="*/ 185508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6" name="Rectangle 8"/>
            <p:cNvSpPr/>
            <p:nvPr/>
          </p:nvSpPr>
          <p:spPr>
            <a:xfrm>
              <a:off x="3029040" y="192888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ff00"/>
                  </a:solidFill>
                  <a:latin typeface="Times New Roman"/>
                  <a:ea typeface="楷体_GB2312"/>
                </a:rPr>
                <a:t>相当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7" name="Group 9"/>
          <p:cNvGrpSpPr/>
          <p:nvPr/>
        </p:nvGrpSpPr>
        <p:grpSpPr>
          <a:xfrm>
            <a:off x="5083200" y="938160"/>
            <a:ext cx="3076200" cy="2490840"/>
            <a:chOff x="5083200" y="938160"/>
            <a:chExt cx="3076200" cy="2490840"/>
          </a:xfrm>
        </p:grpSpPr>
        <p:sp>
          <p:nvSpPr>
            <p:cNvPr id="658" name="Rectangle 10"/>
            <p:cNvSpPr/>
            <p:nvPr/>
          </p:nvSpPr>
          <p:spPr>
            <a:xfrm>
              <a:off x="5083200" y="93816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ff00"/>
                  </a:solidFill>
                  <a:latin typeface="Times New Roman"/>
                  <a:ea typeface="楷体_GB2312"/>
                </a:rPr>
                <a:t>国籍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9" name="Rectangle 11"/>
            <p:cNvSpPr/>
            <p:nvPr/>
          </p:nvSpPr>
          <p:spPr>
            <a:xfrm>
              <a:off x="5288040" y="185256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ff00"/>
                  </a:solidFill>
                  <a:latin typeface="Times New Roman"/>
                  <a:ea typeface="楷体_GB2312"/>
                </a:rPr>
                <a:t>文化背景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60" name="Rectangle 12"/>
            <p:cNvSpPr/>
            <p:nvPr/>
          </p:nvSpPr>
          <p:spPr>
            <a:xfrm>
              <a:off x="5083200" y="269064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ff00"/>
                  </a:solidFill>
                  <a:latin typeface="Times New Roman"/>
                  <a:ea typeface="楷体_GB2312"/>
                </a:rPr>
                <a:t>性格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61" name="AutoShape 13"/>
            <p:cNvSpPr/>
            <p:nvPr/>
          </p:nvSpPr>
          <p:spPr>
            <a:xfrm>
              <a:off x="6705720" y="1066680"/>
              <a:ext cx="457200" cy="23623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61560 h 2362320"/>
                <a:gd name="textAreaBottom" fmla="*/ 230076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62" name="Rectangle 14"/>
            <p:cNvSpPr/>
            <p:nvPr/>
          </p:nvSpPr>
          <p:spPr>
            <a:xfrm>
              <a:off x="7369200" y="192888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ff00"/>
                  </a:solidFill>
                  <a:latin typeface="Times New Roman"/>
                  <a:ea typeface="楷体_GB2312"/>
                </a:rPr>
                <a:t>不同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3" name="Group 15"/>
          <p:cNvGrpSpPr/>
          <p:nvPr/>
        </p:nvGrpSpPr>
        <p:grpSpPr>
          <a:xfrm>
            <a:off x="411120" y="3681360"/>
            <a:ext cx="3990960" cy="2719440"/>
            <a:chOff x="411120" y="3681360"/>
            <a:chExt cx="3990960" cy="2719440"/>
          </a:xfrm>
        </p:grpSpPr>
        <p:sp>
          <p:nvSpPr>
            <p:cNvPr id="664" name="Rectangle 16"/>
            <p:cNvSpPr/>
            <p:nvPr/>
          </p:nvSpPr>
          <p:spPr>
            <a:xfrm>
              <a:off x="411120" y="467208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奥本海默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65" name="AutoShape 17"/>
            <p:cNvSpPr/>
            <p:nvPr/>
          </p:nvSpPr>
          <p:spPr>
            <a:xfrm>
              <a:off x="2057400" y="3733920"/>
              <a:ext cx="457200" cy="266688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69480 h 2666880"/>
                <a:gd name="textAreaBottom" fmla="*/ 259740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66" name="Rectangle 18"/>
            <p:cNvSpPr/>
            <p:nvPr/>
          </p:nvSpPr>
          <p:spPr>
            <a:xfrm>
              <a:off x="3002040" y="368136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锋芒毕露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67" name="Rectangle 19"/>
            <p:cNvSpPr/>
            <p:nvPr/>
          </p:nvSpPr>
          <p:spPr>
            <a:xfrm>
              <a:off x="3002040" y="467208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善于辞令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68" name="Rectangle 20"/>
            <p:cNvSpPr/>
            <p:nvPr/>
          </p:nvSpPr>
          <p:spPr>
            <a:xfrm>
              <a:off x="3002040" y="566244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复杂的人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9" name="Group 21"/>
          <p:cNvGrpSpPr/>
          <p:nvPr/>
        </p:nvGrpSpPr>
        <p:grpSpPr>
          <a:xfrm>
            <a:off x="4880880" y="3429000"/>
            <a:ext cx="3837960" cy="2964600"/>
            <a:chOff x="4880880" y="3429000"/>
            <a:chExt cx="3837960" cy="2964600"/>
          </a:xfrm>
        </p:grpSpPr>
        <p:sp>
          <p:nvSpPr>
            <p:cNvPr id="670" name="Rectangle 22"/>
            <p:cNvSpPr/>
            <p:nvPr/>
          </p:nvSpPr>
          <p:spPr>
            <a:xfrm>
              <a:off x="4880880" y="4444200"/>
              <a:ext cx="109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邓稼先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1" name="AutoShape 23"/>
            <p:cNvSpPr/>
            <p:nvPr/>
          </p:nvSpPr>
          <p:spPr>
            <a:xfrm>
              <a:off x="6167160" y="3429000"/>
              <a:ext cx="478440" cy="2886480"/>
            </a:xfrm>
            <a:custGeom>
              <a:avLst/>
              <a:gdLst>
                <a:gd name="textAreaLeft" fmla="*/ 305640 w 478440"/>
                <a:gd name="textAreaRight" fmla="*/ 478800 w 478440"/>
                <a:gd name="textAreaTop" fmla="*/ 75240 h 2886480"/>
                <a:gd name="textAreaBottom" fmla="*/ 2811240 h 288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2" name="Rectangle 24"/>
            <p:cNvSpPr/>
            <p:nvPr/>
          </p:nvSpPr>
          <p:spPr>
            <a:xfrm>
              <a:off x="6725160" y="3511080"/>
              <a:ext cx="19936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最不引人注意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3" name="Rectangle 25"/>
            <p:cNvSpPr/>
            <p:nvPr/>
          </p:nvSpPr>
          <p:spPr>
            <a:xfrm>
              <a:off x="7137720" y="486000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忠厚平实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4" name="Rectangle 26"/>
            <p:cNvSpPr/>
            <p:nvPr/>
          </p:nvSpPr>
          <p:spPr>
            <a:xfrm>
              <a:off x="6877080" y="5690160"/>
              <a:ext cx="1216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“</a:t>
              </a: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纯”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75" name="Rectangle 27"/>
          <p:cNvSpPr/>
          <p:nvPr/>
        </p:nvSpPr>
        <p:spPr>
          <a:xfrm>
            <a:off x="4800600" y="5181480"/>
            <a:ext cx="1371600" cy="1434600"/>
          </a:xfrm>
          <a:prstGeom prst="rect">
            <a:avLst/>
          </a:prstGeom>
          <a:solidFill>
            <a:srgbClr val="6699ff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奉献精神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1034640"/>
            <a:ext cx="7772400" cy="31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ahoma"/>
              </a:rPr>
              <a:t>对比中得出怎样的结论</a:t>
            </a:r>
            <a:r>
              <a:rPr b="0" lang="zh-CN" sz="5400" spc="-1" strike="noStrike">
                <a:solidFill>
                  <a:srgbClr val="ffff00"/>
                </a:solidFill>
                <a:latin typeface="Tahoma"/>
              </a:rPr>
              <a:t>？</a:t>
            </a:r>
            <a:r>
              <a:rPr b="1" lang="zh-CN" sz="5400" spc="-1" strike="noStrike">
                <a:solidFill>
                  <a:srgbClr val="ffff00"/>
                </a:solidFill>
                <a:latin typeface="Tahoma"/>
              </a:rPr>
              <a:t>说说你对它的理解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幼圆"/>
              </a:rPr>
              <a:t>“</a:t>
            </a:r>
            <a:r>
              <a:rPr b="1" lang="zh-CN" sz="3600" spc="-1" strike="noStrike">
                <a:solidFill>
                  <a:srgbClr val="00ffff"/>
                </a:solidFill>
                <a:latin typeface="Tahoma"/>
                <a:ea typeface="幼圆"/>
              </a:rPr>
              <a:t>邓稼先是中国几千年传统文化所孕育出来的有最高奉献精神的儿子。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幼圆"/>
              </a:rPr>
              <a:t>”</a:t>
            </a:r>
            <a:r>
              <a:rPr b="1" lang="zh-CN" sz="3600" spc="-1" strike="noStrike">
                <a:solidFill>
                  <a:srgbClr val="00ffff"/>
                </a:solidFill>
                <a:latin typeface="Tahoma"/>
                <a:ea typeface="幼圆"/>
              </a:rPr>
              <a:t>是指</a:t>
            </a:r>
            <a:r>
              <a:rPr b="0" lang="zh-CN" sz="3600" spc="-1" strike="noStrike">
                <a:solidFill>
                  <a:srgbClr val="00ffff"/>
                </a:solidFill>
                <a:latin typeface="Tahoma"/>
              </a:rPr>
              <a:t>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ahoma"/>
                <a:ea typeface="幼圆"/>
              </a:rPr>
              <a:t>邓稼先与锋芒毕露的奥本海默截然不同，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幼圆"/>
              </a:rPr>
              <a:t>“</a:t>
            </a:r>
            <a:r>
              <a:rPr b="1" lang="zh-CN" sz="3600" spc="-1" strike="noStrike">
                <a:solidFill>
                  <a:srgbClr val="00ff00"/>
                </a:solidFill>
                <a:latin typeface="Tahoma"/>
                <a:ea typeface="幼圆"/>
              </a:rPr>
              <a:t>是一个最不要引人注目的人物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幼圆"/>
              </a:rPr>
              <a:t>”</a:t>
            </a:r>
            <a:r>
              <a:rPr b="1" lang="zh-CN" sz="3600" spc="-1" strike="noStrike">
                <a:solidFill>
                  <a:srgbClr val="00ff00"/>
                </a:solidFill>
                <a:latin typeface="Tahoma"/>
                <a:ea typeface="幼圆"/>
              </a:rPr>
              <a:t>，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幼圆"/>
              </a:rPr>
              <a:t>“</a:t>
            </a:r>
            <a:r>
              <a:rPr b="1" lang="zh-CN" sz="3600" spc="-1" strike="noStrike">
                <a:solidFill>
                  <a:srgbClr val="00ff00"/>
                </a:solidFill>
                <a:latin typeface="Tahoma"/>
                <a:ea typeface="幼圆"/>
              </a:rPr>
              <a:t>忠厚平实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幼圆"/>
              </a:rPr>
              <a:t>”</a:t>
            </a:r>
            <a:r>
              <a:rPr b="1" lang="zh-CN" sz="3600" spc="-1" strike="noStrike">
                <a:solidFill>
                  <a:srgbClr val="00ff00"/>
                </a:solidFill>
                <a:latin typeface="Tahoma"/>
                <a:ea typeface="幼圆"/>
              </a:rPr>
              <a:t>，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幼圆"/>
              </a:rPr>
              <a:t>“</a:t>
            </a:r>
            <a:r>
              <a:rPr b="1" lang="zh-CN" sz="3600" spc="-1" strike="noStrike">
                <a:solidFill>
                  <a:srgbClr val="00ff00"/>
                </a:solidFill>
                <a:latin typeface="Tahoma"/>
                <a:ea typeface="幼圆"/>
              </a:rPr>
              <a:t>真诚坦白，从不骄人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幼圆"/>
              </a:rPr>
              <a:t>”</a:t>
            </a:r>
            <a:r>
              <a:rPr b="1" lang="zh-CN" sz="3600" spc="-1" strike="noStrike">
                <a:solidFill>
                  <a:srgbClr val="00ff00"/>
                </a:solidFill>
                <a:latin typeface="Tahoma"/>
                <a:ea typeface="幼圆"/>
              </a:rPr>
              <a:t>，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幼圆"/>
              </a:rPr>
              <a:t>“</a:t>
            </a:r>
            <a:r>
              <a:rPr b="1" lang="zh-CN" sz="3600" spc="-1" strike="noStrike">
                <a:solidFill>
                  <a:srgbClr val="00ff00"/>
                </a:solidFill>
                <a:latin typeface="Tahoma"/>
                <a:ea typeface="幼圆"/>
              </a:rPr>
              <a:t>没有小心眼，一生喜欢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幼圆"/>
              </a:rPr>
              <a:t>‘</a:t>
            </a:r>
            <a:r>
              <a:rPr b="1" lang="zh-CN" sz="3600" spc="-1" strike="noStrike">
                <a:solidFill>
                  <a:srgbClr val="00ff00"/>
                </a:solidFill>
                <a:latin typeface="Tahoma"/>
                <a:ea typeface="幼圆"/>
              </a:rPr>
              <a:t>纯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幼圆"/>
              </a:rPr>
              <a:t>’</a:t>
            </a:r>
            <a:r>
              <a:rPr b="1" lang="zh-CN" sz="3600" spc="-1" strike="noStrike">
                <a:solidFill>
                  <a:srgbClr val="00ff00"/>
                </a:solidFill>
                <a:latin typeface="Tahoma"/>
                <a:ea typeface="幼圆"/>
              </a:rPr>
              <a:t>字所代表的品格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幼圆"/>
              </a:rPr>
              <a:t>”</a:t>
            </a:r>
            <a:r>
              <a:rPr b="1" lang="zh-CN" sz="3600" spc="-1" strike="noStrike">
                <a:solidFill>
                  <a:srgbClr val="00ff00"/>
                </a:solidFill>
                <a:latin typeface="Tahoma"/>
                <a:ea typeface="幼圆"/>
              </a:rPr>
              <a:t>，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幼圆"/>
              </a:rPr>
              <a:t>“</a:t>
            </a:r>
            <a:r>
              <a:rPr b="1" lang="zh-CN" sz="3600" spc="-1" strike="noStrike">
                <a:solidFill>
                  <a:srgbClr val="00ff00"/>
                </a:solidFill>
                <a:latin typeface="Tahoma"/>
                <a:ea typeface="幼圆"/>
              </a:rPr>
              <a:t>最有中国农民的质朴气质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幼圆"/>
              </a:rPr>
              <a:t>”</a:t>
            </a:r>
            <a:r>
              <a:rPr b="1" lang="zh-CN" sz="3600" spc="-1" strike="noStrike">
                <a:solidFill>
                  <a:srgbClr val="00ff00"/>
                </a:solidFill>
                <a:latin typeface="Tahoma"/>
                <a:ea typeface="幼圆"/>
              </a:rPr>
              <a:t>。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Tahoma"/>
                <a:ea typeface="幼圆"/>
              </a:rPr>
              <a:t>中国几千年的传统文化讲究人与人之间关系和谐，和睦相处，讲究为人忠厚、谦虚、真诚、朴实。邓稼先汲取了中国传统文化中的优秀部分，并变成了自己的气质品格。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6" descr="sunset_043"/>
          <p:cNvPicPr/>
          <p:nvPr/>
        </p:nvPicPr>
        <p:blipFill>
          <a:blip r:embed="rId1"/>
          <a:stretch/>
        </p:blipFill>
        <p:spPr>
          <a:xfrm>
            <a:off x="304920" y="457200"/>
            <a:ext cx="3657600" cy="327672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962520" y="685440"/>
            <a:ext cx="449568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  <a:ea typeface="幼圆"/>
              </a:rPr>
              <a:t>“</a:t>
            </a:r>
            <a:r>
              <a:rPr b="1" lang="zh-CN" sz="3600" spc="-1" strike="noStrike">
                <a:solidFill>
                  <a:srgbClr val="ffff99"/>
                </a:solidFill>
                <a:latin typeface="Tahoma"/>
                <a:ea typeface="幼圆"/>
              </a:rPr>
              <a:t>邓稼先是中国共产党的理想党员</a:t>
            </a:r>
            <a:r>
              <a:rPr b="1" lang="zh-CN" sz="3600" spc="-1" strike="noStrike">
                <a:solidFill>
                  <a:srgbClr val="ffff99"/>
                </a:solidFill>
                <a:latin typeface="Times New Roman"/>
                <a:ea typeface="幼圆"/>
              </a:rPr>
              <a:t>”</a:t>
            </a:r>
            <a:r>
              <a:rPr b="1" lang="zh-CN" sz="3600" spc="-1" strike="noStrike">
                <a:solidFill>
                  <a:srgbClr val="ffff99"/>
                </a:solidFill>
                <a:latin typeface="Tahoma"/>
                <a:ea typeface="幼圆"/>
              </a:rPr>
              <a:t>，是指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6840" y="26668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幼圆"/>
              </a:rPr>
              <a:t>“</a:t>
            </a:r>
            <a:r>
              <a:rPr b="1" lang="zh-CN" sz="3600" spc="-1" strike="noStrike">
                <a:solidFill>
                  <a:srgbClr val="00ffff"/>
                </a:solidFill>
                <a:latin typeface="Tahoma"/>
                <a:ea typeface="幼圆"/>
              </a:rPr>
              <a:t>他没有私心，人们绝对相信他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幼圆"/>
              </a:rPr>
              <a:t>”</a:t>
            </a:r>
            <a:r>
              <a:rPr b="1" lang="zh-CN" sz="3600" spc="-1" strike="noStrike">
                <a:solidFill>
                  <a:srgbClr val="00ffff"/>
                </a:solidFill>
                <a:latin typeface="Tahoma"/>
                <a:ea typeface="幼圆"/>
              </a:rPr>
              <a:t>，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幼圆"/>
              </a:rPr>
              <a:t>“</a:t>
            </a:r>
            <a:r>
              <a:rPr b="1" lang="zh-CN" sz="3600" spc="-1" strike="noStrike">
                <a:solidFill>
                  <a:srgbClr val="00ffff"/>
                </a:solidFill>
                <a:latin typeface="Tahoma"/>
                <a:ea typeface="幼圆"/>
              </a:rPr>
              <a:t>文革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幼圆"/>
              </a:rPr>
              <a:t>”</a:t>
            </a:r>
            <a:r>
              <a:rPr b="1" lang="zh-CN" sz="3600" spc="-1" strike="noStrike">
                <a:solidFill>
                  <a:srgbClr val="00ffff"/>
                </a:solidFill>
                <a:latin typeface="Tahoma"/>
                <a:ea typeface="幼圆"/>
              </a:rPr>
              <a:t>中能说服两派群众组织，能说服工宣队、军宣队。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ahoma"/>
                <a:ea typeface="幼圆"/>
              </a:rPr>
              <a:t>中国共产党的宗旨是全心全意为人民服务，邓稼先就是把这些奉为自己的行动准则，因此他是理想的党员。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9343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幼圆"/>
              </a:rPr>
              <a:t>“</a:t>
            </a:r>
            <a:r>
              <a:rPr b="1" lang="zh-CN" sz="3600" spc="-1" strike="noStrike">
                <a:solidFill>
                  <a:srgbClr val="00ffff"/>
                </a:solidFill>
                <a:latin typeface="Tahoma"/>
                <a:ea typeface="幼圆"/>
              </a:rPr>
              <a:t>如果稼先再次选择他的人生的话，他仍会走他已走过的道路。这是他的性格与品质。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幼圆"/>
              </a:rPr>
              <a:t>”</a:t>
            </a:r>
            <a:r>
              <a:rPr b="1" lang="zh-CN" sz="3600" spc="-1" strike="noStrike">
                <a:solidFill>
                  <a:srgbClr val="00ffff"/>
                </a:solidFill>
                <a:latin typeface="Tahoma"/>
                <a:ea typeface="幼圆"/>
              </a:rPr>
              <a:t>试说说你对这两句话的理解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80880" y="2895120"/>
            <a:ext cx="83059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ahoma"/>
                <a:ea typeface="幼圆"/>
              </a:rPr>
              <a:t>为中华民族的崛起，为广大人民的利益，奉献自己的一生，这是邓稼先的人生。走这样的人生道路，是邓稼先的性格与品质决定的。所以作者说，如果邓稼先再次选择人还会这么走。这两句话总写出了邓稼先的伟大之处。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684" name="Picture 4" descr="often_055"/>
          <p:cNvPicPr/>
          <p:nvPr/>
        </p:nvPicPr>
        <p:blipFill>
          <a:blip r:embed="rId1"/>
          <a:stretch/>
        </p:blipFill>
        <p:spPr>
          <a:xfrm>
            <a:off x="380880" y="380880"/>
            <a:ext cx="12160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2"/>
          <p:cNvSpPr/>
          <p:nvPr/>
        </p:nvSpPr>
        <p:spPr>
          <a:xfrm>
            <a:off x="495360" y="1522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黑体"/>
              </a:rPr>
              <a:t>为什么作者能写出这样一篇朴实无华而感人至深的文章？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6" name="Text Box 3"/>
          <p:cNvSpPr/>
          <p:nvPr/>
        </p:nvSpPr>
        <p:spPr>
          <a:xfrm>
            <a:off x="152280" y="990720"/>
            <a:ext cx="8991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首先，作为一位杰出的物理学家，杨振宁深知邓稼先在科学界的位置、价值以及他为中华民族核武器事业所建立的卓著功勋，从而给予客观公正而具有权威的评价。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其次，作为与邓有半个世纪深交的朋友，杨对邓的经历、品质、性格及文化素养有充分的了解，于是从邓稼先一生的事迹里选出几件典型材料来反映他的个性特征。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更重要的是作为一个有共同血缘的同胞，杨对邓身上体现出来的同祖国共命运、休戚与共的民族情结，执着追求，自强不息的精神以及在民族优秀文化孕育下形成的质朴内秀，甘于奉献的品格，有着深刻的认同，于是在提示人物超群拔类的特质时，也鲜明地表明了自己的价值取向。这就是中华民族魂。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6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2"/>
          <p:cNvSpPr/>
          <p:nvPr/>
        </p:nvSpPr>
        <p:spPr>
          <a:xfrm>
            <a:off x="343080" y="152280"/>
            <a:ext cx="84582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邓稼先和杨振宁有着长达半个世纪的深厚友谊。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本文是一篇</a:t>
            </a:r>
            <a:r>
              <a:rPr b="1" i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回忆性散文</a:t>
            </a:r>
            <a:r>
              <a:rPr b="1" lang="zh-CN" sz="44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，又是一篇典范的</a:t>
            </a:r>
            <a:r>
              <a:rPr b="1" i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物传记</a:t>
            </a:r>
            <a:r>
              <a:rPr b="1" lang="zh-CN" sz="44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。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     </a:t>
            </a:r>
            <a:r>
              <a:rPr b="1" i="1" lang="zh-CN" sz="44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人物传记</a:t>
            </a:r>
            <a:r>
              <a:rPr b="1" i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记录人物生平的文字，它往往通过一些特殊事件来刻画人物的特殊贡献、精神品质和高尚情操。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3" descr="杨振宁和邓稼先"/>
          <p:cNvPicPr/>
          <p:nvPr/>
        </p:nvPicPr>
        <p:blipFill>
          <a:blip r:embed="rId1"/>
          <a:stretch/>
        </p:blipFill>
        <p:spPr>
          <a:xfrm>
            <a:off x="0" y="26676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0" y="4648320"/>
            <a:ext cx="9144000" cy="167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杨振宁和邓稼先在芝加哥大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7" descr="RIVER_15"/>
          <p:cNvPicPr/>
          <p:nvPr/>
        </p:nvPicPr>
        <p:blipFill>
          <a:blip r:embed="rId1"/>
          <a:stretch/>
        </p:blipFill>
        <p:spPr>
          <a:xfrm>
            <a:off x="380880" y="457200"/>
            <a:ext cx="2133720" cy="205272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2"/>
          <p:cNvSpPr/>
          <p:nvPr/>
        </p:nvSpPr>
        <p:spPr>
          <a:xfrm>
            <a:off x="457200" y="380880"/>
            <a:ext cx="152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00"/>
                </a:solidFill>
                <a:latin typeface="Times New Roman"/>
                <a:ea typeface="黑体"/>
              </a:rPr>
              <a:t>整体感知</a:t>
            </a:r>
            <a:r>
              <a:rPr b="0" lang="en-US" sz="4800" spc="-1" strike="noStrike">
                <a:solidFill>
                  <a:srgbClr val="00ffff"/>
                </a:solidFill>
                <a:latin typeface="Times New Roman"/>
                <a:ea typeface="黑体"/>
              </a:rPr>
              <a:t>: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3" name="Text Box 3"/>
          <p:cNvSpPr/>
          <p:nvPr/>
        </p:nvSpPr>
        <p:spPr>
          <a:xfrm>
            <a:off x="1116000" y="371628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ffff"/>
                </a:solidFill>
                <a:latin typeface="Times New Roman"/>
                <a:ea typeface="黑体"/>
              </a:rPr>
              <a:t>简单叙述六个部分的内容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124080" y="304560"/>
            <a:ext cx="45720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ahoma"/>
                <a:ea typeface="隶书"/>
              </a:rPr>
              <a:t>内容赏析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Text Box 3"/>
          <p:cNvSpPr/>
          <p:nvPr/>
        </p:nvSpPr>
        <p:spPr>
          <a:xfrm>
            <a:off x="419040" y="547560"/>
            <a:ext cx="872496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第一部分：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展示历史背景。通过列举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1898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年西方列强对中国的瓜分情况，让读者管窥百年中国的屈辱历史。然而一个世纪后，中国人站起来了，就在这新中国刚刚诞生的早晨，新中国带着从黑夜走出的人们，披着朝阳的霞光，迎来了从海外归来的一位对祖国母亲有拳拳之心的儿子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邓稼先。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124080" y="380880"/>
            <a:ext cx="32767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ahoma"/>
                <a:ea typeface="隶书"/>
              </a:rPr>
              <a:t>内容赏析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552600" y="533520"/>
            <a:ext cx="8038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第二部分：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简述邓稼先的生平。写了他不平凡的人生经历，特别是对中国核武器设计研究所做出的巨大贡献。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8" name="Text Box 4"/>
          <p:cNvSpPr/>
          <p:nvPr/>
        </p:nvSpPr>
        <p:spPr>
          <a:xfrm>
            <a:off x="438120" y="2362320"/>
            <a:ext cx="8553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                         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第三部分：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写了邓稼先与奥本海默的比较，以凸现邓稼先的人品。奥本海默是一位出类拔萃、锋芒毕露、在美国家喻户晓的原子弹工程领导人。邓稼先是一位能力超群、忠厚朴实、最不要引人注目的人物。因此，作者说，邓稼先是最有中国农民的朴实气质的人，是中国几千年传统文化所孕育出来的最有奉献精神的儿子。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124080" y="457200"/>
            <a:ext cx="32767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ahoma"/>
                <a:ea typeface="隶书"/>
              </a:rPr>
              <a:t>内容赏析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Text Box 1027"/>
          <p:cNvSpPr/>
          <p:nvPr/>
        </p:nvSpPr>
        <p:spPr>
          <a:xfrm>
            <a:off x="914400" y="1600200"/>
            <a:ext cx="79246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第四部分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通过写邓稼先的诚恳周到及领导中国原子弹工程所创造出来的成就，激起了作者复杂的情感，作者为民族而自豪，为稼先而骄傲。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09960" y="0"/>
            <a:ext cx="31240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ahoma"/>
                <a:ea typeface="隶书"/>
              </a:rPr>
              <a:t>内容赏析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Text Box 3"/>
          <p:cNvSpPr/>
          <p:nvPr/>
        </p:nvSpPr>
        <p:spPr>
          <a:xfrm>
            <a:off x="457200" y="4648320"/>
            <a:ext cx="8381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第六部分：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是一首唱给邓稼先的赞歌和挽歌，同时也是一首唱给祖国的颂歌和恋歌。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380880" y="536400"/>
            <a:ext cx="838224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第五部分：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高度赞扬了邓稼先对自己所从事的工作的坚定、执著与勇敢。通过回顾学生时代课本中的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吊古战场文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，描绘了沙漠戈壁的荒凉与凄惋，同时也指出了从事这项伟大工作需具备超凡的直觉判断、严谨的逻辑思维、果敢的胆识、坚定的信心，以及在工作过程中遇到的困难又令常人难以想像，且常常伴有生命危险。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02:55:25Z</dcterms:created>
  <dc:creator>孙伯君</dc:creator>
  <dc:description/>
  <dc:language>en-US</dc:language>
  <cp:lastModifiedBy>a</cp:lastModifiedBy>
  <dcterms:modified xsi:type="dcterms:W3CDTF">2015-03-16T08:42:39Z</dcterms:modified>
  <cp:revision>79</cp:revision>
  <dc:subject/>
  <dc:title>PowerPoint 演示文稿</dc:title>
</cp:coreProperties>
</file>