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BB8-7AB3-4769-9AE2-4D7E9FEA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DFE-4C6F-4C36-B154-5ACB41E6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C9BEF-6D89-44D2-BD31-AC3C7C2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72F49-D098-47AA-B0A5-DDFD82E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506B8-8341-45C0-B9F7-44212D0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8E42-09A4-4B66-A88D-3E0FD3A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682E8-0E41-4920-BBFD-7DDB08E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30461-C8D1-4F03-8FF7-47BD889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BD2A5-4690-417A-86D6-84446E0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ABAC6-B1C4-4DAF-9208-2975FF06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470C-4735-4FF1-9818-7CCBD2CB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C4343-A97E-4267-80F5-FC8347E1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625-D966-4FA9-940F-7CC9297E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24116-6BEF-4F52-A68D-5D4C3B02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75A55-49F1-4CE1-AB5B-28E09A7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DEBAB-4061-4DD8-AFC0-93A36ED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EE2A9-B0E1-43B7-BEA5-EAF1BB3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7FEB6-043D-4F91-B982-6B49AD3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4F489-4192-40F8-938B-2F4040E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B8D69-4639-4ED4-A2D1-CB83FCA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95AC-556C-42E9-88A9-60516A9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FF1D7-B509-4879-86A7-06CBD5D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3FFE-0A69-4DBB-AA2F-25009E0A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113-6F45-4FEB-A3D9-ACD00020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FC9A-DB6B-4CFE-9839-98211E59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EA747-54F9-42C4-A629-B6DBE81C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36876-A8E4-4B1B-93B1-DFAED91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DF10-C85A-46E8-8100-7E43ECE5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ED8BC-9E42-445D-AF0D-EEE78B15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6D313-21C7-4F11-A6BF-DF87D7E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45AC5-4AD5-4080-8180-53FE919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EAE6C-5CC6-4B4B-A3A4-1B9F959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D5A08-F4CE-457A-B98F-3EF1770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9698-4281-478E-BA59-256B6E1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7F2E-51C5-421D-9586-09B6E99C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E832A-343D-45A9-826C-BA2EF000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F8486-B3A5-4947-BDA4-EDE6FFEF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A8C3-C99C-4B75-A71D-38CDBE0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6CB86-9469-4A7D-863D-7C7A0683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F5AA4-6A1F-48EB-9EE2-B51A249C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00E21-A992-489A-A0A9-B93EF38B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7E4A7-38E1-45E0-96F0-66EF35F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DD1EB-6E64-49E6-B131-C7E8D841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07B4F-0CBD-4BBF-81AE-3AB7FE0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2686C-936D-4179-9DC7-2C802D2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B066-B6EC-406A-B083-53B25070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BC091-174C-4FEA-905A-48DC6E7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90B45-3541-4336-867B-0EC2C48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3D1BE-AE41-425A-9EA4-596F0386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5411D-38D1-4BEC-A565-98F4ADA1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9C91A-1F8F-4198-A025-27F2B2DE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E2D3E-DFD7-4078-A11D-88A2226B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EDC06-9C97-4AD3-BA61-3BF16C6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4FE23-5AE6-4580-9FEA-B6810A8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18F25-7803-48A0-A370-C0F70D40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C0580-33A7-4F0B-83F3-29A83C1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985-3F69-4AA4-B7FE-1EDF4818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95B3D-263B-4F3C-8CDF-1F08A1D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63E15-57EC-438F-AFE8-6C9ECD4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69933-0488-4030-828C-BB6A36B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F52CC-4701-4E00-9B76-5BD6659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45F9D-3FFC-4BC9-8731-AD876A3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0FC37-6A00-4A92-805A-20DC6279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FEEBC-D4A6-403B-B957-156520D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33B1-FBE7-42B9-BB14-BBDBF535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2AB-944D-48B9-99C6-3B9601C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4F4-BECB-445D-AAFB-5D19E25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934-780F-4986-A20C-FB65741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E92-799A-4680-8801-ED681CE3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5495-23CD-410F-BBA5-4954E9E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1625-C1C6-4D9F-953F-17D1FBD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B48F-F781-4586-B3EB-91C538A5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F28-21A0-4530-A2DF-363617F6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9DFE-4645-411D-82FA-28363196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91AA-84A2-43D1-8E74-EB524A3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1B42-4A9A-45BC-96FC-4BCED35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BD7B-B06E-4CF1-8AC4-6AAF359E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A31F-1B18-420C-82C0-37974A4E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E378-072D-423D-AAA5-A5157BF3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72F-7D1B-48B6-AD3C-8D523E4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B743-DA8D-4350-B71D-B874CE2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D189-919D-4237-BB18-469DA9E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3071-022D-4C15-9E15-E3A627B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5E6F-AC0D-413A-88B2-61039F0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1F12-2E84-4FCC-9B5C-242000EE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ABCA-2534-4EF5-AAF2-C93BE9AD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B24C-877C-4A50-A2B9-620193A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1C01-36B2-4851-80DE-5B86AB71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02DD-F2AC-4936-B5F7-EE711EF3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8E2E-F76A-4759-8DB9-89BB5217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5F6-48C6-4431-ACCF-1B09537E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4242-ACC3-48FD-BC5F-AF3EF7E5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78BF-B52D-418F-8EF2-2B80F31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2F21-B36E-4517-A291-E544F72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BE15-AB5D-4EEF-9636-FAE6815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3B3E-C335-4C21-970F-706BDCA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DD46-397E-47F1-BAE7-EB974AD9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CF2C-0BA4-4D4C-AA76-E9DF9EE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AD8D-2C09-409A-95B7-283AF053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0FC2-07AA-430C-B740-CCF9A795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BA2C-B4C7-42EC-B81E-E5C44C67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194-EA8C-45CA-8802-614CC6F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F48B-A95C-4B6E-97E0-27088EA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D3D1-273B-4470-BFBD-6FB7107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233D-0B03-45E7-9FB9-26DD8DB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CFCF-D17D-4D6D-B5BE-36A046F3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9604-6B0E-47F4-86A2-47138226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4588-D818-4511-878D-E5F6E78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054A-4F66-435B-B32E-AFEC154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BE94-1818-4FF6-90A3-39E2FC0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6788-FC20-42E4-9645-08B0A9F3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8956-DEEC-41DE-8B10-F35A03F1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EA7-AF4B-4A9E-BDBF-65CEFC1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1D94-AB6B-449E-BEC6-D8BEC9AC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B5EF-EA61-4983-8C0B-5B3876FA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7E92-9BDB-4903-97F6-E830A6E0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7FF18-5CCC-4682-95D6-832328F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7D62-6A77-4CB6-A647-098217DB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7FB1-B5CC-4EF4-BCB6-9FBAA95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196B-0556-4722-998D-7993FA5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B55AB-1FAF-4A0A-9768-1E12E20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BA83-575A-4D2E-91E5-048B250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C72C-E06B-4977-A897-13391A0D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1DB-B9EB-4298-AC69-519B333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2A16-8647-42EC-9595-547549CF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26D1-7124-42CD-A0A1-388316AA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4B85-3A1B-43EE-B99A-8F1D7A9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F00C-1723-44C6-927B-EB1F4D5F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2ABD-8B08-4DD2-8E2D-BF4E8DC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BE6F-8607-447D-BE9C-59D7B1F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19BAE-5543-4DA2-B0C9-0496D3E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16E69-FE39-4DDC-8E25-496C0ACA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7B224-A573-4104-B4E8-BE5F88CC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56236-DD9C-433B-9F39-F4E2BBA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235-BF62-4E91-8105-AB1C27F4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C674-C78D-4FE7-8F0A-4DC568C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D926-E351-443D-9F05-DBD1E61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AF36-3C4F-468A-B60F-6382D7C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3921-9CAC-4699-B155-D93D943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F7CA-56AF-4678-BDC1-A075E48D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3DF73-9DFE-457D-A9C1-40DB533F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4A24-0A41-48E6-BC17-55B577B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AE12F-78C3-4736-A83E-533ABAD9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0B351-E3E3-4D0E-BCF4-047F740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8268-BBDD-4A03-B45D-B648330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1C8-7C48-4881-88B5-4B0E646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7CD8-23E9-4EEF-B96F-77C80A2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FB1F-40E4-4EBA-B2D5-4B45647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8788-86B0-48B4-B870-34E7630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A882-6AB7-4B30-B5B6-C721769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128A-28BA-481E-ADDA-E35C8252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3104E-8374-495F-B136-D80FF9A4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03BB-5E30-4494-901D-C3600141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402CF-FEFF-4A19-8743-88E42EFC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53B92-7F9C-469A-A08A-F25B631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07643-6579-40EB-BEDB-1A89B20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2E8-ADAF-4051-8F82-5CF3A0CC2B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155-C305-4740-9C98-BB10AD84710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0CE-9D6B-4A07-AD62-B6C6D9C514E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980-A0D2-4009-9C76-8AA3EA21846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707-8AF2-4AC7-B022-CE3FF4A85F7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3E5C-47FF-4E67-AA55-145F7470CE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7F8-1018-483E-9531-B4196A3EFE0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5DB-3964-4055-AB57-E435D91CB4E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3AF-2C62-42F9-93A1-84F1F57CEA2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DD8-236A-4EEF-840C-F3ECED58FA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A2A-0F0E-44A0-8C0B-82205A352D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F1E-E473-42DF-ADC7-7375D500FE5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8C16-82A8-46F6-97FA-2DF1CABBA20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99E9-8A1D-4593-9108-81AE0A9A346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7F6-67CF-4822-82B4-C0A53D895A3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ADA-B535-4BE1-850D-4E858ABF333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702-3F48-4101-AD95-F7E2359BAC5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264-0EA4-4E1C-AEAA-67B80238007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2E6-9049-4277-9A44-2ABD85735B1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20E-E38E-499B-B60F-A0EE0389CF1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312C-FE59-4A46-A200-BBC5FA4E7D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8083-C76B-463B-8298-EA01F5E349D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2D37-5E47-4F8E-99A7-819649C904C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72F1-637F-4288-8F5D-E5A2FEEF606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1DF9-44A2-4F9D-9679-861CF9C3EC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>
              <a:gd name="textAreaLeft" fmla="*/ 0 w 9657000"/>
              <a:gd name="textAreaRight" fmla="*/ 9657360 w 9657000"/>
              <a:gd name="textAreaTop" fmla="*/ 0 h 9661320"/>
              <a:gd name="textAreaBottom" fmla="*/ 9661680 h 9661320"/>
            </a:gdLst>
            <a:ahLst/>
            <a:rect l="textAreaLeft" t="textAreaTop" r="textAreaRight" b="textAreaBottom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535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972440"/>
                <a:gd name="textAreaBottom" fmla="*/ 1972440 h 1972440"/>
              </a:gdLst>
              <a:ahLst/>
              <a:rect l="textAreaLeft" t="textAreaTop" r="textAreaRight" b="textAreaBottom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4686480" y="17748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>
              <a:gd name="textAreaLeft" fmla="*/ 0 w 6351480"/>
              <a:gd name="textAreaRight" fmla="*/ 6351840 w 635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706760"/>
              <a:gd name="textAreaBottom" fmla="*/ 1707120 h 1706760"/>
            </a:gdLst>
            <a:ahLst/>
            <a:rect l="textAreaLeft" t="textAreaTop" r="textAreaRight" b="textAreaBottom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oup 35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592" name="Group 36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593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TextBox 38"/>
              <p:cNvSpPr/>
              <p:nvPr/>
            </p:nvSpPr>
            <p:spPr>
              <a:xfrm>
                <a:off x="1841400" y="1932120"/>
                <a:ext cx="74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6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598" name="Group 42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599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TextBox 48"/>
              <p:cNvSpPr/>
              <p:nvPr/>
            </p:nvSpPr>
            <p:spPr>
              <a:xfrm>
                <a:off x="1827360" y="301320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2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Group 47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604" name="Group 48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605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TextBox 54"/>
              <p:cNvSpPr/>
              <p:nvPr/>
            </p:nvSpPr>
            <p:spPr>
              <a:xfrm>
                <a:off x="1857240" y="4092480"/>
                <a:ext cx="78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617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Group 9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620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Group 12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623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>
              <a:gd name="textAreaLeft" fmla="*/ 0 w 3956040"/>
              <a:gd name="textAreaRight" fmla="*/ 3956400 w 395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63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486360"/>
                <a:gd name="textAreaBottom" fmla="*/ 486360 h 48636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641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665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670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>
                <a:gd name="textAreaLeft" fmla="*/ 0 w 2360880"/>
                <a:gd name="textAreaRight" fmla="*/ 236124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>
                <a:gd name="textAreaLeft" fmla="*/ 360 w 2360880"/>
                <a:gd name="textAreaRight" fmla="*/ 2361600 w 2360880"/>
                <a:gd name="textAreaTop" fmla="*/ 0 h 2329200"/>
                <a:gd name="textAreaBottom" fmla="*/ 2329560 h 2329200"/>
              </a:gdLst>
              <a:ahLst/>
              <a:rect l="textAreaLeft" t="textAreaTop" r="textAreaRight" b="textAreaBottom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Administrator</dc:creator>
  <dc:description/>
  <cp:keywords/>
  <dc:language>en-US</dc:language>
  <cp:lastModifiedBy>a</cp:lastModifiedBy>
  <dcterms:modified xsi:type="dcterms:W3CDTF">2015-03-17T05:37:33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