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61C8-C9CF-447F-B0A4-D0D041C7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486-5E64-48B0-B3DB-4C54F3DC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99A1A-1CE5-41B5-B92C-CE5A05D6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3FDDE-4291-4A29-8E43-CB3C5C21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7A147-5911-4BE0-BD32-2F6DBD85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D402F-3810-4731-95E7-CBCE800F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77641-FDA5-444D-8B60-E9B3979D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2D0084-A08A-4F34-8EAB-02355107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690D9-AC57-41F8-B0F0-6AD55DFF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87772-04A2-48E1-93B1-FAF8375F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669BA-6E8E-4671-A5A7-1C9BB8CE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AF96B7-6407-428C-840A-C177E8D1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CEB2-58B0-466A-A7CB-657A08F9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DC48C-A30A-4D7A-8618-29A788BB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6FB7D-D11A-43B6-B38E-E9266C88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D765B-3CBF-4A4C-984E-0B423E53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6000BB-6822-4110-9107-178A3CAE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DC8AC-E8A2-4E9B-B4CA-115F95E5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13195-4FD4-41BE-8EEB-C2CFB4BC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0EB75-69EC-4E50-B61D-6404FF64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04BB2-DE64-463A-B4DF-CB1229B6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F537E-83E5-462E-B0C7-3571DD22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5C755-5F53-4183-AAC9-E81398E0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EBB-9F57-48EE-8D7C-B89AE9F3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61E3D-E7ED-4C00-8BBE-803A029A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942DB-B446-4755-A65A-737E79EA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2E740A-EC6B-438C-82D8-B8AB144C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4C513-AD9A-4506-AAB2-49B63EA9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D7B9F-09FE-4DC6-AA79-A2E4370A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0ADDF-B94C-46FB-B9F1-61F30EE0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899BB-4A53-4A93-A39D-246C3019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7EC0A-8610-4CAA-A98C-B37D03F8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46A99-7328-4AB4-ACCC-451F280F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CAF74-70AE-4F21-A17A-7642F688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7C45-5646-4AAB-9740-0C36F6041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52128-90A9-4474-B22C-12D71B7D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F4491-5282-4080-992C-1F352412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2121E-71B5-4E37-9084-6682B1B19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CB58E-62A0-4395-90CA-23CC0B60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29151-90E6-4D1C-A868-6297DDE8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AD424-35A4-46C1-9652-9E148F9F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3127A-6D4C-4519-8B38-845035D2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4E3EE-FF12-4B3E-BE60-8EFB20C0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E654F-DE7C-48A4-A7EB-ADC30E0D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43F24-1425-4341-BF5A-D0CBBEC2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357A-A831-4FF9-9EF6-F90B6A0E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C1314-D524-4418-845B-9EBAAF71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2A680-44C7-48A7-9EBF-13C368BA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91A23-3E61-4640-A348-AA692A96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D61CA-F4B9-420D-B035-4AD7116D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C80BB-7F69-4DBD-BAC3-E144A2C7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5A0B0-45ED-49C0-92C3-D045244A6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E7BCA-7502-4D66-945B-22F6D063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4BB54-25EF-4D72-B460-8A41EB5F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8EA26F-1B89-4E80-9FC3-84548161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ECA42-A525-4B51-B38F-A2C91451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7B16-D34A-4217-A5FC-FA735E29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F1684-495C-4ED5-988B-B50539C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9D5B4-DE4A-4F2C-BCB0-68DDD42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2A58F-F3FE-4D62-BB28-005C1EB7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88E52-86DC-490E-ABDF-4C1706E3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041C8F-F580-4A68-97DD-6C13EE11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FEA2D-6CA8-44E4-8E31-EA00B09E5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DD1EAA-4A00-43AA-8587-1D101329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4ABB-D187-4509-B7CB-8B0DC940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C84A-4F32-4AA4-AFF0-441FBBA2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AC66-B236-41B4-983D-2D5313A8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57B3-F6F4-44A4-B660-A5F52D6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072B-9F15-4D63-8E11-D322555C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90B3-1B22-4D8C-8372-942FB3EB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A0AF-CD88-4633-9290-C388A0CB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C926-B4DB-4DAA-AC09-0071C76C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B294-2F91-4256-A563-783D71E14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C105-56A5-4201-9F0F-6EE5A238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39D4F-AD2D-4C68-A4E7-5E9A7C0C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7C01-B949-428A-8C2E-AB880A8F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7B637-AA3B-4A2C-A71E-170D3F3E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4924F-4237-4CD4-88D5-17DEA3B7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B8BB-8D35-41B0-82B0-0412CBB1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1B1-8332-4A61-83EC-BAC30BE7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FEA91-6A11-473B-912C-389AC5AB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B4A71-08C1-4B8D-9ABD-F598BF96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6420C-7E9F-486E-8C21-E9A4EADC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2536-4198-484F-B48B-8B2D1D49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29EEF-3BAD-4CA4-9E4C-1BDBBBAC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ABE9-DE0F-49B8-8C84-38DA6D9A1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1EB7-09CD-406E-8D10-6FFB81CB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A5C2-29B4-4483-840C-A430032A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99DB-1541-43AF-95CE-EC86CDED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C38F3-00D9-4EB9-8C9E-140C660F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F61-A445-4A13-86A2-13423DAD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778A-30FB-40B1-BBAB-A98F87A5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1A8BE-CF62-4A63-BFDD-EC73046E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A544-04E6-4E8A-A678-ECA96E28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5ACF-5DBA-461E-A1D3-05A58AD4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7423D-F7C6-4AF7-98DD-08DC93B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3DD9F-6861-4621-AFF9-F185BFF3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E9438-497F-415C-800E-FE434272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FD14-0BDE-4790-A325-C2BC150F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4C8B8-907B-459E-AFCC-A7BDBE3D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E439C-71BF-4137-B8DE-C3502355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DFB-E126-4757-88B7-DF4B189C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FD16B-3FCF-42CD-B8C5-B98EBDF1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D5C4E-44F6-4EA6-ACB8-C4574017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8A369-7A11-4E2F-83BE-040AA831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CE09D-15A2-400D-B2AF-523F58E7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99888-6307-4659-8C08-3E3C1AC9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0A266-F4EE-4FD0-93BA-21BD945E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8AAD1-1309-4D68-AD70-3FCF162B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FC12A-B8AA-457D-BA97-DA55B495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4118A-6E27-4006-A12B-DB7023E6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3616-C0B0-44FD-B4D7-072EDF86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FEBD-ED0C-45FA-9255-D863F3AF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3397A-744E-4D26-9127-9F6DFA297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8E508-BF62-4B04-93B6-836C01EB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A9BFC-9A01-45FB-84BD-80B82D5C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B2CCB-14F4-4151-9FD4-BF5F0EED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87FE4-BD4E-4DC2-A4F5-4A44C105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A9964-0619-4880-8D93-6DE0A344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DC761-0C2C-4E3B-9AF7-3876EC33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18EBF-F39C-4887-9354-42FFE2DF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362D8-8F6D-467E-B79A-CD768BA9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BCD62-859D-4D7D-B3E0-C19C2ED3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CD6-7DA3-4DC1-BB13-4FC63305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37A2B-545D-4AC6-9A5C-1BA69A14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B3464-2118-4D2B-9418-ACA52426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2237A-033C-4D7C-AEC6-708E1A2C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8CCFA-F6C4-4C8B-B161-3DD54C41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140C-5C98-460D-914A-1F5AC1D9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F275F-D648-4816-A4DD-15FE1578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5BD0C-4965-46A6-9D09-34FEB75C0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F1DAF-6FC4-4516-A289-8E9C413B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B4EA5-EBAA-4E72-BBCA-6DBD530B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C24D4-1A22-4EE7-B8E6-AF5C8313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60CF-D637-4875-8CF0-E798ED4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49703-1BC0-4EFA-AC5F-22451A8E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E456B-DBAC-4652-9003-75D8C0BD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71703-CF90-4827-95DE-B1BC090D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C6F40-2475-44B2-AC33-F5A89585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570BE-7BC4-4AB4-AF32-4AD112F7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F30FC-3781-4C1F-971F-BE51FD1B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4F5E4-8605-4C9C-AC15-AE2DAA0A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822AF-7C94-46ED-A1D9-D7726DE3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88F7C-8363-433C-9690-CA82227B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90B26-25AE-4421-9A1E-92D28858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468-364D-43BF-8286-FABC8A05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747F7-0484-423B-80FF-EE524133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34414-B0A1-4CC0-9F8D-290298E6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51E4D-F088-4B93-A41C-421C790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41CC3-B51A-466F-9EAE-A16775CB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2C807-1866-430B-BD36-91F5C4F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0F2F8-DC67-48FE-8546-FAB597A9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E1AF6-FBEA-4599-8D07-16CB3F8F3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754F3-E808-450C-91C1-4BEB49F7F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82C8A-498F-4DFE-A088-A6AB7BB0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8F487-2BEF-4C0F-AE90-ED3B4BA9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C7FF-ED44-495A-A093-6BD1D62C3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EF89-2D68-4F95-84B9-411E1F2DC5A0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C056-C531-47BA-8008-4F5B03749D1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383E-F7BE-43A2-BF5E-759F6EE975C9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8E8D-6A34-4790-8BF9-31739E72295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2489-0E4A-4A98-A75D-8B0A887940D7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08FF-723E-4A6D-A7D2-22CB011BA6C4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0634-3FBF-4229-BB3D-7B30EA23667D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10F6-F73F-4D61-9DF9-C51FDF3EF95B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04E2-43D9-4CC5-93AB-21BAA723205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863A-03CC-4BB7-A056-78D04075FD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FB8D-8575-44C1-8ADC-0CB050C1F082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71FF-CB44-464F-9CA8-2ADD3A4CBEBB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AD11-37F0-47CB-9F2E-7008F31D688F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F643-502C-4B50-8A7D-EEF26C78A1F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10F7-C378-44ED-AB14-318989CC0C5A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C214-FB1B-4AF5-96D8-EE13A9608A2A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5FA7-D1B5-4FCF-984C-C945CCE0A048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943F-7D3E-49EF-8625-ABB384CF83B5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2D17-65DC-459D-AD08-9ED1687B1394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789D-027B-427C-828C-1C6E8D8769C9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52BB-9955-4259-830C-9D18E2DE5B73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2AD7-60ED-4E1D-938C-803ADCC03A79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4208-B152-4BB1-948E-631E6B280B44}" type="datetime">
              <a:rPr b="1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5260-3C8F-42E6-A376-5B5D5E374046}" type="slidenum">
              <a:rPr b="1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5"/>
          <p:cNvSpPr/>
          <p:nvPr/>
        </p:nvSpPr>
        <p:spPr>
          <a:xfrm>
            <a:off x="6934320" y="6400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WordArt 4"/>
          <p:cNvSpPr txBox="1"/>
          <p:nvPr/>
        </p:nvSpPr>
        <p:spPr>
          <a:xfrm>
            <a:off x="1447920" y="914400"/>
            <a:ext cx="63244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764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华文新魏"/>
              </a:rPr>
              <a:t>电脑住宅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0" dir="0" blurRad="0" rotWithShape="0">
                  <a:srgbClr val="0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35" name="AutoShape 5"/>
          <p:cNvSpPr/>
          <p:nvPr/>
        </p:nvSpPr>
        <p:spPr>
          <a:xfrm rot="1162200">
            <a:off x="2895120" y="1066320"/>
            <a:ext cx="381240" cy="30492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5"/>
          <p:cNvSpPr/>
          <p:nvPr/>
        </p:nvSpPr>
        <p:spPr>
          <a:xfrm>
            <a:off x="0" y="12952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①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如果你住在这样一套房子里，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什么感觉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0" y="3048120"/>
            <a:ext cx="6934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②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栋房子是通过什么来实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这些功能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0" y="4952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③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住宅里的电脑有什么特点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152280" y="45720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8763120" y="563868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WordArt 4"/>
          <p:cNvSpPr txBox="1"/>
          <p:nvPr/>
        </p:nvSpPr>
        <p:spPr>
          <a:xfrm>
            <a:off x="762120" y="609480"/>
            <a:ext cx="57909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移步换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71" name="WordArt 5"/>
          <p:cNvSpPr txBox="1"/>
          <p:nvPr/>
        </p:nvSpPr>
        <p:spPr>
          <a:xfrm>
            <a:off x="838080" y="2971800"/>
            <a:ext cx="586764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空间转换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4"/>
          <p:cNvSpPr/>
          <p:nvPr/>
        </p:nvSpPr>
        <p:spPr>
          <a:xfrm>
            <a:off x="0" y="838080"/>
            <a:ext cx="9144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描绘一下你心目中的电脑住宅的样子。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0" y="3657600"/>
            <a:ext cx="71629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怎样才能设计出这样的住宅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457200" y="990720"/>
            <a:ext cx="525780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大胆的想像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掌握丰富的知识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Arial"/>
              </a:rPr>
              <a:t>掌握熟练的技术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7772400" cy="20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了解一些其他尖端</a:t>
            </a:r>
            <a:br>
              <a:rPr sz="5500"/>
            </a:b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的科技产品</a:t>
            </a:r>
            <a:br>
              <a:rPr sz="5500"/>
            </a:b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或作品</a:t>
            </a: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拓展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WordArt 4"/>
          <p:cNvSpPr txBox="1"/>
          <p:nvPr/>
        </p:nvSpPr>
        <p:spPr>
          <a:xfrm>
            <a:off x="457200" y="228600"/>
            <a:ext cx="51814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新魏"/>
              </a:rPr>
              <a:t>今天好样的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  <p:pic>
        <p:nvPicPr>
          <p:cNvPr id="578" name="WordArt 5" descr=""/>
          <p:cNvPicPr/>
          <p:nvPr/>
        </p:nvPicPr>
        <p:blipFill>
          <a:blip r:embed="rId1"/>
          <a:stretch/>
        </p:blipFill>
        <p:spPr>
          <a:xfrm>
            <a:off x="2736720" y="2200320"/>
            <a:ext cx="2603520" cy="1085760"/>
          </a:xfrm>
          <a:prstGeom prst="rect">
            <a:avLst/>
          </a:prstGeom>
          <a:ln w="0">
            <a:noFill/>
          </a:ln>
        </p:spPr>
      </p:pic>
      <p:pic>
        <p:nvPicPr>
          <p:cNvPr id="579" name="WordArt 7" descr=""/>
          <p:cNvPicPr/>
          <p:nvPr/>
        </p:nvPicPr>
        <p:blipFill>
          <a:blip r:embed="rId2"/>
          <a:stretch/>
        </p:blipFill>
        <p:spPr>
          <a:xfrm>
            <a:off x="2127240" y="5095800"/>
            <a:ext cx="2987640" cy="1238400"/>
          </a:xfrm>
          <a:prstGeom prst="rect">
            <a:avLst/>
          </a:prstGeom>
          <a:ln w="0">
            <a:noFill/>
          </a:ln>
        </p:spPr>
      </p:pic>
      <p:sp>
        <p:nvSpPr>
          <p:cNvPr id="580" name="WordArt 8"/>
          <p:cNvSpPr txBox="1"/>
          <p:nvPr/>
        </p:nvSpPr>
        <p:spPr>
          <a:xfrm>
            <a:off x="380880" y="3581280"/>
            <a:ext cx="2895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新魏"/>
              </a:rPr>
              <a:t>加油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要求：</a:t>
            </a:r>
            <a:br>
              <a:rPr sz="4600"/>
            </a:b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①请</a:t>
            </a:r>
            <a:r>
              <a:rPr b="1" lang="zh-CN" sz="4600" spc="-1" strike="noStrike" u="sng">
                <a:solidFill>
                  <a:srgbClr val="ff0000"/>
                </a:solidFill>
                <a:uFillTx/>
                <a:latin typeface="Arial"/>
              </a:rPr>
              <a:t>小声朗读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课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600"/>
            </a:b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4600" spc="-1" strike="noStrike" u="sng">
                <a:solidFill>
                  <a:srgbClr val="ff0000"/>
                </a:solidFill>
                <a:uFillTx/>
                <a:latin typeface="Arial"/>
              </a:rPr>
              <a:t>读准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字音，遇到生字时，拼读一下括号里的注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600"/>
            </a:b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③把课文</a:t>
            </a:r>
            <a:r>
              <a:rPr b="1" lang="zh-CN" sz="4600" spc="-1" strike="noStrike" u="sng">
                <a:solidFill>
                  <a:srgbClr val="ff0000"/>
                </a:solidFill>
                <a:uFillTx/>
                <a:latin typeface="Arial"/>
              </a:rPr>
              <a:t>读通顺、流利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，读不通顺的地方反复多读几遍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001000" cy="36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竖杆       数据  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即便</a:t>
            </a:r>
            <a:br>
              <a:rPr sz="1500"/>
            </a:br>
            <a:br>
              <a:rPr sz="20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集装箱     微型摄像机</a:t>
            </a:r>
            <a:br>
              <a:rPr sz="6000"/>
            </a:br>
            <a:br>
              <a:rPr sz="20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烹炒       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预约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    熄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仓（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cāng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）库   </a:t>
            </a:r>
            <a:r>
              <a:rPr b="1" lang="zh-CN" sz="4600" spc="-1" strike="noStrike">
                <a:solidFill>
                  <a:srgbClr val="ff0066"/>
                </a:solidFill>
                <a:latin typeface="Arial"/>
              </a:rPr>
              <a:t>储（</a:t>
            </a:r>
            <a:r>
              <a:rPr b="1" lang="en-US" sz="4600" spc="-1" strike="noStrike">
                <a:solidFill>
                  <a:srgbClr val="ff0066"/>
                </a:solidFill>
                <a:latin typeface="Arial"/>
              </a:rPr>
              <a:t>chǔ</a:t>
            </a:r>
            <a:r>
              <a:rPr b="1" lang="zh-CN" sz="4600" spc="-1" strike="noStrike">
                <a:solidFill>
                  <a:srgbClr val="ff0066"/>
                </a:solidFill>
                <a:latin typeface="Arial"/>
              </a:rPr>
              <a:t>）存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  </a:t>
            </a:r>
            <a:br>
              <a:rPr sz="4600"/>
            </a:br>
            <a:br>
              <a:rPr sz="1500"/>
            </a:br>
            <a:r>
              <a:rPr b="1" lang="zh-CN" sz="4600" spc="-1" strike="noStrike">
                <a:solidFill>
                  <a:srgbClr val="ff0066"/>
                </a:solidFill>
                <a:latin typeface="Arial"/>
              </a:rPr>
              <a:t>烹（</a:t>
            </a:r>
            <a:r>
              <a:rPr b="1" lang="en-US" sz="4600" spc="-1" strike="noStrike">
                <a:solidFill>
                  <a:srgbClr val="ff0066"/>
                </a:solidFill>
                <a:latin typeface="Arial"/>
              </a:rPr>
              <a:t>pēng</a:t>
            </a:r>
            <a:r>
              <a:rPr b="1" lang="zh-CN" sz="4600" spc="-1" strike="noStrike">
                <a:solidFill>
                  <a:srgbClr val="ff0066"/>
                </a:solidFill>
                <a:latin typeface="Arial"/>
              </a:rPr>
              <a:t>）饪（</a:t>
            </a:r>
            <a:r>
              <a:rPr b="1" lang="en-US" sz="4600" spc="-1" strike="noStrike">
                <a:solidFill>
                  <a:srgbClr val="ff0066"/>
                </a:solidFill>
                <a:latin typeface="Arial"/>
              </a:rPr>
              <a:t>rèn</a:t>
            </a:r>
            <a:r>
              <a:rPr b="1" lang="zh-CN" sz="46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     </a:t>
            </a:r>
            <a:br>
              <a:rPr sz="4600"/>
            </a:br>
            <a:br>
              <a:rPr sz="1500"/>
            </a:b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防盗（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dào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）    综（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zōng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）合   </a:t>
            </a:r>
            <a:br>
              <a:rPr sz="4600"/>
            </a:br>
            <a:br>
              <a:rPr sz="1500"/>
            </a:b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判（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pàn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）断  </a:t>
            </a:r>
            <a:br>
              <a:rPr sz="4600"/>
            </a:br>
            <a:br>
              <a:rPr sz="1500"/>
            </a:b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调（</a:t>
            </a: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diào</a:t>
            </a:r>
            <a:r>
              <a:rPr b="1" lang="zh-CN" sz="4600" spc="-1" strike="noStrike">
                <a:solidFill>
                  <a:srgbClr val="0000ff"/>
                </a:solidFill>
                <a:latin typeface="Arial"/>
              </a:rPr>
              <a:t>）运     </a:t>
            </a:r>
            <a:r>
              <a:rPr b="1" lang="zh-CN" sz="4600" spc="-1" strike="noStrike">
                <a:solidFill>
                  <a:srgbClr val="ff0066"/>
                </a:solidFill>
                <a:latin typeface="Arial"/>
              </a:rPr>
              <a:t>烹调（</a:t>
            </a:r>
            <a:r>
              <a:rPr b="1" lang="en-US" sz="4600" spc="-1" strike="noStrike">
                <a:solidFill>
                  <a:srgbClr val="ff0066"/>
                </a:solidFill>
                <a:latin typeface="Arial"/>
              </a:rPr>
              <a:t>tiáo</a:t>
            </a:r>
            <a:r>
              <a:rPr b="1" lang="zh-CN" sz="46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储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br>
              <a:rPr sz="5500"/>
            </a:br>
            <a:br>
              <a:rPr sz="1500"/>
            </a:b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烹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br>
              <a:rPr sz="5500"/>
            </a:br>
            <a:br>
              <a:rPr sz="1500"/>
            </a:b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即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br>
              <a:rPr sz="5500"/>
            </a:br>
            <a:br>
              <a:rPr sz="1500"/>
            </a:b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烹饪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br>
              <a:rPr sz="5500"/>
            </a:br>
            <a:br>
              <a:rPr sz="1500"/>
            </a:b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预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1752480" y="380880"/>
            <a:ext cx="7391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存放起来，暂时不用。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828800" y="1371600"/>
            <a:ext cx="54864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烹炒调制菜肴。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1905120" y="2514600"/>
            <a:ext cx="3124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即使。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1828800" y="3581280"/>
            <a:ext cx="40384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做饭做菜。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1905120" y="4648320"/>
            <a:ext cx="4572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0000"/>
                </a:solidFill>
                <a:latin typeface="Arial"/>
              </a:rPr>
              <a:t>事先约定。</a:t>
            </a:r>
            <a:endParaRPr b="1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要求：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① </a:t>
            </a: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</a:rPr>
              <a:t>快速</a:t>
            </a:r>
            <a:r>
              <a:rPr b="1" lang="zh-CN" sz="6000" spc="-1" strike="noStrike">
                <a:solidFill>
                  <a:srgbClr val="ff66cc"/>
                </a:solidFill>
                <a:latin typeface="Arial"/>
              </a:rPr>
              <a:t>默读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课文。</a:t>
            </a:r>
            <a:br>
              <a:rPr sz="6000"/>
            </a:br>
            <a:br>
              <a:rPr sz="15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② </a:t>
            </a:r>
            <a:r>
              <a:rPr b="1" lang="zh-CN" sz="6000" spc="-1" strike="noStrike" u="sng">
                <a:solidFill>
                  <a:srgbClr val="0000ff"/>
                </a:solidFill>
                <a:uFillTx/>
                <a:latin typeface="Arial"/>
              </a:rPr>
              <a:t>划记</a:t>
            </a: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表示电脑住宅与  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 普通住宅不同的特点</a:t>
            </a:r>
            <a:br>
              <a:rPr sz="6000"/>
            </a:b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    的词语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6"/>
          <p:cNvSpPr/>
          <p:nvPr/>
        </p:nvSpPr>
        <p:spPr>
          <a:xfrm>
            <a:off x="380880" y="160020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①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你划记了哪些表示电脑住宅与普通住宅不同的特点的词语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457200" y="39625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②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一句话说说电脑住宅给你留下的第一印象是什么样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380880" y="4572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8899560" y="5791320"/>
            <a:ext cx="24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Arial"/>
              </a:rPr>
              <a:t>加深印象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5486400" cy="40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门外        大门</a:t>
            </a:r>
            <a:br>
              <a:rPr sz="4500"/>
            </a:br>
            <a:br>
              <a:rPr sz="4500"/>
            </a:b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 会客室        厨房</a:t>
            </a:r>
            <a:br>
              <a:rPr sz="4500"/>
            </a:b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       </a:t>
            </a:r>
            <a:br>
              <a:rPr sz="4500"/>
            </a:b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         卧室       浴室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685800" y="457200"/>
            <a:ext cx="8077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00"/>
                </a:solidFill>
                <a:latin typeface="Arial"/>
              </a:rPr>
              <a:t>找一找：课文先后介绍了电脑住宅的哪些地方？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8"/>
          <p:cNvSpPr/>
          <p:nvPr/>
        </p:nvSpPr>
        <p:spPr>
          <a:xfrm>
            <a:off x="1981080" y="251460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9"/>
          <p:cNvSpPr/>
          <p:nvPr/>
        </p:nvSpPr>
        <p:spPr>
          <a:xfrm>
            <a:off x="4419720" y="25146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10"/>
          <p:cNvSpPr/>
          <p:nvPr/>
        </p:nvSpPr>
        <p:spPr>
          <a:xfrm>
            <a:off x="2743200" y="388620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11"/>
          <p:cNvSpPr/>
          <p:nvPr/>
        </p:nvSpPr>
        <p:spPr>
          <a:xfrm>
            <a:off x="990720" y="52578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12"/>
          <p:cNvSpPr/>
          <p:nvPr/>
        </p:nvSpPr>
        <p:spPr>
          <a:xfrm>
            <a:off x="3276720" y="525780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4"/>
          <p:cNvSpPr/>
          <p:nvPr/>
        </p:nvSpPr>
        <p:spPr>
          <a:xfrm>
            <a:off x="8763120" y="586728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功能填表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"/>
          <p:cNvGraphicFramePr/>
          <p:nvPr/>
        </p:nvGraphicFramePr>
        <p:xfrm>
          <a:off x="380880" y="762120"/>
          <a:ext cx="8305920" cy="4322520"/>
        </p:xfrm>
        <a:graphic>
          <a:graphicData uri="http://schemas.openxmlformats.org/drawingml/2006/table">
            <a:tbl>
              <a:tblPr/>
              <a:tblGrid>
                <a:gridCol w="1905120"/>
                <a:gridCol w="64008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Times New Roman"/>
                          <a:ea typeface="Tahoma"/>
                        </a:rPr>
                        <a:t>地方名称</a:t>
                      </a: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ff"/>
                          </a:solidFill>
                          <a:latin typeface="Times New Roman"/>
                          <a:ea typeface="Tahoma"/>
                        </a:rPr>
                        <a:t>                   </a:t>
                      </a: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Times New Roman"/>
                          <a:ea typeface="Tahoma"/>
                        </a:rPr>
                        <a:t>特</a:t>
                      </a: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Times New Roman"/>
                          <a:ea typeface="Tahoma"/>
                        </a:rPr>
                        <a:t>点</a:t>
                      </a: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门    外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大    门 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会客室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厨    房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卧    室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浴    室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Text Box 52"/>
          <p:cNvSpPr/>
          <p:nvPr/>
        </p:nvSpPr>
        <p:spPr>
          <a:xfrm>
            <a:off x="2286000" y="1371600"/>
            <a:ext cx="563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感知室外环境，调节室内环境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6"/>
          <p:cNvSpPr/>
          <p:nvPr/>
        </p:nvSpPr>
        <p:spPr>
          <a:xfrm>
            <a:off x="2286000" y="205740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具有保安功能，防止不明人物进入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58"/>
          <p:cNvSpPr/>
          <p:nvPr/>
        </p:nvSpPr>
        <p:spPr>
          <a:xfrm>
            <a:off x="2286000" y="266688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可自由调运屋内自己所需要的物品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9"/>
          <p:cNvSpPr/>
          <p:nvPr/>
        </p:nvSpPr>
        <p:spPr>
          <a:xfrm>
            <a:off x="2286000" y="327672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有一套教人做菜的电脑装置。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0"/>
          <p:cNvSpPr/>
          <p:nvPr/>
        </p:nvSpPr>
        <p:spPr>
          <a:xfrm>
            <a:off x="2286000" y="388620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能给主人舒适、安全的休息环境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1"/>
          <p:cNvSpPr/>
          <p:nvPr/>
        </p:nvSpPr>
        <p:spPr>
          <a:xfrm>
            <a:off x="2286000" y="449568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可以预约洗澡的时间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为您服务教育网http://www.wsbedu.com</dc:creator>
  <dc:description>第一PPT模板网-WWW.1PPT.COM</dc:description>
  <dc:language>en-US</dc:language>
  <cp:lastModifiedBy>a</cp:lastModifiedBy>
  <dcterms:modified xsi:type="dcterms:W3CDTF">2015-02-09T02:37:19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