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85D-D589-4848-AA3C-A9844D46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A0A-62AD-42B9-ADA0-EBB89A6C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2C414-CE86-465E-A0E5-8E41CEE2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90B18-4EAD-4EA5-A849-344A0DD9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EF3FF-9231-458E-B6C4-08CEBD5E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C75EB-2C46-4C3C-B8B1-A006E1DA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6779C-FAD8-4544-9B8D-B2EB20BB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12BD5-B7E1-4221-8B3E-98235A2E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49CBF-610F-442B-A6B3-0A023517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C1C71-3D5D-47A1-BB86-00616EFF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AA085-0802-4CC8-AE2D-19213BDC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3506C-6E22-4D59-AE24-90A7C6B6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6DD-ADE1-4284-8621-41A25A07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2BEF6-8FB7-4820-BA94-5BA2CD15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1C4D0-836E-453D-A744-BC2E00F6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DC072-542E-4E12-B23B-EFE16544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6FBE9-AEAF-4194-BE81-92E39559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15937-9D5A-48EC-B04E-686B393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9733E-109A-4CEE-904E-DF6B1CFA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30B91-D1F7-4A37-9C76-D855F4D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A9D15-823D-48AE-906D-C905695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C6F96-60A2-4CED-B913-830A8B3C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A2CA8-3573-417C-964B-461C8271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C9E-C6E2-44B2-A6D1-D76A76A8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1F48B-2A40-4404-85C7-F78BA18B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D52C8-1F47-464B-83D5-C70337A3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1E700-49D6-441A-B292-B6EC11C5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CA743-8849-4D5E-8512-8E216815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C5801-0583-4CA4-9B0F-75B937DA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D86F7-F453-4B6B-93F4-79212DB1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EE4F6-B7CC-4EE9-B473-8E45F9EB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5060B-9EB2-4A03-8A7D-92197A0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E731D-8995-4499-9B6D-5474B738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47DDD-8F4F-4913-8B2F-D6FDFB9E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363F-9573-480E-8A74-F03DE6F8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89A61-7025-42CC-A273-0CAA73BB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8BDBB-D445-4AEE-B3D6-C305088C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EE4AF-BC81-4955-BC9E-E110F3A4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9CC00-3D35-4701-9970-AD65EAE6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30AEF-E6A3-4715-B6B5-0362E0CF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B202D-92B6-4262-8075-3772D7D2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E7C1C-C1A8-4C77-AF72-95FCBDEA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8B12C-B2C2-4CA1-83C5-3C3CCE66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03826-DC0F-42E3-A457-6E65645C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BA93E-AE19-4FDB-9FF2-1B471C5B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71A5-5FD6-4FFB-8D7F-AF64DB37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01B39-77F3-4B01-8AD5-63A03EFB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16E6F-4B7E-4CAA-97C5-DE2F9D55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9AA96-17BB-4DCA-8538-AB691366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9BC44-390A-4BD7-B92F-6AB8201B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8E815-02C6-4138-8BA9-5540DA0E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723CC-22CD-41C7-82D7-841039E1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09106-6032-41D8-8885-F24ED68E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1902B-43BB-4894-A29B-53FC7EE0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98EBB-F691-4980-BF55-26A6B02C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A3291-2D3F-42D7-9C3D-D9325BED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E915-66B4-4ECF-A0A9-66EE8445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A16F3-74F6-4251-9E3F-16E90A0D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42B96-CB23-4BEB-88CA-5CDA232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0B81A-B407-43DC-98A4-EF9C9D12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FB6FC-365A-4626-8984-BBEF12B6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2C9AC-E0FA-42D3-94FE-D87EC1F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6474F-8ECF-41C9-87F8-4C827350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2C186-7C45-4AA1-B750-F15C6117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4730-81ED-459C-94A9-861BE79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1E98-337A-4263-8B30-C8D4C7D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F241-A71D-4E94-AFAE-E48898AB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8E74-DAF7-422D-8A6A-085A8DA3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82A-4693-49AC-AFEF-F1888963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8F46-A61B-484A-96B2-77FFFCC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967C-C5E7-40BC-9CB1-14F67B9E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0B95-0E6E-4EA1-B0C3-33A2E9CF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715C-1602-41C8-92D3-E7B0875E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4277-780D-4B46-A61E-7B5C2C98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7E065-74A3-47C8-9E0A-9C4C0AFA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1527-75E1-45C7-B852-3BB60C79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A54C-C296-4DF0-B806-DB88D614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D1FF-6FFE-4D08-AEE1-3A1593E0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1D26-C1FA-4B16-9021-CCEB668B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EFA-2EF8-473F-802A-712A1DE8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F0BF-00B0-4A82-8944-2C4EED6B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A32E-AF92-4958-A46D-98333531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4ED5-A41A-4A44-89B5-2108246E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F7B3-F15F-4893-BDD5-BD8FBD2B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F27A-612C-4BDE-97C0-63BAF275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BD52-7BFB-491D-A07A-66591F9C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1CFF-720F-4CD9-93F7-DFF60864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C21B-CD2B-4030-AF43-12EEE256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0FCD1-6226-459B-A904-3EAE2D4F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4A8E-86D9-424F-AF49-99661AE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84A-D968-4339-BB28-1EB36B1C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07AA-7820-44C2-A955-F78BCC9A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C85B3-A511-4AF6-ABC4-8DD6414E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4F32C-5C09-4B25-B0E0-77D18307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24CA-9701-428F-8841-8643425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CBB1-06BF-44A5-A331-6A98F16D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37AC-2114-446E-B576-4D0F749B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52D8-BC9A-4253-B6CF-5C819904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4809-39F4-4B24-81DD-05A7D2A6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6BB5-5CD7-40B0-B366-5E19BA8A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2574-A614-4409-80A2-2740D821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52E-8DA8-456D-86EB-A1517DB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33ACF-9FEE-4162-8989-14318905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E0FC0-A3C0-4110-92AA-E1E5244A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C43C-2821-42D9-990C-AFFA4368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03CA0-F6AC-4D48-B0C4-8554ADA8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ED78-2EFA-4A09-AD59-41031EB7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CFD5F-B7C5-46A4-87A1-80F2490C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86AFA-68A7-4F47-9248-65AEA2F4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D66B-4B58-4E53-9573-C9D8DA5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FB727-0C2F-4A53-BB10-521278C9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C54B-855F-403C-9F20-C8996584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BB3-EDD3-4E69-8ECB-A28EE056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A38E6-12DD-4B0C-8A6B-FBC04A72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4BEC5-2F80-4DAC-947A-D9D93E86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D0934-9BC6-4BA6-8E33-22BFE89E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2424E-E25B-495A-B081-A490C3D4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2A43-C1CF-4435-9101-B84D5CEF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953D-0864-46D5-94D9-23CB989C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4F01-955C-4352-AA18-57859EF3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8FB43-413A-4893-A016-7718F548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A4C2C-ED4A-43FC-AF24-F2A0D253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E636-C3A7-4F0F-8143-22C93CD7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52D-AC6D-4063-AA5E-813AD6E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FE73D-4486-40D5-A4E7-B9A5510C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E967E-AA6F-4ACB-A9A0-F9D689B6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57F98-D77F-458B-B8D5-6BFC2694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1E1CB-7700-4FB7-BDD3-5366855E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47CA4-3EE8-4F43-BF66-EE83F24B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D8543-E27F-4D54-9C45-02C394EC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88AB3-E2E2-4EBC-8334-BFE32A34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A59E5-2216-46C4-9548-0130285F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66FBD-DE47-43A3-8F36-E2315761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65432-FAF7-4A5B-A548-858D458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66A-FA30-4700-BFD6-75BB32CB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C8CB-82F5-44BA-AA0E-45BDC56D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15588-268F-4F45-9A41-79829CD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8ACD3-849C-49EA-AF58-F7675445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7A37E-0EE1-48E7-9C5D-A80B982B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A2B2F-B941-40C9-B438-E4FF9E02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72E09-5E8E-4B09-8FCD-197F1FC8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5AD9D-DF5A-4347-BE8A-F8EF9B96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A0C4C-638A-4303-8382-55A2D190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5B484-B8A8-48CE-B681-B3B323E9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1A17D-79F8-4CA3-B849-B4408944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ECF-04CA-4E2A-A783-F51CBC3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377AE-2576-481C-9CFC-8EEFF19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C5E44-39EE-478A-9F07-9BE2B35E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5C382-74FE-4766-B619-47565003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F5528-E3A7-4253-A401-7D4BF4E6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2EAE0-B2EB-4614-85A3-51C71ECC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3B05B-18A0-4525-A6FE-CDDDAC6D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CFA0C-D58B-4D2F-B207-A8513769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B6078-D552-4F81-9DC1-FDD4D308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FB1C6-5ABE-49CF-902D-AF18524E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19FFF-8B70-41CA-AF0C-64B2D30B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99DA-D3D5-4B37-B7A0-A324FA2EC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B4CB-92C5-49C9-8272-0DF1D28D05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17E1-530C-4416-AB7F-60C76F90EA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0D20-E3AB-47B7-B6B3-0FC551445E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1F4D-6369-46CC-B32C-E67CE17A98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41F2-7B66-46EE-AF68-28BA6E8FF5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18A1-BE88-4AC8-86F0-B3C2DE15D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C72D-8E11-4668-B0DE-89BB66BE48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F0DB-E363-452C-AF85-2EFF95498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57FC-9AED-4417-97F6-C52AFCC17A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8ECD-82D4-468D-AC25-1A5F7D1A88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C636-607F-42C5-AA23-394EC926D2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91E0-A97D-4358-8DD3-81DF186E40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228E-2E13-4F81-BD39-E0EE4EC25C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3BEF-ED2B-4725-B8A6-355E33151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4E38-BC48-4BC4-9716-40603F147A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9CE9-4C50-4EF6-AF17-FE73DB25C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CD12-F767-4444-B0B4-43AAE33FCA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5AD9-A311-4D7E-A445-5E7DB2191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84F7-422F-4F17-88F2-673934E90D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9265-9A19-4814-89FE-62C1CD9BFF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07A2-6D44-40F7-ABEA-198D16291B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2C96-3A09-478F-A96B-2720705122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C4F8-D59E-429D-8F06-F7FAE27931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CFE-404F-40B6-B86C-5F3C4D63A0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u=4011550375,2138251778&amp;gp=6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47712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2209680" y="1295280"/>
            <a:ext cx="44960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地球爷爷的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20060916211923732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914400" y="6858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小猴对正在树上的猴爸爸说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：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爸爸，请您给我们摘几个桃子，好吗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3276720" y="3429000"/>
            <a:ext cx="487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小猴觉得很奇怪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：“</a:t>
            </a: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地球爷爷怎么帮忙啊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20060916211923732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762120" y="609480"/>
            <a:ext cx="7391160" cy="27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球爷爷说话了：“不，我有手，而且有很大很大的力气，能让成熟的桃子掉下来，能让踢到半空的足球掉下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手，就是你们看不见的                      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3429000" y="38862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地心引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" dur="2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20060916211923732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533520" y="3049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2743200" y="12193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两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人  他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俩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摘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果 伯伯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而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踢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球  吸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引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引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514600" y="4572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liǎn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5562720" y="533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li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6781680" y="533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hā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4724280" y="40384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yǐ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6400800" y="3124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ěr   qi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334986"/>
          <p:cNvPicPr/>
          <p:nvPr/>
        </p:nvPicPr>
        <p:blipFill>
          <a:blip r:embed="rId1"/>
          <a:stretch/>
        </p:blipFill>
        <p:spPr>
          <a:xfrm>
            <a:off x="152280" y="533520"/>
            <a:ext cx="4594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7T06:10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