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3492B-1834-4EF7-BF89-0270A9528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C0BC6-585C-40B1-A61F-08AE15B90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DF5441-2EF5-4F52-A60A-FBA3BF3F2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1851C8-C915-42A8-BDAB-665E53615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914E9A-DDB8-4330-8E31-28B2CAFAF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5A157D-4047-41B1-840A-1FDB80707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CC5FB8-43C3-4DA5-9920-3F30C21C9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F83991-E19B-4E28-9F9A-69C65C3A5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8EDAE6-301C-4CFD-9251-49DD7E87B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F77C92-598B-4E13-8E7C-795148D14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E14FBE-A28B-4B41-86DE-F4AE3D6FF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31AE79-047E-4932-9826-9069560FF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97033-44A8-4133-A724-15D89D664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4C0B2D-4C3E-4F61-A7C8-2F7362D19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B62DF1-D95F-4FFA-91F7-2BBAFF954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91C31D-F7D7-4EBB-9B1D-4E36CDEB8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57C9E1-0A4C-42E0-8B05-B3383CB6B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E1BB65-7B4F-428A-8EDC-81C56AE75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83326B-ABA6-4CCF-89EA-41BC4FF75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791B7B-B9C2-4D79-B0E2-AEAAAC1ED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45D83C-83F0-4D24-A728-D65F89EC5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D74006-230B-4479-8A53-DE125AB45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1433D5-9B0E-48E4-9E43-18429F29A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2B045-5614-4C00-AB36-32A9AA144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091A50-842B-4C2A-B169-743EFA836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9ACA31-C8AF-47CF-AFAF-C79480799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BBF879-0E41-41B8-BA7C-5367BCE92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D1B4B4-31E5-4F77-8C6B-BD734717E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462821-F376-4853-B1F7-3CEFBFC78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FB4700-6C42-4E47-A7C4-CABEBBB2A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A78002-D3F8-4775-96EA-BA4D71460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813360-7113-452A-BACB-297DC9752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348E7E-9524-4C30-B65B-294779D4D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EDD047-1DE0-4BD4-BC0E-C2B25581C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6E041-A6BD-4468-BDF3-DF1CBF6D1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9F7E75-EF73-47CB-8149-9C6E9716B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2B5ED3-7102-4597-95B1-4F02ADB36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68AF6F-7085-4FBA-8A99-93C771D1E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19D539-E170-4EED-A77D-6C7AB3729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CDED58-2F7C-484E-8AF6-96017EE18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D086EF-8314-4F73-8F8B-1994D675B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BEDA77-3AD2-4EA3-B87C-8709DCEAE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1C154B-0701-4966-BE8E-2F67F1A40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73321F-4E31-462F-8596-9EEF03992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D85FB3-4463-4A50-AF06-295D03663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7336C-9AFA-4450-8BFD-91073F3B4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6D99B3-62FC-4BF4-858A-4176CE925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518DE2-A2AA-44AC-9E29-4441680FF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4DB0B7-E7F8-4C9F-A037-2AFEC852B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7FA4DE-E519-430B-99EC-B8BF38C6C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9F5DFD-55C0-4345-B5E7-34F8F9C73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31F46EB-1B71-40E8-96D3-64B0CDBC2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4693FB8-16D2-4005-B9A3-2BC077AA6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690A516-7B57-491E-B875-781C18C50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5999B5F-8AB9-4621-9D84-357C8FBDE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25B42FE-054C-455D-B37E-1E12731AB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52D4C-FCB4-458B-8472-EB0AF7E39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554AF6E-E5E0-4C7D-8C49-90247EB9A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94A2FCD-3E44-4DCB-91DA-5629073E8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8A7904E-59F2-409D-BED8-C2A373B47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CEF0598-B2B8-42A7-A85E-626E213C4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EF69002-B24B-4295-8265-6B0D96E62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D2A53A5-9C61-4649-BA4C-E24D2654C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2A1F5A5-9BB0-4548-88F6-F37C12C96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DEF5378-1CAF-4539-B661-C53D1321D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263A583-0D14-4CD6-A61A-FF8271D7E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C2416B9-3885-4F4B-ACB6-9BD628958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351C0-0C5E-4C6D-8035-0C1E6B083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84F216C-6AEE-4347-9442-4BCB2FE51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13C491A-78E0-4B27-A8F5-52624863A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319A323-0871-4A1B-8A6F-A08037316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43E852B-81B7-4B6D-8B7A-67E175059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AC932F1-CFF1-4461-A5B1-7E95DA661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C018685-40B7-4F03-AE71-9A36A0C5F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1138CB5-C62B-4A9F-B403-413306AB4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5341AFA-0A6A-4B80-BEFA-5CD9F390F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7AC3199-5BDF-4413-8B6F-DB77AEF57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5E5A3-0AE4-489E-87B7-ADC647DEB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66224-7903-4F46-82A4-E80F145D2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3DDE7-68E3-49A2-8004-3BC3BD52B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F5CE5-D61F-4EE3-BDB4-AFD53B98C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234C1-1B7F-42DE-A7B3-4909C800B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59129-C611-4663-B3DC-55E618095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E7833-FD4B-471D-8FC5-039FE4937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54DF3-7A8A-4D16-B23A-AA4F67C4B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75FBD-8FEE-42CA-BD88-6CFD3EF5C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B9846D-0EBF-40FC-AE6A-2F60D8372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3D4984-3112-45D7-A2C3-F2728E5A4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71C6D8-E4ED-4F3F-9895-78A3B92E7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5836FC-9072-47D6-97D7-3F6EB7200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5C77F9-DFD5-4AEB-92CA-6C494DB68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1A74E-C030-4976-80D3-92790444E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C92DE3-7C33-43DA-9A89-7DA0A1E9F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9A1186-4448-4A1A-A6BC-7B05ADAA6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00975F-4EF9-4C60-8A40-D2FADA61B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513BC4-0201-4203-B961-FDDF746A4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173C56-FA78-433C-BE9A-51CC6CD16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BF456C-18E0-4BDF-B73F-5CF4E845E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092BF0-761B-45D8-A917-818A7DE95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4EE02B-E9C8-474A-A663-5FB06FAE8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317BBF-1584-4C66-806C-493ED6E87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0ED6CF-6946-42FE-A60D-56D0F2975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C0E79-95F5-4BCE-9BCF-D0F7E511D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215C3F-28ED-41AE-BDF4-97D968FD5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D62093-6A3C-46FF-9FF4-2E53A31DF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6F7972-CF91-4F29-9AE4-81985E14B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263C31-66A6-4948-BF39-C38548A3E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5193C8-2AB9-4806-B19B-AE8A19E9C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B81EAA-5145-4873-8DCF-06CDA760A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8BBED3-F92E-4C26-A22D-7555BD227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CCEDB0-B927-4CFA-AB8F-A616FB11D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2CE58A-0F46-42F5-A4C4-3523BE967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832E9A-2774-447E-B76C-920573FD7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0FCCF-5559-4BDC-BD0E-BF1859F72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FF77CA-AEF9-4974-BFE3-39455419B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9B196B-5DB4-45B6-8725-C2312022F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13914C-502F-4BD1-99B5-5BD45CE76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E2832E-CFB9-428B-AEE4-89609FF67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A4A550-0047-463C-982B-B15EBF91D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7ED170-027C-4FFD-AF11-B09553FA4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AD831D-D751-4562-8A51-1AF5C8107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F4D0DE-5BC9-461E-A30F-9EB9CB661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5C1EE1-DDA1-4DC0-A557-29825AC88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A9F465-DBDB-4C1E-A61D-83C6F8FAC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BD4F2-1A01-457E-B018-2081F04AC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3D9798-8B1A-4C92-B9E7-F9FAD7D15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4AD27A-8342-4A28-A3EA-4075945D3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7C5239-0299-4EDA-9665-6CE9D85E1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7E2E3A-5371-4EFB-AB1D-B97D0908C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0933DB-4FFB-4F6D-8106-998A93039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AC398E-E078-4A5D-BB55-2085ABDAA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FB8D97-DDCC-4495-9DFA-72358688D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0C8E35-FA38-463B-9315-27C9A26FF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6CDBD4-96E9-47CE-BD73-CF16D450C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FBB7FF-7202-4D47-91B8-9D43BD67A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9BF0E-BB26-4ABD-A8C2-A83C6E728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2CBF29-29B2-424A-AB3C-B4F8171E8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40C2CC-D540-422A-AE53-82EAFB111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A6C1F5-2598-40F1-8805-12796C9C9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DA9B77-FE72-4880-B34C-080367629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F0C233-15DB-4D5D-A0D8-BDBCF1B4D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9F87C5-28E9-47E7-AA2C-4EE44A869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8D4A8D-975F-4272-9545-C5E1681C7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BA156B-E093-4D7C-8A5B-7C2F7458A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4AFC35-D7C7-4D77-8397-15873A679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0B3A12-25FE-429C-B7C0-D06998527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9DEB7-6404-4A15-8E90-4C6BF1409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2DCAFF-4CCD-40D5-9637-348CAE8A5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03D2AB-931A-4FC6-8C51-73E9996C2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BDC6D5-694A-47D5-9E29-8E5CE6364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15DDBC-3FBB-447E-ADCB-13ECE76BE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B50B6F-BAB3-4666-ADB1-DF5C551FA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4609EC-B77D-4EFA-893A-ECD1CF9EE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F3F1C8-1038-4C1C-B674-12CAA1972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99952F-973A-4094-BCC5-566024F77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FACFC1-44A9-488E-8CF8-2B08A7E51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9D34CF-08F0-4F55-804C-EAB19164D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F0AA3-10FF-4C98-9518-C97AC71DF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B014C6-52B7-4BBE-9225-99D500CB7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F3F20B-61EE-4C5B-938E-D71F25BAE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D5AD24-1D1B-44D2-A271-A4F2BDB25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776F5B-8674-429F-8B75-F1B9CC58A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558CB1-27A6-4380-9C9A-820F6EC78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0AF7A7-2E42-47F0-A5FB-00264D7D9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978A61-D4DA-4EDC-9312-6A9D22FFF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0F618B-44B5-4D02-8E20-72B698E1B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1BA4AD-DF92-487C-B2C1-B4CAD88D9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BC77DF-651E-48A9-A1B6-324A51161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4AC06-BC74-473A-944D-D42B24CE6BB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D8028-942E-4FCD-9DFC-B9D045B2A61F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46E2D-47B2-4CCE-8AB0-CC19C60AD7F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F476B-C449-4911-97B2-0EB3BF98EC1D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67B31-FC8C-4F1E-BD7A-E23F087AA99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D1FDC-2D74-4803-97BC-1E915FEADD43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3C6A4-CACB-476A-9E69-456F1E241A8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44CD4-0A0C-47FA-A952-371DDDCCC0FD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6E8F4-9687-404B-9510-A064CCAAD12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ADC36-F937-4F1E-9822-03747387CEB9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844B3-C4CF-4694-AEC9-586C9AA9BDD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0F7E6-4A7C-4564-B505-317BF0C5677D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B83C8-E1F8-4887-879C-0206D16E5F8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1D2C7-6E9C-4277-95AF-8355449CCD62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29763-6BEF-44EC-A1A0-5FEB6B015641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06DA9-A542-4E94-8FBD-032CF1FD7E7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87329-53EB-4890-BED0-21A1823B6DC6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4C47B-03AB-4855-A7B3-DA817701040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385BB-8949-439B-A541-C73C3772E53E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1C10D-151C-47C3-A8C2-C2BC9F4632E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7D2D5-795A-4C5E-BDB2-DC3C6F048461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7E2BB-CBE7-4835-8223-62010EAFDEB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D4B0E-6F65-44A5-9B5F-0CBCE37CA6FF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59404-FC0A-4297-8389-69B2BAE0ECB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DE415-63EF-4F58-AA5A-3BF2CA9F49C9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4CD8B-34F0-4DD6-8FBE-47808D61DB7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0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职业生涯规划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subTitle"/>
          </p:nvPr>
        </p:nvSpPr>
        <p:spPr>
          <a:xfrm>
            <a:off x="539280" y="3886200"/>
            <a:ext cx="72327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AutoShape 2"/>
          <p:cNvSpPr/>
          <p:nvPr/>
        </p:nvSpPr>
        <p:spPr>
          <a:xfrm>
            <a:off x="3132000" y="2133720"/>
            <a:ext cx="2664000" cy="457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9f4c9"/>
              </a:gs>
              <a:gs pos="50000">
                <a:srgbClr val="99cc00"/>
              </a:gs>
              <a:gs pos="100000">
                <a:srgbClr val="e9f4c9"/>
              </a:gs>
            </a:gsLst>
            <a:lin ang="5400000"/>
          </a:gra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 Box 3"/>
          <p:cNvSpPr/>
          <p:nvPr/>
        </p:nvSpPr>
        <p:spPr>
          <a:xfrm>
            <a:off x="3514680" y="2205000"/>
            <a:ext cx="210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前         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AutoShape 4"/>
          <p:cNvSpPr/>
          <p:nvPr/>
        </p:nvSpPr>
        <p:spPr>
          <a:xfrm>
            <a:off x="3132000" y="2852640"/>
            <a:ext cx="2664000" cy="457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9f4c7"/>
              </a:gs>
              <a:gs pos="50000">
                <a:srgbClr val="99cc00"/>
              </a:gs>
              <a:gs pos="100000">
                <a:srgbClr val="e9f4c7"/>
              </a:gs>
            </a:gsLst>
            <a:lin ang="5400000"/>
          </a:gra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 Box 5"/>
          <p:cNvSpPr/>
          <p:nvPr/>
        </p:nvSpPr>
        <p:spPr>
          <a:xfrm>
            <a:off x="3587760" y="2925720"/>
            <a:ext cx="187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自 我 分 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AutoShape 6"/>
          <p:cNvSpPr/>
          <p:nvPr/>
        </p:nvSpPr>
        <p:spPr>
          <a:xfrm>
            <a:off x="3132000" y="3573360"/>
            <a:ext cx="2664000" cy="455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9f4c7"/>
              </a:gs>
              <a:gs pos="50000">
                <a:srgbClr val="99cc00"/>
              </a:gs>
              <a:gs pos="100000">
                <a:srgbClr val="e9f4c7"/>
              </a:gs>
            </a:gsLst>
            <a:lin ang="5400000"/>
          </a:gra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 Box 7"/>
          <p:cNvSpPr/>
          <p:nvPr/>
        </p:nvSpPr>
        <p:spPr>
          <a:xfrm>
            <a:off x="3659040" y="3645000"/>
            <a:ext cx="174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环 境 分 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AutoShape 8"/>
          <p:cNvSpPr/>
          <p:nvPr/>
        </p:nvSpPr>
        <p:spPr>
          <a:xfrm>
            <a:off x="3132000" y="4292640"/>
            <a:ext cx="2664000" cy="457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9f4c7"/>
              </a:gs>
              <a:gs pos="50000">
                <a:srgbClr val="99cc00"/>
              </a:gs>
              <a:gs pos="100000">
                <a:srgbClr val="e9f4c7"/>
              </a:gs>
            </a:gsLst>
            <a:lin ang="5400000"/>
          </a:gra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Text Box 9"/>
          <p:cNvSpPr/>
          <p:nvPr/>
        </p:nvSpPr>
        <p:spPr>
          <a:xfrm>
            <a:off x="3371760" y="4365720"/>
            <a:ext cx="228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生 涯 规 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AutoShape 10"/>
          <p:cNvSpPr/>
          <p:nvPr/>
        </p:nvSpPr>
        <p:spPr>
          <a:xfrm>
            <a:off x="3132000" y="5013360"/>
            <a:ext cx="2664000" cy="455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9f4c7"/>
              </a:gs>
              <a:gs pos="50000">
                <a:srgbClr val="99cc00"/>
              </a:gs>
              <a:gs pos="100000">
                <a:srgbClr val="e9f4c7"/>
              </a:gs>
            </a:gsLst>
            <a:lin ang="5400000"/>
          </a:gra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 Box 11"/>
          <p:cNvSpPr/>
          <p:nvPr/>
        </p:nvSpPr>
        <p:spPr>
          <a:xfrm>
            <a:off x="3371760" y="5086440"/>
            <a:ext cx="221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实 施 方 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6" name="Group 12"/>
          <p:cNvGrpSpPr/>
          <p:nvPr/>
        </p:nvGrpSpPr>
        <p:grpSpPr>
          <a:xfrm>
            <a:off x="2484360" y="765000"/>
            <a:ext cx="4103640" cy="799200"/>
            <a:chOff x="2484360" y="765000"/>
            <a:chExt cx="4103640" cy="799200"/>
          </a:xfrm>
        </p:grpSpPr>
        <p:sp>
          <p:nvSpPr>
            <p:cNvPr id="587" name="AutoShape 13"/>
            <p:cNvSpPr/>
            <p:nvPr/>
          </p:nvSpPr>
          <p:spPr>
            <a:xfrm>
              <a:off x="2484360" y="765000"/>
              <a:ext cx="4103640" cy="792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7e9ff"/>
                </a:gs>
                <a:gs pos="50000">
                  <a:srgbClr val="0099ff"/>
                </a:gs>
                <a:gs pos="100000">
                  <a:srgbClr val="c7e9ff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Text Box 14"/>
            <p:cNvSpPr/>
            <p:nvPr/>
          </p:nvSpPr>
          <p:spPr>
            <a:xfrm>
              <a:off x="2753280" y="860760"/>
              <a:ext cx="32389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zh-CN" sz="4000" spc="-1" strike="noStrike">
                  <a:solidFill>
                    <a:srgbClr val="000000"/>
                  </a:solidFill>
                  <a:latin typeface="Arial"/>
                </a:rPr>
                <a:t>目   录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9" name="Group 2"/>
          <p:cNvGrpSpPr/>
          <p:nvPr/>
        </p:nvGrpSpPr>
        <p:grpSpPr>
          <a:xfrm>
            <a:off x="466560" y="333360"/>
            <a:ext cx="3313080" cy="1150920"/>
            <a:chOff x="466560" y="333360"/>
            <a:chExt cx="3313080" cy="1150920"/>
          </a:xfrm>
        </p:grpSpPr>
        <p:sp>
          <p:nvSpPr>
            <p:cNvPr id="590" name="AutoShape 3"/>
            <p:cNvSpPr/>
            <p:nvPr/>
          </p:nvSpPr>
          <p:spPr>
            <a:xfrm>
              <a:off x="567360" y="333360"/>
              <a:ext cx="3212280" cy="1150920"/>
            </a:xfrm>
            <a:prstGeom prst="leftArrow">
              <a:avLst>
                <a:gd name="adj1" fmla="val 50000"/>
                <a:gd name="adj2" fmla="val 69776"/>
              </a:avLst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AutoShape 4"/>
            <p:cNvSpPr/>
            <p:nvPr/>
          </p:nvSpPr>
          <p:spPr>
            <a:xfrm>
              <a:off x="466560" y="333360"/>
              <a:ext cx="3212280" cy="1023480"/>
            </a:xfrm>
            <a:prstGeom prst="leftArrow">
              <a:avLst>
                <a:gd name="adj1" fmla="val 50000"/>
                <a:gd name="adj2" fmla="val 78465"/>
              </a:avLst>
            </a:prstGeom>
            <a:gradFill rotWithShape="0">
              <a:gsLst>
                <a:gs pos="0">
                  <a:srgbClr val="ccff33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前言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2" name="AutoShape 5">
            <a:hlinkClick r:id="rId1" action="ppaction://hlinksldjump"/>
          </p:cNvPr>
          <p:cNvSpPr/>
          <p:nvPr/>
        </p:nvSpPr>
        <p:spPr>
          <a:xfrm>
            <a:off x="7956720" y="6308640"/>
            <a:ext cx="1008000" cy="36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ecff"/>
              </a:gs>
              <a:gs pos="50000">
                <a:srgbClr val="0099ff"/>
              </a:gs>
              <a:gs pos="100000">
                <a:srgbClr val="cce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回目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4" name="Group 3"/>
          <p:cNvGrpSpPr/>
          <p:nvPr/>
        </p:nvGrpSpPr>
        <p:grpSpPr>
          <a:xfrm>
            <a:off x="466560" y="333360"/>
            <a:ext cx="3313080" cy="1150920"/>
            <a:chOff x="466560" y="333360"/>
            <a:chExt cx="3313080" cy="1150920"/>
          </a:xfrm>
        </p:grpSpPr>
        <p:sp>
          <p:nvSpPr>
            <p:cNvPr id="595" name="AutoShape 4"/>
            <p:cNvSpPr/>
            <p:nvPr/>
          </p:nvSpPr>
          <p:spPr>
            <a:xfrm>
              <a:off x="567360" y="333360"/>
              <a:ext cx="3212280" cy="1150920"/>
            </a:xfrm>
            <a:prstGeom prst="leftArrow">
              <a:avLst>
                <a:gd name="adj1" fmla="val 50000"/>
                <a:gd name="adj2" fmla="val 69776"/>
              </a:avLst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AutoShape 5"/>
            <p:cNvSpPr/>
            <p:nvPr/>
          </p:nvSpPr>
          <p:spPr>
            <a:xfrm>
              <a:off x="466560" y="333360"/>
              <a:ext cx="3212280" cy="1023480"/>
            </a:xfrm>
            <a:prstGeom prst="leftArrow">
              <a:avLst>
                <a:gd name="adj1" fmla="val 50000"/>
                <a:gd name="adj2" fmla="val 78465"/>
              </a:avLst>
            </a:prstGeom>
            <a:gradFill rotWithShape="0">
              <a:gsLst>
                <a:gs pos="0">
                  <a:srgbClr val="ccff33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自我分析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7" name="AutoShape 6">
            <a:hlinkClick r:id="rId1" action="ppaction://hlinksldjump"/>
          </p:cNvPr>
          <p:cNvSpPr/>
          <p:nvPr/>
        </p:nvSpPr>
        <p:spPr>
          <a:xfrm>
            <a:off x="7956720" y="6308640"/>
            <a:ext cx="1008000" cy="36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ecff"/>
              </a:gs>
              <a:gs pos="50000">
                <a:srgbClr val="0099ff"/>
              </a:gs>
              <a:gs pos="100000">
                <a:srgbClr val="cce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回目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9" name="Group 3"/>
          <p:cNvGrpSpPr/>
          <p:nvPr/>
        </p:nvGrpSpPr>
        <p:grpSpPr>
          <a:xfrm>
            <a:off x="466560" y="333360"/>
            <a:ext cx="3313080" cy="1150920"/>
            <a:chOff x="466560" y="333360"/>
            <a:chExt cx="3313080" cy="1150920"/>
          </a:xfrm>
        </p:grpSpPr>
        <p:sp>
          <p:nvSpPr>
            <p:cNvPr id="600" name="AutoShape 4"/>
            <p:cNvSpPr/>
            <p:nvPr/>
          </p:nvSpPr>
          <p:spPr>
            <a:xfrm>
              <a:off x="567360" y="333360"/>
              <a:ext cx="3212280" cy="1150920"/>
            </a:xfrm>
            <a:prstGeom prst="leftArrow">
              <a:avLst>
                <a:gd name="adj1" fmla="val 50000"/>
                <a:gd name="adj2" fmla="val 69776"/>
              </a:avLst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AutoShape 5"/>
            <p:cNvSpPr/>
            <p:nvPr/>
          </p:nvSpPr>
          <p:spPr>
            <a:xfrm>
              <a:off x="466560" y="333360"/>
              <a:ext cx="3212280" cy="1023480"/>
            </a:xfrm>
            <a:prstGeom prst="leftArrow">
              <a:avLst>
                <a:gd name="adj1" fmla="val 50000"/>
                <a:gd name="adj2" fmla="val 78465"/>
              </a:avLst>
            </a:prstGeom>
            <a:gradFill rotWithShape="0">
              <a:gsLst>
                <a:gs pos="0">
                  <a:srgbClr val="ccff33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环境分析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2" name="AutoShape 6"/>
          <p:cNvSpPr/>
          <p:nvPr/>
        </p:nvSpPr>
        <p:spPr>
          <a:xfrm>
            <a:off x="7956720" y="6308640"/>
            <a:ext cx="1008000" cy="36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ecff"/>
              </a:gs>
              <a:gs pos="50000">
                <a:srgbClr val="0099ff"/>
              </a:gs>
              <a:gs pos="100000">
                <a:srgbClr val="cce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回目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4" name="Group 3"/>
          <p:cNvGrpSpPr/>
          <p:nvPr/>
        </p:nvGrpSpPr>
        <p:grpSpPr>
          <a:xfrm>
            <a:off x="466560" y="333360"/>
            <a:ext cx="3313080" cy="1150920"/>
            <a:chOff x="466560" y="333360"/>
            <a:chExt cx="3313080" cy="1150920"/>
          </a:xfrm>
        </p:grpSpPr>
        <p:sp>
          <p:nvSpPr>
            <p:cNvPr id="605" name="AutoShape 4"/>
            <p:cNvSpPr/>
            <p:nvPr/>
          </p:nvSpPr>
          <p:spPr>
            <a:xfrm>
              <a:off x="567360" y="333360"/>
              <a:ext cx="3212280" cy="1150920"/>
            </a:xfrm>
            <a:prstGeom prst="leftArrow">
              <a:avLst>
                <a:gd name="adj1" fmla="val 50000"/>
                <a:gd name="adj2" fmla="val 69776"/>
              </a:avLst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AutoShape 5"/>
            <p:cNvSpPr/>
            <p:nvPr/>
          </p:nvSpPr>
          <p:spPr>
            <a:xfrm>
              <a:off x="466560" y="333360"/>
              <a:ext cx="3212280" cy="1023480"/>
            </a:xfrm>
            <a:prstGeom prst="leftArrow">
              <a:avLst>
                <a:gd name="adj1" fmla="val 50000"/>
                <a:gd name="adj2" fmla="val 78465"/>
              </a:avLst>
            </a:prstGeom>
            <a:gradFill rotWithShape="0">
              <a:gsLst>
                <a:gs pos="0">
                  <a:srgbClr val="ccff33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生涯规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7" name="AutoShape 6"/>
          <p:cNvSpPr/>
          <p:nvPr/>
        </p:nvSpPr>
        <p:spPr>
          <a:xfrm>
            <a:off x="7956720" y="6308640"/>
            <a:ext cx="1008000" cy="36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ecff"/>
              </a:gs>
              <a:gs pos="50000">
                <a:srgbClr val="0099ff"/>
              </a:gs>
              <a:gs pos="100000">
                <a:srgbClr val="cce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回目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9" name="Group 3"/>
          <p:cNvGrpSpPr/>
          <p:nvPr/>
        </p:nvGrpSpPr>
        <p:grpSpPr>
          <a:xfrm>
            <a:off x="466560" y="333360"/>
            <a:ext cx="3313080" cy="1150920"/>
            <a:chOff x="466560" y="333360"/>
            <a:chExt cx="3313080" cy="1150920"/>
          </a:xfrm>
        </p:grpSpPr>
        <p:sp>
          <p:nvSpPr>
            <p:cNvPr id="610" name="AutoShape 4"/>
            <p:cNvSpPr/>
            <p:nvPr/>
          </p:nvSpPr>
          <p:spPr>
            <a:xfrm>
              <a:off x="567360" y="333360"/>
              <a:ext cx="3212280" cy="1150920"/>
            </a:xfrm>
            <a:prstGeom prst="leftArrow">
              <a:avLst>
                <a:gd name="adj1" fmla="val 50000"/>
                <a:gd name="adj2" fmla="val 69776"/>
              </a:avLst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AutoShape 5"/>
            <p:cNvSpPr/>
            <p:nvPr/>
          </p:nvSpPr>
          <p:spPr>
            <a:xfrm>
              <a:off x="466560" y="333360"/>
              <a:ext cx="3212280" cy="1023480"/>
            </a:xfrm>
            <a:prstGeom prst="leftArrow">
              <a:avLst>
                <a:gd name="adj1" fmla="val 50000"/>
                <a:gd name="adj2" fmla="val 78465"/>
              </a:avLst>
            </a:prstGeom>
            <a:gradFill rotWithShape="0">
              <a:gsLst>
                <a:gs pos="0">
                  <a:srgbClr val="ccff33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实施方法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2" name="AutoShape 6"/>
          <p:cNvSpPr/>
          <p:nvPr/>
        </p:nvSpPr>
        <p:spPr>
          <a:xfrm>
            <a:off x="7956720" y="6308640"/>
            <a:ext cx="1008000" cy="36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ecff"/>
              </a:gs>
              <a:gs pos="50000">
                <a:srgbClr val="0099ff"/>
              </a:gs>
              <a:gs pos="100000">
                <a:srgbClr val="cce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回目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3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614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15" name="Picture 4" descr="http://www.elixirinteractive.com/LookFeel/elixirinteractive.com/images/headers/brand-awareness.jpg"/>
            <p:cNvPicPr/>
            <p:nvPr/>
          </p:nvPicPr>
          <p:blipFill>
            <a:blip r:embed="rId1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6" name="TextBox 7"/>
            <p:cNvSpPr/>
            <p:nvPr/>
          </p:nvSpPr>
          <p:spPr>
            <a:xfrm rot="20926800">
              <a:off x="1908000" y="3573720"/>
              <a:ext cx="46670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www.</a:t>
              </a:r>
              <a:r>
                <a:rPr b="1" lang="zh-CN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eeppt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14T11:27:38Z</dcterms:created>
  <dc:creator/>
  <dc:description/>
  <cp:keywords/>
  <dc:language>en-US</dc:language>
  <cp:lastModifiedBy>a</cp:lastModifiedBy>
  <cp:lastPrinted>1899-12-30T00:00:00Z</cp:lastPrinted>
  <dcterms:modified xsi:type="dcterms:W3CDTF">2015-02-10T01:59:58Z</dcterms:modified>
  <cp:revision>1</cp:revision>
  <dc:subject/>
  <dc:title>职业生涯规划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877</vt:lpwstr>
  </property>
</Properties>
</file>