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D633-8AF8-4B95-A83E-20DABB34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638-12F0-4460-9A54-73F83862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C7131-ACB9-4888-94B7-0F680168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38E3B-3F55-4092-9B4D-CD5895C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A7A0B-CB9B-4B1B-A929-FDC953CF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CD789-A501-4457-8C56-8081146A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D1C5E-5F8F-4CE5-AC7F-E98C1D1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336C3-2D2D-4A43-8A1A-49A1189C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2640B-8CC2-4023-90ED-67E84A3D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1B9C4-A42F-4CC2-B06D-E8B0D055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560F2-45F7-47FA-9F7F-9E873BF8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3FF5E-5BBD-465E-8BEF-89013558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73C-FAFB-44C3-9360-735D4299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19381-5268-4262-9543-92E5D49D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ED531-0990-4907-8D1B-204E7631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665E7-7D2F-4D59-9F30-7191FAC2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E72EC-DE33-4F5D-A75F-E593DA63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66E6F-2E2C-44CC-8C12-9DB3838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6C2A5-6C92-4823-9DFA-C251025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9758E-2B99-48F6-A25C-66BCBCE0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1AC7A-F35E-433A-8FB0-37803E43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36B80-1ADE-408B-B3A9-D4E9040A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8E7CE-4D61-45F8-B3B7-A339BAE6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076-CAD7-47D2-B894-F4567617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8DB63-6931-4865-894D-4708270F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FFCE3-0A47-498B-AA2A-942AEDE6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2A5BB-B650-4CF9-87DE-6ED1050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3A7C-79A6-4E33-89B0-44EF2FD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6E1FC-84AB-497F-ABC0-D1B9C29F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A8500-92FB-4358-9712-75C75673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DADD7-6E75-4C9C-8A1F-922D0F82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36BE1-011F-4D08-A886-B9F08A2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C6317-8F4D-4D9A-9EFF-3B870D9F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D0790-2EFE-4F9C-824E-01FEAE5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5F18-B846-4DDD-BAEE-EBF428E6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1D8F8-8E20-4819-AE2F-03254C8A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39DB4-D635-44B5-8C83-0FE19D5A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11BBD-0EFE-4248-9106-91228652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38C14-125E-418C-8D2E-F4BED1AA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64746-8CD9-43BA-9FDD-40BA0694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89D4B-1984-4BDC-B9D8-A531C4B0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F112D-C717-4227-A146-B0514F8B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6827F-24C2-47BC-963C-9864603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74BF9-491D-40AB-81FB-71AC09DB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27383-345A-4F82-965F-C0855D14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D370-A27F-45F5-BF56-504117B0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9E166-8B3E-47B1-B495-C33071D8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FD5E1-66D8-4504-9F05-D4687077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08AD6-464B-42C2-A514-1E561356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5A401-9EE8-451B-B612-F8F03890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46058-062C-451B-BB87-55B39993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0BAA50-8EC1-4596-8CAA-5A7BBD1C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C626A-EEE7-4A20-B30A-4F9BD76C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89B79-36B7-4A12-A730-DF1A70E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91942-D43E-4FF9-A315-D665A54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9F321-1C4C-4017-B023-86E84E9C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8EAB-B70D-4445-99E0-B5683E6E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FB14C-AF3B-47BD-A9EA-3F196D04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4F5691-EBA4-405F-8C4A-939426C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BF5E6A-998D-4F65-AE7C-FC8E60FB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53D2F-0508-4594-B5CE-588EE429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5E6D0-FB1D-4615-A06C-D6DA3EF9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86F12-0377-44A6-B780-D9033763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556F2-CD1D-4D2B-9451-31DD9176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124-1789-45D2-89DC-22459F60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1908-1E08-4328-9480-DBFB726F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7231-1D55-482D-89FB-458163DE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5F98-CD35-4BA7-BAC7-21C7460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556-EB07-45DB-8BFE-FFF6E69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DB48-1095-4670-A64B-C8B529E9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0E4-B061-4C00-9246-0315FF52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7B72-7911-4C9B-B4EB-F580A9A4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0B64-6252-4468-AAFC-9657573F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1CC-9B54-48F6-A0D6-A73F2BFC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EC60-794F-457F-A82C-255EEA82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8B97-1478-4362-B827-3F8FAB42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03FA2-FACD-4EDC-97AB-7A70BA1D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04B0-E892-48AB-9E79-BD9E36A6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388C-B066-4BDF-B867-E2005098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9081-4887-48B2-9962-AFBE9CCD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7DF4-35F7-4A63-99E5-D563A12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DAAA-725F-494A-B7FC-AC199785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60C5-064F-43AD-B73D-865319EB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F0BB-77BC-43F3-B781-EA2CAA15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2DA6-6C2B-4794-BCC1-10D15B70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BD11B-4CDB-4377-A652-971F610C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BD20-6AC6-4195-BFDE-F0338498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D09E-191F-4771-9FD4-75D3C287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11703-E743-472D-94EE-64E9869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B6C78-52A2-4D49-BA14-5D83294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54D-A368-4AB7-9ABC-65A2FCFE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46BB2-05D2-4DC9-B03F-105B7889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295E-7EC4-4767-9B3D-5B875B16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A549-E41B-4AA4-BE95-2A8C87B0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52AA4-C96F-4BAC-AA89-57E596D4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7974-B593-492A-8155-C01A43B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6F1CF-33BD-413A-BF48-FE5D7AE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144F-41B0-4F46-96CD-4AF1328B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AD70A-F0B2-41CB-B590-DDFBB167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C174-0055-4A64-8613-264F1457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543A7-AAA0-4A3B-A91A-B77C6430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80D-0E84-489A-B832-F590962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7D1D-8F5B-4CFD-A83D-A101704E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61A1-1DBF-44EF-94E3-BB7FB90C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47BC-75B8-43F6-8B53-4FB34EC5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26073-6288-4733-83B2-CF36715D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D434B-8C9C-40A1-B2E1-669DBCEF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5208-830F-418C-BFA0-1211BC8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EFD2-92CE-451F-B945-AFE72568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F194E-7850-4CCA-BA54-D8DBE395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0F43-373A-482C-B8A5-C358EB6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B037C-09B5-4022-A5A6-BA69CE5F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E68-805A-49B9-98B4-C4415490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33734-EE48-4BE0-8A41-D1631F41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3107-A7B8-49AC-B248-5144083F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38C7-9514-4B65-81A2-8316DC6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3A068-1E15-4BC4-BC0F-D04CA51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3805-EB84-4098-8777-1BF39A49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079A-2ECB-4D0A-B040-440795E8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4763C-9A7A-4591-A5B4-4E6FCD34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0491D-497E-48AF-BC1E-5828A83D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4B0A5-108B-4A95-A690-0A6F424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A5280-B930-445E-BF56-67AFECF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482-0C47-42A4-9EB6-C9B9BB1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1C3B-E798-4CD4-A275-B55F0427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FE8F8-0257-4C4D-A095-620BF744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B1D3-175B-41D7-8633-500573CF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CA44F-BF8D-4AEA-8D43-BE21A9D3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1463-4AF5-4939-B546-1E6CCE0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0C184-2E15-47EB-BE40-B9053845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F0758-3DEE-4D4B-8D19-9D269DBE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21994-3866-4705-9986-D2D330C7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11A10-BF78-4D04-BDDD-F9E74023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39A40-9D2B-453B-B671-63AC7709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61A-1DC1-4DE5-96A3-CF3C87CB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B10F4-F99C-4125-8E05-4AF7629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C7696-76F0-461E-9732-AF9BB5F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2CFF-0AA8-4454-9AC0-99B20CD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93230-6377-4AD9-AF1E-69E273BB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A67F-CEEC-469A-8A27-8BB2F765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982C3-E7DD-4EEB-BBA0-E1AADDC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871A5-2999-4E8A-B758-E70DB129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BCA8B-B706-4B05-8FD8-F2C31C89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53C4-FC3F-4222-BE1F-322B3FA8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BC51B-E04D-4C0E-AC7C-962E90B2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B812-85F5-4C0C-AD82-2D2F886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B8231-7CE0-4906-B24A-DB569810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6C03D-31B6-4E31-A374-D408853B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34039-694C-4EFD-84FA-83DBE04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3077F-07C5-4AA0-BC22-805F879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9A6D-454E-4EA4-9B7C-5F7DFA0F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26872-841B-4B24-AADD-C934E13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9D328-663C-4A9D-BEC1-0482BCAE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4F090-9E6E-4CA3-B2ED-565FC199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20237-1775-4C9E-A713-9AC0750C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A79ED-5283-4250-BE04-2243DF2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53AF-6E00-466B-B188-E6B1B9C4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C380-EEC2-4CFC-8165-9746911B76D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550B-4062-4867-9D45-96BC9FC154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9D47-6620-4BF7-9908-474768557C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0ED4-CAA9-46A1-B4F1-5FB79939B0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7EB5-1EE2-406B-9495-A9C622FC9A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4559-52D7-4505-A62E-2EB128E39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A1B1-3FF4-4CA2-8426-0806E500C0C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5C7A-ADDE-4613-80BD-73335A469B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C7F3-CECE-434F-9D4F-B66E4DE01B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8383-279F-4C2F-AD96-862BFC27C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DCF3-4AEF-43F9-B62F-ED4AFDC1D4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8DD-5591-434C-B62F-8AE0CA8B1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7B9B-BFEC-4039-B5D8-30846D09ED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F877-FB5A-4B5C-A744-3043EB3D88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B6A-676F-4E28-B355-2858F99731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2B18-418E-4FA6-86C4-75A88A1158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C5DC-FB50-4C5B-A7A0-3087B4F4DE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3EC5-03C5-4078-83C2-D50DF12ADF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52E3-B41F-4D21-BB40-F18A136518C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49D9-F3E8-49DE-82DB-26B8107C5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7CF-5C12-4013-B89E-62C29101AE3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7509-F76D-4569-B27B-01E9F13AE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12B6-4BD2-41F4-A97F-0F60C8FD6D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0A06-57C4-46A3-8228-8FAD19E21A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智利柯尔诺德裴恩山＆拉哥裴赫湖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2697120" y="17733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Arial"/>
                <a:ea typeface="隶书"/>
              </a:rPr>
              <a:t>答谢中书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611280" y="836640"/>
            <a:ext cx="820872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背诵课文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从哪些角度来写景？写出了自然景物的什么特点？表达了作者怎样的思想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抓住景物的灵魂，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自然万物的勃勃生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低、远近、动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变化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视觉、听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立体感受，来传达自己与自然相融合的生命愉悦，体现了作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酷爱自然、归隐林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志趣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4"/>
          <p:cNvSpPr/>
          <p:nvPr/>
        </p:nvSpPr>
        <p:spPr>
          <a:xfrm>
            <a:off x="179280" y="0"/>
            <a:ext cx="8964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抒情赏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611280" y="665280"/>
            <a:ext cx="8532720" cy="61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迷你简启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总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山川之美，古来共谈，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是山川风物的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观形态，是作者对山川风物的愉悦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迷你简启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抒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ff0000"/>
              </a:buClr>
              <a:buFont typeface="迷你简启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实是欲界之仙都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：尽现在山水之中飘飘欲仙的自得之态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ff0000"/>
              </a:buClr>
              <a:buFont typeface="迷你简启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自康乐以来，未复有能与其奇者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：期与谢灵运比肩，显自豪之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迷你简启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表达作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沉醉山水的愉悦之情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与古今知音共赏美景的得意之感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468360" y="2930040"/>
            <a:ext cx="86756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陶弘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2—53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，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梁时著名高道、炼丹家、医药家、文学家、学者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谢中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有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峰入云，清流见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的名句，这是他一生品格的写照。他道儒释三教兼收，上识天文地理，下晓物产人事，琴棋书画，经书文学，无所不通。他曾经担任诸王的侍读，因看透了混浊的人世，后隐居句曲山，可是“国家每有吉凶征讨大事，无不前以咨询，月中常有数信，时人谓为‘‘山中宰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684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迷你简启体"/>
              </a:rPr>
              <a:t>答谢中书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迷你简启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迷你简启体"/>
              </a:rPr>
              <a:t>陶弘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684360" y="1457280"/>
            <a:ext cx="7991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山川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之美，古来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共谈。高峰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入云，清流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见底。两岸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石壁，五色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交辉。青林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翠竹，四时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俱备。晓雾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将歇，猿鸟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乱鸣；夕日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欲颓，沉鳞</a:t>
            </a:r>
            <a:r>
              <a:rPr b="1" i="1" lang="en-US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迷你简启体"/>
                <a:ea typeface="迷你简启体"/>
              </a:rPr>
              <a:t>竞跃。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实是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欲界之仙都。自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康乐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以来，未复有</a:t>
            </a:r>
            <a:r>
              <a:rPr b="1" i="1" lang="en-US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/</a:t>
            </a:r>
            <a:r>
              <a:rPr b="1" lang="zh-CN" sz="3600" spc="-1" strike="noStrike">
                <a:solidFill>
                  <a:srgbClr val="ff0000"/>
                </a:solidFill>
                <a:latin typeface="迷你简启体"/>
                <a:ea typeface="迷你简启体"/>
              </a:rPr>
              <a:t>能与其奇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4"/>
          <p:cNvSpPr/>
          <p:nvPr/>
        </p:nvSpPr>
        <p:spPr>
          <a:xfrm>
            <a:off x="684360" y="692280"/>
            <a:ext cx="7986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中书即谢征，陶弘景给谢征的这封回信，称道江南山水之美，笔笼山川，纸纳四时，文辞清丽，为六朝山水小品名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714240" y="4355280"/>
            <a:ext cx="7956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书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古人的书信又叫“尺牍”或曰“信札”，是一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应用性文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中国古代的抒情散文即始于书信，书信的实用性和审美性的结合十分完美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430200" y="12798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山川之美，古来共谈。高峰入云，清流见底。两岸石壁，五色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交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青林翠竹，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四时俱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晓雾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猿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鸣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夕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鳞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跃。实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欲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仙都。自康乐以来，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与其奇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1187280" y="3284640"/>
            <a:ext cx="6840720" cy="3110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俱备：都具备。        乱：随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夕日：夕阳。            欲：将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鳞：鱼，借代。        竞：争相。              复：再。                   其：这种。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奇者：奇丽的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71280" y="1628640"/>
            <a:ext cx="889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山川之美，古来共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0" y="2852640"/>
            <a:ext cx="896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川景色的美丽，自古以来就是文人雅士共同谈论的话题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324000" y="620640"/>
            <a:ext cx="9144000" cy="55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高峰入云，清流见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岸石壁，五色交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青林翠竹，四时俱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0" y="1341360"/>
            <a:ext cx="946800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巍峨的山峰耸入云端，明净的溪流清澈见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岸的石壁色彩斑斓，交相辉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葱的林木，翠绿的竹丛，四季长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"/>
          <p:cNvSpPr/>
          <p:nvPr/>
        </p:nvSpPr>
        <p:spPr>
          <a:xfrm>
            <a:off x="179280" y="1557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的薄雾将要消散的时候，猿、鸟的鸣叫声此起彼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夕阳快要落山的时候，潜游在水中的鱼儿争相跳出水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179280" y="6206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晓雾将歇，猿鸟乱鸣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夕阳欲颓，沉鳞竞跃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179280" y="1197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是欲界之仙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康乐以来，未复有能与其奇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179280" y="1989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实在是人间的仙境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从南朝的谢灵运以来，就不再有人能够欣赏这种奇丽景色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3:06:22Z</dcterms:created>
  <dc:creator>陈剑军</dc:creator>
  <dc:description/>
  <dc:language>en-US</dc:language>
  <cp:lastModifiedBy>a</cp:lastModifiedBy>
  <dcterms:modified xsi:type="dcterms:W3CDTF">2015-02-10T11:44:59Z</dcterms:modified>
  <cp:revision>4</cp:revision>
  <dc:subject/>
  <dc:title>幻灯片 1</dc:title>
</cp:coreProperties>
</file>