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154-4CDD-4887-84EC-BC172229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6379-8D93-464D-889C-BB679201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71676-EFDE-4FA7-92F6-CB40DB0F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8E780-908A-4DD4-8C43-01548A6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1BED2-5AB4-44BA-A848-C0BF9E0F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73112-1234-4927-A58D-E90B442C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D2099-77AF-45FB-8920-447B5F25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ADD3A-F3E5-4778-ADF1-5C098625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AE6E-9A1F-4F5D-BEE7-39F92B8F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2F442-0AB8-4BBC-BC89-5360D329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7CF8E-D1EC-4EF6-B558-F7960DFA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0D5ED-90C9-4D5C-8512-3359EE85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09B-EEB9-4852-8785-01B3407F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ADE0B-63EF-40B0-8491-7339C1D4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01606-ED81-4F33-B48B-19C829C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D6FEF-722B-4DAA-AD03-6CDFCD71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A4C58-11F5-4D40-B0C6-0C349392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26C52-E039-498B-9CE1-976D4CFF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1EC39-D024-4B07-8FAF-80963EEA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C739E-3695-4374-BE60-86319BAB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19DE1-C2AF-4AD2-A1C1-36CDD3EA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8ECFD-6929-4F56-9B73-F8565B13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6F3B0-F34B-4B89-9C2E-B51311B25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E61-EE8C-47BF-A09A-C9EB2097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853C6-8297-44CD-A792-1CBAD840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A6D91-4572-41F9-AA46-78F22D2F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12387-E358-429D-B709-612CC428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6FF80-1D97-4370-BD5C-D9AF0A9D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B9C47-9351-4692-9213-56AFD82D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BFB27-7090-4F0F-838F-04C4E5CE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9C4DA-81E4-4815-A5D8-2B0A3340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B0373-176D-4817-8EC5-E04C85C7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B39B3-1A87-4726-A438-07A904B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B4658-E68C-4BFD-8981-0DD1A73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D821-E9EE-40E7-8C8D-F1D6E4D7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44F66-D29B-4862-BD02-65F81958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EAAFC-F711-4664-9767-B2D89C21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EAA30-A138-45A0-928A-FCC1184D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220A7-AA02-4571-BC52-E087BA2AF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BDC27-2F94-4DDC-BE77-357DC131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0ABF9-229D-4E49-80C8-4CE03D8A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61BD0-BBBF-4FCD-ACA8-5320A9EC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A3C18-5EB1-4065-948E-C57CE1DC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31B46-EF20-49C4-AAF3-E6134A66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41463-EB0A-4421-A4E5-C8707822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B50D-9D08-45BB-9C20-25C69CBD2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236CF-C206-4565-90A4-C1DCB9CD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ABAA6-CAE3-42DD-B41D-0F27962D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D8D3-0783-44FD-AFFA-464DDFCE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82673-867A-4258-9E6D-59552F42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022FC-DBD1-4B68-932F-E789C3577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CDCD5A-3114-4DF0-AA65-D7F1D8E86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7CE48A-45F4-4A1D-84EB-00867674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20BAB1-2E5B-40A0-B5EF-37709504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BDC6D-3D41-4C2B-A0FB-4FCBECE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00058-492B-4CE0-96F6-F2BC583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FE77-ABDC-46AD-A003-EB9D2C75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1B13D4-B066-453B-A6D9-ABEC4E47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F6F72-0163-4D8A-9A8A-66227ADB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0F3E6-6EC1-4835-B731-E44E09A6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D8ACF-3065-494A-B610-A7356702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234B9D-3B2D-4F70-A149-67A6F85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621BB-2DA9-49DE-9BA6-DA70CFFE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39BBC-90A7-4ECE-8C68-59F09940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01C81-5DBE-47AE-9BE0-FB27526D0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A340E-3BB5-43FF-ABDA-BE21DDCC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6714DA-656A-4DB8-895A-DED1F133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B158-7823-4D26-987C-6BD4970C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1B4A72-3775-481E-8271-16F246B1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AE685E-949F-4192-BCCB-DD320C3F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0A08F6-B17C-4B54-9E5D-F08CC4B7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49BC5F-81B7-4CA3-BA72-74274DC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2E8D3-DCC4-43BF-8C57-D3EB0136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2AF846-1362-4217-9564-A1AD7E7C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3D570D-3E8F-4203-A9C2-51606162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FF059-5F12-4DF8-8FAE-487AFC66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CB8F0-5797-44F8-8AF9-84AA5957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FB82-33EE-43EB-A5C5-B764BA9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808A7-9F8D-458C-8C46-C121C423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F67F-1291-4E47-934E-A4E5C5D1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CFE-28A7-4B50-BFE1-0732677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B1CC-EA28-4FD0-A6F0-ABCE9A17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7748D-E775-40A1-863F-72FFE0DB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F71C-2055-482E-AE2E-26DF76D6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C327-3EDB-4747-B777-2294AC77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E779-714E-4D52-BD86-B47D104A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16094-6106-4E35-BEF5-21322F16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B18AD-8956-407C-8500-7E3E6352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C9CD-7584-4DF5-9694-2506D7E7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7808D-4C34-4852-896B-C8BC544C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F7EDD-6A36-41C0-860E-F941D34A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6CB1-92DE-4902-AE11-092231F6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D491-450E-4262-95DE-68C5E151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C5E9A-6802-4EA4-ABF5-2B8FBDF0C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1F626-5C60-43D1-AE65-C8257B9C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3D36-A411-4880-9378-447B2D7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E640E-D48A-46F0-AC9B-4B0D875A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BEDE0-7BB0-4B6A-8479-4503B711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2F9F1-F09A-466F-B0CF-0765461E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CA3BF-4ED6-4AAB-9C2B-AE26305E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A68BC-F58F-473C-818E-7A179B72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633E-62DB-4FFA-A9F6-67F3A376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C76-57D7-4FFB-A512-2C7D89B4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FEBE-CA94-448B-A50A-471C4E13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7BBAA-0B5C-45C2-8B9E-D9CE3DCB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8B6D1-8BD3-43A7-9871-5E335EA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A12E-53B6-4882-A928-8A12D4DF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C9C65-9C28-4C75-A79E-DD54D8E0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B117-D9FD-4ADB-8E93-EE2CA71B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6346C-20F8-492A-8AF8-9F3F770AA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1F4D2-1264-416F-9213-677B57DC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0B70A-DED2-47C6-B458-836BBEB6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51DA-3790-43B3-8E6E-806A536C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AA4B-FDF9-4474-9332-405E9E3D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891A4-70F1-43BA-A64A-B78568CA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0179-D3B3-4C93-8892-E432F0FC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B7B5F-15DB-46FC-AC41-226B86B9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EF3F1-F096-458A-9C82-4784B732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4956B-0FAF-4C0A-BF9D-DBA8E424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648F5-5B94-488D-B522-5610EAAA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6FB61-9553-4BC7-BBF0-39EA4CC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6339-81A1-46D4-98ED-3E2D0281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74919-7E5B-45F5-84C3-ED3B772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776A3-4EA0-4EDB-87AA-329624123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8D19-B9BC-4991-9C12-F0EDEA83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25FF-682E-43F9-8C0B-2D3ED9B6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9E0EC-4878-4BC0-BF29-1AE1D4FB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A07C2-DB06-4672-A96A-7C67CFC5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64315-CE3F-41DC-A538-F9D2C334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5878-E250-4CD0-ACD4-85DC266D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E7A58-5611-46D5-8532-154C652D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0462-799C-4411-9863-7DAF921B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FA344-20D7-4344-BD42-36C3747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5A88F-38AF-4396-9DB7-917214F9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7EEE7-456B-43C4-8CD3-A03BA0F2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EF8-9CD5-460B-882A-2C93ADA5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4E52F-BCA3-4219-8070-8A2BF9B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819CC-4B66-4804-AF13-79C52C1F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0DC2C-4072-469D-B83D-0D6B7A436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EF1C1-49E5-4543-A5AB-01A64394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2A81C-EB6F-4D64-85EA-F2C0DB62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93C03-9F03-46AB-8CE6-D62E7C8C0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EA4F8-849C-4952-B199-08343BF7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8918E-36B3-45F4-B465-EE3E775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863E6-3C8E-48CD-A624-0286E28F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7EF8C-E473-422B-BAE0-2A7DE78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0C0-433A-4831-899E-696FEBDF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DC0BA-C50F-4D69-AF16-D32DDB9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F977B-4CEE-4B1A-85D3-D856DDBD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802DB-509C-4479-9ABA-7CE67F93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4F72E-64FD-434E-8E28-FA5E8815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F089B-5031-4C7A-95DB-F566D22E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809EC-6B2B-4221-BCCF-473301E33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996B1-9706-4F1E-9153-948E0EC5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216E9-C93A-481C-9452-605C5FF3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3881A-59F0-4796-A09B-32ED72DE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172A36-1F04-45E7-97E4-C9D39991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4CC-95C8-47BF-A6A1-82A5D60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20A11-2D8C-45AA-8FD2-FD8ECB26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A097B-E634-40AA-A7F2-34C1FF9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1B2A5-3F4B-428F-BECB-FD50F66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44A92-F954-4D2B-851F-88EBAB0F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5A1CF-D88F-4BEA-8276-2CD9C187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1B81-3B8D-4FCD-BB39-06F87036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14697-2676-4BE7-805C-4FA526DCA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7435A-F8C9-4544-9A0E-65FEAF16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6A38E-9E36-43FF-BBBE-9DC40E36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18083-65A2-4EEA-8F3D-EAF83F31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4D91-B8AA-4DB8-9E3B-FA7B8BC8225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60AB-BF95-4676-925E-B841EB2A894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A705-5E0B-417A-8429-2CFD37AB59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F79C-84D7-41BB-BB41-4260ADD6362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66B4-4207-40AD-9D92-386B0459F0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0AC-D099-4B43-A714-FF74EE6148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478-253A-42FD-A847-E69484BE41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004-BD92-4DF4-9048-D599ED2955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BBC3-5691-4F01-92DA-AB7BC5C9C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24DB-9C7F-48B7-8899-286B875DB4E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3968-49C2-4DEA-895C-F91B94A3F9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AECC-C0C6-4315-8DF1-33A258228EF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E6DD-80CD-4F92-959D-279660B86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CDDC-C0AC-4E91-94AB-4AA51D2E633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9E2D-F56D-45FA-B8EC-F45B4CCDD38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4FB-3156-4A59-84DE-D7F0C6D399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313-918A-45FD-8879-EED0D45DE72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4CEF-CE94-45B6-8A6A-8AF2C26E3F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1F0E-B414-46A8-8364-CDE0599B66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AB7-3BF7-4AF1-99FB-25B27173BC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6DFB-E814-42FB-A1BF-D522EEFD5D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2053-4D83-40B6-9A05-D0BEFB75E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6BC7-9154-4FFC-AFE2-ED2E66CED4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4642-D75A-4E5C-9842-D1E0903E97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5F1-4BA3-4231-A47B-FF600C433F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F017-0FEC-4BE4-B713-04E697B071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"/>
          <p:cNvPicPr/>
          <p:nvPr/>
        </p:nvPicPr>
        <p:blipFill>
          <a:blip r:embed="rId1"/>
          <a:srcRect l="21251" t="24185" r="22503" b="216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3"/>
          <p:cNvSpPr/>
          <p:nvPr/>
        </p:nvSpPr>
        <p:spPr>
          <a:xfrm>
            <a:off x="1252440" y="10494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大堰河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勤劳 、善良、仁 厚、慈爱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1252440" y="3182760"/>
            <a:ext cx="8958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我</a:t>
            </a:r>
            <a:r>
              <a:rPr b="0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隶书"/>
                <a:ea typeface="隶书"/>
              </a:rPr>
              <a:t>怀念 、感激、憎恨 、赞美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pic>
          <p:nvPicPr>
            <p:cNvPr id="6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990720" y="9907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黑体"/>
                <a:ea typeface="黑体"/>
              </a:rPr>
              <a:t>学习目标 ：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2209680" y="21337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333333"/>
                </a:solidFill>
                <a:latin typeface="隶书"/>
                <a:ea typeface="隶书"/>
              </a:rPr>
              <a:t>体会诗人真挚的感情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209680" y="29718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333333"/>
                </a:solidFill>
                <a:latin typeface="隶书"/>
                <a:ea typeface="隶书"/>
              </a:rPr>
              <a:t>培养联想、想象能力；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2209680" y="38862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333333"/>
                </a:solidFill>
                <a:latin typeface="隶书"/>
                <a:ea typeface="隶书"/>
              </a:rPr>
              <a:t>了解修辞手法在诗中的运用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3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3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066680" y="1219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感情线索：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1752480" y="2209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一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1-3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  怀念与痛悼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752480" y="3048120"/>
            <a:ext cx="59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二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4-8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  眷恋与感激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752480" y="396252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三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9-11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 同情与控诉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752480" y="495288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第四层：（</a:t>
            </a:r>
            <a:r>
              <a:rPr b="0" lang="en-US" sz="2800" spc="-1" strike="noStrike">
                <a:solidFill>
                  <a:srgbClr val="333333"/>
                </a:solidFill>
                <a:latin typeface="黑体"/>
                <a:ea typeface="黑体"/>
              </a:rPr>
              <a:t>12-13</a:t>
            </a:r>
            <a:r>
              <a:rPr b="0" lang="zh-CN" sz="2800" spc="-1" strike="noStrike">
                <a:solidFill>
                  <a:srgbClr val="333333"/>
                </a:solidFill>
                <a:latin typeface="黑体"/>
                <a:ea typeface="黑体"/>
              </a:rPr>
              <a:t>节） 讴歌与赞美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2"/>
          <p:cNvSpPr/>
          <p:nvPr/>
        </p:nvSpPr>
        <p:spPr>
          <a:xfrm>
            <a:off x="3962520" y="2819520"/>
            <a:ext cx="1218960" cy="121896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抱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抚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6" name="Rectangle 3"/>
          <p:cNvSpPr/>
          <p:nvPr/>
        </p:nvSpPr>
        <p:spPr>
          <a:xfrm>
            <a:off x="3505320" y="990720"/>
            <a:ext cx="2133360" cy="53316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搭 好灶 火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7" name="Rectangle 4"/>
          <p:cNvSpPr/>
          <p:nvPr/>
        </p:nvSpPr>
        <p:spPr>
          <a:xfrm>
            <a:off x="6400800" y="2000160"/>
            <a:ext cx="213372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拍 去炭灰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6400800" y="3143160"/>
            <a:ext cx="213372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尝过熟饭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6477120" y="426708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放好酱碗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505320" y="548640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补好破衣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1" name="Rectangle 8"/>
          <p:cNvSpPr/>
          <p:nvPr/>
        </p:nvSpPr>
        <p:spPr>
          <a:xfrm>
            <a:off x="762120" y="424800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包扎伤手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762120" y="312408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掐死虱子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3" name="Rectangle 10"/>
          <p:cNvSpPr/>
          <p:nvPr/>
        </p:nvSpPr>
        <p:spPr>
          <a:xfrm>
            <a:off x="762120" y="1981080"/>
            <a:ext cx="2133360" cy="53352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拾起鸡蛋 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4" name="Line 11"/>
          <p:cNvSpPr/>
          <p:nvPr/>
        </p:nvSpPr>
        <p:spPr>
          <a:xfrm>
            <a:off x="4572000" y="1676520"/>
            <a:ext cx="0" cy="914400"/>
          </a:xfrm>
          <a:prstGeom prst="line">
            <a:avLst/>
          </a:prstGeom>
          <a:ln w="1260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5" name="Line 12"/>
          <p:cNvSpPr/>
          <p:nvPr/>
        </p:nvSpPr>
        <p:spPr>
          <a:xfrm flipH="1">
            <a:off x="5257440" y="2286000"/>
            <a:ext cx="114300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6" name="Line 13"/>
          <p:cNvSpPr/>
          <p:nvPr/>
        </p:nvSpPr>
        <p:spPr>
          <a:xfrm flipH="1">
            <a:off x="5410080" y="3429000"/>
            <a:ext cx="990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7" name="Line 14"/>
          <p:cNvSpPr/>
          <p:nvPr/>
        </p:nvSpPr>
        <p:spPr>
          <a:xfrm flipH="1" flipV="1">
            <a:off x="5257440" y="3809520"/>
            <a:ext cx="1219320" cy="685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8" name="Line 15"/>
          <p:cNvSpPr/>
          <p:nvPr/>
        </p:nvSpPr>
        <p:spPr>
          <a:xfrm flipV="1">
            <a:off x="4572000" y="4343040"/>
            <a:ext cx="0" cy="1143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9" name="Line 16"/>
          <p:cNvSpPr/>
          <p:nvPr/>
        </p:nvSpPr>
        <p:spPr>
          <a:xfrm flipV="1">
            <a:off x="2819520" y="3885840"/>
            <a:ext cx="990360" cy="609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2895480" y="3429000"/>
            <a:ext cx="8384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1" name="Line 18"/>
          <p:cNvSpPr/>
          <p:nvPr/>
        </p:nvSpPr>
        <p:spPr>
          <a:xfrm>
            <a:off x="2895480" y="2286000"/>
            <a:ext cx="914400" cy="609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2" descr=""/>
          <p:cNvPicPr/>
          <p:nvPr/>
        </p:nvPicPr>
        <p:blipFill>
          <a:blip r:embed="rId1"/>
          <a:srcRect l="22450" t="23334" r="23696" b="21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rcRect l="21251" t="23334" r="23749" b="23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"/>
          <p:cNvPicPr/>
          <p:nvPr/>
        </p:nvPicPr>
        <p:blipFill>
          <a:blip r:embed="rId1"/>
          <a:srcRect l="21251" t="23334" r="22503" b="216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Oval 2"/>
          <p:cNvSpPr/>
          <p:nvPr/>
        </p:nvSpPr>
        <p:spPr>
          <a:xfrm>
            <a:off x="3962520" y="990720"/>
            <a:ext cx="1218960" cy="685800"/>
          </a:xfrm>
          <a:prstGeom prst="ellipse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笑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59040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洗衣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7" name="Rectangle 4"/>
          <p:cNvSpPr/>
          <p:nvPr/>
        </p:nvSpPr>
        <p:spPr>
          <a:xfrm>
            <a:off x="1886040" y="3429000"/>
            <a:ext cx="99036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洗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8" name="Rectangle 5"/>
          <p:cNvSpPr/>
          <p:nvPr/>
        </p:nvSpPr>
        <p:spPr>
          <a:xfrm>
            <a:off x="3257640" y="3429000"/>
            <a:ext cx="99036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切菜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9" name="Rectangle 6"/>
          <p:cNvSpPr/>
          <p:nvPr/>
        </p:nvSpPr>
        <p:spPr>
          <a:xfrm>
            <a:off x="480060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喂猪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617220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烧肉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7696080" y="3429000"/>
            <a:ext cx="990720" cy="609480"/>
          </a:xfrm>
          <a:prstGeom prst="rect">
            <a:avLst/>
          </a:prstGeom>
          <a:solidFill>
            <a:srgbClr val="e1b7b7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晒麦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H="1">
            <a:off x="1294920" y="1523880"/>
            <a:ext cx="2590920" cy="19051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3" name="Line 10"/>
          <p:cNvSpPr/>
          <p:nvPr/>
        </p:nvSpPr>
        <p:spPr>
          <a:xfrm flipH="1">
            <a:off x="2666880" y="1676520"/>
            <a:ext cx="152424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4" name="Line 11"/>
          <p:cNvSpPr/>
          <p:nvPr/>
        </p:nvSpPr>
        <p:spPr>
          <a:xfrm flipH="1">
            <a:off x="3962160" y="1828800"/>
            <a:ext cx="609480" cy="16002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4572000" y="1752480"/>
            <a:ext cx="533520" cy="16765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6" name="Line 15"/>
          <p:cNvSpPr/>
          <p:nvPr/>
        </p:nvSpPr>
        <p:spPr>
          <a:xfrm>
            <a:off x="5029200" y="1676520"/>
            <a:ext cx="1447920" cy="17524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7" name="Line 17"/>
          <p:cNvSpPr/>
          <p:nvPr/>
        </p:nvSpPr>
        <p:spPr>
          <a:xfrm>
            <a:off x="5257800" y="1600200"/>
            <a:ext cx="2743200" cy="18288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"/>
          <p:cNvPicPr/>
          <p:nvPr/>
        </p:nvPicPr>
        <p:blipFill>
          <a:blip r:embed="rId1"/>
          <a:srcRect l="21251" t="21665" r="22503" b="21673"/>
          <a:stretch/>
        </p:blipFill>
        <p:spPr>
          <a:xfrm>
            <a:off x="-380880" y="-380880"/>
            <a:ext cx="95248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2T00:28:35Z</dcterms:created>
  <dc:creator>万里国际学校</dc:creator>
  <dc:description/>
  <dc:language>en-US</dc:language>
  <cp:lastModifiedBy>a</cp:lastModifiedBy>
  <dcterms:modified xsi:type="dcterms:W3CDTF">2015-03-16T09:42:15Z</dcterms:modified>
  <cp:revision>4</cp:revision>
  <dc:subject/>
  <dc:title>没有幻灯片标题</dc:title>
</cp:coreProperties>
</file>