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B05-E405-4205-B3B7-F3B35611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855-0B09-4BBA-82F9-7F7BFE5F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FE2-8C63-4C92-B520-A7C1001F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17A-34C2-4D15-A349-C93F993D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FDBF-2068-4405-BD57-7D21FC4C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12D3-323C-4359-B7AF-8B50B4DA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6C09-FCAD-4523-B9A6-D02D1EA2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B8B8-7C07-45FC-907F-EBB2D541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BF52-7F4C-413B-8B56-FF57E976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47A0-23B7-471D-BDBC-DC4A9D6E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CD72-9BD4-41F8-A53A-7474A48F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3E0-CA18-4688-AC0F-3772046A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F66C-8528-4075-8C8E-E4EF9AB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2D69-D206-4828-9BEB-82D06C1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5F09-F93B-440F-8299-9E7C4C97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0494-E2E9-4FEC-9AD5-A78FC7FE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27C9-F06C-4800-96E6-64EAD40B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C56-0FFE-45AC-905C-030E7BCA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A66-9503-4B57-9D3E-7356521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F4F-0280-4B8D-B5EF-12FE78E7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B68-21F5-4C6C-BB41-9B643945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591-53F6-4524-BD77-D5F425FB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B19-81FA-491F-BC72-6173789E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10D-B8A6-4C20-9DAB-1BD8835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DAD5-EE59-4C74-8C89-93153F7D3CE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77F9-23E8-4021-A6B8-30D5DA7BCB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AB49-7AFA-4EF9-A9CD-0D39221A61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22AF-3DA3-4F1A-9BAC-2CA1F2EC9B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83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86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图片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" name="TextBox 21"/>
          <p:cNvSpPr/>
          <p:nvPr/>
        </p:nvSpPr>
        <p:spPr>
          <a:xfrm>
            <a:off x="5014080" y="26654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典中国风幻灯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27"/>
          <p:cNvSpPr/>
          <p:nvPr/>
        </p:nvSpPr>
        <p:spPr>
          <a:xfrm>
            <a:off x="3564000" y="299736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28"/>
          <p:cNvSpPr/>
          <p:nvPr/>
        </p:nvSpPr>
        <p:spPr>
          <a:xfrm>
            <a:off x="8305920" y="302580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4" descr=""/>
          <p:cNvPicPr/>
          <p:nvPr/>
        </p:nvPicPr>
        <p:blipFill>
          <a:blip r:embed="rId3"/>
          <a:stretch/>
        </p:blipFill>
        <p:spPr>
          <a:xfrm rot="6589800">
            <a:off x="803520" y="201672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6" descr=""/>
          <p:cNvPicPr/>
          <p:nvPr/>
        </p:nvPicPr>
        <p:blipFill>
          <a:blip r:embed="rId4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7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" descr=""/>
          <p:cNvPicPr/>
          <p:nvPr/>
        </p:nvPicPr>
        <p:blipFill>
          <a:blip r:embed="rId6"/>
          <a:stretch/>
        </p:blipFill>
        <p:spPr>
          <a:xfrm>
            <a:off x="8604360" y="5846760"/>
            <a:ext cx="44424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7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Administrator\My Documents\My Pictures\1659_51.wmf"/>
          <p:cNvPicPr/>
          <p:nvPr/>
        </p:nvPicPr>
        <p:blipFill>
          <a:blip r:embed="rId8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4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5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99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101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104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107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110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13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14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15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20" name="图片 3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1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22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23" name="图片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6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128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31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32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33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38" name="图片 4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9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40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41" name="图片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图片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图片 3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4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"/>
          <p:cNvSpPr/>
          <p:nvPr/>
        </p:nvSpPr>
        <p:spPr>
          <a:xfrm>
            <a:off x="923760" y="2421000"/>
            <a:ext cx="165600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6"/>
          <p:cNvSpPr/>
          <p:nvPr/>
        </p:nvSpPr>
        <p:spPr>
          <a:xfrm>
            <a:off x="6550200" y="2421000"/>
            <a:ext cx="165708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67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68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69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74" name="图片 7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76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77" name="图片 6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图片 7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图片 7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0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>
              <a:gd name="textAreaLeft" fmla="*/ 0 w 4236840"/>
              <a:gd name="textAreaRight" fmla="*/ 4237200 w 4236840"/>
              <a:gd name="textAreaTop" fmla="*/ 0 h 2212920"/>
              <a:gd name="textAreaBottom" fmla="*/ 2213280 h 2212920"/>
            </a:gdLst>
            <a:ahLst/>
            <a:rect l="textAreaLeft" t="textAreaTop" r="textAreaRight" b="textAreaBottom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>
              <a:gd name="textAreaLeft" fmla="*/ 360 w 4238640"/>
              <a:gd name="textAreaRight" fmla="*/ 4239360 w 4238640"/>
              <a:gd name="textAreaTop" fmla="*/ -360 h 2212920"/>
              <a:gd name="textAreaBottom" fmla="*/ 2212920 h 2212920"/>
            </a:gdLst>
            <a:ahLst/>
            <a:rect l="textAreaLeft" t="textAreaTop" r="textAreaRight" b="textAreaBottom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 rot="18900000">
            <a:off x="186660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 rot="18900000">
            <a:off x="410976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 rot="18900000">
            <a:off x="633204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96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97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98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03" name="图片 5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05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06" name="图片 4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9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4"/>
          <p:cNvSpPr/>
          <p:nvPr/>
        </p:nvSpPr>
        <p:spPr>
          <a:xfrm>
            <a:off x="1692360" y="1765440"/>
            <a:ext cx="0" cy="353520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4"/>
          <p:cNvSpPr/>
          <p:nvPr/>
        </p:nvSpPr>
        <p:spPr>
          <a:xfrm flipH="1">
            <a:off x="1692000" y="5300640"/>
            <a:ext cx="6264360" cy="2376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4"/>
          <p:cNvSpPr/>
          <p:nvPr/>
        </p:nvSpPr>
        <p:spPr>
          <a:xfrm>
            <a:off x="2397240" y="1765440"/>
            <a:ext cx="144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4"/>
          <p:cNvSpPr/>
          <p:nvPr/>
        </p:nvSpPr>
        <p:spPr>
          <a:xfrm>
            <a:off x="3112920" y="1765440"/>
            <a:ext cx="180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4"/>
          <p:cNvSpPr/>
          <p:nvPr/>
        </p:nvSpPr>
        <p:spPr>
          <a:xfrm>
            <a:off x="382896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4"/>
          <p:cNvSpPr/>
          <p:nvPr/>
        </p:nvSpPr>
        <p:spPr>
          <a:xfrm>
            <a:off x="4549680" y="1787400"/>
            <a:ext cx="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4"/>
          <p:cNvSpPr/>
          <p:nvPr/>
        </p:nvSpPr>
        <p:spPr>
          <a:xfrm>
            <a:off x="5292720" y="1827360"/>
            <a:ext cx="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4"/>
          <p:cNvSpPr/>
          <p:nvPr/>
        </p:nvSpPr>
        <p:spPr>
          <a:xfrm>
            <a:off x="60120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4"/>
          <p:cNvSpPr/>
          <p:nvPr/>
        </p:nvSpPr>
        <p:spPr>
          <a:xfrm>
            <a:off x="67374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4"/>
          <p:cNvSpPr/>
          <p:nvPr/>
        </p:nvSpPr>
        <p:spPr>
          <a:xfrm>
            <a:off x="745164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35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36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37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1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42" name="图片 7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44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45" name="图片 6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图片 6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图片 69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8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sp>
          <p:nvSpPr>
            <p:cNvPr id="250" name="直接连接符​​ 31"/>
            <p:cNvSpPr/>
            <p:nvPr/>
          </p:nvSpPr>
          <p:spPr>
            <a:xfrm>
              <a:off x="6078240" y="336636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252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直接连接符​​ 41"/>
              <p:cNvSpPr/>
              <p:nvPr/>
            </p:nvSpPr>
            <p:spPr>
              <a:xfrm flipV="1">
                <a:off x="5893560" y="3418560"/>
                <a:ext cx="909000" cy="78156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接连接符​​ 42"/>
              <p:cNvSpPr/>
              <p:nvPr/>
            </p:nvSpPr>
            <p:spPr>
              <a:xfrm>
                <a:off x="7054920" y="3418920"/>
                <a:ext cx="348120" cy="6426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>
                  <a:gd name="textAreaLeft" fmla="*/ 324000 w 2213640"/>
                  <a:gd name="textAreaRight" fmla="*/ 1889640 w 2213640"/>
                  <a:gd name="textAreaTop" fmla="*/ 90000 h 615240"/>
                  <a:gd name="textAreaBottom" fmla="*/ 52524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sp>
          <p:nvSpPr>
            <p:cNvPr id="262" name="直接连接符​​ 31"/>
            <p:cNvSpPr/>
            <p:nvPr/>
          </p:nvSpPr>
          <p:spPr>
            <a:xfrm>
              <a:off x="2939760" y="310752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264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​​ 41"/>
              <p:cNvSpPr/>
              <p:nvPr/>
            </p:nvSpPr>
            <p:spPr>
              <a:xfrm flipV="1">
                <a:off x="2755080" y="3160080"/>
                <a:ext cx="909000" cy="7812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​​ 42"/>
              <p:cNvSpPr/>
              <p:nvPr/>
            </p:nvSpPr>
            <p:spPr>
              <a:xfrm>
                <a:off x="3916440" y="3160080"/>
                <a:ext cx="348120" cy="64188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>
                  <a:gd name="textAreaLeft" fmla="*/ 324000 w 2213640"/>
                  <a:gd name="textAreaRight" fmla="*/ 1889640 w 2213640"/>
                  <a:gd name="textAreaTop" fmla="*/ 90000 h 614880"/>
                  <a:gd name="textAreaBottom" fmla="*/ 524880 h 61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sp>
          <p:nvSpPr>
            <p:cNvPr id="274" name="直接连接符​​ 33"/>
            <p:cNvSpPr/>
            <p:nvPr/>
          </p:nvSpPr>
          <p:spPr>
            <a:xfrm>
              <a:off x="4696560" y="1642320"/>
              <a:ext cx="14004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​​ 11"/>
            <p:cNvSpPr/>
            <p:nvPr/>
          </p:nvSpPr>
          <p:spPr>
            <a:xfrm flipV="1">
              <a:off x="4465080" y="1713240"/>
              <a:ext cx="880200" cy="756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​​ 13"/>
            <p:cNvSpPr/>
            <p:nvPr/>
          </p:nvSpPr>
          <p:spPr>
            <a:xfrm>
              <a:off x="5590080" y="1713600"/>
              <a:ext cx="336240" cy="621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>
                <a:gd name="textAreaLeft" fmla="*/ 313920 w 2143440"/>
                <a:gd name="textAreaRight" fmla="*/ 1829520 w 2143440"/>
                <a:gd name="textAreaTop" fmla="*/ 87120 h 595080"/>
                <a:gd name="textAreaBottom" fmla="*/ 50796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85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86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87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92" name="图片 8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9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94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95" name="图片 7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图片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图片 74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98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>
              <a:gd name="textAreaLeft" fmla="*/ 0 w 2203560"/>
              <a:gd name="textAreaRight" fmla="*/ 2203920 w 2203560"/>
              <a:gd name="textAreaTop" fmla="*/ 0 h 3139920"/>
              <a:gd name="textAreaBottom" fmla="*/ 3140280 h 3139920"/>
            </a:gdLst>
            <a:ahLst/>
            <a:rect l="textAreaLeft" t="textAreaTop" r="textAreaRight" b="textAreaBottom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3149640"/>
              <a:gd name="textAreaBottom" fmla="*/ 3150000 h 3149640"/>
            </a:gdLst>
            <a:ahLst/>
            <a:rect l="textAreaLeft" t="textAreaTop" r="textAreaRight" b="textAreaBottom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12"/>
          <p:cNvSpPr/>
          <p:nvPr/>
        </p:nvSpPr>
        <p:spPr>
          <a:xfrm rot="3533400">
            <a:off x="5794920" y="41461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308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309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310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315" name="图片 4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16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17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318" name="图片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图片 4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图片 4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1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27"/>
          <p:cNvSpPr/>
          <p:nvPr/>
        </p:nvSpPr>
        <p:spPr>
          <a:xfrm>
            <a:off x="2141640" y="3135240"/>
            <a:ext cx="114768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28"/>
          <p:cNvSpPr/>
          <p:nvPr/>
        </p:nvSpPr>
        <p:spPr>
          <a:xfrm>
            <a:off x="5638680" y="3139920"/>
            <a:ext cx="116064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图片 3" descr=""/>
          <p:cNvPicPr/>
          <p:nvPr/>
        </p:nvPicPr>
        <p:blipFill>
          <a:blip r:embed="rId1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1" descr=""/>
          <p:cNvPicPr/>
          <p:nvPr/>
        </p:nvPicPr>
        <p:blipFill>
          <a:blip r:embed="rId2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25" descr=""/>
          <p:cNvPicPr/>
          <p:nvPr/>
        </p:nvPicPr>
        <p:blipFill>
          <a:blip r:embed="rId3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26" descr=""/>
          <p:cNvPicPr/>
          <p:nvPr/>
        </p:nvPicPr>
        <p:blipFill>
          <a:blip r:embed="rId4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32" descr=""/>
          <p:cNvPicPr/>
          <p:nvPr/>
        </p:nvPicPr>
        <p:blipFill>
          <a:blip r:embed="rId5"/>
          <a:stretch/>
        </p:blipFill>
        <p:spPr>
          <a:xfrm>
            <a:off x="8461440" y="5867280"/>
            <a:ext cx="444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User</dc:creator>
  <dc:description/>
  <cp:keywords/>
  <dc:language>en-US</dc:language>
  <cp:lastModifiedBy>a</cp:lastModifiedBy>
  <dcterms:modified xsi:type="dcterms:W3CDTF">2015-03-16T10:02:08Z</dcterms:modified>
  <cp:revision>1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