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lick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26F4-C5C5-4675-9B38-69A49B92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D448-98A8-4512-8460-517F4E4E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92679-DC3E-4E94-9B31-8A681F66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84408-C759-4332-B1D2-C6C9D220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6F1A7-3F85-47BD-8BA3-A65ACE2F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85BD1-D304-4087-A5B5-14107824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B30E4-F6AE-427E-A97C-A4A6CD42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3763A-2413-4B6D-A6DB-3616F7FB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981BC-D1DC-4285-A2B4-78358171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A644F-92CD-44E3-87A1-084E504E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0D83E-96F9-40D4-9B94-D2FAD2E6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19156-EF2D-41D2-900C-F5FB6F1A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C037-C9BF-4ADF-BE74-57931681A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10CDE-5739-4A82-B78B-843C0375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D3F66-8D5E-468B-8BF4-6C609CBB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942C4-A460-4497-B517-8DDEBDB4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3D1EF-1FF3-47BF-875A-4338B221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24F0E-58B5-426F-BDC9-3467655C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CAC2F-6F6B-4CA0-A20C-9F8C0243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F827B-3B8B-4672-AA1B-A324F685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96674-4F14-4B20-8863-685BDFFC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1649A-DF3D-497F-8D0B-9C1CF109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C2A98-34FB-4E1E-9E1A-BCF2CE3D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94B0-2D21-4479-A4B9-1971AAB8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248B1-106F-4BEE-878D-53191C40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3ABE0-4642-45D2-B3BE-F17402AC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FD83B-7C37-4D62-B084-61B95A7D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8A021-14D6-40AF-9533-A1D57BD6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958B1-7BA0-4A2F-89C1-88DE1A1A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E8EBF-79D7-4A9E-B787-61366B36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7E8CE-1B32-49E1-BC1D-79065821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071D4-733F-4F58-9327-572BE606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6DD42-3A82-4157-94E2-0DA0446B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4850B-C53F-42A6-82BB-85E6058F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CACF-A080-4DFB-BCB6-1D23DEFE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E748D-03F9-43CD-AC27-71C1438D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4BA66-EC87-480C-8AC6-92B406FA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0C32D-F6AA-4FC3-B049-26DEB661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F50B5-FBC2-4536-948A-2F31AF03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BC06A4-F124-44A0-9AC6-09C63EBB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16BD6-F291-465D-B113-E16E1931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62623-5CBB-49B3-BB93-52E02B45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DD26A-C0AA-4547-B6BF-4EE9953F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75C8C-5F73-4F10-8B12-B9DEB85D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D2D5D-7BB4-4FC7-B8E4-43CB2E74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7B4E-7BA5-4773-A73B-BA94DC19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9AD55-AB0F-45F8-B9BA-A7D39847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E310F-1825-4E13-9977-2F0F6128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59C5F-69F2-4D67-A72A-8D6EB2C2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6FF04-8E31-44C4-B66F-C34D5F06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89F96-E0F9-4667-B88C-49A78047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65F831-64C5-48CF-9899-2CBC163F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EF6573-E6A2-455C-AF2E-2B6CA2AC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9E95A2-F9AC-4E56-B479-736293D6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78047B-9465-4667-9596-9CED2E4C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91041D-12E3-44EA-B1AA-247E57C9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F576-BEB9-49E4-BC04-7994D11D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531F87-258D-44FC-978D-311F3C7E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47985C-C963-457A-8A6E-C6F3C227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3B22AF-520F-4433-842C-1BFB4DC5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2CFC99-8B22-44B7-8BDE-F7AB4AAF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70926-6D01-4806-B60F-329E6EA5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70561B-83BD-4FF4-B3DC-2814F85D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945604-C027-4C29-9DEE-DF3B7A64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688A-774A-487F-8016-79FDD58A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4FBA-7580-45CC-A78C-8CE7C0B4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5354-59D8-4907-BCED-3AE6C026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221A-611D-43FC-9E69-A47B5CEF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1A44-058D-4DC6-8559-B9B023C6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7103-67D2-4B27-A697-19CEC37D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E21F-9CE1-4E30-B451-D1B4FBB1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12BD-6039-42D7-B961-3EDE06A3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CD48-FC71-4992-8B5C-01F9765B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919C-8F74-4B22-89B0-22568A21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78CD6-9CF5-4617-9220-032057F2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59846-7C07-4C6F-B06A-B6D8E710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B1B69-F629-410A-8AC6-DA02BAD2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547AA-86AC-41D1-B162-9AB4BE02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333B8-D1BD-4ADF-8967-4C4B34BD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F27C-3C84-4F54-B162-7B5AA574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99EFA-7EE5-48F9-83F9-60B40C87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ABD80-3F96-4B9A-A92C-E2157673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CE7DA-2BEC-42B6-9116-EB645A30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AADF7-849F-419E-96C2-2D211B81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3F360-84F3-433F-A7D1-DDFF6876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2F9BB-49D0-412F-BFAE-901EFB2A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B4C16-825B-4902-9405-307CFEB6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48A4A-81BE-4993-9D61-F8280FCB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4AE30-B802-4BEB-B9EC-8680BC03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70AEA-473C-4155-88C9-CA6769F3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61EF-ABA7-45F9-8256-A185FF4B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F6D5F-8F6F-4210-BA48-87A74981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6549C-9D8A-4CB4-AAEC-D4728D88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0BAF2-E5E8-4B9E-9CEE-DD82C5C2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6A239-95F6-4250-83F6-19B1AD8B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A92C1-4C21-43EE-B2C5-20084F1E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A03ED-B7DA-4B59-BE15-A19567DD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2B0AB-07D0-4C75-BF20-4F914F1E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FCDA4-C88C-4234-9096-62081E06B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FB51D-CA3C-4890-A8FB-01D4CF9A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91FAB-F4A3-4D43-95C0-BACE6FE7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A948-FE72-49E5-A877-5453E446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F6C34-F734-4845-8BF1-0889892F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DA47A-3E21-40C7-A25D-1E4FB3D2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FED42-47D1-4598-B891-7BF73763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83645-C3B5-44A7-B57E-3FDC7AE0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3CA44-0D5A-43BD-8F51-301B51FF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50260-BE9A-4BBC-8EBA-6AE32ADC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243BF-C643-4D62-BC64-910EBBD5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A90B1-B239-421C-98DD-C699E526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9CB89-AA7A-4400-BDC3-E38E27C4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91B21-D969-4305-A2C1-0F7D16A6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F84D-CDC6-480A-8502-92723E92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03330-445C-4851-BFA4-4FA76D23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F9250-A58F-4256-8610-C9C1705B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5EF7D-A1D5-495B-952C-002F0CC2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C77B1-285F-4A63-AF11-83171305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38082-78C8-4603-8BCA-6A433509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AA589-DEB5-43FF-8448-81D22FC4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215F3-74F2-4310-A903-B091D4B4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FA7DE-3BE8-4D22-A84C-7320B97E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F0FCF-4585-4AB6-B627-A9C0D369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23EFB-1665-40C5-B9F3-81D33481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C3C-399F-4EF9-9C29-AC212E8E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649CF-CF84-4223-B9FA-8FA6C030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1D930-FE4E-4447-881B-CDDCA5AE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970C3-64A2-4372-98C6-7C5CF3E1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49486-6C77-4C72-86F8-E2AEFD03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4E57C-7CC2-4A4D-B088-8ECD8768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747D3-C669-4F50-A373-2C3C9958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605A6-0669-4A91-9E79-90D2591A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1E30B-6086-4160-94A3-9F50E264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5C873-031C-4965-BA40-B02200D5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544E8-A61B-4F54-A8A4-31979488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2A31-59E4-4645-8F1D-E28B3B82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71D85-9821-43CD-AF69-9E1BF186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85791-C141-4112-946D-6230EE8B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3B0B3-4A1E-4E4D-8C3F-1D3411B9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5EA91-27F2-44BA-8DFE-F1A47759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DB5C7-4938-410A-B84C-4447524D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8CE32-0EF2-43B9-A1C4-65EB287F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51DF3-76A1-4419-87C4-5CC8928F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7A234-7993-432E-9F52-8E318DA0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E0FC0-795D-4784-8DE3-5FF9A07A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878B4-1FD2-4D79-B6D5-A7416B2A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1366-C246-409C-93DD-C2BD651C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B4060-B245-4044-921A-DF16D91B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6E5A3-E867-44DE-8D7E-E78B50C5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26215-BBBA-4C25-A9FC-FA14D8F8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D566C-01E2-4733-829D-1FB2D0D7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A390F-A039-401B-A22C-56D43D7A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EA014-171B-462C-AAF8-32B81566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7462D-E1A1-4ACB-B710-E9FACCBE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0D058-D00A-438A-B15D-6E792FAC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715B3-041E-4E40-B4CC-1640C366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3A3B7-3F38-40B6-83F8-D4A58ED3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F74C-26C5-4F74-999C-D496849E2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EDAF-B4E8-4294-8318-F67B03C7A07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F3D3-0FEC-4588-8FC1-EDB7BA7C8B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63F6-737D-4AB2-A340-DC98290E302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1037-E73E-4777-BAC5-9131E2C607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F46C-4CB8-426B-A813-194B3CD35CC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C72A-EC20-41AE-A180-EA56F81ECC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2AB0-6414-4E8F-B8D2-642BC6E7508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BD14-3613-42C0-B59E-14FC94D980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D434-8441-46DA-AC61-CBE79BBE03A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D890-193F-4F91-8713-30719352C1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C6F8-4A35-4355-A5D1-FD663B1CF37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D546-C350-4888-B65A-C82EEE939E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63A8-1348-4D4D-B0AE-A85D9AF6212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0549-FC3D-4489-9E8C-93E475A05F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7CDC-8032-4A28-BFCD-C5C11BE8DA7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A6FF-1AE2-4896-B31A-11C62FC541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C1C3-CCB6-44FC-81D3-DD4F52979A7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88D2-2D3F-414A-96C6-2159B5FDFF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3D36-5D51-4174-9592-F37FC3A74F4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EAA8-9A03-45F7-AADF-B94AD08154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77DF-26BC-47BA-B107-51D9F502D0D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973A-EF78-41A4-A8EB-B305184DDF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F221-3161-46EF-BA4E-3575F77AB98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D7C8-74AD-46C7-9008-3BBECB3A83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E:\唐清贞\Pict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地震中的父与子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371600" y="710100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-702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53" name="Picture 3" descr="image002"/>
          <p:cNvPicPr/>
          <p:nvPr/>
        </p:nvPicPr>
        <p:blipFill>
          <a:blip r:embed="rId1"/>
          <a:stretch/>
        </p:blipFill>
        <p:spPr>
          <a:xfrm>
            <a:off x="914400" y="619200"/>
            <a:ext cx="3174840" cy="28098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image003"/>
          <p:cNvPicPr/>
          <p:nvPr/>
        </p:nvPicPr>
        <p:blipFill>
          <a:blip r:embed="rId2"/>
          <a:stretch/>
        </p:blipFill>
        <p:spPr>
          <a:xfrm>
            <a:off x="5057640" y="765000"/>
            <a:ext cx="2899080" cy="27370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" descr="image005"/>
          <p:cNvPicPr/>
          <p:nvPr/>
        </p:nvPicPr>
        <p:blipFill>
          <a:blip r:embed="rId3"/>
          <a:stretch/>
        </p:blipFill>
        <p:spPr>
          <a:xfrm>
            <a:off x="971640" y="3841920"/>
            <a:ext cx="3168720" cy="25398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6" descr="image006"/>
          <p:cNvPicPr/>
          <p:nvPr/>
        </p:nvPicPr>
        <p:blipFill>
          <a:blip r:embed="rId4"/>
          <a:stretch/>
        </p:blipFill>
        <p:spPr>
          <a:xfrm>
            <a:off x="5076720" y="3889440"/>
            <a:ext cx="2808360" cy="2492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5" name="click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5000" fill="hold"/>
                                        <p:tgtEl>
                                          <p:spTgt spid="5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5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5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5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3" descr="image002"/>
          <p:cNvPicPr/>
          <p:nvPr/>
        </p:nvPicPr>
        <p:blipFill>
          <a:blip r:embed="rId1"/>
          <a:stretch/>
        </p:blipFill>
        <p:spPr>
          <a:xfrm>
            <a:off x="0" y="0"/>
            <a:ext cx="9144000" cy="6980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lick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image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image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lick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image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lick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4"/>
          <p:cNvSpPr/>
          <p:nvPr/>
        </p:nvSpPr>
        <p:spPr>
          <a:xfrm>
            <a:off x="900000" y="198900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思考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b7e7ff"/>
                </a:solidFill>
                <a:latin typeface="Arial"/>
              </a:rPr>
              <a:t>课文讲了一件什么事？</a:t>
            </a:r>
            <a:br>
              <a:rPr sz="3600"/>
            </a:b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b7e7ff"/>
                </a:solidFill>
                <a:latin typeface="Arial"/>
              </a:rPr>
              <a:t>为什么说这对父与子了不起</a:t>
            </a:r>
            <a:r>
              <a:rPr b="0" lang="zh-CN" sz="3200" spc="-1" strike="noStrike">
                <a:solidFill>
                  <a:srgbClr val="b7e7ff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1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                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重点体会：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不论发生了什么，我总会跟你在一起！</a:t>
            </a:r>
            <a:br>
              <a:rPr sz="4400"/>
            </a:b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不，爸爸，先让我的同学出去吧！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71737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1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地震中的父与子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论发生了什么，我总会跟你在一起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父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小时挖掘        爱的力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儿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与同伴生还         创造奇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 flipV="1">
            <a:off x="2195640" y="3075840"/>
            <a:ext cx="180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5"/>
          <p:cNvSpPr/>
          <p:nvPr/>
        </p:nvSpPr>
        <p:spPr>
          <a:xfrm>
            <a:off x="5219640" y="2997360"/>
            <a:ext cx="73080" cy="1584000"/>
          </a:xfrm>
          <a:custGeom>
            <a:avLst/>
            <a:gdLst>
              <a:gd name="textAreaLeft" fmla="*/ 0 w 73080"/>
              <a:gd name="textAreaRight" fmla="*/ 26280 w 73080"/>
              <a:gd name="textAreaTop" fmla="*/ 41040 h 1584000"/>
              <a:gd name="textAreaBottom" fmla="*/ 1542960 h 158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0" y="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板书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1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小结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468360" y="2133720"/>
            <a:ext cx="7773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本文讲了一件什么事？</a:t>
            </a:r>
            <a:br>
              <a:rPr sz="3200"/>
            </a:br>
            <a:r>
              <a:rPr b="0" lang="zh-CN" sz="3200" spc="-1" strike="noStrike">
                <a:solidFill>
                  <a:srgbClr val="b7e7ff"/>
                </a:solidFill>
                <a:latin typeface="Arial"/>
              </a:rPr>
              <a:t>      在</a:t>
            </a: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1994</a:t>
            </a:r>
            <a:r>
              <a:rPr b="0" lang="zh-CN" sz="3200" spc="-1" strike="noStrike">
                <a:solidFill>
                  <a:srgbClr val="b7e7ff"/>
                </a:solidFill>
                <a:latin typeface="Arial"/>
              </a:rPr>
              <a:t>年美国洛山矶大地震中，一位父亲坚持</a:t>
            </a: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38</a:t>
            </a:r>
            <a:r>
              <a:rPr b="0" lang="zh-CN" sz="3200" spc="-1" strike="noStrike">
                <a:solidFill>
                  <a:srgbClr val="b7e7ff"/>
                </a:solidFill>
                <a:latin typeface="Arial"/>
              </a:rPr>
              <a:t>小时，终于在一片废墟中救出自己</a:t>
            </a: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b7e7ff"/>
                </a:solidFill>
                <a:latin typeface="Arial"/>
              </a:rPr>
              <a:t>岁的儿子和儿子的</a:t>
            </a: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13</a:t>
            </a:r>
            <a:r>
              <a:rPr b="0" lang="zh-CN" sz="3200" spc="-1" strike="noStrike">
                <a:solidFill>
                  <a:srgbClr val="b7e7ff"/>
                </a:solidFill>
                <a:latin typeface="Arial"/>
              </a:rPr>
              <a:t>个同学，谱写了一首父亲的颂歌。本文讲的就是这件感人的故事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1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4"/>
          <p:cNvSpPr/>
          <p:nvPr/>
        </p:nvSpPr>
        <p:spPr>
          <a:xfrm>
            <a:off x="324000" y="692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、为什么说这对父子了不起？</a:t>
            </a:r>
            <a:br>
              <a:rPr sz="3200"/>
            </a:br>
            <a:r>
              <a:rPr b="0" lang="zh-CN" sz="3200" spc="-1" strike="noStrike">
                <a:solidFill>
                  <a:srgbClr val="b7e7ff"/>
                </a:solidFill>
                <a:latin typeface="Arial"/>
              </a:rPr>
              <a:t>     这对父子内心充满了爱，父亲深爱儿子，面对废墟虽然悲痛欲绝，却决不放弃，不顾自己的安危终于救出儿子，他是一位意志坚强的非常有责任感的父亲。儿子对父亲无比信任，在危难中坚信会得到父亲 的救助，他把让同伴先获救当做应尽的责任。这对父子之所以了不起就是因为他们都是意志坚强、有爱心、有责任感的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1" name="click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学习了本课，请谈谈你受到了什么启发？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738936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1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4360" y="-963720"/>
            <a:ext cx="7772400" cy="326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拓展知识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什么是地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由于地壳是一层层的岩石构成的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地壳内部的压力是很大的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岩层在受到巨大的积压时会发生褶皱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褶皱厉害了就可能断裂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岩石断裂时会释放出巨大的能量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大地猛烈地震动起来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产生巨大的破坏力量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山崩地裂房倒屋塌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绝大多数的地震就是这样形成的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1" name="click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395280" y="333360"/>
            <a:ext cx="820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避震要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震时是跑还是躲，我国多数专家认为：震时就近躲避，震后迅速撤离到安全地方，是应急避震较好的办法。避震应选择室内结实、能掩护身体的物体下（旁）、易于形成三角空间的地方，开间小、有支撑的地方，室外开阔、安全的地方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身体应采取的姿势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 伏而待定，蹲下或坐下，尽量蜷曲身体，降低身体重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 抓住桌腿等牢固的物体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 保护头颈、眼睛、掩住口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 避开人流，不要乱挤乱拥，不要随便点灯火，因为空气中有易燃易爆气体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1" name="click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02:00:47Z</dcterms:created>
  <dc:creator>学生</dc:creator>
  <dc:description/>
  <dc:language>en-US</dc:language>
  <cp:lastModifiedBy>a</cp:lastModifiedBy>
  <dcterms:modified xsi:type="dcterms:W3CDTF">2015-02-10T02:58:47Z</dcterms:modified>
  <cp:revision>18</cp:revision>
  <dc:subject/>
  <dc:title>地震中的父与子</dc:title>
</cp:coreProperties>
</file>