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5794-2ED3-4092-B579-6F762324A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D0FA-8308-4A5E-8FCB-0E664F6A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CD7DF3-7525-41F8-A6C4-9DAF4C3A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990FA6-99F4-40AE-AF69-71E8FA1F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0737E9-D995-4355-8806-05E959C8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AFF317-1E74-416C-A838-E1C5BBE4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D1F21B-067E-4B11-8516-910966D6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72AF7D-44F9-4D44-AA52-FBF51E8D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12CBA1-11FA-4839-A778-D0B6888B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7BBBDB-CCFA-4C50-A83C-B487C4A10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B5BEF8-69F6-4121-97D3-673DC6352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4ADAAF-7B43-40C9-BF18-9C93161F3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1D7F-F136-46DF-94C3-13252D42F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E12AFF-1FCC-438D-A7B4-51D77AB2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F061D9-87E9-45F0-8854-6ABF33B0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693BF7-E971-41A3-9A9D-76725DA7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E593B1-93DC-4BFB-8D45-F5D4FE6E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1399C-D63C-4FBF-AADA-8241D45C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4AD5CA-E408-49FD-8599-0BBD426B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E9FC41-BB3B-4ABF-B40F-5BDA9688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29557B-078C-4811-9AB3-CB41793D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C8A24C-09A6-4F4F-93B9-926D2181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5D3B4D-0A19-42DA-9CBF-072817A71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9F38-47B3-4291-BFF3-D6084FE5F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C7CCFA-07EA-40D2-9239-7B6A3E8E1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14E6A4-CF44-49D9-9AE4-6D6E76B5E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720BEE-8022-47EF-9300-9FDB4B07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ED8A34-4169-46A1-9DAE-7527C3FB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D4367A-1857-47C8-8BF0-71C63EAB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8F11C0-06E1-469E-B6B5-F0EEC3AB9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3AB82-B80F-4E88-A7D4-5C14307F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EAF8E-928E-45CA-A1DD-31C9672D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59110B-F644-4B13-8856-8CA57CBD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529A41-342F-4F01-97B3-A18EF949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02EE-A3A4-499E-8F38-F4F5A82A9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23BBA2-B42F-4DA0-AA90-EEC92E36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63D483-4A0B-4608-8FEE-71DE2E35F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FB707-7206-4135-922C-E0BDA7003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E43663-DAD2-4CB3-A879-824CDF1DF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8B3A9A-DD55-47B0-8F2C-77606BEE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EF92B9-599F-4E8C-BEA6-477BB90D9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B28175-9261-4D7F-AFF3-56D38731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80896E-E659-4F97-A41F-D22F2B2A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FE6DF5-4C09-4F54-AE31-71456AB4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D85BDE-CC12-48AE-ADFA-F989CA6B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0C1B-E476-4718-99D9-C27200CF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99CDA2-96FA-4714-9A56-73CE5417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C5BBCE-F172-42A5-A1DB-32EAFC1B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AA0D27-5BD8-43D4-B923-F449B421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5DF7AB-66A1-4ACF-80D2-741973DDA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6CB312-9ACA-4E1E-9A93-45BC9FF75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62435D-9307-4A51-B8EA-6A7905608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824A04-9A05-4F34-8C50-F0FF9914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16FED0-2A58-4986-A835-A9200686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D9D798-9C24-420B-9FFC-14FF618B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52029B-D1D8-4694-BDBC-3B524531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548B-CB75-4B22-8338-669F2C1A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58A096-8C54-4DC4-B1E0-226EE761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412E7C-0A05-47CB-BFE0-989EA778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9B0FCB-1F0C-489D-AE49-E4061FEF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17E0D8-A0A1-47D7-9247-A519D636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7C82AE-52F0-44CF-9C75-FB04BDD0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B11F02-8BF9-403C-87F8-51CD2F466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A3B4C2-3E76-4D46-A3F5-C01C0CEBF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067F-73F0-4645-8779-9A441795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83AF-EA1E-444D-9E42-0290A7A1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C26C-9DCB-4120-838C-C1C73614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71B3-0D51-4C59-BCB3-D24D9D1D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8370-694A-4DBC-B6FF-8DBDD0ED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F0D43-051B-4C46-8CD4-E65E7BE9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B14FB-068B-46E9-9537-F1832D4B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2A7C-520B-4AD4-94E1-416ADE05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9B153-04CC-46A3-9E18-D8E8698D4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87952-D1F4-4AC2-ADC2-D29C12A8C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5AF42-7642-4104-B240-F2E7BFCB5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6F3C3-6308-4357-96EE-2E20A915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FAC2B-4A70-498D-AD43-6CFDCAAC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2728B-A858-472C-A32A-E498559F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5FA4C-180A-4064-B105-7E940898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39F7-E24C-4C23-A07A-273300FE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0FF06-B912-4B49-8744-67F50B0C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C9069-2814-4294-8F14-64D356B8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9C3C0-C0D0-41FF-9063-1A38CBD7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2210D-6451-4324-B080-8D8F30AD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40FA3-F093-4319-9083-3DA72DD3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56CF8-6627-4173-B180-02E94FF4B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779B6-5760-4049-B53F-8C04A8DC5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A0A0E-A9BE-479C-B46B-69FED41A5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BE578-786B-4A78-91FC-671168F6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4D0E1-B53B-42B0-8CB5-2B46FA22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A883-6B42-44F3-B45B-9D6188F6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D7C00-BF73-46D0-BEA7-3B6610B9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8F255-DA18-4030-9785-F6F028AB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61B73-5A64-4543-8A9D-1C6FA296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0DD92-9D82-4FAD-8BE7-93B8D77F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26E56-E3B3-4BE3-B547-702C16F0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E44D2-4CD0-413D-ACDC-04A29D7E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A66F7-8A6C-4814-A1C4-FF4EC739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DC0AA-E596-44EF-8581-F6A0292A7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BFCD9-2C97-4A3A-8597-8B88611D9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A98A8-F365-4EB6-8F9C-5753C4604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74A1-1833-4DC1-9FD0-057CBB7D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5D11B-D877-4136-B799-1AAD0D3DF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25E2C-F938-4E90-BC9B-3C52CBC7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5A61F-5BF4-4082-9CCC-D5F7CED7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C224F-A444-4C40-982F-F72E2DD1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4EB56-B4C4-4CA0-A04D-2BBF4F63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D722A-22B0-4839-87BF-18DA07B2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2F445-2A5F-4EF2-8878-C77F2FDC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254E1-44D2-44FB-8A6D-0ED7A1C7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62D69-7706-46DF-8142-948AD7D9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F9CA8-A4BB-4AC9-B035-68E241E86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C3B8-17A5-4FB5-9646-F203A8F3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66551-73B8-4293-A93F-EFFFD7E40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D7ADD-6A23-44BD-AC0B-315DA3F6F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17A4B-2190-4519-893E-A218890A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0D00F-B8DD-4B0F-B46C-0CE576A5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278FD-BA60-4A8A-9061-C3E2CBE3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C4C56-0DBD-47C6-9A65-4DB31A19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FF622-4DA1-472D-911C-81BF7196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F75D6-62F7-4C86-BD69-2597E4E3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42D76-0885-4137-9CBD-50320E1E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02B77-645C-4186-B521-B1FDBB3E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5B0F-69B9-4834-937C-9EC7BEE2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069E1-E9B6-43F2-AAB0-5C91FCBF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1A062-6487-405D-A0E6-F9EA8C70C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615F7-9AC2-4D5D-8D61-CBCF031DA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7CA81-FC60-46D0-A201-D2E2BD476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AF74B-966E-4651-AB64-CF39C549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3A55C-A716-4888-9B56-8C8846F4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BE42A-6DAC-4AA4-89A7-16BB9F53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FE477-C0D4-4FA6-B2E0-61D78690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EF573-77F6-4F66-A145-121EF863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DB31F-CC0D-44CB-A227-07C5014B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1877-38C6-4F27-8AE3-65CDF1BA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1628F-FA8E-4A61-A490-94ECF455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F08CC-9FF4-4278-B12B-C1A26374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DEC4C-08AA-448D-96D2-DFC8F884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B9DB3-2BC0-4F07-B391-7F7785914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067F8-62B6-4AFC-B360-1AB03F703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EC75E-1B48-463B-A6CF-3AEAACBB9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20745-2E05-4039-8599-E45D664D3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4EC92-4D9F-4B26-B2AC-571BC32B9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742E5-1AFF-48BF-A9E1-6685A285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CC447-8F07-4003-9457-F1A96D5E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07E3-9309-4CC3-A5B8-55974588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4E265-3BC8-4C9B-9676-9EE77F79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78385-7235-4B23-8FCA-DEC94FD8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44287-DD54-4E5B-8BC9-C270B2A6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9EC19-0B20-48F9-A047-BD2A2060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2DED4-65B8-4E60-9C41-D025373F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43019-4BE0-45C6-82BB-AD1253CFB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D93BE-5353-401C-9C67-6046E1783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7DCEC7-7C0E-4685-844C-139BFC77C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15A87-0ECE-4F99-8571-70D57624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B627F0-BD70-4BBA-ABED-6CCFBCBB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D079-324F-4009-8779-6B17B5683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05EF-B5A9-4483-B5B9-25C067E6FF6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4219-35BC-41F4-A2A8-2CD51A9248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53C7-A5BE-4AFB-8546-39CC42EBB0F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2B04-91B6-4252-B231-1A61B4242D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9081-08CF-4AE1-9008-1AC703C8EC5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6490-F776-458A-A3EB-DF87710DA9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C1DD-C2C7-4651-A75F-4D6E80381E3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DC09-EEB2-4E57-984F-48A0466A63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2F21-3A09-4A38-AA3C-590BFC8009C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F5DA-7E42-4B37-9344-FFAE93FB84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6197-5681-4DE1-9DE9-4A4B2824DED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964F-CAC3-4F1D-8A1D-6BD7C680AD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32F3-2020-4BAB-A872-E89112C21CC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D236-0CE3-4E43-81E5-85E48BAEF1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511E-9B34-4FC6-B2BA-5A890E5BD4B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0BC6-6559-481E-8AFF-35997545EC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1848-2955-4364-B3A7-485F47E9C69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9C34-4A36-41E6-861A-37A8231551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989F-A4C0-4501-BFF9-B67890325DE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AF9C-EF5F-40A6-8326-0DFD968C60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B537-75DB-4E05-9FBE-B38DA5C8250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3CCA-0F84-4D2A-B423-B205B84ACE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8E49-C210-4994-A935-BE672F6B297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1D2B-74A2-4CAA-BDAA-7CA4FEEAA4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6"/>
          <p:cNvSpPr/>
          <p:nvPr/>
        </p:nvSpPr>
        <p:spPr>
          <a:xfrm>
            <a:off x="2050920" y="5445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5" descr="2007051209452335124"/>
          <p:cNvPicPr/>
          <p:nvPr/>
        </p:nvPicPr>
        <p:blipFill>
          <a:blip r:embed="rId1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6"/>
          <p:cNvSpPr/>
          <p:nvPr/>
        </p:nvSpPr>
        <p:spPr>
          <a:xfrm>
            <a:off x="609480" y="1295280"/>
            <a:ext cx="815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黑体"/>
                <a:ea typeface="黑体"/>
              </a:rPr>
              <a:t>32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、飞船上的特殊乘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12" descr="ED048_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7"/>
          <p:cNvSpPr/>
          <p:nvPr/>
        </p:nvSpPr>
        <p:spPr>
          <a:xfrm>
            <a:off x="304920" y="685800"/>
            <a:ext cx="861048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0093"/>
                </a:solidFill>
                <a:latin typeface="Arial"/>
                <a:ea typeface="黑体"/>
              </a:rPr>
              <a:t>“</a:t>
            </a:r>
            <a:r>
              <a:rPr b="1" lang="zh-CN" sz="4800" spc="-1" strike="noStrike">
                <a:solidFill>
                  <a:srgbClr val="d60093"/>
                </a:solidFill>
                <a:latin typeface="黑体"/>
                <a:ea typeface="黑体"/>
              </a:rPr>
              <a:t>飞船</a:t>
            </a:r>
            <a:r>
              <a:rPr b="1" lang="zh-CN" sz="4800" spc="-1" strike="noStrike">
                <a:solidFill>
                  <a:srgbClr val="d60093"/>
                </a:solidFill>
                <a:latin typeface="Arial"/>
                <a:ea typeface="黑体"/>
              </a:rPr>
              <a:t>”</a:t>
            </a:r>
            <a:r>
              <a:rPr b="1" lang="zh-CN" sz="4800" spc="-1" strike="noStrike">
                <a:solidFill>
                  <a:srgbClr val="d60093"/>
                </a:solidFill>
                <a:latin typeface="黑体"/>
                <a:ea typeface="黑体"/>
              </a:rPr>
              <a:t>指的是</a:t>
            </a:r>
            <a:r>
              <a:rPr b="1" lang="zh-CN" sz="4800" spc="-1" strike="noStrike" u="sng">
                <a:solidFill>
                  <a:srgbClr val="d60093"/>
                </a:solidFill>
                <a:uFillTx/>
                <a:latin typeface="黑体"/>
                <a:ea typeface="黑体"/>
              </a:rPr>
              <a:t>         </a:t>
            </a:r>
            <a:r>
              <a:rPr b="1" lang="zh-CN" sz="4800" spc="-1" strike="noStrike">
                <a:solidFill>
                  <a:srgbClr val="d60093"/>
                </a:solidFill>
                <a:latin typeface="黑体"/>
                <a:ea typeface="黑体"/>
              </a:rPr>
              <a:t> 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0093"/>
                </a:solidFill>
                <a:latin typeface="黑体"/>
                <a:ea typeface="黑体"/>
              </a:rPr>
              <a:t>特殊乘客的是指</a:t>
            </a:r>
            <a:r>
              <a:rPr b="1" lang="zh-CN" sz="4800" spc="-1" strike="noStrike" u="sng">
                <a:solidFill>
                  <a:srgbClr val="d60093"/>
                </a:solidFill>
                <a:uFillTx/>
                <a:latin typeface="黑体"/>
                <a:ea typeface="黑体"/>
              </a:rPr>
              <a:t>          </a:t>
            </a:r>
            <a:r>
              <a:rPr b="1" lang="zh-CN" sz="4800" spc="-1" strike="noStrike">
                <a:solidFill>
                  <a:srgbClr val="d60093"/>
                </a:solidFill>
                <a:latin typeface="黑体"/>
                <a:ea typeface="黑体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0093"/>
                </a:solidFill>
                <a:latin typeface="黑体"/>
                <a:ea typeface="黑体"/>
              </a:rPr>
              <a:t>特殊乘客经历太空旅行的特殊原因是</a:t>
            </a:r>
            <a:r>
              <a:rPr b="1" lang="zh-CN" sz="4800" spc="-1" strike="noStrike" u="sng">
                <a:solidFill>
                  <a:srgbClr val="d60093"/>
                </a:solidFill>
                <a:uFillTx/>
                <a:latin typeface="黑体"/>
                <a:ea typeface="黑体"/>
              </a:rPr>
              <a:t>         </a:t>
            </a:r>
            <a:r>
              <a:rPr b="1" lang="zh-CN" sz="4800" spc="-1" strike="noStrike">
                <a:solidFill>
                  <a:srgbClr val="d60093"/>
                </a:solidFill>
                <a:latin typeface="黑体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5" descr="ER060_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6"/>
          <p:cNvSpPr/>
          <p:nvPr/>
        </p:nvSpPr>
        <p:spPr>
          <a:xfrm>
            <a:off x="609480" y="533520"/>
            <a:ext cx="77724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黑体"/>
                <a:ea typeface="黑体"/>
              </a:rPr>
              <a:t>特殊  比较  差异    遨游  淘汰  辐射    筛选  浩瀚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黑体"/>
                <a:ea typeface="黑体"/>
              </a:rPr>
              <a:t>美味佳肴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4" descr="051012korea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5"/>
          <p:cNvSpPr/>
          <p:nvPr/>
        </p:nvSpPr>
        <p:spPr>
          <a:xfrm>
            <a:off x="609480" y="1828800"/>
            <a:ext cx="449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6"/>
          <p:cNvSpPr/>
          <p:nvPr/>
        </p:nvSpPr>
        <p:spPr>
          <a:xfrm>
            <a:off x="533520" y="685800"/>
            <a:ext cx="510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小小的植物种子经过一番太空旅行，好像获得了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魔力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，可以有这么多美妙的变化和神奇的用途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4" descr="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5"/>
          <p:cNvSpPr/>
          <p:nvPr/>
        </p:nvSpPr>
        <p:spPr>
          <a:xfrm>
            <a:off x="228600" y="609480"/>
            <a:ext cx="8610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6"/>
          <p:cNvSpPr/>
          <p:nvPr/>
        </p:nvSpPr>
        <p:spPr>
          <a:xfrm>
            <a:off x="457200" y="228600"/>
            <a:ext cx="838188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是因为受宇宙射线的辐射，由于处于微重力、高真空的特殊环境，使一部分内部遗传物质产生了微妙的变化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（大自然的作用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是经过科学家对太空植物种子的优选和优育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（科学的力量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4" descr="BJ11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5"/>
          <p:cNvSpPr/>
          <p:nvPr/>
        </p:nvSpPr>
        <p:spPr>
          <a:xfrm>
            <a:off x="1523880" y="114300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Arial"/>
                <a:ea typeface="黑体"/>
              </a:rPr>
              <a:t>    </a:t>
            </a:r>
            <a:r>
              <a:rPr b="1" lang="zh-CN" sz="6000" spc="-1" strike="noStrike">
                <a:solidFill>
                  <a:srgbClr val="ff33cc"/>
                </a:solidFill>
                <a:latin typeface="Arial"/>
                <a:ea typeface="黑体"/>
              </a:rPr>
              <a:t>其实真正的魔法师是聪明勤劳的科学家们，是他们的知识和工作创造出一个个奇迹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4" descr="DH159_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5"/>
          <p:cNvSpPr/>
          <p:nvPr/>
        </p:nvSpPr>
        <p:spPr>
          <a:xfrm>
            <a:off x="533520" y="3049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关于太空植物的变异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457200" y="1066680"/>
          <a:ext cx="7924680" cy="5488200"/>
        </p:xfrm>
        <a:graphic>
          <a:graphicData uri="http://schemas.openxmlformats.org/drawingml/2006/table">
            <a:tbl>
              <a:tblPr/>
              <a:tblGrid>
                <a:gridCol w="2133720"/>
                <a:gridCol w="2286000"/>
                <a:gridCol w="1676160"/>
                <a:gridCol w="1828800"/>
              </a:tblGrid>
              <a:tr h="2041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植物名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太空对植物的影响因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性状、品质等变异的特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优势分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太空茄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 row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太空黄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太空葫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太空水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太空辣椒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4" descr="1115281607_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6"/>
          <p:cNvSpPr/>
          <p:nvPr/>
        </p:nvSpPr>
        <p:spPr>
          <a:xfrm>
            <a:off x="228600" y="457200"/>
            <a:ext cx="8763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这些优点从何而来？从太空中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这些优点从太空中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152280" y="2438280"/>
            <a:ext cx="49532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除了食用，太空归来的这些特殊乘客还有很多用武之地呢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5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为您服务教育网http://www.wsbedu.com</dc:creator>
  <dc:description>第一PPT模板网-WWW.1PPT.COM</dc:description>
  <dc:language>en-US</dc:language>
  <cp:lastModifiedBy>a</cp:lastModifiedBy>
  <dcterms:modified xsi:type="dcterms:W3CDTF">2015-01-23T02:54:30Z</dcterms:modified>
  <cp:revision>1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