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8321-124A-453A-BC0D-B0CAEF61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1D9D-E376-42DF-BD0C-77489400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304C6-1F4A-42B6-81B0-AA1FC16E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F24D4-8B2E-4583-BA0F-2DDA582B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D935C-E04A-47A0-958B-65AF6CCE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43701-17A2-40EC-A3D5-86669511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3E4BB-B30A-484D-85E9-4B32A509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92588-1675-48EC-A6B3-E46AB9F5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E46C8-6182-4700-BDAA-D032649C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F34CD-7CAD-408F-B8E9-C352BECA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008F6-32C6-4273-856D-3E1CCE0D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D12DA-C17B-463A-8BA7-9727CD67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6A2-80CC-4FC1-80C9-B8330ACF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A5730-EC39-4897-9F44-1FB54303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C700B-833A-4858-B5F1-35758EFE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D6875-3516-4437-A90C-8C3E4799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47165-6F60-42C5-AC5B-2FD82D55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F7946-5DCE-4FB8-A6DA-BF9093E7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CE273-4ED6-44C2-9EB0-7A459C67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51E3B-96F6-42FF-B5AB-D11ED731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C1A64-EFF1-4CCF-8BAA-4AA784CA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3D8AB-329F-4EA6-A1CD-1233B7B6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6F504-037D-4B7E-B30B-262EC85B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889-B205-438C-94D5-0A2D029D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A67B9-7EB1-4F78-AF1F-3866F87B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A9CDD-B9DC-4024-ADDF-B26DB32A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4D8D6-EF8F-4433-AB92-5E4BEEBA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0E2F5-4FE8-4D10-82B5-3681328C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5500D-CE31-4A16-9DC4-53D5FA60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BDEBC-B77E-4271-AD88-3AA17C7D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C4E74-8B19-4399-AC1C-FE4215FB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7E61A-C355-46F5-9C61-ACA64628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7EFD3-F060-4DA2-BEAD-FED606D3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28EB1-DF5F-490C-92A4-2F011901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F7AF-C887-42A2-885E-7B314083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FAE97-70FF-4CD1-B8FF-6876058F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16686-92A5-4BBC-9F30-A0D101BA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711F9-6048-4C66-AE7F-F00A0C09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159D9-04F7-448C-848C-76BF2DA0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8FAB1-5C8F-4C6B-AE76-25A28FB0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73926-65F7-42EA-8DA3-5FB4E7EB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6C601-F436-480B-9B72-6B7F2C41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15B56-E743-413F-9355-00708A9C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3FFFC-451E-4392-929A-39D4DF49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2738A-000D-494A-9A65-A7858AE5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1CDC-CE35-4A29-8F6D-7148E047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B9B53-0F2D-4390-B7FA-5556CC4A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85BFD-AAB9-480E-8E25-E3AE0EBD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B7273-4557-45D9-8403-51BFE36D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63A60-C52F-46F1-9E95-42296CE3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28EFC-C03E-4612-80D4-F4DA07D2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93E9B-99D7-4F34-B3BE-35ABA4CE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684ED5-59EB-4190-9192-113B5D5C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9CB26A-6E2A-481E-B77D-8B30AAE8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3DE9DE-5315-4A9D-B2E0-FFF0DD7B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6B424-8262-4C25-85A0-AAD7ECAC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AACE-01DB-4361-B957-083CDBD7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5FD85-48BF-42C8-BCC1-B6169235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2A901-DF4B-484E-A2CD-AC575F98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2F559A-37EE-4F59-ACDD-5DF24A4F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AC43A7-1FAA-4265-8E29-03A2A01A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EBB6B-8485-49A4-9AA7-8B1276D4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52E2A6-028B-427F-82BD-CDB2BE55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06FF0B-26C3-4061-89F4-D4E397D5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E540FE-2559-4204-91E3-B6532353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B38C8C-94E9-4A44-90D0-3CABF5B7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137FC-6D13-4906-921F-672026DE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777B-D162-4CB5-8883-A58EB46F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8E236-D94B-4B12-AEBB-4534C15E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36BD0E-2256-4ECC-B007-86350DE4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A21215-0E9B-4F33-97A5-599D9231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0D8142-878B-46E4-BD2D-328CA1F2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3E3193-5B83-4053-839C-6BB06AE5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F5F993-9885-4D52-BA28-1DAF861A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C27E5-DC03-491E-811A-F5842443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E6E8B9-8BA0-4095-97A7-F6D4F251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48BA44-0F42-421F-B4F2-A31A79A9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49CCB0-2CD3-4767-A51A-A89A64D6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FB09-F621-417C-B536-307B8817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F6D91C-F07F-4D97-851A-E2E3F551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30F4F9-51BB-4E9F-BF82-DC5F7806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5330B2-FAD9-4A8D-BEF2-7711D0FA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CD5A8F-F45B-4D01-8399-481B12D9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4B3339-6340-4669-B821-2792CD53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2F7844-F96E-4C8E-A489-DB6304B0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A8E348-FFEC-47EC-ACEC-38270ACC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03CE34-DD84-4ECE-B843-F1676F7B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FBB31B-7EBB-4D56-AF6F-DF94D7D8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3EE542-8C21-423F-8872-DB21D50E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1124-4D9A-49FB-8C01-3A9EB64D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538CAD-E153-4271-BDAA-A33993DB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3EA2-7E00-49E4-8AD6-43BAA78D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272-0DF5-431C-8092-99C22C1C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5A33-55CD-421D-AF32-B299B0E3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8545-893A-4004-A8D4-87B302FE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0DE3-6859-47B2-BC35-55D7DD65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85AE-3372-4B1A-9174-00D3C5D3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8333-BC41-4067-9EC3-AD4701EB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5CFB1-879D-44FD-B658-F73E65A4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9EF1E-9C4F-43FF-92BB-D9DEFC06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41C85-3138-4142-B5D2-83BAA6F7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F9D1B-D1CF-4E11-B473-68F77DBB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A3F66-3D8C-4217-AC0A-56F787B2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2849-7062-43D5-95A0-004BDAB2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C4C1-2085-4C36-8E4F-9C599168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963D3-A449-4DE9-A3F6-F1FA83B3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F8BF0-7C77-4D2D-ABB4-DA3D1321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D6247-A2AA-4B98-AC4E-F1EB7D4A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B766C-2FF8-4A20-AE63-B927E14E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A99CC-ED87-4653-8FEC-74126192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6304A-B5BC-47CE-A51B-2C7DC097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59602-3E90-485E-92E2-888091B5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B29E8-2D50-496B-9F2D-2474EFEA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26DC5-7D7F-474E-B3CB-CC35A739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63A3-201C-4FC6-B72B-747B6A81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F2797-3240-45C5-8401-7B9E1F8B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1F6C7-EB1A-41B5-A4AE-380D8A95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9EC7D-B43A-4BCE-9D74-BB854A28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15135-C388-4983-AA89-F617D47A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45E7D-E979-4810-99F5-A7546D94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B36F6-347E-48C4-B9ED-7884FAB2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17272-21EF-4F94-997D-542B9E9E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E8D9A-9212-412D-8E6F-99CC7894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73C6B-16D6-4113-9473-2C338D5C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93F34-E095-4487-9DC2-EE8B0C0D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7FE-0FDF-4FA6-9068-20FC4A15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74CF8-58CF-4644-8D64-3864B3C9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09240-2715-4E67-A476-C1758106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5F0FE-AC8B-4C66-B805-93BBC944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BB91B-270C-40F5-B36B-5C0F3E61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270F4-7784-421A-9C63-793EF05A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11137-721A-461C-8BF6-1FBA4A35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31ACB-5741-4430-AD9B-6B95A483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507A9-1985-4D50-89C4-DCE02AC4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5B660-8735-4D3D-BEE2-FDC52DD9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3293A-A7DA-421B-A6AE-78D3E390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0A4-074B-4A6B-B085-F83EEF60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D4E2C-DDA0-44CB-8261-FAC2E127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2BC4F-F8B1-4355-A82C-C935C8FA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2B47E-767C-4931-8D6F-108AA874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127C7-9CAD-466A-953E-A1B6A254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3E2FF-1A59-4E4A-A849-13882DB3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BC96F-2D1D-488A-BBA4-A6560593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CCE02-EC9C-427E-8305-68C9CF2E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39A5C-4D06-464D-A1C2-947B9283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714BA-F738-4C99-ADF5-DDB65769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682B2-A45F-4ED1-AE84-C1203BDB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0BA-5644-4148-BE0A-5C75E333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EFDEA-FA9F-4570-AED6-570D3C5C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C8F58-E677-44CF-BB9F-AC0B9F8E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32BA5-2AC6-4326-B455-1E931331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4214D-1E62-4690-87CC-3AB65BDC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20403-9E8C-47C6-A6B8-28C7A621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9B6ED-D594-4230-B39F-4E9A75A4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FB3D0-0018-43F6-85CC-7E5F5C55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85212-93A8-4A04-85DD-2BED160A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B21D9-CC33-4D22-AEAB-E4E2A25A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DC5D5-0CC6-4460-B050-7BB1C683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6AB-6718-40CC-BC88-1BFFA85D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B19C1-5325-40B0-B607-5C30DF69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3509E-F206-4BE1-96EE-5CA9A841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2B8DB-2129-491B-BE54-DEA2989D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C387D-8A0E-4068-ACA6-2DAABBEB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C4E12-4CE1-424A-A508-7C65355C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7B843-7765-47A7-BF5C-448A2CE0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D87E8-FE7F-483B-8933-25789E55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4241C-0DDE-489F-841D-00FE4F0E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83925-3DAA-4F5B-BFEA-30C5A497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06D10-D85C-4A42-912F-B84544C5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866-1DDE-4581-9873-C07347EE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DD7CD-8501-47DF-B4B1-F882071C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436CD-552E-48E6-816E-73603410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05D21-F32C-4405-91DD-9A217808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08FF2-F6FD-4F73-AB3B-E87AC5F5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043BB-3562-4E9E-B1BF-A4F1552E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53A08-D1C1-4912-8F9B-335E3541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BA9EF-DA5A-4AC7-96EE-51C4E9CA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ACF52-006F-49B5-9DC2-E09E502B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E6AD1-4495-4516-AD9C-91538DEA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9223D-181F-4872-829F-298D917E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0355-8602-446E-98E2-0CB7D924CDF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6C2E-6147-439A-9683-29EFE2E20400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9EC0-E15F-43FF-9871-68A960D8B15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D40E-416E-43DD-A354-B0C20648AAD1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7513-6112-4938-91AD-A7BB226B024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6A5D-1347-4491-B6BB-23FC04818E09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71DE-7C92-4F72-8D85-22837F4D6F2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6F1B-F0DA-4DFD-A914-4D2D1437E46B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A88D-193D-49A8-B541-A0E8356DAD7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6267-C892-4E39-B36E-9D70D1B04B73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F173-0F2E-4162-B3F5-E173B0D9A86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78FD-7E47-458B-95F4-3095CA6EF40E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99ED-8C46-4EB8-9FF2-70CE3A4B156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B818-26D0-4E3A-881A-260A063C4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E49D-ADE8-46BA-A89C-635823EF309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06E2-792B-4A2F-B976-4C4D4C4488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2C5D-E8C9-4FEF-A432-49B95EF3A92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0FB7-AA51-4A60-BF21-C3B248B01D6B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D891-8114-4059-B5F9-F5A8DF9543B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854F-D890-4F50-808F-D1F0E2E04552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2111-8466-4215-A31D-8C7B2460F3A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5318-F6B4-48E8-92E6-452D82B54283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D610-8BFC-4C0C-9AFE-7E4928B6C51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9810-57DF-49CF-AC9D-4AF9602A1161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D35A-5AA6-438E-9045-220DB66DABF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F8CA-7843-4A15-937B-B150D4FC42EF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0F0A-EF19-46ED-B691-2C9EFAF76FC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.baidu.com/i?ct=503316480&amp;z=953925153&amp;tn=baiduimagedetail&amp;word=&#26472;&#21033;&#20255;&amp;in=27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矩形 6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5" name="Picture 4" descr="2005101312444689373"/>
          <p:cNvPicPr/>
          <p:nvPr/>
        </p:nvPicPr>
        <p:blipFill>
          <a:blip r:embed="rId1"/>
          <a:srcRect l="0" t="0" r="0" b="69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5"/>
          <p:cNvSpPr/>
          <p:nvPr/>
        </p:nvSpPr>
        <p:spPr>
          <a:xfrm>
            <a:off x="395280" y="47628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华文新魏"/>
              </a:rPr>
              <a:t>人教课标版四年级上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Text Box 6"/>
          <p:cNvSpPr/>
          <p:nvPr/>
        </p:nvSpPr>
        <p:spPr>
          <a:xfrm>
            <a:off x="971640" y="522936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WordArt 11"/>
          <p:cNvSpPr txBox="1"/>
          <p:nvPr/>
        </p:nvSpPr>
        <p:spPr>
          <a:xfrm>
            <a:off x="1835280" y="2421000"/>
            <a:ext cx="5832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飞船上的特殊乘客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4"/>
          <p:cNvSpPr/>
          <p:nvPr/>
        </p:nvSpPr>
        <p:spPr>
          <a:xfrm>
            <a:off x="609480" y="1773360"/>
            <a:ext cx="86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Comic Sans MS"/>
                <a:ea typeface="华文彩云"/>
              </a:rPr>
              <a:t>未来的神奇世界要靠你们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2124000" y="357336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Comic Sans MS"/>
                <a:ea typeface="华文新魏"/>
              </a:rPr>
              <a:t>努力吧！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72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神舟5号"/>
          <p:cNvPicPr/>
          <p:nvPr/>
        </p:nvPicPr>
        <p:blipFill>
          <a:blip r:embed="rId1"/>
          <a:stretch/>
        </p:blipFill>
        <p:spPr>
          <a:xfrm>
            <a:off x="1403280" y="549360"/>
            <a:ext cx="3611520" cy="54864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" descr="u=3747195429,3134845206&amp;gp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86400" y="1295280"/>
            <a:ext cx="2577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2"/>
          <p:cNvSpPr/>
          <p:nvPr/>
        </p:nvSpPr>
        <p:spPr>
          <a:xfrm>
            <a:off x="990720" y="914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字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Text Box 3"/>
          <p:cNvSpPr/>
          <p:nvPr/>
        </p:nvSpPr>
        <p:spPr>
          <a:xfrm>
            <a:off x="1295280" y="2590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词语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3" name="Picture 4" descr="qing_big"/>
          <p:cNvPicPr/>
          <p:nvPr/>
        </p:nvPicPr>
        <p:blipFill>
          <a:blip r:embed="rId1"/>
          <a:stretch/>
        </p:blipFill>
        <p:spPr>
          <a:xfrm>
            <a:off x="152280" y="2133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5" descr="笔1"/>
          <p:cNvPicPr/>
          <p:nvPr/>
        </p:nvPicPr>
        <p:blipFill>
          <a:blip r:embed="rId2"/>
          <a:stretch/>
        </p:blipFill>
        <p:spPr>
          <a:xfrm>
            <a:off x="714240" y="37800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" descr="3835"/>
          <p:cNvPicPr/>
          <p:nvPr/>
        </p:nvPicPr>
        <p:blipFill>
          <a:blip r:embed="rId3"/>
          <a:stretch/>
        </p:blipFill>
        <p:spPr>
          <a:xfrm>
            <a:off x="685800" y="2514600"/>
            <a:ext cx="666720" cy="85716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7"/>
          <p:cNvSpPr/>
          <p:nvPr/>
        </p:nvSpPr>
        <p:spPr>
          <a:xfrm>
            <a:off x="1295280" y="1676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    筛    辅      汰    肴     尿     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8"/>
          <p:cNvSpPr/>
          <p:nvPr/>
        </p:nvSpPr>
        <p:spPr>
          <a:xfrm>
            <a:off x="1371600" y="32767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变异植株：在一些环境因素的影响下，植物种子的遗传物质发生了改变，由此发育而成的植株的一些特征也相应地发生了改变。这样的植株就是变异植株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美味佳肴：“肴”本来的意思是做熟的鱼肉，在本文中是指味道美好、营养丰富的太空蔬菜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2"/>
          <p:cNvSpPr/>
          <p:nvPr/>
        </p:nvSpPr>
        <p:spPr>
          <a:xfrm>
            <a:off x="914400" y="685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解句子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Rectangle 3"/>
          <p:cNvSpPr/>
          <p:nvPr/>
        </p:nvSpPr>
        <p:spPr>
          <a:xfrm>
            <a:off x="838080" y="1446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除了食用，太空归来的这些特殊乘客还有很多用武之地呢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Rectangle 4"/>
          <p:cNvSpPr/>
          <p:nvPr/>
        </p:nvSpPr>
        <p:spPr>
          <a:xfrm>
            <a:off x="685800" y="29847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小的植物种子经过一番太空旅行，好像获得了“魔力”，可以有这么多美妙的变化和神奇的用途。其实真正的魔法师是聪明勤劳的科学家们，是他们的知识和工作创造出一个个奇迹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" descr="7[3]"/>
          <p:cNvPicPr/>
          <p:nvPr/>
        </p:nvPicPr>
        <p:blipFill>
          <a:blip r:embed="rId1"/>
          <a:stretch/>
        </p:blipFill>
        <p:spPr>
          <a:xfrm>
            <a:off x="762120" y="5335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3"/>
          <p:cNvSpPr/>
          <p:nvPr/>
        </p:nvSpPr>
        <p:spPr>
          <a:xfrm>
            <a:off x="2665440" y="608760"/>
            <a:ext cx="42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太空蔬菜与我们地球上的蔬菜有什么不同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2835000" y="2286000"/>
            <a:ext cx="3252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形：更大、更长、颜色的变化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味道：更鲜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营养：更丰富，抗病力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价值：药用、美化、绿化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900000" y="126828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默读课文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2-5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自然段，想一想植物种子为什么要去作航天旅行呢？把你最感兴趣的语句勾画下来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4"/>
          <p:cNvSpPr/>
          <p:nvPr/>
        </p:nvSpPr>
        <p:spPr>
          <a:xfrm>
            <a:off x="900000" y="863640"/>
            <a:ext cx="784872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、为什么从太空回来的植物种子会发生变化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、太空蔬菜是怎么形的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、太空蔬菜与我们地球上的蔬菜有什么不同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4"/>
          <p:cNvSpPr/>
          <p:nvPr/>
        </p:nvSpPr>
        <p:spPr>
          <a:xfrm>
            <a:off x="612720" y="101124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外形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2195640" y="101124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更大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Text Box 6"/>
          <p:cNvSpPr/>
          <p:nvPr/>
        </p:nvSpPr>
        <p:spPr>
          <a:xfrm>
            <a:off x="3708360" y="101124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更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5219640" y="101124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颜色的变化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611280" y="2205000"/>
            <a:ext cx="18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味道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Text Box 9"/>
          <p:cNvSpPr/>
          <p:nvPr/>
        </p:nvSpPr>
        <p:spPr>
          <a:xfrm>
            <a:off x="2627280" y="2205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更鲜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Text Box 10"/>
          <p:cNvSpPr/>
          <p:nvPr/>
        </p:nvSpPr>
        <p:spPr>
          <a:xfrm>
            <a:off x="539640" y="35002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营养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Text Box 11"/>
          <p:cNvSpPr/>
          <p:nvPr/>
        </p:nvSpPr>
        <p:spPr>
          <a:xfrm>
            <a:off x="5796000" y="350028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更丰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Text Box 12"/>
          <p:cNvSpPr/>
          <p:nvPr/>
        </p:nvSpPr>
        <p:spPr>
          <a:xfrm>
            <a:off x="2627280" y="350028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抗病力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539640" y="472428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其他价值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3708360" y="4683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药用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Text Box 15"/>
          <p:cNvSpPr/>
          <p:nvPr/>
        </p:nvSpPr>
        <p:spPr>
          <a:xfrm>
            <a:off x="5651640" y="465300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美化绿化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4"/>
          <p:cNvSpPr/>
          <p:nvPr/>
        </p:nvSpPr>
        <p:spPr>
          <a:xfrm>
            <a:off x="26640" y="1916280"/>
            <a:ext cx="152100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ff"/>
                </a:solidFill>
                <a:latin typeface="Arial"/>
                <a:ea typeface="黑体"/>
              </a:rPr>
              <a:t>科学家们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2195640" y="14320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黑体"/>
              </a:rPr>
              <a:t>丰富的知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Text Box 6"/>
          <p:cNvSpPr/>
          <p:nvPr/>
        </p:nvSpPr>
        <p:spPr>
          <a:xfrm>
            <a:off x="2270160" y="3951360"/>
            <a:ext cx="31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黑体"/>
              </a:rPr>
              <a:t>辛勤的工作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Text Box 7"/>
          <p:cNvSpPr/>
          <p:nvPr/>
        </p:nvSpPr>
        <p:spPr>
          <a:xfrm>
            <a:off x="5722920" y="2276640"/>
            <a:ext cx="3889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ff"/>
                </a:solidFill>
                <a:latin typeface="Arial"/>
                <a:ea typeface="黑体"/>
              </a:rPr>
              <a:t>创造出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ff"/>
                </a:solidFill>
                <a:latin typeface="Arial"/>
                <a:ea typeface="黑体"/>
              </a:rPr>
              <a:t>个个奇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AutoShape 8"/>
          <p:cNvSpPr/>
          <p:nvPr/>
        </p:nvSpPr>
        <p:spPr>
          <a:xfrm>
            <a:off x="1763640" y="1700280"/>
            <a:ext cx="360360" cy="2736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26"/>
                </a:lnTo>
                <a:cubicBezTo>
                  <a:pt x="10800" y="10126"/>
                  <a:pt x="5400" y="11026"/>
                  <a:pt x="0" y="11026"/>
                </a:cubicBezTo>
                <a:cubicBezTo>
                  <a:pt x="5400" y="11026"/>
                  <a:pt x="10800" y="11926"/>
                  <a:pt x="10800" y="1282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AutoShape 9"/>
          <p:cNvSpPr/>
          <p:nvPr/>
        </p:nvSpPr>
        <p:spPr>
          <a:xfrm>
            <a:off x="5219640" y="1700280"/>
            <a:ext cx="358920" cy="2808360"/>
          </a:xfrm>
          <a:custGeom>
            <a:avLst/>
            <a:gdLst>
              <a:gd name="textAreaLeft" fmla="*/ 0 w 358920"/>
              <a:gd name="textAreaRight" fmla="*/ 129600 w 35892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4:11:53Z</dcterms:created>
  <dc:creator>4</dc:creator>
  <dc:description>第一PPT模板网-WWW.1PPT.COM</dc:description>
  <dc:language>en-US</dc:language>
  <cp:lastModifiedBy>a</cp:lastModifiedBy>
  <dcterms:modified xsi:type="dcterms:W3CDTF">2015-01-23T02:54:48Z</dcterms:modified>
  <cp:revision>35</cp:revision>
  <dc:subject/>
  <dc:title>幻灯片 1</dc:title>
</cp:coreProperties>
</file>