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8.jpeg" ContentType="image/jpeg"/>
  <Override PartName="/ppt/media/whoosh.wav" ContentType="audio/x-wav"/>
  <Override PartName="/ppt/media/image5.png" ContentType="image/png"/>
  <Override PartName="/ppt/media/projctor.wav" ContentType="audio/x-wav"/>
  <Override PartName="/ppt/media/CAMERA.WAV" ContentType="audio/x-wav"/>
  <Override PartName="/ppt/media/drumroll.wav" ContentType="audio/x-wav"/>
  <Override PartName="/ppt/media/image3.jpeg" ContentType="image/jpeg"/>
  <Override PartName="/ppt/media/image7.gif" ContentType="image/gif"/>
  <Override PartName="/ppt/media/image6.gif" ContentType="image/gif"/>
  <Override PartName="/ppt/media/image4.jpeg" ContentType="image/jpeg"/>
  <Override PartName="/ppt/media/image2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TYPE.WAV" ContentType="audio/x-wav"/>
  <Override PartName="/ppt/media/image16.jpeg" ContentType="image/jpeg"/>
  <Override PartName="/ppt/media/chimes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0EC-4C06-4A03-969C-01D718EE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924-F6DD-4C26-9EBE-C72DC112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ACE01-5805-49C8-BFD2-AA08C7F0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C9EF-956D-4F77-ACB9-CB3C298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42A5-1EFD-4375-82F8-356CF065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3192C-D955-44F1-94D4-ECB0E1A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9638A-5070-4EBB-9A1D-4816297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FCD2-BBCD-40A3-BBA1-C05BA04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0E99D-C374-404C-89E4-6C15814B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65167-5524-4FD7-BC2E-28B4E930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42158-EA3E-4CD4-AC18-C8A69B82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A88A1-3B92-4CD0-BDBC-B383D049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1DC-DEB6-45E6-BDD3-D2877410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CBA31-BFCB-41A7-B269-BCD382D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B230D-2D15-41C9-A677-760E0764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F8943-E081-415C-88F0-6E845AF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0D0D5-01CC-4E85-81F4-7EB4801F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900A0-B91A-48CA-B559-99CC7E8C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EA90-906A-44B4-A2A3-553840DF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0C85E-8283-49E3-BF93-7F82C79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6B8D2-4A03-4815-98D2-D4965EC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D14D6-22B1-4944-B6C0-E8BCBB2D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0D2ED-E7A6-47AF-B0DB-C0D89E2F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296-056E-4350-86BE-E0053E25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04B96-3CA2-49DF-943C-D7418A6F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24360-971E-49BE-A916-2F2FE97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01803-B131-4830-8A19-4BF5B6FD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D179B-4698-41BD-9E76-BA20D04A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53448-4E8D-4341-8829-A84D7CEF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990C4-7AF2-4174-99BB-85313ACB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FA848-4F84-41DD-AEC0-FC14EA0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4ECCD-A070-4444-9AAC-D3F11F6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818EF-9715-435A-8E06-78E317FD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1887-9D95-46BF-9B02-CDCC16A8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F146-2FAE-446E-B369-74F24B84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79FDB-3804-4923-8CBA-65D5DC1C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2EE12-B5EC-4021-8BAF-5E4FBE10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74E63-1AA0-4021-9638-59B96E98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7242E-4451-4612-B628-F04C880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A6A5D-00C3-47F8-AC66-F3F042B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5042F-DD85-4323-AA08-05AAD61B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B75EA-9694-4AE4-9FF2-106BED5E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036AA-7836-46BD-B87F-C618371A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A8AE3-10D6-4F4A-9276-6B9C225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686DD-AEAB-439C-8654-7873937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2F82-5D17-4620-97E5-7B4CF41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1F9B5-316F-498E-B616-A56D2F0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6BF24-97CF-47C3-8639-9A16384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8C5E0-FE67-4EDE-B459-24E36323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95BC2-E089-4A1F-833E-4DFF325B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EC4EF-6BFE-4DA4-B84F-8F99A644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9C610-051A-4CF3-8BDD-DF037D5D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090AF-4C78-4BFF-9D25-369B36B1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4E657-757E-4760-B21A-972201D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990A8-BB83-4ECA-B354-56B16F0B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730DA-9C3F-4DB5-9005-398A2484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352-9520-4197-9A0B-308BECC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B7DAB-1712-4A20-84F0-648BCCD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8F865-7128-4DA5-A442-42D14DD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BC9EE-FA84-4CC8-BE49-5BE4919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9C8FA-7D48-4039-8220-FC3EE38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1263E-0423-4B24-A109-88D249EC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B5DF7-0EFB-4EB8-B516-9A179DB5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7BF2A-3384-40ED-88A7-03AE81C4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3A2C6-69B2-4431-9593-E6790D3C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BA5E3-1730-4D65-8832-4DA89C31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5F22C-A5BA-4958-8A71-93632E2F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917B-3397-4BEA-A549-66D62696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9BB1B-F4EF-4F77-B758-EE9F700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567C5-404F-4778-8730-EFCA1843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1750A-2F52-4B24-B7E1-6A730AA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90C7A-8D5B-41E2-A5BB-CD2FC25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99E91-0FA5-480C-BC77-0197BE1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3397C-684E-437C-9989-E069D19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2764A-6124-4F30-821C-7FB7DFE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29BE8-5EE9-49B2-9B6E-84590032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EF61B-63AC-4448-999F-62B41FF7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62CDC-E131-43F3-BDDD-E8107EB8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B74-90D3-4DC0-A5AA-3DA6D33B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DF83B-11ED-498C-8D35-DD55470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BA5A1-63BF-4AE7-B47C-AEA0DD2E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339E6-6E57-427E-9DC2-ADA5FD72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3BF39-E93B-464B-A153-D737C426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616C9-90E5-4AC0-A508-DED143D4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27615-0DA1-44D4-89A8-CE62E67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582BA-3B76-48B3-BFDB-20C73C6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FF42F-2158-4F43-A38B-DA6C907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15BFF-76A5-440A-98F9-5F8079EA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1A481-70AF-4DE8-A8AD-70D65F13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4EB1-1236-49BF-A446-05FB6AA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BCCF6-0CB1-4BDC-AEEF-95F6CF76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4F22-7F80-471D-A23E-3CFD683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DC6-2DA4-403C-A061-B621484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A282-EFC1-4C8E-B098-9F4F27D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A4A-9381-4437-8665-40DE262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7DF-34E7-4871-B80E-53AF2DF8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D23-62BB-43FB-AACE-8BFEDBAA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C08A-0024-4F8A-85B4-3A2F344E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9FF8-126F-45FE-B1AE-C3DB1501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4081-1AC5-4E79-B24F-7A7B352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2388-CB79-4B2B-8484-BA51438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63DE-D741-4F8F-9780-24D6CE7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52F2-4E0B-464F-914A-5E3C2047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9FE-288D-443D-BF4C-EEE42DE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255F-1854-45B8-8FCB-240749FE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3D9E-7C08-4735-A990-A9A3F0B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910F-2E71-478B-901E-B1668E0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3ED2-9402-4D29-8C83-3A62577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3EFB-E4DE-4AAC-A4A8-1A5153D2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06DE-1870-4B02-8D41-0C19008F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F7DF-553D-4F37-B205-DDDB65A9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0239-AF40-49DD-913A-0F990AAB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D18C-65E6-440E-8DA3-2F1963B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9177-0BA8-4E66-81A8-5A729042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824-007E-49FB-A2DD-AD48A78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0CA2-1F42-4B82-989C-C693EB7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4B80-87AE-46C3-8D0D-465EF7B3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B1A7-597D-4067-98B9-58FAF07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004D-E996-4B9F-BE80-764E9CE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A8EC-455D-4A6D-B75C-33B6788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0C59-C072-44CE-BF0B-CC910C51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11B8-83C0-427F-8660-A563E9E3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5127-E962-45C6-BCB1-E9A27673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1399-0AC5-4A38-B600-247C7CDD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6478-AAD8-4FAB-9B2D-2458C951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2D1-B828-4005-8B42-C815EB76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1DD3-0203-454A-9BF7-6197F829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397F4-5C90-49A4-9EE3-BE59E780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9A84F-4BF7-4B93-84D5-717F7C5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ED67-59DB-4A65-B45B-3FFE4CD3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18F1-3D77-4A4F-A87D-6993B8BC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93AD-3F7D-4B82-A102-1730533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892A-A633-4D4B-A76B-4FEAD54B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345A-FB1D-4D22-B797-F03096A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6D50-1F98-44DA-849C-532AC6B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E50F-5395-45AD-9504-6CC5C842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361-EE07-4E00-AE47-D2A17C16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7F1B6-AD7E-4924-A5D0-5B674FED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97E87-BF2D-4F86-9FAC-023C9994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A82D-ED28-42BE-A1E9-389BBA28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198D-812C-4205-865A-00D55DB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939D-8E5F-44C8-8C1F-C92233E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5AC4-FCBF-4C81-931A-FEA59813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1FED-42B0-4367-99B0-A0AA1C3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D4EF4-A8F2-4539-ABC1-831D21E2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8E980-E53E-4E58-AD61-C9FAFE6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D3AD-BB18-4F16-8D6F-969F4C0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781-1E72-42D7-A38B-D65E5DD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69BB-4CFA-4AE6-84EA-329C4B7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D5B99-602F-499C-A4D8-CD72C0AA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9183-56F2-47A3-97E7-C9CB107A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1BB7-E2CF-46E5-803C-D4F3A0FF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C480-41DD-48F2-AA4C-11FA449E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B555B-B75D-4E06-8B55-CFBF7E09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C0A1-9802-445E-967B-875DE11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71EC1-C8F6-4561-9781-A9A3B53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43C16-C6AC-4EB7-B56C-D0E808F6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FAF7-4223-41A8-B675-668C798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3AA-6E1C-406B-B9EA-E5E18C2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B7A4-52AD-4E5C-B95D-2CEDFBA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9376-693E-4042-B8BB-E463AEC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47CF0-A7EF-4E5B-A372-5F701D48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8209C-4A14-4A96-85E0-136D670C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4B0CA-B10A-421C-B642-2E2926D6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EEF45-1F92-474C-8A35-E8B6699E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58B32-FC48-4057-B553-26BB63BD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880CF-28A0-4466-ADEA-031A86A9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33C4-8A44-4787-8C34-A3D6213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DE17B-33BC-4E95-B988-A85EE08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B39-7D5E-4DD5-BEA5-55C7748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F6436-356A-4239-873D-9F9C35E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4318-6C81-4CF5-A18F-F26F90A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C273F-9750-441B-8852-3C3F46A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40BC-7E72-4F97-AF3F-27233D1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7181-0413-4ABA-B66C-4F64CFD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65BB5-1000-4C33-AD71-76810F62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B4EB6-0E90-4C02-9CC5-4051F73B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1A494-366F-4081-A589-E9850AE2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99A61-0371-4AB8-B458-2AA2E836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E2859-EB88-4370-807C-AACE34C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615-A2B5-4658-BA3B-A0A3DB2DF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6DC7-5858-4C43-A381-988E4B2F26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866-466C-47E7-9A69-BDAE22BBF5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C276-13AE-45C2-9B48-2755583845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05F6-13E2-4F2C-8CF3-24377DE1E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01C2-8259-4622-8216-091C0FD358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67AE-C042-4149-BD7F-5C114D17C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2C80-8476-422C-98E3-66DF678F33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5FB-F1A0-4E6C-994D-DF01471276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CBA7-1F0A-476E-B627-0561371755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CFE-BED6-44D7-B1F0-A8A445B9FC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80BE-8725-404B-B35C-FA6F61B8B6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0DDB-6481-420C-9C32-995981AE9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B312-3EFD-4D67-B63F-38F28F0137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393E-E23E-4989-9771-353840FC9F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ECDF-EABE-495A-AA05-25AA1ECADC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98D-D762-43A0-AB68-2CAC7BCF6F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EF6-A070-4375-B0C7-6B7FB18245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184-576D-4B7C-838C-6CB4F3CD1B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6E54-0CFE-41D6-9F19-17EE6BFC30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C25D-C7D5-4D49-A87C-184FDFED8B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09D-34A2-444B-BB76-3E09B127E5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804E-16BE-4DE7-846D-D06F6B234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4B4-E8FB-45FE-AB75-337F8FFA38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2862-96EB-4823-8253-DED32D6F4E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BBDA-9F35-4968-84AF-A455F6CDAE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B538-1387-4C0F-B1F2-EF51AE03B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3"/>
          <p:cNvSpPr/>
          <p:nvPr/>
        </p:nvSpPr>
        <p:spPr>
          <a:xfrm>
            <a:off x="1523880" y="45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应是子规啼不到，故乡虽好不思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莫道还家便容易，人间多少事堪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43000" y="20574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天子重英豪，文章教尔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万般皆下品，唯有读书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4082400" y="5791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十年窗下无人问，一举成名天下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270320" y="495288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隶书"/>
                <a:ea typeface="隶书"/>
              </a:rPr>
              <a:t>穷居闹市无人问，富在深山有远亲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066680" y="34290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一士登甲科，九族光彩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朝为田舍郎，暮登天子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儒林外史书貌07"/>
          <p:cNvPicPr/>
          <p:nvPr/>
        </p:nvPicPr>
        <p:blipFill>
          <a:blip r:embed="rId1"/>
          <a:stretch/>
        </p:blipFill>
        <p:spPr>
          <a:xfrm>
            <a:off x="7238880" y="4724280"/>
            <a:ext cx="1560600" cy="19051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0" y="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全书有一个中心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通过对科举制度的弊害和知识分子的精神生活的腐朽堕落的描绘，深刻地揭露和强烈地抨击了封建社会道德风俗的败坏和政治的黑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确实是一幅刻画入微、形象逼真的封建社会儒林百丑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鲁迅先生说：“迨吴敬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出，乃秉持公心，指擿时弊，机锋所向，尤在士林；其文又感而能谐，婉而多讽；于是说部中乃始有足称讽刺之书。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国小说史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这是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步思想和讽刺艺术的最好的概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52280" y="472428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于时代的局限，作者在书中批判黑暗现实的同时，却把理想寄托在一些“品学兼优”的士大夫的身上，宣扬古礼古乐，这是应该加以批判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方正舒体"/>
              </a:rPr>
              <a:t>介绍与本课有关的小说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0" y="1371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进中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片断选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学道校士拔真才，胡屠户行凶查捷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小说描写广东学道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任后在广州主考两场生员，然后主考南海、番禺两县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童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考试，其中就有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范进当时已是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5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，从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5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整整考了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当花白着胡子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在考场里，引起了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怜悯，因为范进与自己的遭遇非常相似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初考了许多年连秀才也没有考上，最后他做生意的一个朋友替他捐钱买了一个秀才资格，他才得以考上举人，最终考上进士。正因为如此，他才对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格外关照，结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在童试中考上第一名秀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紧接着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在乡试中考了第七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457200" y="1295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标题是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范进中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，可以说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中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是范进一生的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转折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中举前后他的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经济状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社会地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判若两人。试着讲讲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WordArt 3"/>
          <p:cNvSpPr txBox="1"/>
          <p:nvPr/>
        </p:nvSpPr>
        <p:spPr>
          <a:xfrm>
            <a:off x="556272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变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2"/>
          <p:cNvSpPr/>
          <p:nvPr/>
        </p:nvSpPr>
        <p:spPr>
          <a:xfrm>
            <a:off x="6227640" y="2708280"/>
            <a:ext cx="649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3" descr="cxinfo_swf_36-4805_图像139"/>
          <p:cNvPicPr/>
          <p:nvPr/>
        </p:nvPicPr>
        <p:blipFill>
          <a:blip r:embed="rId1"/>
          <a:stretch/>
        </p:blipFill>
        <p:spPr>
          <a:xfrm>
            <a:off x="5257800" y="1905120"/>
            <a:ext cx="3124080" cy="404496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669" name="AutoShape 4"/>
          <p:cNvSpPr/>
          <p:nvPr/>
        </p:nvSpPr>
        <p:spPr>
          <a:xfrm>
            <a:off x="7308720" y="1197000"/>
            <a:ext cx="1366920" cy="2087640"/>
          </a:xfrm>
          <a:prstGeom prst="wedgeEllipseCallout">
            <a:avLst>
              <a:gd name="adj1" fmla="val -61032"/>
              <a:gd name="adj2" fmla="val 72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该死的畜牲！你中了甚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5"/>
          <p:cNvSpPr txBox="1"/>
          <p:nvPr/>
        </p:nvSpPr>
        <p:spPr>
          <a:xfrm>
            <a:off x="0" y="0"/>
            <a:ext cx="28954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671" name="WordArt 6"/>
          <p:cNvSpPr txBox="1"/>
          <p:nvPr/>
        </p:nvSpPr>
        <p:spPr>
          <a:xfrm>
            <a:off x="3581280" y="68580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胡屠户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450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胡屠户在范进中举前后的态度有什么不同？试分析该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0" y="860400"/>
          <a:ext cx="8785080" cy="6010200"/>
        </p:xfrm>
        <a:graphic>
          <a:graphicData uri="http://schemas.openxmlformats.org/drawingml/2006/table">
            <a:tbl>
              <a:tblPr/>
              <a:tblGrid>
                <a:gridCol w="2374920"/>
                <a:gridCol w="3244680"/>
                <a:gridCol w="316548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目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中举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　中举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范进的称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说话的态度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所带的礼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嫁女的解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相貌的评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才学的评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能否考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亲家母称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74" name="Rectangle 44"/>
          <p:cNvSpPr/>
          <p:nvPr/>
        </p:nvSpPr>
        <p:spPr>
          <a:xfrm>
            <a:off x="108000" y="146160"/>
            <a:ext cx="7010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 Black"/>
                <a:ea typeface="黑体"/>
              </a:rPr>
              <a:t>范进中举前后胡屠户态度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31240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现世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5940360" y="14590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老爷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贤婿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2819520" y="21081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训斥　狗血喷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5943600" y="1959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恭维　奉承　讨好千恩万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2819520" y="2755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一副大肠　一瓶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5940360" y="2755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七八斤肉四五千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2819520" y="3284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倒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2819520" y="3400560"/>
            <a:ext cx="1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5867280" y="3352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养到３０多岁　　毕竟要嫁与个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259092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尖嘴猴腮　不三不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5"/>
          <p:cNvSpPr/>
          <p:nvPr/>
        </p:nvSpPr>
        <p:spPr>
          <a:xfrm>
            <a:off x="5867280" y="4191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品貌又高　张府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也没有这样的相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6"/>
          <p:cNvSpPr/>
          <p:nvPr/>
        </p:nvSpPr>
        <p:spPr>
          <a:xfrm>
            <a:off x="2514600" y="5029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不是你的文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舍与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7"/>
          <p:cNvSpPr/>
          <p:nvPr/>
        </p:nvSpPr>
        <p:spPr>
          <a:xfrm>
            <a:off x="617220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才学又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8"/>
          <p:cNvSpPr/>
          <p:nvPr/>
        </p:nvSpPr>
        <p:spPr>
          <a:xfrm>
            <a:off x="251460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癞蛤蟆就想天鹅屁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9"/>
          <p:cNvSpPr/>
          <p:nvPr/>
        </p:nvSpPr>
        <p:spPr>
          <a:xfrm>
            <a:off x="5791320" y="586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毕竟要嫁与个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0"/>
          <p:cNvSpPr/>
          <p:nvPr/>
        </p:nvSpPr>
        <p:spPr>
          <a:xfrm>
            <a:off x="259092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你那老不死的老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1"/>
          <p:cNvSpPr/>
          <p:nvPr/>
        </p:nvSpPr>
        <p:spPr>
          <a:xfrm>
            <a:off x="594360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你家老太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6" name="CAMERA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304920" y="685800"/>
            <a:ext cx="81532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加点的词含有什么意味，体现了人物的什么心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屠户把银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手里紧紧的，把拳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来，道：“这个，你且收着。我原是贺你的，怎好又拿了回去？”范进道：“眼见得我这里还有这几两银子，若用完了，再来问老爹讨来用。”屠户连忙把拳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回去，往腰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1447920" y="502920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特写镜头写出其见财心喜而又假意退推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心理，讽刺意味十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1523880" y="56386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5"/>
          <p:cNvSpPr/>
          <p:nvPr/>
        </p:nvSpPr>
        <p:spPr>
          <a:xfrm>
            <a:off x="1600200" y="6248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45924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典型细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胡屠户在范进中举前后截然不同的两种态度形成了鲜明的对比，形象地表现出他的前倨后恭，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欺贫爱富、趋炎附势、嗜钱如命、庸俗自私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典型市侩的性格跃然纸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cxinfo_swf_36-4805_图像148"/>
          <p:cNvPicPr/>
          <p:nvPr/>
        </p:nvPicPr>
        <p:blipFill>
          <a:blip r:embed="rId1"/>
          <a:stretch/>
        </p:blipFill>
        <p:spPr>
          <a:xfrm>
            <a:off x="5105520" y="3505320"/>
            <a:ext cx="3595680" cy="294804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4"/>
          <p:cNvSpPr/>
          <p:nvPr/>
        </p:nvSpPr>
        <p:spPr>
          <a:xfrm>
            <a:off x="7315200" y="3200400"/>
            <a:ext cx="1657440" cy="1152360"/>
          </a:xfrm>
          <a:prstGeom prst="cloudCallout">
            <a:avLst>
              <a:gd name="adj1" fmla="val -32856"/>
              <a:gd name="adj2" fmla="val 125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文曲星打得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5"/>
          <p:cNvSpPr/>
          <p:nvPr/>
        </p:nvSpPr>
        <p:spPr>
          <a:xfrm>
            <a:off x="5029200" y="3429000"/>
            <a:ext cx="934920" cy="1081080"/>
          </a:xfrm>
          <a:prstGeom prst="wedgeEllipseCallout">
            <a:avLst>
              <a:gd name="adj1" fmla="val 91254"/>
              <a:gd name="adj2" fmla="val 99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权变权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6"/>
          <p:cNvSpPr txBox="1"/>
          <p:nvPr/>
        </p:nvSpPr>
        <p:spPr>
          <a:xfrm>
            <a:off x="0" y="0"/>
            <a:ext cx="28954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980280" y="3429000"/>
            <a:ext cx="322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胡屠户前倨后恭的不同态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正好反映出当时社会上那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炎附势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现象，时人对权贵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谀奉承，对寒士则加以白眼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583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阅读文中对张乡绅和众邻居的描写，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0292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张静斋是城中望族，之前 与范进素不相识，为什么会来拜会范进，而且还又送银又送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众邻居在范进中举前后有什么变化？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cxinfo_swf_36-4805_图像151"/>
          <p:cNvPicPr/>
          <p:nvPr/>
        </p:nvPicPr>
        <p:blipFill>
          <a:blip r:embed="rId1"/>
          <a:stretch/>
        </p:blipFill>
        <p:spPr>
          <a:xfrm>
            <a:off x="5715000" y="2057400"/>
            <a:ext cx="2979720" cy="41083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706" name="AutoShape 5"/>
          <p:cNvSpPr/>
          <p:nvPr/>
        </p:nvSpPr>
        <p:spPr>
          <a:xfrm>
            <a:off x="7781760" y="2971800"/>
            <a:ext cx="1362240" cy="1212840"/>
          </a:xfrm>
          <a:prstGeom prst="wedgeEllipseCallout">
            <a:avLst>
              <a:gd name="adj1" fmla="val -47087"/>
              <a:gd name="adj2" fmla="val 12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幸会！幸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6"/>
          <p:cNvSpPr/>
          <p:nvPr/>
        </p:nvSpPr>
        <p:spPr>
          <a:xfrm>
            <a:off x="5867280" y="2057400"/>
            <a:ext cx="936720" cy="1359000"/>
          </a:xfrm>
          <a:prstGeom prst="wedgeEllipseCallout">
            <a:avLst>
              <a:gd name="adj1" fmla="val 48476"/>
              <a:gd name="adj2" fmla="val 12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世先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7"/>
          <p:cNvSpPr txBox="1"/>
          <p:nvPr/>
        </p:nvSpPr>
        <p:spPr>
          <a:xfrm>
            <a:off x="0" y="0"/>
            <a:ext cx="23623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57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张静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目的是为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交新贵，巩固和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己的权势，从这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们可以看出当时官僚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间结党营私之风盛行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WordArt 3"/>
          <p:cNvSpPr txBox="1"/>
          <p:nvPr/>
        </p:nvSpPr>
        <p:spPr>
          <a:xfrm>
            <a:off x="0" y="0"/>
            <a:ext cx="25146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711" name="Picture 4" descr="12范进中举"/>
          <p:cNvPicPr/>
          <p:nvPr/>
        </p:nvPicPr>
        <p:blipFill>
          <a:blip r:embed="rId1"/>
          <a:stretch/>
        </p:blipFill>
        <p:spPr>
          <a:xfrm>
            <a:off x="4800600" y="838080"/>
            <a:ext cx="3962520" cy="5257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261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邻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范进中举前对他漠不关心，在他中举后都送了东西来。范进疯了也是众邻居来帮忙。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众邻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权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或敬畏或谄媚，对不幸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酷无情。这表现了封建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的世态炎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3"/>
          <p:cNvSpPr txBox="1"/>
          <p:nvPr/>
        </p:nvSpPr>
        <p:spPr>
          <a:xfrm>
            <a:off x="0" y="0"/>
            <a:ext cx="25146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714" name="Picture 4" descr="art06"/>
          <p:cNvPicPr/>
          <p:nvPr/>
        </p:nvPicPr>
        <p:blipFill>
          <a:blip r:embed="rId1"/>
          <a:stretch/>
        </p:blipFill>
        <p:spPr>
          <a:xfrm>
            <a:off x="5867280" y="2971800"/>
            <a:ext cx="2895840" cy="3422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231840" y="2286000"/>
            <a:ext cx="1003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2328"/>
                </a:solidFill>
                <a:latin typeface="Times New Roman"/>
                <a:ea typeface="方正舒体"/>
              </a:rPr>
              <a:t>中举了</a:t>
            </a:r>
            <a:r>
              <a:rPr b="1" lang="zh-CN" sz="5400" spc="-1" strike="noStrike">
                <a:solidFill>
                  <a:srgbClr val="f72328"/>
                </a:solidFill>
                <a:latin typeface="Times New Roman"/>
                <a:ea typeface="方正舒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295280" y="609480"/>
            <a:ext cx="7086600" cy="2043720"/>
          </a:xfrm>
          <a:prstGeom prst="rect">
            <a:avLst/>
          </a:prstGeom>
          <a:solidFill>
            <a:srgbClr val="a7b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春风得意马蹄疾，一日看尽长安花。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219320" y="1828800"/>
            <a:ext cx="7162560" cy="1323000"/>
          </a:xfrm>
          <a:prstGeom prst="rect">
            <a:avLst/>
          </a:prstGeom>
          <a:solidFill>
            <a:srgbClr val="a7b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328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插花游街、马蹄轻疾的风流，有衣锦还乡、袍笏加身的荣耀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晓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1219320" y="3733920"/>
            <a:ext cx="7162560" cy="1068840"/>
          </a:xfrm>
          <a:prstGeom prst="rect">
            <a:avLst/>
          </a:prstGeom>
          <a:solidFill>
            <a:srgbClr val="a7b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一日春光暗度黄金柳，雪意冲开了白玉梅。那时节走马在章台内，丝儿翠，笼定个百花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汤显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82760" y="76320"/>
            <a:ext cx="4952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范进中举前后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08000" y="762120"/>
          <a:ext cx="8856720" cy="5932440"/>
        </p:xfrm>
        <a:graphic>
          <a:graphicData uri="http://schemas.openxmlformats.org/drawingml/2006/table">
            <a:tbl>
              <a:tblPr/>
              <a:tblGrid>
                <a:gridCol w="1023840"/>
                <a:gridCol w="4179960"/>
                <a:gridCol w="365292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项目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　　　　中举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　　　　中举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用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地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17" name="Text Box 29"/>
          <p:cNvSpPr/>
          <p:nvPr/>
        </p:nvSpPr>
        <p:spPr>
          <a:xfrm>
            <a:off x="1476360" y="1523880"/>
            <a:ext cx="3733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每日小菜饭　猪油两三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饿了两三天　没有早饭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饿得看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5638680" y="152388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拿蛋　送酒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　　　背米　捉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送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16002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茅草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2"/>
          <p:cNvSpPr/>
          <p:nvPr/>
        </p:nvSpPr>
        <p:spPr>
          <a:xfrm>
            <a:off x="548640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送三进三间房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3"/>
          <p:cNvSpPr/>
          <p:nvPr/>
        </p:nvSpPr>
        <p:spPr>
          <a:xfrm>
            <a:off x="1600200" y="4038480"/>
            <a:ext cx="297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盘费去应考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钱打发报录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4"/>
          <p:cNvSpPr/>
          <p:nvPr/>
        </p:nvSpPr>
        <p:spPr>
          <a:xfrm>
            <a:off x="5638680" y="3809880"/>
            <a:ext cx="3048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搬桌椅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屠户送四五千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送纹银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5"/>
          <p:cNvSpPr/>
          <p:nvPr/>
        </p:nvSpPr>
        <p:spPr>
          <a:xfrm>
            <a:off x="1600200" y="530064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骂得狗血淋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人理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人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6"/>
          <p:cNvSpPr/>
          <p:nvPr/>
        </p:nvSpPr>
        <p:spPr>
          <a:xfrm>
            <a:off x="5632560" y="522936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奉承恭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帮办各种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拜访拉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2" name="CAMERA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152280" y="2514600"/>
            <a:ext cx="9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/>
          <p:cNvSpPr/>
          <p:nvPr/>
        </p:nvSpPr>
        <p:spPr>
          <a:xfrm>
            <a:off x="914400" y="1371600"/>
            <a:ext cx="539640" cy="4648320"/>
          </a:xfrm>
          <a:custGeom>
            <a:avLst/>
            <a:gdLst>
              <a:gd name="textAreaLeft" fmla="*/ 344880 w 539640"/>
              <a:gd name="textAreaRight" fmla="*/ 540000 w 539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6"/>
                </a:lnTo>
                <a:cubicBezTo>
                  <a:pt x="10800" y="9966"/>
                  <a:pt x="5400" y="10866"/>
                  <a:pt x="0" y="10866"/>
                </a:cubicBezTo>
                <a:cubicBezTo>
                  <a:pt x="5400" y="10866"/>
                  <a:pt x="10800" y="11766"/>
                  <a:pt x="10800" y="126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1447920" y="1295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371600" y="30481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胡屠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1447920" y="4572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众乡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1523880" y="571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张乡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3048120" y="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中举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5292720" y="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中举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0"/>
          <p:cNvSpPr/>
          <p:nvPr/>
        </p:nvSpPr>
        <p:spPr>
          <a:xfrm>
            <a:off x="2590920" y="8380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1"/>
          <p:cNvSpPr/>
          <p:nvPr/>
        </p:nvSpPr>
        <p:spPr>
          <a:xfrm>
            <a:off x="3048120" y="60948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家境贫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忍气吞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地位卑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卑怯畏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2"/>
          <p:cNvSpPr/>
          <p:nvPr/>
        </p:nvSpPr>
        <p:spPr>
          <a:xfrm>
            <a:off x="5105520" y="6858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中举发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地位顿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谦卑恭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3"/>
          <p:cNvSpPr/>
          <p:nvPr/>
        </p:nvSpPr>
        <p:spPr>
          <a:xfrm>
            <a:off x="6775560" y="907920"/>
            <a:ext cx="217440" cy="1079640"/>
          </a:xfrm>
          <a:custGeom>
            <a:avLst/>
            <a:gdLst>
              <a:gd name="textAreaLeft" fmla="*/ 0 w 217440"/>
              <a:gd name="textAreaRight" fmla="*/ 78480 w 2174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7162920" y="1143000"/>
            <a:ext cx="161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热衷功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2590920" y="26668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6"/>
          <p:cNvSpPr/>
          <p:nvPr/>
        </p:nvSpPr>
        <p:spPr>
          <a:xfrm>
            <a:off x="3048120" y="243828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随意辱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粗俗势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厉声训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蛮横倨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5105520" y="2666880"/>
            <a:ext cx="18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千种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万般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阿谀奉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8"/>
          <p:cNvSpPr/>
          <p:nvPr/>
        </p:nvSpPr>
        <p:spPr>
          <a:xfrm>
            <a:off x="6775560" y="2854440"/>
            <a:ext cx="217440" cy="1079280"/>
          </a:xfrm>
          <a:custGeom>
            <a:avLst/>
            <a:gdLst>
              <a:gd name="textAreaLeft" fmla="*/ 0 w 217440"/>
              <a:gd name="textAreaRight" fmla="*/ 78480 w 217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7569360" y="312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趋炎附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20"/>
          <p:cNvSpPr/>
          <p:nvPr/>
        </p:nvSpPr>
        <p:spPr>
          <a:xfrm>
            <a:off x="2666880" y="4495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1"/>
          <p:cNvSpPr/>
          <p:nvPr/>
        </p:nvSpPr>
        <p:spPr>
          <a:xfrm>
            <a:off x="3124080" y="4267080"/>
            <a:ext cx="201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视而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漠不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"/>
          <p:cNvSpPr/>
          <p:nvPr/>
        </p:nvSpPr>
        <p:spPr>
          <a:xfrm>
            <a:off x="5105520" y="4267080"/>
            <a:ext cx="20160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奔走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热心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6775560" y="4365720"/>
            <a:ext cx="144360" cy="8636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4"/>
          <p:cNvSpPr/>
          <p:nvPr/>
        </p:nvSpPr>
        <p:spPr>
          <a:xfrm>
            <a:off x="7604280" y="441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嫌贫爱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5"/>
          <p:cNvSpPr/>
          <p:nvPr/>
        </p:nvSpPr>
        <p:spPr>
          <a:xfrm>
            <a:off x="5105520" y="5562720"/>
            <a:ext cx="208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登门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百般拉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6858000" y="5715000"/>
            <a:ext cx="141120" cy="685800"/>
          </a:xfrm>
          <a:custGeom>
            <a:avLst/>
            <a:gdLst>
              <a:gd name="textAreaLeft" fmla="*/ 0 w 141120"/>
              <a:gd name="textAreaRight" fmla="*/ 50760 w 1411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7"/>
          <p:cNvSpPr/>
          <p:nvPr/>
        </p:nvSpPr>
        <p:spPr>
          <a:xfrm>
            <a:off x="7569360" y="566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老奸巨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3510360" y="571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不屑一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WordArt 29"/>
          <p:cNvSpPr txBox="1"/>
          <p:nvPr/>
        </p:nvSpPr>
        <p:spPr>
          <a:xfrm>
            <a:off x="0" y="0"/>
            <a:ext cx="25146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2286000" y="11430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范进中举前后状况的变化，反映了封建社会科举制度对读书人命运的主宰，以及在这种制度下人与人之间的势利关系和世态的炎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思考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除上述对比外，人物本身“言”与“行”、“言”与“言”、“言”与“意”的对比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行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对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如：范进口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噫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好了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我中了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一语三叹，欢乐之情从口涌出。接着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往后一跤跌倒，牙关咬紧，不省人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这是乐而发狂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两相对比，产生强烈的讽刺效果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对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如：胡屠户两次贺喜的表演，同一地点，对同一对象，评价截然不同。前面是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自倒运，把个女儿嫁与你这现世宝，历年以来，不知累了我多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；后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现世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成了举人，成了老爷，语言立刻变化，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自己觉得女儿像有些福气的，毕竟要嫁与个老爷，今日果然不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言与言强烈对比，鞭挞得入木三分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意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对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如：张乡绅开口亲热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世兄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亲切的世兄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至亲骨肉一般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兄弟，这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而言中之意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适才看见题名录，贵房师高要县汤公，就是先祖的门生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意思是你的中举，还兴有我家的一份功劳，抬一抬，拉一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对照，揭示该人物丑恶的灵魂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czyuwen05_04_15_01"/>
          <p:cNvPicPr/>
          <p:nvPr/>
        </p:nvPicPr>
        <p:blipFill>
          <a:blip r:embed="rId1"/>
          <a:stretch/>
        </p:blipFill>
        <p:spPr>
          <a:xfrm>
            <a:off x="16002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3"/>
          <p:cNvSpPr/>
          <p:nvPr/>
        </p:nvSpPr>
        <p:spPr>
          <a:xfrm>
            <a:off x="250920" y="476280"/>
            <a:ext cx="150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走出大门不多路，一脚踹在塘里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华文行楷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czyuwen05_04_15_02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3"/>
          <p:cNvSpPr/>
          <p:nvPr/>
        </p:nvSpPr>
        <p:spPr>
          <a:xfrm>
            <a:off x="6948360" y="907920"/>
            <a:ext cx="194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噫！好了！我中了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设想，范进在大嚷“好”的瞬间，他究竟可能想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0" y="237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归根到底，一个“好”字，表明那一瞬间，范进曾产生过多少思想活动。可以毫不夸张地说，那上半世甜酸苦辣的热望，下半世即将纷沓而至的荣华富贵，都随着一声“好”风驰电掣似地卷过范进的脑海。一个“好”字，将范进这样一个封建社会知识分子满脑功名利禄，一心升官发财的形象跃然纸上。这正是作者的点睛之笔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395280" y="476280"/>
            <a:ext cx="8569440" cy="642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一部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南部新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书中记载：一个姓杜的读书人多次参加科举考试未中，正想回家，却收到妻子寄来的诗：</a:t>
            </a: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2171880" y="2819520"/>
            <a:ext cx="4800600" cy="3694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良人的的有奇才，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何事年年被放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今妾面羞君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君若来时近夜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者运用妙笔把这个人物丧魂落魄的丑态、狂态刻画得淋漓尽致，入木三分。范进长期遭白眼，一旦考中，如发生天旋地转的变化，感情上承受不了。绝大多数知识分子听任封建统治者摆布，背后隐藏的是悲剧，既可怜又可悲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中举前唯唯诺诺，中举后则坦然地同方面大耳的张乡绅平起平坐，打起官腔，成了封建社会的新贵，特权阶级的人员。 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范进对功名的热衷除了从他坚持不懈地参加考试中可以看出之外，还有一处细节可以体现：即平日他不是一个感情容易外露的人，所以他可以忍受胡屠户的辱骂，可以冷静的卖鸡救命，但一见喜报帖便欢喜得疯起来，鲜明的反常，可以充分表现他的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利欲熏心、可悲可笑。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143748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99"/>
                </a:solidFill>
                <a:uFillTx/>
                <a:latin typeface="宋体"/>
              </a:rPr>
              <a:t>范进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4448520" y="144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猥琐懦弱而又圆滑世故，热衷功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828800" y="99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仿宋_GB2312"/>
              </a:rPr>
              <a:t>文章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380880" y="2057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通过对比描写范进中举前后社会、经济地位的变化，着重刻画范进中举癫狂的丑态及他周围各色人等趋炎附势的嘴脸，有力地抨击了封建制度对读书人心灵的荼毒，辛辣地讽刺了科举制度下人与人之间的关系，深刻地揭露了封建社会的黑暗现实和世态的炎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838080" y="1523880"/>
            <a:ext cx="7696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儒林外史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精彩片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回写到范进到知县汤奉处打秋风，当知县看到范进因守制而不用银镶杯箸，不用象箸时，很担心他不用荤酒，正在此时，却见范进“在燕窝碗里拣了一个大虾元子送在嘴里”，这才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838080" y="5105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一句“大虾元子”的描述将范进虚伪的性格暴露无遗，同时也表现出封建礼教的虚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WordArt 4"/>
          <p:cNvSpPr txBox="1"/>
          <p:nvPr/>
        </p:nvSpPr>
        <p:spPr>
          <a:xfrm>
            <a:off x="304920" y="138240"/>
            <a:ext cx="31240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课外延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428640" y="1066680"/>
            <a:ext cx="38862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范进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与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孔乙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" descr="范进中举1"/>
          <p:cNvPicPr/>
          <p:nvPr/>
        </p:nvPicPr>
        <p:blipFill>
          <a:blip r:embed="rId1"/>
          <a:srcRect l="0" t="0" r="45834" b="0"/>
          <a:stretch/>
        </p:blipFill>
        <p:spPr>
          <a:xfrm>
            <a:off x="0" y="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" descr="0"/>
          <p:cNvPicPr/>
          <p:nvPr/>
        </p:nvPicPr>
        <p:blipFill>
          <a:blip r:embed="rId2"/>
          <a:stretch/>
        </p:blipFill>
        <p:spPr>
          <a:xfrm>
            <a:off x="5486400" y="3198960"/>
            <a:ext cx="3657600" cy="36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乙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意图类似，均是控诉封建社会、科举制度的罪恶。孔乙己是科举考试的败北者，范进是中了举，发了疯。皆是热衷功名，一个爬上去，一个被吞噬。皆是中毒极深，一个被吞噬而仍然麻木不仁，一个中了举欢喜得发了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143000" y="38088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“ 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明末高邮有袁体庵者，神医          也。有举子举于乡，喜极发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笑不止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art04"/>
          <p:cNvPicPr/>
          <p:nvPr/>
        </p:nvPicPr>
        <p:blipFill>
          <a:blip r:embed="rId1"/>
          <a:stretch/>
        </p:blipFill>
        <p:spPr>
          <a:xfrm>
            <a:off x="3886200" y="174456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28600" y="228600"/>
            <a:ext cx="8686800" cy="58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1901</a:t>
            </a:r>
            <a:r>
              <a:rPr b="1" lang="zh-CN" sz="3200" spc="-1" strike="noStrike">
                <a:solidFill>
                  <a:srgbClr val="004644"/>
                </a:solidFill>
                <a:latin typeface="宋体"/>
              </a:rPr>
              <a:t>年，慈禧下令改革科举。考试内容中加中外政治历史。为了迎合此旨意，有一次考官出题时把法国的拿破仑塞进去了，因粗略知道拿破仑与中国的项羽一样是一位以失败而告终的猛将，便出了一道中外比较试题：</a:t>
            </a: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4644"/>
                </a:solidFill>
                <a:latin typeface="宋体"/>
              </a:rPr>
              <a:t>项羽拿破轮论</a:t>
            </a: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4644"/>
                </a:solidFill>
                <a:latin typeface="宋体"/>
              </a:rPr>
              <a:t>。出题的考官赶时髦，可来自全国的八股考生哪里跟得上？于是赶出了笑话。一位考生一开笔就写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685800" y="4191120"/>
            <a:ext cx="7886880" cy="106884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夫项羽，拔山盖世之雄，岂有破轮而不能拿哉？使破轮自修其政，又焉能为项羽所拿者？拿全轮而不胜，而况于拿破轮也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范进中举1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5856480" y="1066680"/>
            <a:ext cx="127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敬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52280" y="106200"/>
            <a:ext cx="281952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学常识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吴敬梓图象"/>
          <p:cNvPicPr/>
          <p:nvPr/>
        </p:nvPicPr>
        <p:blipFill>
          <a:blip r:embed="rId1"/>
          <a:stretch/>
        </p:blipFill>
        <p:spPr>
          <a:xfrm>
            <a:off x="152280" y="914400"/>
            <a:ext cx="2895840" cy="53341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3124080" y="0"/>
            <a:ext cx="601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敬梓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1----175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字敏轩，号粒民，晚年又号文木老人，安徽全椒人，清代讽刺小说家。出生于官僚地主家庭，曾祖父、祖父、叔祖均凭科举显达。其父吴霖起，拔贡出身，只做过一任县教谕（八品学官），为人正直耿介，不慕荣利，对吴敬梓颇有影响。吴敬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丧母，后随父到任所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秀才（此后即屡举不中）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丧父。从此，他的生活起了很大变化，由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素不习治生，性复豪上，遇贫即施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数年而产尽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大家都拿他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败家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典型来教育子孙。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移居南京，生活愈加贫困，到后来甚至常常无米下锅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5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病逝于扬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3124080" y="33192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吴敬梓一生中的大半时间在南京、扬州两地，他所交往的多是些“上层人士”，如官僚豪绅、纨绔子弟、举业中人、清客等，对他们的卑劣的灵魂，腐朽的生活，一切秽行劣迹，有较深刻的了解；加上他个人经济地位的剧变，使他与广大下层人民有较多的接触，这些成了他创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丰富的素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3200400" cy="44197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4"/>
          <p:cNvSpPr/>
          <p:nvPr/>
        </p:nvSpPr>
        <p:spPr>
          <a:xfrm>
            <a:off x="152280" y="44956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儒林外史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书于作者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以前。这部长篇讽刺小说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共</a:t>
            </a:r>
            <a:r>
              <a:rPr b="1" lang="en-US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55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回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刻画了</a:t>
            </a:r>
            <a:r>
              <a:rPr b="1" lang="en-US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100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多个人物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但并无一个中心人物做主干，是连缀很多故事而成的长篇小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line-in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098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762120" y="1752480"/>
            <a:ext cx="7162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儒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读书人这一阶层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部杰出的现实主义章回体长篇讽刺小说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书正是以封建知识分子为主要对象，描写他们的生活和精神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书用白话写成，语言准确、生动、幽默、洗练，细节描写传神，人物栩栩如生，艺术上取得了极大的成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展示了一幅以封建儒生的生活和精神状态为中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八世纪中国社会的风俗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1111"/>
          <p:cNvPicPr/>
          <p:nvPr/>
        </p:nvPicPr>
        <p:blipFill>
          <a:blip r:embed="rId2"/>
          <a:stretch/>
        </p:blipFill>
        <p:spPr>
          <a:xfrm>
            <a:off x="1600200" y="30492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" descr="1112"/>
          <p:cNvPicPr/>
          <p:nvPr/>
        </p:nvPicPr>
        <p:blipFill>
          <a:blip r:embed="rId3"/>
          <a:stretch/>
        </p:blipFill>
        <p:spPr>
          <a:xfrm>
            <a:off x="6454800" y="30492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6"/>
          <p:cNvSpPr/>
          <p:nvPr/>
        </p:nvSpPr>
        <p:spPr>
          <a:xfrm>
            <a:off x="2057400" y="471600"/>
            <a:ext cx="54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关于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儒林外史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0:03:11Z</dcterms:created>
  <dc:creator>YaYa</dc:creator>
  <dc:description/>
  <dc:language>en-US</dc:language>
  <cp:lastModifiedBy>a</cp:lastModifiedBy>
  <dcterms:modified xsi:type="dcterms:W3CDTF">2015-02-10T11:15:11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