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3.jpeg" ContentType="image/jpeg"/>
  <Override PartName="/ppt/media/image19.jpeg" ContentType="image/jpeg"/>
  <Override PartName="/ppt/media/image2.gif" ContentType="image/gif"/>
  <Override PartName="/ppt/media/laser.wav" ContentType="audio/x-wav"/>
  <Override PartName="/ppt/media/image16.jpeg" ContentType="image/jpeg"/>
  <Override PartName="/ppt/media/image1.jpeg" ContentType="image/jpeg"/>
  <Override PartName="/ppt/media/image14.jpeg" ContentType="image/jpeg"/>
  <Override PartName="/ppt/media/image5.gif" ContentType="image/gif"/>
  <Override PartName="/ppt/media/image7.gif" ContentType="image/gif"/>
  <Override PartName="/ppt/media/image3.gif" ContentType="image/gif"/>
  <Override PartName="/ppt/media/image26.gif" ContentType="image/gif"/>
  <Override PartName="/ppt/media/image18.jpeg" ContentType="image/jpeg"/>
  <Override PartName="/ppt/media/image8.gif" ContentType="image/gif"/>
  <Override PartName="/ppt/media/image4.gif" ContentType="image/gif"/>
  <Override PartName="/ppt/media/image27.png" ContentType="image/png"/>
  <Override PartName="/ppt/media/image10.jpeg" ContentType="image/jpeg"/>
  <Override PartName="/ppt/media/image11.gif" ContentType="image/gif"/>
  <Override PartName="/ppt/media/image28.jpeg" ContentType="image/jpeg"/>
  <Override PartName="/ppt/media/camera.wav" ContentType="audio/x-wav"/>
  <Override PartName="/ppt/media/image21.jpeg" ContentType="image/jpeg"/>
  <Override PartName="/ppt/media/image6.gif" ContentType="image/gif"/>
  <Override PartName="/ppt/media/chimes.wav" ContentType="audio/x-wav"/>
  <Override PartName="/ppt/media/image25.gif" ContentType="image/gif"/>
  <Override PartName="/ppt/media/type.wav" ContentType="audio/x-wav"/>
  <Override PartName="/ppt/media/image12.jpeg" ContentType="image/jpeg"/>
  <Override PartName="/ppt/media/image22.jpeg" ContentType="image/jpeg"/>
  <Override PartName="/ppt/media/image9.png" ContentType="image/png"/>
  <Override PartName="/ppt/media/cashreg.wav" ContentType="audio/x-wav"/>
  <Override PartName="/ppt/media/image13.jpeg" ContentType="image/jpeg"/>
  <Override PartName="/ppt/media/image20.gif" ContentType="image/gif"/>
  <Override PartName="/ppt/media/image24.jpeg" ContentType="image/jpeg"/>
  <Override PartName="/ppt/media/projctor.wav" ContentType="audio/x-wav"/>
  <Override PartName="/ppt/media/image15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0CBE-D505-4252-B47A-1887CED6E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E7F6-F0E8-4032-94F8-0ADDE4236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A20182-F1FE-41A8-80FE-C2CE8D525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EC397E-1B94-4100-ACF7-F40728D69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C8A39B-8814-4DBF-8ECE-FFE02A4E5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F4B2A8-3CC8-4FFC-8F1E-586322BF7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73869D-E4D9-4BBF-B754-EC770EAF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45A6A0-04AB-43A9-A229-D91235941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1AD297-CC34-482D-BFE7-E0EE1D7D9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4638AD-C62D-4026-AF5D-EAE0E2964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07576D-3E22-41E6-A85B-E443D58D2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96467E-6A48-44DF-96FE-B899029C0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8132-EF74-4F11-9C29-94354D091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6CAF09-E2F4-4ED7-9C58-09033E699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BD88DB-3577-4698-AC7F-94F74140F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4331A6-6D47-43C9-BDAC-2BB9DC5E0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185C7A-69D1-4D26-AB2C-94CD0F067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24B29B-BFE9-427D-9E0C-1C8529DD0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5DD0ED-6687-4CCA-B33C-A14EFCD4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6052CF-E2BA-4435-A379-FA77A2FCB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52D852-ECF9-44C4-876B-8EC053AF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5F621E-A4D9-44A7-AB2D-CF5589923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B3D9CF-FE42-4D7D-ACAC-8F2251012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9CD0-2266-4539-AE4C-057A60F25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EB143D-5790-47A4-99DA-84280EA29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065FC9-62D0-41D9-A132-5886C0AA4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1E746E-32EC-425E-97DC-49B49E40C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39474A-62A6-4103-9470-370176123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98FD83-3259-4F89-8494-90ECAE707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2D96A5-BDBE-4622-BDEF-8D414EE99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755883-3827-4925-B6DC-F22C35146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733C2F-2958-4CA3-B6C3-B6E593A4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5131B8-5002-412C-A264-F3EC7EDC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7B259F-9A48-4182-AC08-660C5135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3E930-FE47-405F-8CA6-D4955967E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9C59BC-2115-4204-BD3B-00F6D8DCC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7012C6-C371-48F6-83FF-39822F233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6CB671-5621-4510-8B5D-B3B7B5F80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C34F85-E7F1-44AA-8BF8-D66345CB7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D3542B-9614-4D6E-BCCB-FF589823D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4D0FEE-EB79-44D8-A61F-7EE0C3A88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EE2E7A-24DF-4ABE-9A70-6DFA21022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9AC8E5-BC0E-4980-9E2F-4D414DEE1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81C22B-2EA2-44F6-BD17-8979B1E09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73ACEE-5451-407C-BD02-C2134031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A3C9A-49C6-49D7-AD70-17A16362A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72D4A3-2ED5-4CEF-B65C-25AE6CAA9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B4A8CD-E5C9-474F-B518-F0E56BB9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0176C3-2240-430F-BAFB-E6BE5AEA1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6283D5-BF33-4FC9-A695-9D6A10F91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BFDB82-C728-4B23-B7DE-BE12EDBF9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324775-47C8-4A01-BCC5-81488EF7B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81995B-44FF-43D9-AB68-0ABD13253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817476-3D30-4DB6-9482-0708FA15B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C9908D-AA51-47AE-89E8-109EED3FA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AD1B2B-58D6-4B24-A78E-221D257B2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4F816-7335-4A46-8F7D-358793583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A7EBEB-F2CF-4D74-91EB-E0C2DA92C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A5730D-9978-4B71-BBD2-92C5F58ED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759DC1-62DA-4408-BAB6-757AC01D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EC0E01-A10B-408F-BCFA-948805789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899012-E3DE-4079-BF84-ADA57B146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A799EF-8241-40A8-A15E-D0A941BB7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FA3314-3CDC-427F-B4C3-5F2DA6977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A39B1-8244-451B-ACC9-4C442C1DB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68C42-8EEA-41F1-9BD4-3B9443A5C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AF6BB-B5BE-495F-AE93-B682FCA92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42F28-5868-4571-B302-C2BB8C3CB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2721-DE4F-4940-8848-18B26ADFB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91673-3919-44FF-9B75-C8F999FFF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6E1A8-49D3-4379-916A-04592846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FD728-E1C3-4DA7-883F-EFB6D532F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3AA83-A481-4C6A-A5DC-BB823D563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6A069-C092-42FD-A706-B11C6031D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7C3B9-695A-49B0-A4E6-634D82DC6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8E420-6CED-42C3-956D-E2A58AD90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12337-E3F7-4414-8667-3501A6D27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CD5E3-0E7C-43AD-A602-D953AFEEC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F2C3F-687D-494B-ADBC-30E5393EC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550D-3DB7-488D-8B42-8B32545D8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AEC2C-E28B-4D1D-9ABF-E73C3B39D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DAC65-2138-4BF3-A2E7-1131624B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3D318-9256-4968-B6E9-3EBCDB2D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183E2-226C-4253-8B4F-BEBAEF7B0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A6C9D-2376-4D90-A161-2822566BD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4F0F3-58C3-43BA-BE46-F9AB31A52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84A54-6C4A-4250-A4E7-3262C9570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EC1B1-5D39-4372-B9EC-2FE8D3CC7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8AF25-7486-4A38-AB75-33C055AE9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FA0A8-5BA2-4018-8A58-525E09EF7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0EDD-76B4-42B6-9C98-21440D8EA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AAE49-14FB-4260-94F7-0947A1E06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77496-1AEE-418D-B2BC-C2BCD7390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BFA5F-5DFB-4BA2-AC80-90785C132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827C8-FD32-431D-90A3-47B4D021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292A3-BB01-4F76-A07E-AC2E55AE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B1CE1-21B7-4C6A-AFE8-9EFB63E19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63DE9-656F-4D8C-A5E6-244CBE027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CD607-067C-4D75-9992-5237F0A94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ED2F6-1C60-42AC-8994-7B0758F0B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CAF38-1313-4684-B86C-E73C6E0F8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D088-B6FF-419E-8301-DD1DB2793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D5B39-28A0-400E-B600-60A960547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3DBCD-5F3E-4678-B765-87BF4D2F6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7CE1F6-E2C9-4386-9237-EDADB6EC1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132299-0053-45C0-9D97-3FDDFA587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87E88-F6B9-4436-BEC4-B13CB1A53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475F6-907B-4CAA-853F-75020BCD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29ED9-6EA7-49B9-A0EA-47173514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EFB3CC-403A-450F-8641-15FE11DE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26C2E-AE62-4468-96FC-DE9B39C87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ECD7F-D538-41BB-BB4A-F60DD726D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8444-D49C-4DBD-BA1E-0AD3A2ADE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850AAA-5DCC-4324-BB9A-3AB524835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16ECB3-9008-4A9C-A9FD-4D102B39A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85C9A9-95B6-4456-880D-6EFF8219C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E5593B-2047-433A-83DB-C77A43D61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B4ED05-AFCC-4362-AC1E-8B1AEDE2F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CCA799-D1A8-479F-8045-AE344A4CA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5F3A5E-A5AD-404C-93F1-8051B13AD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B2681E-ECCA-4DA6-8FBA-E1CFE935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9CCB7F-CA57-492E-AC9C-5275B8F8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0C4976-5EA4-4C31-A057-42C0B2D8E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D2FC-4FBB-4523-BAFF-F56B6EF79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684A35-715C-46A7-91A3-C5F007D5A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46ED9F-E182-4ED0-AAD3-165AADCEC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9DCC05-CF2D-451A-8F3E-A6BFE04AF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C9357E-D119-4848-9FA6-960652A00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E2D3FB-81F8-42DF-979E-31256D395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1DAB3F-F0ED-4437-A11B-3791A5027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772098-727B-4636-B8AD-E8B5E5DCE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8302FE-3D08-473A-BCC9-3A088E4FD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5BB318-FDCF-4F6F-8A64-7215B22F8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229FD0-5783-4BE5-B940-82B6872FD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D440-050F-4A43-AF14-400324F5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A5BB4D-3995-4550-997C-1AE49B407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6BEAE7-BC67-4981-BDD6-81F8820B5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484302-07B1-4BBB-8E1E-78CC102BD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F932BA-3888-485B-8502-192D7A08F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1E2222-649D-4B88-AA1C-E46F70E1C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F94F2C-4812-4A46-832B-72EAB5F51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3F108F-181E-45E2-8961-27DD36517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46A7BF-B1A7-4381-AC90-39D2D5B95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AED3A2-E372-4FD4-AAC6-4298BDBF4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C5F946-C723-4EDB-9BD9-759FA40C0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37EF-2A67-4DFB-96D0-295C2876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8AF617-81E0-4D23-8F2C-E79907708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581E11-B4A6-43C1-83AB-5EB41725D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D4B577-132A-4E80-B16B-8F795A656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A34A4A-4F2D-4BC1-A42C-0CD902A04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304834-4357-4042-8536-C3EBD5A49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CE6C33-24AF-44CB-B9FF-E89EB8D18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CA4577-0320-4825-A562-B8B056A27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A90952-B09B-46A4-B252-3800BD6B9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6F76BF-13C2-4EE7-BD6F-3065CDA81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E9EC07-7FB4-4CB9-BE89-CA948C6F2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01FDF-DF44-4C2C-B567-558A737442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ff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2C138-6D49-49D7-B7D5-1676809FD3B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E8846-D690-4483-BC0F-0DBD80E4E3B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BE480-6384-4D6A-8348-6BC083F8C75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21A00-C2AF-4E54-88AD-53C4FB04E1C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3E97B-3059-4158-B54C-8B81FC73E47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6F4A8-48DE-48A3-B8A3-4EE1794C6E4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20E89-684A-4ACF-A7CC-454756613CD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23711-E46B-4CC5-9205-32B2B9E80E5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BD208-BBAE-4595-AC0C-6120BEAC576A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8D279-7DA1-4993-9EE3-4D6E56F74B3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5DC51-2267-460C-AD80-AFEE55EB028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24384-85E4-41AB-AB8D-C3FCA456924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CE960-63FB-41E2-9A8D-E1036C843D1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E6ACB-B27E-49E1-92EB-B08879D5CF7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6B096-1170-4CF7-89A4-894D3CD4226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EC58E-5934-4E15-9CE8-EB97530F33F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17A6F-CFB7-49F8-92BD-49FCB619139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D653B-38EA-4E15-820A-55F77E30971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9DF01-9546-4113-9370-9C0E0EED00C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770E6-93F7-4748-8124-DAE301462CC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E8B30-AF2F-4C98-934E-9EC932C53C2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C6133-66C3-4CE0-BDCF-78025415EE3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0511E-3A28-4012-949C-7CF7320F3DE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6603B-1264-43DA-9CAF-40457377C84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image" Target="../media/image17.jpeg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camera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camera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audio" Target="../media/camera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8.xml"/><Relationship Id="rId8" Type="http://schemas.openxmlformats.org/officeDocument/2006/relationships/audio" Target="../media/projctor.wav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projctor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projctor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audio" Target="../media/cashreg.wav"/><Relationship Id="rId4" Type="http://schemas.openxmlformats.org/officeDocument/2006/relationships/audio" Target="../media/chimes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7.jpeg"/><Relationship Id="rId3" Type="http://schemas.openxmlformats.org/officeDocument/2006/relationships/audio" Target="../media/laser.wav"/><Relationship Id="rId4" Type="http://schemas.openxmlformats.org/officeDocument/2006/relationships/audio" Target="../media/type.wav"/><Relationship Id="rId5" Type="http://schemas.openxmlformats.org/officeDocument/2006/relationships/audio" Target="../media/projctor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7.jpeg"/><Relationship Id="rId3" Type="http://schemas.openxmlformats.org/officeDocument/2006/relationships/audio" Target="../media/projctor.wav"/><Relationship Id="rId4" Type="http://schemas.openxmlformats.org/officeDocument/2006/relationships/audio" Target="../media/cashreg.wav"/><Relationship Id="rId5" Type="http://schemas.openxmlformats.org/officeDocument/2006/relationships/audio" Target="../media/projctor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1035" descr="F:\素材\动画\index_d1_3.jpg"/>
          <p:cNvPicPr/>
          <p:nvPr/>
        </p:nvPicPr>
        <p:blipFill>
          <a:blip r:embed="rId1"/>
          <a:stretch/>
        </p:blipFill>
        <p:spPr>
          <a:xfrm>
            <a:off x="0" y="2590920"/>
            <a:ext cx="9144000" cy="4267080"/>
          </a:xfrm>
          <a:prstGeom prst="rect">
            <a:avLst/>
          </a:prstGeom>
          <a:ln w="0">
            <a:noFill/>
          </a:ln>
        </p:spPr>
      </p:pic>
      <p:sp>
        <p:nvSpPr>
          <p:cNvPr id="534" name="Rectangle 1026"/>
          <p:cNvSpPr/>
          <p:nvPr/>
        </p:nvSpPr>
        <p:spPr>
          <a:xfrm>
            <a:off x="2140200" y="-33480"/>
            <a:ext cx="494568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ff"/>
                </a:solidFill>
                <a:latin typeface="Times New Roman"/>
                <a:ea typeface="宋体"/>
              </a:rPr>
              <a:t>济村中小六年级（</a:t>
            </a:r>
            <a:r>
              <a:rPr b="0" lang="en-US" sz="4000" spc="-1" strike="noStrike">
                <a:solidFill>
                  <a:srgbClr val="0066ff"/>
                </a:solidFill>
                <a:latin typeface="Times New Roman"/>
                <a:ea typeface="宋体"/>
              </a:rPr>
              <a:t>4</a:t>
            </a:r>
            <a:r>
              <a:rPr b="0" lang="zh-CN" sz="4000" spc="-1" strike="noStrike">
                <a:solidFill>
                  <a:srgbClr val="0066ff"/>
                </a:solidFill>
                <a:latin typeface="Times New Roman"/>
                <a:ea typeface="宋体"/>
              </a:rPr>
              <a:t>）语文公开课</a:t>
            </a:r>
            <a:br>
              <a:rPr sz="3200"/>
            </a:br>
            <a:r>
              <a:rPr b="0" lang="zh-CN" sz="3200" spc="-1" strike="noStrike">
                <a:solidFill>
                  <a:srgbClr val="0066ff"/>
                </a:solidFill>
                <a:latin typeface="Times New Roman"/>
                <a:ea typeface="宋体"/>
              </a:rPr>
              <a:t>                 </a:t>
            </a:r>
            <a:br>
              <a:rPr sz="3200"/>
            </a:br>
            <a:r>
              <a:rPr b="0" lang="zh-CN" sz="3200" spc="-1" strike="noStrike">
                <a:solidFill>
                  <a:srgbClr val="0066ff"/>
                </a:solidFill>
                <a:latin typeface="Times New Roman"/>
                <a:ea typeface="宋体"/>
              </a:rPr>
              <a:t>                    执  教：         徐显城</a:t>
            </a:r>
            <a:endParaRPr b="0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pic>
        <p:nvPicPr>
          <p:cNvPr id="535" name="Picture 1027" descr="F:\素材\爱情\8.gif"/>
          <p:cNvPicPr/>
          <p:nvPr/>
        </p:nvPicPr>
        <p:blipFill>
          <a:blip r:embed="rId2"/>
          <a:stretch/>
        </p:blipFill>
        <p:spPr>
          <a:xfrm>
            <a:off x="685800" y="914400"/>
            <a:ext cx="7543800" cy="300996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1028" descr="F:\素材\爱情\19.gif"/>
          <p:cNvPicPr/>
          <p:nvPr/>
        </p:nvPicPr>
        <p:blipFill>
          <a:blip r:embed="rId3"/>
          <a:stretch/>
        </p:blipFill>
        <p:spPr>
          <a:xfrm>
            <a:off x="0" y="0"/>
            <a:ext cx="9144000" cy="251460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1030" descr="F:\素材\动画\210.gif"/>
          <p:cNvPicPr/>
          <p:nvPr/>
        </p:nvPicPr>
        <p:blipFill>
          <a:blip r:embed="rId4"/>
          <a:stretch/>
        </p:blipFill>
        <p:spPr>
          <a:xfrm>
            <a:off x="1676520" y="5257800"/>
            <a:ext cx="742680" cy="102888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1031" descr="F:\素材\动画\gif001.gif"/>
          <p:cNvPicPr/>
          <p:nvPr/>
        </p:nvPicPr>
        <p:blipFill>
          <a:blip r:embed="rId5"/>
          <a:stretch/>
        </p:blipFill>
        <p:spPr>
          <a:xfrm>
            <a:off x="0" y="4321080"/>
            <a:ext cx="2057400" cy="253692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1032" descr="F:\素材\动画\gif007.gif"/>
          <p:cNvPicPr/>
          <p:nvPr/>
        </p:nvPicPr>
        <p:blipFill>
          <a:blip r:embed="rId6"/>
          <a:stretch/>
        </p:blipFill>
        <p:spPr>
          <a:xfrm>
            <a:off x="6400800" y="4952880"/>
            <a:ext cx="2286000" cy="663840"/>
          </a:xfrm>
          <a:prstGeom prst="rect">
            <a:avLst/>
          </a:prstGeom>
          <a:ln w="0">
            <a:noFill/>
          </a:ln>
        </p:spPr>
      </p:pic>
      <p:sp>
        <p:nvSpPr>
          <p:cNvPr id="540" name="AutoShape 1033"/>
          <p:cNvSpPr/>
          <p:nvPr/>
        </p:nvSpPr>
        <p:spPr>
          <a:xfrm>
            <a:off x="5943600" y="2971800"/>
            <a:ext cx="3200400" cy="1143000"/>
          </a:xfrm>
          <a:prstGeom prst="cloudCallout">
            <a:avLst>
              <a:gd name="adj1" fmla="val -6995"/>
              <a:gd name="adj2" fmla="val 127361"/>
            </a:avLst>
          </a:prstGeom>
          <a:solidFill>
            <a:srgbClr val="ff99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你们去干什么？</a:t>
            </a:r>
            <a:endParaRPr b="0" lang="en-US" sz="2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541" name="AutoShape 1034"/>
          <p:cNvSpPr/>
          <p:nvPr/>
        </p:nvSpPr>
        <p:spPr>
          <a:xfrm>
            <a:off x="2057400" y="3352680"/>
            <a:ext cx="2895480" cy="1600200"/>
          </a:xfrm>
          <a:prstGeom prst="wedgeEllipseCallout">
            <a:avLst>
              <a:gd name="adj1" fmla="val -73134"/>
              <a:gd name="adj2" fmla="val 78472"/>
            </a:avLst>
          </a:prstGeom>
          <a:solidFill>
            <a:srgbClr val="ffffcc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Microsoft Sans Serif"/>
              </a:rPr>
              <a:t>我们一起去上语文课吧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！</a:t>
            </a:r>
            <a:endParaRPr b="0" lang="en-US" sz="2800" spc="-1" strike="noStrike">
              <a:solidFill>
                <a:srgbClr val="ff0066"/>
              </a:solidFill>
              <a:latin typeface="Times New Roman"/>
            </a:endParaRPr>
          </a:p>
        </p:txBody>
      </p:sp>
      <p:pic>
        <p:nvPicPr>
          <p:cNvPr id="542" name="Picture 1037" descr="F:\素材\动画\gif003.gif"/>
          <p:cNvPicPr/>
          <p:nvPr/>
        </p:nvPicPr>
        <p:blipFill>
          <a:blip r:embed="rId7"/>
          <a:stretch/>
        </p:blipFill>
        <p:spPr>
          <a:xfrm>
            <a:off x="5791320" y="5334120"/>
            <a:ext cx="2057400" cy="118584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1038" descr="C:\Documents and Settings\徐显城\My Documents\My Pictures\221.gif"/>
          <p:cNvPicPr/>
          <p:nvPr/>
        </p:nvPicPr>
        <p:blipFill>
          <a:blip r:embed="rId8"/>
          <a:stretch/>
        </p:blipFill>
        <p:spPr>
          <a:xfrm>
            <a:off x="2666880" y="4724280"/>
            <a:ext cx="1067040" cy="2133720"/>
          </a:xfrm>
          <a:prstGeom prst="rect">
            <a:avLst/>
          </a:prstGeom>
          <a:ln w="0">
            <a:noFill/>
          </a:ln>
        </p:spPr>
      </p:pic>
      <p:pic>
        <p:nvPicPr>
          <p:cNvPr id="544" name="美丽的神话.mp3" descr=""/>
          <p:cNvPicPr/>
          <p:nvPr/>
        </p:nvPicPr>
        <p:blipFill>
          <a:blip r:embed="rId9"/>
          <a:stretch/>
        </p:blipFill>
        <p:spPr>
          <a:xfrm>
            <a:off x="8305920" y="57913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544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544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5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Text Box 4"/>
          <p:cNvSpPr/>
          <p:nvPr/>
        </p:nvSpPr>
        <p:spPr>
          <a:xfrm>
            <a:off x="539640" y="0"/>
            <a:ext cx="7345440" cy="39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ff"/>
                </a:solidFill>
                <a:latin typeface="Times New Roman"/>
                <a:ea typeface="华文隶书"/>
              </a:rPr>
              <a:t>学习文章最后一部分</a:t>
            </a:r>
            <a:endParaRPr b="0" lang="en-US" sz="48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  <a:ea typeface="宋体"/>
              </a:rPr>
              <a:t>1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宋体"/>
              </a:rPr>
              <a:t>、凡卡的信爷爷能收到吗？    为什么？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  <a:ea typeface="宋体"/>
              </a:rPr>
              <a:t>2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宋体"/>
              </a:rPr>
              <a:t>、凡卡自己知道寄信的结果吗？如果你在场，你准备怎么帮他？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pic>
        <p:nvPicPr>
          <p:cNvPr id="574" name="Picture 5" descr="110"/>
          <p:cNvPicPr/>
          <p:nvPr/>
        </p:nvPicPr>
        <p:blipFill>
          <a:blip r:embed="rId2"/>
          <a:stretch/>
        </p:blipFill>
        <p:spPr>
          <a:xfrm>
            <a:off x="7272360" y="0"/>
            <a:ext cx="1871640" cy="197172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6" descr="F:\素材\动画\Logo10_041_01.gif"/>
          <p:cNvPicPr/>
          <p:nvPr/>
        </p:nvPicPr>
        <p:blipFill>
          <a:blip r:embed="rId3"/>
          <a:stretch/>
        </p:blipFill>
        <p:spPr>
          <a:xfrm>
            <a:off x="7945560" y="5521320"/>
            <a:ext cx="11984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 Box 4"/>
          <p:cNvSpPr/>
          <p:nvPr/>
        </p:nvSpPr>
        <p:spPr>
          <a:xfrm>
            <a:off x="0" y="0"/>
            <a:ext cx="914400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隶书"/>
                <a:ea typeface="隶书"/>
              </a:rPr>
              <a:t>总结本文的写作手法：</a:t>
            </a:r>
            <a:endParaRPr b="0" lang="en-US" sz="48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隶书"/>
                <a:ea typeface="隶书"/>
              </a:rPr>
              <a:t>一、领悟文章将作者叙述、信的内容和回忆结合在一起的表达方法 。</a:t>
            </a:r>
            <a:endParaRPr b="0" lang="en-US" sz="48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隶书"/>
                <a:ea typeface="隶书"/>
              </a:rPr>
              <a:t>二、对比的描写，反衬凡卡的凄苦。</a:t>
            </a:r>
            <a:endParaRPr b="0" lang="en-US" sz="48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隶书"/>
                <a:ea typeface="隶书"/>
              </a:rPr>
              <a:t>三、插叙的手法，读来自然、流畅。</a:t>
            </a:r>
            <a:endParaRPr b="0" lang="en-US" sz="48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Picture 3" descr="FR2067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578" name="Text Box 4"/>
          <p:cNvSpPr/>
          <p:nvPr/>
        </p:nvSpPr>
        <p:spPr>
          <a:xfrm>
            <a:off x="1219320" y="0"/>
            <a:ext cx="7456320" cy="421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宋体"/>
              </a:rPr>
              <a:t>教学目标：</a:t>
            </a:r>
            <a:endParaRPr b="0" lang="en-US" sz="48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宋体"/>
              </a:rPr>
              <a:t>1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宋体"/>
              </a:rPr>
              <a:t>、 有感情地朗读课文。</a:t>
            </a:r>
            <a:endParaRPr b="0" lang="en-US" sz="40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宋体"/>
              </a:rPr>
              <a:t>2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宋体"/>
              </a:rPr>
              <a:t>、 学习课文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宋体"/>
              </a:rPr>
              <a:t>,</a:t>
            </a:r>
            <a:r>
              <a:rPr b="1" lang="zh-CN" sz="4000" spc="-1" strike="noStrike">
                <a:solidFill>
                  <a:srgbClr val="3333cc"/>
                </a:solidFill>
                <a:latin typeface="宋体"/>
                <a:ea typeface="宋体"/>
              </a:rPr>
              <a:t>领悟文章将作者叙           述、信的内容和回忆插叙结合在  一起的表达方法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宋体"/>
              </a:rPr>
              <a:t> 。</a:t>
            </a:r>
            <a:endParaRPr b="0" lang="en-US" sz="40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宋体"/>
              </a:rPr>
              <a:t>3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宋体"/>
              </a:rPr>
              <a:t>、了解旧俄时代穷孩子的悲惨命运，理解作者表达的思想感情。</a:t>
            </a:r>
            <a:endParaRPr b="0" lang="en-US" sz="4000" spc="-1" strike="noStrike">
              <a:solidFill>
                <a:srgbClr val="ff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4" descr="FR2068"/>
          <p:cNvPicPr/>
          <p:nvPr/>
        </p:nvPicPr>
        <p:blipFill>
          <a:blip r:embed="rId1"/>
          <a:stretch/>
        </p:blipFill>
        <p:spPr>
          <a:xfrm>
            <a:off x="0" y="0"/>
            <a:ext cx="8915400" cy="7250040"/>
          </a:xfrm>
          <a:prstGeom prst="rect">
            <a:avLst/>
          </a:prstGeom>
          <a:ln w="0">
            <a:noFill/>
          </a:ln>
        </p:spPr>
      </p:pic>
      <p:sp>
        <p:nvSpPr>
          <p:cNvPr id="580" name="Text Box 5"/>
          <p:cNvSpPr/>
          <p:nvPr/>
        </p:nvSpPr>
        <p:spPr>
          <a:xfrm>
            <a:off x="914400" y="19080"/>
            <a:ext cx="701028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ff"/>
                </a:solidFill>
                <a:latin typeface="Times New Roman"/>
                <a:ea typeface="宋体"/>
              </a:rPr>
              <a:t>小结：</a:t>
            </a:r>
            <a:endParaRPr b="0" lang="en-US" sz="54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Times New Roman"/>
                <a:ea typeface="宋体"/>
              </a:rPr>
              <a:t>读了凡卡，我们认识了什么？对今天的生活应该怎样珍惜？回家和父母聊一聊。</a:t>
            </a:r>
            <a:endParaRPr b="0" lang="en-US" sz="54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7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0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Text Box 8"/>
          <p:cNvSpPr/>
          <p:nvPr/>
        </p:nvSpPr>
        <p:spPr>
          <a:xfrm>
            <a:off x="4606920" y="0"/>
            <a:ext cx="45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宋体"/>
              </a:rPr>
              <a:t>凡卡甜蜜的梦</a:t>
            </a:r>
            <a:endParaRPr b="0" lang="en-US" sz="5400" spc="-1" strike="noStrike">
              <a:solidFill>
                <a:srgbClr val="ff0066"/>
              </a:solidFill>
              <a:latin typeface="Times New Roman"/>
            </a:endParaRPr>
          </a:p>
        </p:txBody>
      </p:sp>
      <p:pic>
        <p:nvPicPr>
          <p:cNvPr id="582" name="Picture 9" descr="039"/>
          <p:cNvPicPr/>
          <p:nvPr/>
        </p:nvPicPr>
        <p:blipFill>
          <a:blip r:embed="rId2"/>
          <a:stretch/>
        </p:blipFill>
        <p:spPr>
          <a:xfrm>
            <a:off x="0" y="-316080"/>
            <a:ext cx="3203640" cy="2678400"/>
          </a:xfrm>
          <a:prstGeom prst="rect">
            <a:avLst/>
          </a:prstGeom>
          <a:ln w="0">
            <a:noFill/>
          </a:ln>
        </p:spPr>
      </p:pic>
      <p:sp>
        <p:nvSpPr>
          <p:cNvPr id="583" name="Text Box 10"/>
          <p:cNvSpPr/>
          <p:nvPr/>
        </p:nvSpPr>
        <p:spPr>
          <a:xfrm>
            <a:off x="0" y="3733920"/>
            <a:ext cx="813744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华文隶书"/>
              </a:rPr>
              <a:t>课后练习：</a:t>
            </a:r>
            <a:endParaRPr b="0" lang="en-US" sz="48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华文隶书"/>
              </a:rPr>
              <a:t>以“凡卡的故事”为题，改写这个故事。（结合文章内容）</a:t>
            </a:r>
            <a:endParaRPr b="0" lang="en-US" sz="4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4" descr="F:\素材\爱情\13.gif"/>
          <p:cNvPicPr/>
          <p:nvPr/>
        </p:nvPicPr>
        <p:blipFill>
          <a:blip r:embed="rId1"/>
          <a:stretch/>
        </p:blipFill>
        <p:spPr>
          <a:xfrm>
            <a:off x="0" y="0"/>
            <a:ext cx="8915400" cy="6248520"/>
          </a:xfrm>
          <a:prstGeom prst="rect">
            <a:avLst/>
          </a:prstGeom>
          <a:ln w="0">
            <a:noFill/>
          </a:ln>
        </p:spPr>
      </p:pic>
      <p:sp>
        <p:nvSpPr>
          <p:cNvPr id="586" name="WordArt 5"/>
          <p:cNvSpPr txBox="1"/>
          <p:nvPr/>
        </p:nvSpPr>
        <p:spPr>
          <a:xfrm rot="20866200">
            <a:off x="1004760" y="2133720"/>
            <a:ext cx="653904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宋体"/>
              </a:rPr>
              <a:t>我们下次再会！</a:t>
            </a:r>
            <a:endParaRPr b="0" lang="en-US" sz="8000" spc="1" strike="noStrike">
              <a:ln w="9360">
                <a:solidFill>
                  <a:srgbClr val="ffcc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87" name="Picture 6" descr="复件 3_21774"/>
          <p:cNvPicPr/>
          <p:nvPr/>
        </p:nvPicPr>
        <p:blipFill>
          <a:blip r:embed="rId2"/>
          <a:stretch/>
        </p:blipFill>
        <p:spPr>
          <a:xfrm>
            <a:off x="7724880" y="5851440"/>
            <a:ext cx="14191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8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pic>
          <p:nvPicPr>
            <p:cNvPr id="590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11" descr="FR2027"/>
          <p:cNvPicPr/>
          <p:nvPr/>
        </p:nvPicPr>
        <p:blipFill>
          <a:blip r:embed="rId1"/>
          <a:stretch/>
        </p:blipFill>
        <p:spPr>
          <a:xfrm>
            <a:off x="838080" y="0"/>
            <a:ext cx="7391520" cy="4800600"/>
          </a:xfrm>
          <a:prstGeom prst="rect">
            <a:avLst/>
          </a:prstGeom>
          <a:ln w="0">
            <a:noFill/>
          </a:ln>
        </p:spPr>
      </p:pic>
      <p:sp>
        <p:nvSpPr>
          <p:cNvPr id="546" name="Text Box 12"/>
          <p:cNvSpPr/>
          <p:nvPr/>
        </p:nvSpPr>
        <p:spPr>
          <a:xfrm>
            <a:off x="3352680" y="3151080"/>
            <a:ext cx="2210040" cy="33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契诃夫</a:t>
            </a:r>
            <a:endParaRPr b="0" lang="en-US" sz="48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547" name="WordArt 13"/>
          <p:cNvSpPr txBox="1"/>
          <p:nvPr/>
        </p:nvSpPr>
        <p:spPr>
          <a:xfrm>
            <a:off x="2743200" y="1676520"/>
            <a:ext cx="3313080" cy="17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凡卡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48" name="AutoShape 19"/>
          <p:cNvSpPr/>
          <p:nvPr/>
        </p:nvSpPr>
        <p:spPr>
          <a:xfrm>
            <a:off x="5486400" y="5410080"/>
            <a:ext cx="1371600" cy="1219320"/>
          </a:xfrm>
          <a:prstGeom prst="pie">
            <a:avLst/>
          </a:prstGeom>
          <a:solidFill>
            <a:srgbClr val="ffffcc"/>
          </a:solidFill>
          <a:ln w="9360">
            <a:solidFill>
              <a:srgbClr val="66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ff"/>
                </a:solidFill>
                <a:latin typeface="Times New Roman"/>
              </a:rPr>
              <a:t>回忆</a:t>
            </a:r>
            <a:endParaRPr b="0" lang="en-US" sz="2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549" name="AutoShape 20"/>
          <p:cNvSpPr/>
          <p:nvPr/>
        </p:nvSpPr>
        <p:spPr>
          <a:xfrm>
            <a:off x="3124080" y="5410080"/>
            <a:ext cx="1371600" cy="1219320"/>
          </a:xfrm>
          <a:prstGeom prst="pie">
            <a:avLst/>
          </a:prstGeom>
          <a:solidFill>
            <a:srgbClr val="ffffcc"/>
          </a:solidFill>
          <a:ln w="9360">
            <a:solidFill>
              <a:srgbClr val="66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信</a:t>
            </a:r>
            <a:endParaRPr b="0" lang="en-US" sz="2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550" name="AutoShape 21"/>
          <p:cNvSpPr/>
          <p:nvPr/>
        </p:nvSpPr>
        <p:spPr>
          <a:xfrm>
            <a:off x="914400" y="5410080"/>
            <a:ext cx="1371600" cy="1219320"/>
          </a:xfrm>
          <a:prstGeom prst="pie">
            <a:avLst/>
          </a:prstGeom>
          <a:solidFill>
            <a:srgbClr val="ffffcc"/>
          </a:solidFill>
          <a:ln w="9360">
            <a:solidFill>
              <a:srgbClr val="66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叙述</a:t>
            </a:r>
            <a:endParaRPr b="0" lang="en-US" sz="2800" spc="-1" strike="noStrike">
              <a:solidFill>
                <a:srgbClr val="ff0066"/>
              </a:solidFill>
              <a:latin typeface="Times New Roman"/>
            </a:endParaRPr>
          </a:p>
        </p:txBody>
      </p:sp>
      <p:pic>
        <p:nvPicPr>
          <p:cNvPr id="551" name="Picture 22" descr="F:\素材\按钮\RBLUE.gif"/>
          <p:cNvPicPr/>
          <p:nvPr/>
        </p:nvPicPr>
        <p:blipFill>
          <a:blip r:embed="rId2"/>
          <a:stretch/>
        </p:blipFill>
        <p:spPr>
          <a:xfrm>
            <a:off x="7391520" y="5772240"/>
            <a:ext cx="15238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8" descr="凡卡4"/>
          <p:cNvPicPr/>
          <p:nvPr/>
        </p:nvPicPr>
        <p:blipFill>
          <a:blip r:embed="rId1"/>
          <a:stretch/>
        </p:blipFill>
        <p:spPr>
          <a:xfrm>
            <a:off x="28440" y="0"/>
            <a:ext cx="9115560" cy="685800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17" descr="F:\素材\按钮\RBLUE.gif"/>
          <p:cNvPicPr/>
          <p:nvPr/>
        </p:nvPicPr>
        <p:blipFill>
          <a:blip r:embed="rId2"/>
          <a:stretch/>
        </p:blipFill>
        <p:spPr>
          <a:xfrm>
            <a:off x="7391520" y="5772240"/>
            <a:ext cx="15238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2" descr="FR2009"/>
          <p:cNvPicPr/>
          <p:nvPr/>
        </p:nvPicPr>
        <p:blipFill>
          <a:blip r:embed="rId1"/>
          <a:stretch/>
        </p:blipFill>
        <p:spPr>
          <a:xfrm>
            <a:off x="0" y="0"/>
            <a:ext cx="10210680" cy="7924680"/>
          </a:xfrm>
          <a:prstGeom prst="rect">
            <a:avLst/>
          </a:prstGeom>
          <a:ln w="0">
            <a:noFill/>
          </a:ln>
        </p:spPr>
      </p:pic>
      <p:sp>
        <p:nvSpPr>
          <p:cNvPr id="555" name="Text Box 3"/>
          <p:cNvSpPr/>
          <p:nvPr/>
        </p:nvSpPr>
        <p:spPr>
          <a:xfrm>
            <a:off x="228600" y="2895480"/>
            <a:ext cx="9372600" cy="19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      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2" action="ppaction://hlinksldjump"/>
              </a:rPr>
              <a:t>（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3" action="ppaction://hlinksldjump"/>
              </a:rPr>
              <a:t>1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4" action="ppaction://hlinksldjump"/>
              </a:rPr>
              <a:t>）凡卡为什么给爷爷写信，希望爷爷带他回村子？</a:t>
            </a:r>
            <a:endParaRPr b="0" lang="en-US" sz="2800" spc="-1" strike="noStrike">
              <a:solidFill>
                <a:srgbClr val="ff0066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      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5" action="ppaction://hlinksldjump"/>
              </a:rPr>
              <a:t>（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6" action="ppaction://hlinksldjump"/>
              </a:rPr>
              <a:t>2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7" action="ppaction://hlinksldjump"/>
              </a:rPr>
              <a:t>）凡卡在写信中所回忆到什么？</a:t>
            </a:r>
            <a:endParaRPr b="0" lang="en-US" sz="28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（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3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）凡卡写的这封信，爷爷能收得到吗？为什么？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556" name="Text Box 4"/>
          <p:cNvSpPr/>
          <p:nvPr/>
        </p:nvSpPr>
        <p:spPr>
          <a:xfrm>
            <a:off x="3809880" y="1752480"/>
            <a:ext cx="426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imes New Roman"/>
              </a:rPr>
              <a:t>学习任务</a:t>
            </a:r>
            <a:endParaRPr b="0" lang="en-US" sz="4800" spc="-1" strike="noStrike">
              <a:solidFill>
                <a:srgbClr val="ff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3" descr="p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8" name="Text Box 5"/>
          <p:cNvSpPr/>
          <p:nvPr/>
        </p:nvSpPr>
        <p:spPr>
          <a:xfrm>
            <a:off x="1828800" y="380880"/>
            <a:ext cx="6172200" cy="37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Times New Roman"/>
                <a:ea typeface="华文隶书"/>
              </a:rPr>
              <a:t>              </a:t>
            </a:r>
            <a:endParaRPr b="0" lang="en-US" sz="40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Times New Roman"/>
                <a:ea typeface="华文隶书"/>
              </a:rPr>
              <a:t>学习文中写信的内容</a:t>
            </a:r>
            <a:endParaRPr b="0" lang="en-US" sz="40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节）</a:t>
            </a:r>
            <a:endParaRPr b="0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宋体"/>
              </a:rPr>
              <a:t>讨论：凡卡在信中讲了哪几件事？说明他是个怎样的孩子？</a:t>
            </a:r>
            <a:endParaRPr b="0" lang="en-US" sz="4000" spc="-1" strike="noStrike">
              <a:solidFill>
                <a:srgbClr val="ff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1026" descr="FR2003"/>
          <p:cNvPicPr/>
          <p:nvPr/>
        </p:nvPicPr>
        <p:blipFill>
          <a:blip r:embed="rId1"/>
          <a:stretch/>
        </p:blipFill>
        <p:spPr>
          <a:xfrm>
            <a:off x="468360" y="341280"/>
            <a:ext cx="8305920" cy="6516720"/>
          </a:xfrm>
          <a:prstGeom prst="rect">
            <a:avLst/>
          </a:prstGeom>
          <a:ln w="0">
            <a:noFill/>
          </a:ln>
        </p:spPr>
      </p:pic>
      <p:sp>
        <p:nvSpPr>
          <p:cNvPr id="560" name="Text Box 1028"/>
          <p:cNvSpPr/>
          <p:nvPr/>
        </p:nvSpPr>
        <p:spPr>
          <a:xfrm>
            <a:off x="0" y="228600"/>
            <a:ext cx="822960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ff"/>
                </a:solidFill>
                <a:latin typeface="华文隶书"/>
                <a:ea typeface="华文隶书"/>
              </a:rPr>
              <a:t>1</a:t>
            </a:r>
            <a:r>
              <a:rPr b="1" lang="zh-CN" sz="4400" spc="-1" strike="noStrike">
                <a:solidFill>
                  <a:srgbClr val="cc00ff"/>
                </a:solidFill>
                <a:latin typeface="华文隶书"/>
                <a:ea typeface="华文隶书"/>
              </a:rPr>
              <a:t>、问候爷爷，表明思念。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华文隶书"/>
                <a:ea typeface="华文隶书"/>
              </a:rPr>
              <a:t>2</a:t>
            </a:r>
            <a:r>
              <a:rPr b="1" lang="zh-CN" sz="4400" spc="-1" strike="noStrike">
                <a:solidFill>
                  <a:srgbClr val="ff3300"/>
                </a:solidFill>
                <a:latin typeface="华文隶书"/>
                <a:ea typeface="华文隶书"/>
              </a:rPr>
              <a:t>、</a:t>
            </a:r>
            <a:r>
              <a:rPr b="1" lang="zh-CN" sz="4400" spc="-1" strike="noStrike" u="sng">
                <a:solidFill>
                  <a:srgbClr val="ff3300"/>
                </a:solidFill>
                <a:uFillTx/>
                <a:latin typeface="华文隶书"/>
                <a:ea typeface="华文隶书"/>
              </a:rPr>
              <a:t>痛苦的学徒生活</a:t>
            </a:r>
            <a:r>
              <a:rPr b="1" lang="zh-CN" sz="4400" spc="-1" strike="noStrike">
                <a:solidFill>
                  <a:srgbClr val="ff3300"/>
                </a:solidFill>
                <a:latin typeface="华文隶书"/>
                <a:ea typeface="华文隶书"/>
              </a:rPr>
              <a:t>。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ff"/>
                </a:solidFill>
                <a:latin typeface="华文隶书"/>
                <a:ea typeface="华文隶书"/>
              </a:rPr>
              <a:t>3</a:t>
            </a:r>
            <a:r>
              <a:rPr b="1" lang="zh-CN" sz="4400" spc="-1" strike="noStrike">
                <a:solidFill>
                  <a:srgbClr val="cc00ff"/>
                </a:solidFill>
                <a:latin typeface="华文隶书"/>
                <a:ea typeface="华文隶书"/>
              </a:rPr>
              <a:t>、乞求回家，介绍莫斯科见闻。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ff"/>
                </a:solidFill>
                <a:latin typeface="华文隶书"/>
                <a:ea typeface="华文隶书"/>
              </a:rPr>
              <a:t>4</a:t>
            </a:r>
            <a:r>
              <a:rPr b="1" lang="zh-CN" sz="4400" spc="-1" strike="noStrike">
                <a:solidFill>
                  <a:srgbClr val="cc00ff"/>
                </a:solidFill>
                <a:latin typeface="华文隶书"/>
                <a:ea typeface="华文隶书"/>
              </a:rPr>
              <a:t>、哀求爷爷、问候朋友。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0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3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Picture 3" descr="FR2073"/>
          <p:cNvPicPr/>
          <p:nvPr/>
        </p:nvPicPr>
        <p:blipFill>
          <a:blip r:embed="rId1"/>
          <a:stretch/>
        </p:blipFill>
        <p:spPr>
          <a:xfrm>
            <a:off x="76320" y="76320"/>
            <a:ext cx="8534160" cy="6735600"/>
          </a:xfrm>
          <a:prstGeom prst="rect">
            <a:avLst/>
          </a:prstGeom>
          <a:ln w="0">
            <a:noFill/>
          </a:ln>
        </p:spPr>
      </p:pic>
      <p:sp>
        <p:nvSpPr>
          <p:cNvPr id="562" name="Text Box 4"/>
          <p:cNvSpPr/>
          <p:nvPr/>
        </p:nvSpPr>
        <p:spPr>
          <a:xfrm>
            <a:off x="838080" y="711360"/>
            <a:ext cx="739152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重点学习：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隶书"/>
              </a:rPr>
              <a:t>痛苦的学徒生活</a:t>
            </a:r>
            <a:endParaRPr b="0" lang="en-US" sz="36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宋体"/>
              </a:rPr>
              <a:t>挨打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宋体"/>
              </a:rPr>
              <a:t>——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宋体"/>
              </a:rPr>
              <a:t>揪、拖、揍、戳、打    </a:t>
            </a: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宋体"/>
              </a:rPr>
              <a:t>非</a:t>
            </a:r>
            <a:endParaRPr b="0" lang="en-US" sz="36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宋体"/>
              </a:rPr>
              <a:t>挨饿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宋体"/>
              </a:rPr>
              <a:t>——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宋体"/>
              </a:rPr>
              <a:t>一点儿面包、稀粥       </a:t>
            </a: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宋体"/>
              </a:rPr>
              <a:t> 人</a:t>
            </a:r>
            <a:endParaRPr b="0" lang="en-US" sz="36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宋体"/>
              </a:rPr>
              <a:t>挨冻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宋体"/>
              </a:rPr>
              <a:t>——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宋体"/>
              </a:rPr>
              <a:t>睡在过道里、没有鞋    </a:t>
            </a: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宋体"/>
              </a:rPr>
              <a:t>生</a:t>
            </a:r>
            <a:endParaRPr b="0" lang="en-US" sz="36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宋体"/>
              </a:rPr>
              <a:t>没法睡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宋体"/>
              </a:rPr>
              <a:t>——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宋体"/>
              </a:rPr>
              <a:t>一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宋体"/>
              </a:rPr>
              <a:t>……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宋体"/>
              </a:rPr>
              <a:t>就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宋体"/>
              </a:rPr>
              <a:t>……            </a:t>
            </a: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宋体"/>
              </a:rPr>
              <a:t>活</a:t>
            </a:r>
            <a:endParaRPr b="0" lang="en-US" sz="36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563" name="AutoShape 7"/>
          <p:cNvSpPr/>
          <p:nvPr/>
        </p:nvSpPr>
        <p:spPr>
          <a:xfrm>
            <a:off x="6858000" y="1752480"/>
            <a:ext cx="304920" cy="2590920"/>
          </a:xfrm>
          <a:custGeom>
            <a:avLst/>
            <a:gdLst>
              <a:gd name="textAreaLeft" fmla="*/ 0 w 304920"/>
              <a:gd name="textAreaRight" fmla="*/ 110160 w 3049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66"/>
              </a:solidFill>
              <a:latin typeface="Times New Roman"/>
            </a:endParaRPr>
          </a:p>
        </p:txBody>
      </p:sp>
      <p:pic>
        <p:nvPicPr>
          <p:cNvPr id="564" name="Picture 8" descr="F:\素材\动画\Logo10_041_01.gif"/>
          <p:cNvPicPr/>
          <p:nvPr/>
        </p:nvPicPr>
        <p:blipFill>
          <a:blip r:embed="rId2"/>
          <a:stretch/>
        </p:blipFill>
        <p:spPr>
          <a:xfrm>
            <a:off x="7331040" y="5181480"/>
            <a:ext cx="11984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0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5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5" descr="FR208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6" name="Text Box 6"/>
          <p:cNvSpPr/>
          <p:nvPr/>
        </p:nvSpPr>
        <p:spPr>
          <a:xfrm>
            <a:off x="2057400" y="1736640"/>
            <a:ext cx="6705720" cy="22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Times New Roman"/>
                <a:ea typeface="隶书"/>
              </a:rPr>
              <a:t>学习文中回忆的部分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节）</a:t>
            </a:r>
            <a:endParaRPr b="0" lang="en-US" sz="32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567" name="Text Box 7"/>
          <p:cNvSpPr/>
          <p:nvPr/>
        </p:nvSpPr>
        <p:spPr>
          <a:xfrm>
            <a:off x="2971800" y="3581280"/>
            <a:ext cx="5867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思考讨论：</a:t>
            </a: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凡卡在写信的同时还插进去回忆内容？作者这么写的目的是什么？</a:t>
            </a:r>
            <a:endParaRPr b="0" lang="en-US" sz="4000" spc="-1" strike="noStrike">
              <a:solidFill>
                <a:srgbClr val="ff0066"/>
              </a:solidFill>
              <a:latin typeface="Times New Roman"/>
            </a:endParaRPr>
          </a:p>
        </p:txBody>
      </p:sp>
      <p:pic>
        <p:nvPicPr>
          <p:cNvPr id="568" name="Picture 11" descr="F:\素材\动画\Logo10_041_01.gif"/>
          <p:cNvPicPr/>
          <p:nvPr/>
        </p:nvPicPr>
        <p:blipFill>
          <a:blip r:embed="rId2"/>
          <a:stretch/>
        </p:blipFill>
        <p:spPr>
          <a:xfrm>
            <a:off x="7467480" y="5257800"/>
            <a:ext cx="119880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8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Picture 6" descr="FR2009"/>
          <p:cNvPicPr/>
          <p:nvPr/>
        </p:nvPicPr>
        <p:blipFill>
          <a:blip r:embed="rId1"/>
          <a:stretch/>
        </p:blipFill>
        <p:spPr>
          <a:xfrm>
            <a:off x="-762120" y="0"/>
            <a:ext cx="10211040" cy="7924680"/>
          </a:xfrm>
          <a:prstGeom prst="rect">
            <a:avLst/>
          </a:prstGeom>
          <a:ln w="0">
            <a:noFill/>
          </a:ln>
        </p:spPr>
      </p:pic>
      <p:sp>
        <p:nvSpPr>
          <p:cNvPr id="570" name="Text Box 7"/>
          <p:cNvSpPr/>
          <p:nvPr/>
        </p:nvSpPr>
        <p:spPr>
          <a:xfrm>
            <a:off x="-76320" y="2819520"/>
            <a:ext cx="9677520" cy="29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  <a:ea typeface="华文隶书"/>
              </a:rPr>
              <a:t>  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华文隶书"/>
              </a:rPr>
              <a:t>爷爷守夜      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与痛苦的学徒生活对比</a:t>
            </a:r>
            <a:endParaRPr b="0" lang="en-US" sz="32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华文隶书"/>
              </a:rPr>
              <a:t>  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华文隶书"/>
              </a:rPr>
              <a:t>乡村雪夜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以欢乐反衬凡卡的凄苦</a:t>
            </a:r>
            <a:endParaRPr b="0" lang="en-US" sz="32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华文隶书"/>
              </a:rPr>
              <a:t>和爷爷砍圣诞树   </a:t>
            </a:r>
            <a:endParaRPr b="0" lang="en-US" sz="4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571" name="AutoShape 11"/>
          <p:cNvSpPr/>
          <p:nvPr/>
        </p:nvSpPr>
        <p:spPr>
          <a:xfrm>
            <a:off x="4191120" y="3276720"/>
            <a:ext cx="457200" cy="1981080"/>
          </a:xfrm>
          <a:custGeom>
            <a:avLst/>
            <a:gdLst>
              <a:gd name="textAreaLeft" fmla="*/ 0 w 457200"/>
              <a:gd name="textAreaRight" fmla="*/ 164880 w 45720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66"/>
              </a:solidFill>
              <a:latin typeface="Times New Roman"/>
            </a:endParaRPr>
          </a:p>
        </p:txBody>
      </p:sp>
      <p:pic>
        <p:nvPicPr>
          <p:cNvPr id="572" name="Picture 12" descr="F:\素材\动画\Logo10_041_01.gif"/>
          <p:cNvPicPr/>
          <p:nvPr/>
        </p:nvPicPr>
        <p:blipFill>
          <a:blip r:embed="rId2"/>
          <a:stretch/>
        </p:blipFill>
        <p:spPr>
          <a:xfrm>
            <a:off x="6934320" y="838080"/>
            <a:ext cx="11984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08:41:10Z</dcterms:created>
  <dc:creator>guyixiao</dc:creator>
  <dc:description/>
  <dc:language>en-US</dc:language>
  <cp:lastModifiedBy>a</cp:lastModifiedBy>
  <dcterms:modified xsi:type="dcterms:W3CDTF">2015-03-16T08:42:56Z</dcterms:modified>
  <cp:revision>31</cp:revision>
  <dc:subject/>
  <dc:title>PowerPoint 演示文稿</dc:title>
</cp:coreProperties>
</file>