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F36-EF79-4456-9F2C-A8F8F297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4EC-6F82-41CA-AF1C-5165637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128F9-C9D9-4D6D-AAA9-E5C52472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635EB-92AE-4040-AF09-09B021BE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EC5B7-9E11-4E23-8270-218FDA2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96FCA-FDE8-40FB-B439-70BE9F1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2A417-3AE6-4CCD-AA15-519BD5E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02E0A-0B9A-4C0E-975D-B85BD3EF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ED4B8-FCD8-4A01-9DCE-51343B1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EEB5A-C56F-4FDD-8AEC-DDEEC737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FCF8E-5655-411B-8B74-8A50CFEB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C2118-1243-465D-B4A1-6F4AE81D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732-2312-4863-BFCF-298A5FCC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948E3-8616-4B32-A480-9E1B77F0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1FA28-9720-4C08-B3C8-B89DA2D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765F9-D2CF-4C66-8A31-7CF7D091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D4059-C8E8-450C-A4F4-B75486BC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10574-E5E1-4B3D-8C7D-03C7EF5A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5C5DD-3B46-4654-8803-A5F8F0C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0CFC5-7966-45BE-B017-E6E8447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0B4A4-8785-48BF-AE62-9A48841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2A9FD-89FD-4A67-92B6-BE19BFF1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3FC75-DA42-4EE8-9A7C-4D699D5F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107-B6BE-4DD1-A6D6-CE679263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3B6B2-0167-43E3-A3ED-2413F9EF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8B04E-762A-44B8-A57A-E81A483E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8263C-D80C-4C1C-A04E-98579EE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A7313-8987-45AC-B2A4-E958287B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D92D0-8CD8-47D8-BB28-D85093CF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A2FFF-DDDD-412D-848D-2398A732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526A0-BCC3-4B13-859A-521FADC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74C46-659D-43EC-881B-528078B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6C433-3129-45FA-A355-451B129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899BF-DA12-4409-BC7F-40541210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C356-8DC2-4641-992D-007FCA3A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B1F61-0358-413F-B02E-394EF025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731B5-DD7F-41FB-B3A1-39A2E2C2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07D0D-0C08-459E-A9D3-E38AF5E2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E6575-BDB1-451D-A66F-5757FA82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B2C04-2072-4C4D-83E4-A755596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D1EDE-A4E7-4612-9A74-557FC50B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F701A-DFA1-4FEB-BC3C-88FC710E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7B239-438E-4AC0-955F-F2C6B401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4C6BA-7015-4C96-A2F8-2927FB4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6F0E8-C7C5-4EFF-9380-2DE87F75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5C9F-C749-431E-B620-B055F3A6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1BDD5-EB48-4EB5-8815-8B24C79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34B3A-6E95-4689-A585-FB1C897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11C6C-FDF6-40C9-8B80-D222877D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165E4-1065-4656-8EEF-4BE007FA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166BC-0A0C-442F-B590-43912AFA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F2ED7-ABE8-4AC0-97EB-44CEBAF4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F7CE5-E1BD-4FA5-91A3-239895B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A155D-CA9E-4A2A-AC46-9E808DF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75310-BB8A-4093-B4C6-1F98DD98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5C4F3-0101-4E09-AFCF-899E6E2D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C5F9-67F9-4818-B106-B0F2FBE5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8D757-52B8-4753-AD35-329DD51C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2810A-3FD4-4FB2-B4D2-98FA6C1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22BCB-BA3F-4020-AB29-3B58138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8CD06-A64D-448D-9B1F-E1E05B9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3B61F-6875-44B6-9928-F6A051E5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FCB14-881E-43D4-88FB-D3C01C4B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E32B5-C19F-467C-9C7C-14FEB3F7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5265-C8F0-4D1B-A78B-CBDA0962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4C81-ED08-4904-B4FC-93D3D4E4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4744-AF38-4A0E-B4D6-AA4588D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63AC-1BB9-4D16-918A-B715B4A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1AC-5A58-4416-AFC8-9B39AD1A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009B-DACF-4309-8D8D-7DA5A263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E162-5356-4718-8CE8-B7AB808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7F75-F241-4C99-AF7C-9F5B737D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1BA4-ACCC-4286-9266-268649B3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3FD4-CDFF-44ED-9234-5904729E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2360-E833-4725-8A69-CDDE4AD8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A78A-1B80-4926-AE78-DD900DD5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B5C9-91D4-494E-AEA8-82F74DB9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2245-45C7-484B-941A-2448C283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F562-A198-43A5-A06A-1162EE98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5BD-3FC0-4FA9-A6DA-C50A220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5BF4-CCF0-443F-AFFE-C88C131B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1CBD-D138-499E-91FB-C3A78C6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C54F-43A9-4BAC-AF5F-4F1892C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B4CB-D410-4E21-828E-6DB81DE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9CED-CCA3-402C-BA28-EE4BB3D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9A55-8ABE-4CE8-A1F8-F132A2E3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1E3D-D138-4CA4-8F1A-90448FFE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497C-20B6-4330-BEF4-211326B5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8FED-1A34-477B-84BF-A1933F8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C4CE-02EB-42B6-B359-337B79AD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AAA-4A03-47BF-BE50-76F00EA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9882-526C-43F5-B300-0A6E267F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609D-9903-42F5-BCAC-ECBE6A81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6F459-EB2D-4AF1-960C-62544A1D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81791-1BAF-480A-91D1-69103C84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1E74-78D9-477B-BFA4-F0780B2F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E92BC-AE09-47C9-AB4A-284E1EE2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B48A-22CE-46B8-9F1C-B218CC55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44BD-C6FF-4B75-8E2D-BA7D6784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C444-E076-4B2A-A499-85853583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74EC-0D04-432A-A674-AED18B6C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CD9-1EE9-4F6E-B70E-F6B03AD3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894A-2ABA-4437-913B-DF9ACA43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7CC84-1579-43BC-A97F-90B2A24D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5610-59AA-4A70-A377-BA235D6B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7FC3C-8989-4111-9610-10CA3D23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2690-F1AD-4516-A49F-874A90E4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7BD95-C95A-4FB7-BC2F-B626334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4FC5-DDAB-44E5-9065-DC0B4652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C09B-6E3D-4120-84E8-4205238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3B76-EC55-4754-BDDE-FF19BF53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ABA84-19B3-46D6-A9A7-81231098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9B6-2A80-4887-9895-A00F0C5C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5FD3-B4A2-445F-8AC7-F0FEF3D5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5B237-7252-4D8C-85CA-E77DB408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6D41-53EC-4C73-9720-44A0F542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6B403-4BE1-4AD7-BF8A-8B232457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710E-3F31-4B68-B1F7-9B9647BF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71B4-EF32-4F04-A9E1-4DD498A0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56E34-B030-4CF8-9CB9-56A68946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6E82A-F8E0-40A1-84F5-96EE130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30EB-3552-4D90-A043-AE0DEDA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D4522-191F-4A75-9510-E8803F7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984-A9CE-4530-89D8-505C115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19B0-BB53-4FC4-81EC-5C62E3DD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6D67-0DFE-4E01-BB58-A3207669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E2C5-D091-4746-805D-3D7013F2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E98B-1F3F-415C-9C67-EDE88D2D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77DA-3931-46F3-933A-C0786CE9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4485-50F5-4BAA-B063-0E982EE2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79F09-A793-4793-8187-E2920189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D985-7DDF-4585-9153-A6E3AF68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E7E8F-1176-4395-ACFE-931C844B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2E47C-DA3E-4FAA-A740-A7A9A1A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33F-33AD-45A6-B21F-5F7D2A2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1546-E05A-48CE-9566-7B995212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43499-0F7C-4BA8-8875-71F82BF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483D-92A5-455F-BB4F-C1E800E0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D09B-B791-487C-A371-79947DDA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EEB16-78D4-4F3D-A9A3-FA5A2CED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C2021-112E-4D43-BEE8-42658DB6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E27BE-9A16-44D3-A306-D126E73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4D44-977E-416C-BD40-A7DF514E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87E11-DC89-41E7-9895-A02FE8B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EC6A-825B-475E-BE33-BA5AAC18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956-370D-4F0C-BEF8-8C31BB5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ED680-9B2E-4F49-92AD-31B510B7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1B05D-8CCB-4D74-AD7D-39EC52E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B0063-421B-4670-B48C-9621C93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58BC0-1413-444A-9AD6-C2F6907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C162-CCD9-4D42-B30E-29E7A06E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F915A-C049-437E-A517-4F168E0D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87DB6-BE31-40EA-80CC-2D98647D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DB55B-025D-447B-8871-84FA98D7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2D94E-99D1-430B-9EA6-F173CCE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FA98D-8281-428A-8DBE-DCB75530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8CD-1E89-4889-BFE8-4E8847B13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EA1-8375-4F22-919E-FC04C9BF43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B33-F541-4852-A2F4-1709793D33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E823-DB69-4126-A030-96166366A1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E0A-04D8-49DD-BF3F-24BCDB48E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32B7-85A6-48C9-8E3E-211CAAAEA3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B2D-3668-47A3-A4D3-1A641D9C97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0678-CB2D-4CE7-AE45-984E629286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AE6D-E9AE-47A0-B3B6-24DAA21A49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872-B35D-4CDA-AF46-817E8AA38F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7D3-AE71-452B-A36F-C58ADEDEF8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184E-3E5B-4B94-BDE2-F24A451B76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1A7-FB2C-4CB4-ACAD-42CEECD57C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B59C-5B12-451C-B72B-1FCCB404F4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559-8597-420E-B364-F1E3CA8F74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234-0C69-4BFE-BA86-7089DDAA44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D29-640D-4254-B909-A44255C963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47CB-F718-4673-8EBC-AAE20D1D83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C69-C3A0-4671-9ECC-9F04B529E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F4AA-DB5A-4EA4-AB2C-A9F41401D5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E8F4-CCA8-40CC-A9EA-FC1B902F3A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8BCC-F761-4B9A-8929-A5849339B0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16BD-38F5-4647-88AB-F850F7C684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702A-A262-4A46-A96D-F1635E34D0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C0DD-53F6-4CFB-AAE3-EECFB7DD1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6" descr=""/>
          <p:cNvPicPr/>
          <p:nvPr/>
        </p:nvPicPr>
        <p:blipFill>
          <a:blip r:embed="rId2"/>
          <a:stretch/>
        </p:blipFill>
        <p:spPr>
          <a:xfrm>
            <a:off x="1554120" y="208080"/>
            <a:ext cx="5462640" cy="1401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父亲的菜园插图"/>
          <p:cNvPicPr/>
          <p:nvPr/>
        </p:nvPicPr>
        <p:blipFill>
          <a:blip r:embed="rId3"/>
          <a:stretch/>
        </p:blipFill>
        <p:spPr>
          <a:xfrm>
            <a:off x="2340000" y="1268280"/>
            <a:ext cx="4368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0"/>
            <a:ext cx="558000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黑体"/>
                <a:ea typeface="黑体"/>
              </a:rPr>
              <a:t>生 字 学 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5"/>
          <p:cNvSpPr/>
          <p:nvPr/>
        </p:nvSpPr>
        <p:spPr>
          <a:xfrm>
            <a:off x="1074960" y="155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6"/>
          <p:cNvSpPr/>
          <p:nvPr/>
        </p:nvSpPr>
        <p:spPr>
          <a:xfrm>
            <a:off x="3667320" y="1628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7"/>
          <p:cNvSpPr/>
          <p:nvPr/>
        </p:nvSpPr>
        <p:spPr>
          <a:xfrm>
            <a:off x="932040" y="3860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8"/>
          <p:cNvSpPr/>
          <p:nvPr/>
        </p:nvSpPr>
        <p:spPr>
          <a:xfrm>
            <a:off x="6259680" y="155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9"/>
          <p:cNvSpPr/>
          <p:nvPr/>
        </p:nvSpPr>
        <p:spPr>
          <a:xfrm>
            <a:off x="3596040" y="39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0"/>
          <p:cNvSpPr/>
          <p:nvPr/>
        </p:nvSpPr>
        <p:spPr>
          <a:xfrm>
            <a:off x="6332760" y="3860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5"/>
          <p:cNvSpPr/>
          <p:nvPr/>
        </p:nvSpPr>
        <p:spPr>
          <a:xfrm>
            <a:off x="0" y="0"/>
            <a:ext cx="6443640" cy="916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自学课文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0" y="98100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8000" spc="-1" strike="noStrike">
                <a:solidFill>
                  <a:srgbClr val="663300"/>
                </a:solidFill>
                <a:latin typeface="宋体"/>
              </a:rPr>
              <a:t>1</a:t>
            </a:r>
            <a:r>
              <a:rPr b="1" lang="zh-CN" sz="8000" spc="-1" strike="noStrike">
                <a:solidFill>
                  <a:srgbClr val="663300"/>
                </a:solidFill>
                <a:latin typeface="Times New Roman"/>
              </a:rPr>
              <a:t>、父亲是在什么情况下决定开垦菜园的？他又是怎样开垦菜园的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8800" spc="-1" strike="noStrike">
                <a:solidFill>
                  <a:srgbClr val="663300"/>
                </a:solidFill>
                <a:latin typeface="Times New Roman"/>
              </a:rPr>
              <a:t>、勾画出描写父亲言行的词句，想想从这些词句里，你感受到了什么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齐读最后一个自然段，深入领会课文内容所表达的思想</a:t>
            </a:r>
            <a:r>
              <a:rPr b="1" lang="en-US" sz="8800" spc="-1" strike="noStrike">
                <a:solidFill>
                  <a:srgbClr val="ff3300"/>
                </a:solidFill>
                <a:latin typeface="宋体"/>
              </a:rPr>
              <a:t>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7" descr="父亲的菜园插图"/>
          <p:cNvPicPr/>
          <p:nvPr/>
        </p:nvPicPr>
        <p:blipFill>
          <a:blip r:embed="rId1"/>
          <a:stretch/>
        </p:blipFill>
        <p:spPr>
          <a:xfrm>
            <a:off x="4284720" y="836640"/>
            <a:ext cx="4368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33:03Z</dcterms:created>
  <dc:creator>lichengquan</dc:creator>
  <dc:description/>
  <dc:language>en-US</dc:language>
  <cp:lastModifiedBy>a</cp:lastModifiedBy>
  <dcterms:modified xsi:type="dcterms:W3CDTF">2015-03-18T05:39:06Z</dcterms:modified>
  <cp:revision>12</cp:revision>
  <dc:subject/>
  <dc:title>PowerPoint 演示文稿</dc:title>
</cp:coreProperties>
</file>