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7EB67-6CB6-4D18-87AD-D2D3C4C9D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E2923-46E2-400E-9839-5BA47D341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596761-AE62-4E64-BC16-D7AB34747C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C78873-99FA-47EF-950C-45B4F21673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37430A-0C04-407D-8E1B-27787EF7A4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9777CC-F6A6-463D-B3C1-BD1D68DF0B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5335F4-F6BB-4AFB-963A-C5F2C3E4D4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A5E1C4-BF83-4249-A6D5-F617C185A6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3323EF-401E-4946-B6B7-8FBB633DF0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860D51-C869-4B35-B6EE-00A8CA7FE1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C7F19A-F533-4F1B-B634-C3A0DA1CBE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B86BF5C-8C56-41C6-8B71-BA8B314C85F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DBA7E-9D98-42FC-93C4-8D0190DBC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96EE42-05D6-4018-8C5E-3115D22595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70E5CF-1B72-4E57-A5D2-0B7397DD27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8EA8CB-DE8A-4BD3-97B2-D9EDF50771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C30318-5C39-425C-91C0-F1843FB24A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30B3FD-3E09-4423-BCDA-AD5CA7F67D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C7FB0A-AA62-43D0-B60E-D87544A63B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59019E-BFBF-4061-A495-A64B56665C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5D7522-E700-4366-BA24-0EE38F0311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E8EF04-F96E-4254-886A-CF45AC44DB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37A5ED9-5C5F-4827-B256-974C212153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AC378-36A0-4D81-AF53-BE2103487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FB0AE4E-C66E-474B-AA98-90B9E6DDD5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6FE0CD-D9F1-4235-AE4A-739F9C4CA4E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9E5BDF-DF35-4178-953B-13EED7EA84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71A992-A5D5-426C-A73A-72A84D39AF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E8FF5A-1374-41FA-8E7B-AC0D6434B0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B27876-CDC6-439D-90F5-EAF11BD10F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0148C1-F826-4F28-8D78-0FBEAB0A8C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E633E6-2A66-44A5-806C-0A673A4063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1C70EE-19A3-441F-855A-91CC22017F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C1A9A6-1151-4AE2-B146-BDA22AB9C1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EB13CB-878F-4EAB-B5A1-26636A0FEA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EDBE58-8BA2-449E-88AE-9157F55D7C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823D0E-C122-45BC-86E5-B1EF1E548F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F5D3615-A224-42A5-8DE7-7974434026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6206E0A-AE28-47DC-9A09-AFACA3F8D72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443D55-EAE2-4519-9781-FDAEE144DE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64312D-3B9A-4C67-9CC6-8782947B92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13ABD2-ED37-4A2C-B625-561682408B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8D80B2-AA2B-4531-978D-58DD957AD7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818E28-9EE8-4ECA-AD63-02596B606E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A44640-7CE6-4EC5-8FF4-089C8502B7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44E31-BA7C-466F-A24E-AB8FB9BBA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94DA7C-4660-47C6-ADB0-BE78211DF5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52EF7D-3BEA-4A70-8DE6-F754EFABD0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E86748-73AC-4151-A748-EC54C5CF73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7575B96-A7A0-4C15-B62E-14BC7A9C4D5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371DC93-098C-41A2-BB5F-95D43A02460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1136561-3F24-4BE4-AE8B-4CECA423BF4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473FD36-4750-4A7D-8A9C-A1892709C42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A08ABB3-34B6-43FE-9680-372BD83EDB8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2DB5E29-46F2-49A0-BD4E-7781850E763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BEEE8C7-1608-424A-8B65-AEE48E7D10A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69820-AEC3-4BC7-9F4F-700BF805A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4A6DA6-63C9-4D90-992E-CA41857983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EC12D4-F777-4AF6-BDFB-85C68632CA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2DE2FC-F9C4-47EE-B12C-FEC0D1580B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55545C-5F7E-4F22-9269-3264ECB357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6AAC88-7DF0-4328-82DA-A464758A6C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44CCA3C-738A-4366-A0C3-11664120708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F0C0149-D4F9-4E3B-9F9B-728FC0A84A7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6EB28C9-A020-42A4-83D0-7B4E5CE493E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8028EE-3BCD-4B6E-87CA-06D99C32FE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9E66D63-5EC0-4275-8ED8-805CB150B9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86853-D729-440C-BAAF-121784303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3EE8082-DE3D-4F1C-ABF5-79BCB343B39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862FF90-0101-4CF3-A774-0651EB6908E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7B699F9-87FB-4AE9-9254-D144176C99B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243D68-F4ED-4CF2-A1A1-AFFC1C95F5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3350BF-39AA-4FA4-9B06-7757E761C27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0BC205A-9BD4-4B8C-A968-E234B2845E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DDE9BA2-E9B8-4534-A210-C49DBE52B39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DB2218C-D57C-418B-BE51-29998ABF0F4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FDC20A4-C3DF-4B17-A84F-CBCFC98D6BD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A62FD-1F91-4639-AAB8-3B227E51A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136B5-3205-44CB-AAA8-EC522D2DB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5C4F5-3E82-4806-ADB7-4D5B5F2FF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AC294-0F02-411F-99D5-706438F30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6E491-8B9B-4249-96E0-1567A6C53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8BDF4-C698-4819-8F17-B692F34A4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DD3A8-4A31-40FC-8AAC-71176A9B5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85E47E-DC30-46FD-953A-448107A06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8859C-9680-4DB5-9ECD-4FB327D93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C7B4ED-889C-49E5-A84F-64B2E8F631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2A31C0-0723-460C-8235-7CCEBE518D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6C6830-0B1D-4399-BCB0-641825FF4A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B35010-5D5C-4249-8135-84604ECB89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6F8338-EA9A-43BB-A126-58A57CD0C7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6A133-5514-4AF4-AD5E-817734048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9747B7-0432-49E1-82E3-0ADBB06F08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9AF436-1315-4C62-B227-8150FBDFE4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50D410-37F1-4935-ADAA-1516707E58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EDBD50-BB91-4846-BBB9-CE6A2E612D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05EF37-B1D9-4BB5-BF05-F2ECD96399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4CCCDD-5D14-41A9-8034-06B1861D56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7B1DC0-0727-4880-8B17-884006F9EC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9CEE96-BC38-4DBE-8385-47142A274F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47EBE4-4978-43CF-A81C-3F08999B1F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FF6D26-C9C4-4184-8B39-95C5E13659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1CB24-E76E-465C-8AB7-2CCC2CF1B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1D2948-F189-4E8D-864D-E5F1ADE8F9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716425-7C22-4D03-88BA-B88630D263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F86B1F-ECF7-4E8F-B3FD-F2C6612D7F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4B564-6239-4E00-B2DD-71932EA4DC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7DA8AA-2C70-479A-A506-F05DE5C42E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F26E2D-4BC2-48BA-AF3E-E3AFB8EF0D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B5F49B-161D-421A-A987-CCB61421B2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0C59F7-29AF-4A61-AA7B-7C110A6D3E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791FDA-26B4-4394-935E-7731BA7766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A88555-BA5F-45DF-84C0-EB64E0CED1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817E6-4B9B-4431-BC68-67D4FE164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A47054-FA58-4EDC-AF51-376124C9F0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3E1907-198B-4D24-84CB-143D0E0BB5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3304F4-A3FA-4CAB-A661-A0FFEB02A4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2AE977-3AB2-472F-B07E-DD35BDCE45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45493B-6C38-414D-BC3D-72DBDA0ED2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E8BA3A-651A-4D37-9DDF-85BF9A1AB4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94F7DA-1234-4CFF-9D64-679E4D4D31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9758BD-8641-407D-93A7-E37703CC8F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42B6B3-4023-48ED-B581-24D577A095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AE4090-291F-4A84-ABA1-946BD83CAE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B1498-1C10-4094-8E35-984D4E7D7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C6744E-40B4-4DEA-B40B-58242B2741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AD34C4-1AD3-454A-BB9B-E5F1C2F52A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FE9CF3-BAF6-4E4A-B28E-839E5BD5C5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B0B3A3-D3C8-44DF-AFC9-078952445F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15D639-83DA-40C1-8457-7230BA1313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B4C902-D765-4585-93E9-58286C835A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118904-7255-4073-84B4-D6B083636D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D0EEDA-6820-4A44-B6A4-A9A45B3EF5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752433-8216-48E9-92DA-84B7440EC4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BCF781-AA1B-4A40-A170-C1E26A08CE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9A9D9-4C3D-4908-9DD0-6DA720AE4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1E7373-8A0C-4307-958C-A416F694CA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53B5C6-E6F9-4F41-BCDD-65851472E4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4FCF33-4DB9-4069-9620-A41E5406AE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91E9BB-0F15-4E93-ADD6-00C5E4B6CE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158899-055F-43CA-AE88-70A69881B1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DCB229-9481-4A35-B57A-1B6EC4B9E1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D2D3A9-7F8A-4C6E-9F2F-840E2A14AC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A78402-6C2A-42E8-874D-B68B6030F5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B9E15B-125F-4582-A433-5E8258F35F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2302F5-146F-4E26-BC6A-41F12EE85D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6A2F7-403B-45D0-957A-F41AEA803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0D9DE3-BA24-4395-B23E-0CFAD54D53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133466-481A-4A57-BA75-9206A225D8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154500-CFEA-4739-AFA2-067B76A0ED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F3DD04-1E1A-4088-AC26-C80F030C46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F71855-A9F8-49E9-8940-4AA5AE094D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513D22-03F9-4625-9418-52A0EEB1D6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BA4CC9-4D04-493F-9198-96D3A52243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11F3DD-ADB2-4E9F-B952-04577DCB49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0A5459-9259-457C-BA30-71AEC46977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7F75F9-1129-4369-A09C-823C0F7F68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22DF1-C605-4A38-99A5-A5C69FA66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909999-99D7-4FD9-9EA1-C7BE01469C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785189-5A03-4E87-82F4-71C2E6A9F8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B95E5F-F3D6-4E18-9F25-9F5ED1B411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06D873-48A7-4784-ADCF-6DA3A2BF08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36556E-F131-4CBC-ACD7-26871C5429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B9E568-CA12-4B6A-881C-EFD438C5B2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EA7A4D-8159-4F0F-A56F-5914D72AAA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3CC9A1-43E4-4D70-A5B1-D82769721E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52A5E2-D363-4683-96F4-639C80B46C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756694-445E-41D1-8437-A25A41B847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24D5-A19E-4436-B5F2-6594BAE4E2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2"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A4B7-2766-4BF6-8254-BDB1104BC598}"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73"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AFE1-0855-44BA-BC9A-0EF8151D701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D5F7-3E01-4768-8F56-F4B877E0B66E}"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1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330E-B3C3-4F67-B702-723DA855DAA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F3CB-15FD-4F13-84A6-B4E21E628784}"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5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5BCD-1260-4F4A-8CD4-520E5B16D3A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5"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FFB0-A7F0-4AEF-B8B7-6E53BB0286A7}"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96"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E761-4F91-4812-A129-A293450618F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6"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A773-60C8-4F96-981D-6983E74F9980}"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537"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146E-08C9-4DAD-9F56-DA3032165B2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97C4-86A3-4179-9CCD-EEBA26711768}"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3E7F-7252-45E5-80F6-68D4ED611CE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Box 6"/>
          <p:cNvSpPr/>
          <p:nvPr/>
        </p:nvSpPr>
        <p:spPr>
          <a:xfrm flipV="1" rot="10800000">
            <a:off x="5789520" y="5713560"/>
            <a:ext cx="289728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4D1F-B45B-45B1-9A15-7DD2A8BB4C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CFF7-9B99-4F4B-9DE3-F1F1C43578BF}"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12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BD91-B7CC-497B-88D4-3B68678B8FD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A1EB-C8AC-4FEE-ABD8-993CB8360E6F}"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16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487C-D1F6-4FB8-9DF1-AB153527C73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5B03-04E4-40EA-80AE-5F5BD059A645}"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20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A8FD-8DA6-444C-AD54-0EF93F5F257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E308-A11D-4968-9E25-35C8881E8748}"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25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BA32-5EE4-4A60-A467-F80382931C2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944B-10A4-4CCA-B9AA-D0D2F827758B}"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291"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3E56-A1F7-42E1-AE71-47A08DE8CEB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71DC-00FA-4FCD-AA27-165CB78F7B37}"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32"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90F9-4E81-41D1-AD1F-F9BADD31EC4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Text Box 13"/>
          <p:cNvSpPr/>
          <p:nvPr/>
        </p:nvSpPr>
        <p:spPr>
          <a:xfrm>
            <a:off x="2194920" y="5877000"/>
            <a:ext cx="456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ahoma"/>
                <a:ea typeface="Dotum"/>
              </a:rPr>
              <a:t>Happy Father’s Day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3143160" y="1873080"/>
            <a:ext cx="4943520" cy="276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WordArt 13"/>
          <p:cNvSpPr txBox="1"/>
          <p:nvPr/>
        </p:nvSpPr>
        <p:spPr>
          <a:xfrm>
            <a:off x="3762360" y="907920"/>
            <a:ext cx="3905280" cy="52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blipFill rotWithShape="0">
                  <a:blip r:embed="rId1"/>
                  <a:srcRect/>
                  <a:tile tx="0" ty="0" sx="100000" sy="100000" algn="ctr"/>
                </a:blipFill>
                <a:effectLst>
                  <a:outerShdw dist="153753" dir="2700000" blurRad="0" rotWithShape="0">
                    <a:srgbClr val="c7dfd3">
                      <a:alpha val="80000"/>
                    </a:srgbClr>
                  </a:outerShdw>
                </a:effectLst>
                <a:latin typeface="Arial"/>
              </a:rPr>
              <a:t>Happy Father’s Day !</a:t>
            </a:r>
            <a:endParaRPr b="0" lang="en-US" sz="1800" spc="1" strike="noStrike">
              <a:ln w="9360">
                <a:solidFill>
                  <a:srgbClr val="808080"/>
                </a:solidFill>
                <a:miter/>
              </a:ln>
              <a:blipFill rotWithShape="0">
                <a:blip r:embed="rId2"/>
                <a:srcRect/>
                <a:tile tx="0" ty="0" sx="100000" sy="100000" algn="ctr"/>
              </a:blipFill>
              <a:effectLst>
                <a:outerShdw dist="153753" dir="2700000" blurRad="0" rotWithShape="0">
                  <a:srgbClr val="c7dfd3">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78" name="Group 2"/>
          <p:cNvGrpSpPr/>
          <p:nvPr/>
        </p:nvGrpSpPr>
        <p:grpSpPr>
          <a:xfrm>
            <a:off x="0" y="0"/>
            <a:ext cx="8466120" cy="6858000"/>
            <a:chOff x="0" y="0"/>
            <a:chExt cx="8466120" cy="6858000"/>
          </a:xfrm>
        </p:grpSpPr>
        <p:sp>
          <p:nvSpPr>
            <p:cNvPr id="57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580"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581"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07:43Z</dcterms:created>
  <dc:creator>FiSh</dc:creator>
  <dc:description/>
  <dc:language>en-US</dc:language>
  <cp:lastModifiedBy>a</cp:lastModifiedBy>
  <dcterms:modified xsi:type="dcterms:W3CDTF">2015-03-18T05:49:19Z</dcterms:modified>
  <cp:revision>7</cp:revision>
  <dc:subject/>
  <dc:title>幻灯片 1</dc:title>
</cp:coreProperties>
</file>