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160-A085-4A79-93EF-607A2E08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293-8A6A-47AB-BDCB-5C8068F4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62B90-4B32-4BED-9C55-A45F417E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BB959-697F-4B58-A9EE-7B895AA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142C7-246F-4475-A19C-5C096060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CE351-791E-4964-B5F3-F8393C8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50128-E87C-4333-A2AA-7D90285E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0C0AB-8556-47D3-8124-030D113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F5C36-C02B-413B-B4D1-ADC221E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019F1-D49F-45C2-A351-4EF25A14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7D4D5-3EBA-4C57-86B6-EE8DB07F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3D7E5-0CED-4EFD-9928-ADCAFAD8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F57-77AB-4C79-BB87-AC7C92C8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B4A26-3C69-4683-8AB9-369BBF3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843ED-1C31-4362-A464-445A0AFD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F88D8-BCE2-423D-955D-E399A1A3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4DD6E-06E9-4E87-9B43-E71A9EFA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98E74-F2F7-4994-BC32-9B32A032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1E44E-BF3A-4B92-A8FA-B17AACB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F102B-8FFF-44E9-96C5-5A1CF71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AEEB4-37CB-4F6A-9FC4-DB64151B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CD7C4-4BA1-48AD-A9E8-B66C7B1E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E21FA-DB25-4BCE-8D88-3BFD1082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291-65D0-4FB5-8D84-971D1BDF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C96F0-A169-4591-9408-BAADE66D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43C4B-9AD5-440C-A6E3-D5AEC471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64713-A626-4E19-996B-B9F3EBA4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0F825-C8C5-4397-9E03-6314AFFD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F6A87-051F-4B17-A600-A2180083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70E76-E1F1-48F7-97AB-0642B1C8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D89EA-71CC-4031-8164-3B9050A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1F94C-F758-4FF3-ACC7-317BEA6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85D7E-1B61-482F-A0D9-AF8FA59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D7A03-F63D-4E4D-8CE1-66BA850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6D7C-4F88-4138-9A73-7CA3EB52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79F45-6EE8-42C7-A9D6-8399D9B3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2D980-3D95-41B9-9075-B49E21CD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6CEB5-A631-492F-92C2-D866CE39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203E2-E696-4464-BAC2-45CE72B8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043CF-5612-43E7-A100-67F0CFC0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DCAA2-258E-40DA-B150-09C82920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C054F-9CB2-4F27-A868-30BE1347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DE051-F14F-4719-BE74-AC67FD5C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CCEBB-9496-45CA-AF3E-1C191BC0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5DA46-F3D6-4518-9483-41264F24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9A5E-64A9-4C58-8F20-195103EE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D9BB1-0804-4BCA-BCBD-E49B126D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B259C-EF5B-49CC-9E0F-5E6D627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E6BAD-D0D4-46D8-B371-D7D9216A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8C10F-7D62-471C-844F-DFDBD6CA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6B91E-EB0E-461E-9F61-3AC59628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47B03-4F62-42E7-B396-896DE36E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294F6-4BDA-4E1E-806D-4DED693A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14153-EB9A-4676-8DB5-4CC1AB9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74C5C-AFC8-4509-BBF8-1C024AFA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82DDD-A155-4C0B-AF1C-538BD3FA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F654-2DC2-43F5-B632-B729BA11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AC373-F694-4625-B7D0-A039AF6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D933C-07D6-459B-90D4-56B1EA5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4BA33-2D79-412D-8774-276D6F4B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5559E-CCEB-4040-87A3-D6ED1EAA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6CA8B-6950-4576-957A-8C4E329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B2F46-3544-4875-8BE9-309D53BF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913DF-7D9B-4E0A-A196-5093FE2A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A7B6E-CE62-4F96-8934-64BB7DD4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DE952-1A92-4D7C-81EF-211AB69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CA8A9-6C18-4420-BC81-DA4D63BA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EA9-3C84-44D3-B299-3FF73656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FB1AC-5105-4E69-A540-E0463A4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DB215-FA84-41B7-A9C4-D64EEDC3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50F05-DC25-4FD4-BCC3-7A233C9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7737B-F017-4B17-9EC7-2ECD5A2B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9BF8D-AA80-4DED-B1B2-D399D78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FACF5-51CA-4692-9BB5-B960894A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FC29E-B3E8-4C3A-A4E2-4D6571DA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52C6D-AF18-4D90-8951-18D1BF6E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24C85-FE01-4D26-A8ED-62E6FA51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11B4-002A-405D-BA96-6E7E93B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5C8C-3824-4D28-A9A4-691B5D49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FF7B-5572-4FEA-A147-8C8BBF7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727-27E5-4BFE-8774-F90BC20E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CE4F-F2E2-4429-9D5A-8F3BFAE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86E4-AE25-4E60-8549-56F582A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D4BC-AC50-442A-B6A0-CB9E65D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9E16-5CE0-48DA-ACE1-0FAF408E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B656-03B5-4A39-A2A3-CA62FED0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3BF8-141A-4CB1-9AD2-0D565206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1143-11CF-4475-8EBC-97C5A746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515C-9A10-4D13-ABED-3B98651F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79E2-2FE4-4314-A7A1-2076CA23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5AE8-1DA7-41A9-98AB-5F99AD9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256-1AA5-4C70-BF24-163F74A3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6CCB-28AE-45FC-BD29-DBF9BFE4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C49E-93B8-48FF-AA1A-A7AB23FC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6A96-C48F-476F-A6C1-49166A38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EDE9-141E-4549-B0D1-A09958E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187B-DC16-46A3-8783-63BB945F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8094-BD57-483D-94E0-E620A73B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95AC-3F9F-499E-AF4C-C7ABCE80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8F1C6-21AE-46D5-BDF5-A1560A5E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8254-5FF2-46D6-A340-439CB627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0E1E-559E-496C-BD18-D3F1B465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934-E9BF-4489-B348-F81AB9AD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EE94-5F24-4D96-9CFA-7DACD2B9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B14B-050C-4BC1-98B2-FDA4AB8A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9B65-9973-4ECA-B235-D97258B6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C812-97B3-41FC-ADBC-AF9C2C2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D0D4-4996-4711-9B5C-B503B5FD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C756-334C-42D3-8BD5-F16FC3D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D1E26-0F80-4C8A-89E8-FFFF5450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DA9E-5D74-4EC8-B7DF-08A5600D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CE86B-9BF3-45B1-950A-18026785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8DD4-16E4-4106-BF78-021AD841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441-D218-475F-A743-B2BD5681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716C-C154-4FD5-95E2-ACEBA6B6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DD87-C96B-4DAA-AC7C-052A577A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3070-3F7C-4AF5-82B2-2C57DAB9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2E096-BC2B-4E97-90DB-9614AC1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1C0F-EF83-482D-8B89-047377BB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8CAA-F0EB-42FE-8BB1-2DE631F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478C0-BDC7-4F9E-B121-93B9AC3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836C-46A4-47CF-8A6D-E97BA50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5EA4-7229-437A-BAC0-DD804DFE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9F98-A0AE-4A33-B6D5-DE631E3B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D7D-06E3-4A12-8868-40C4D251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E2A7-9C66-4B29-9F28-3A0A0D5A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3219-D407-44D7-9251-D13F9F47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109C-045C-4393-A73A-DB92A255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721B2-ED4B-4C15-B94A-FF2F8D76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256EC-E056-490D-ABAD-A8FF26EB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1C8D7-3843-4D2E-BEB8-DDBF1187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CA2FC-E692-40D8-ABE1-35274A0B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FE3DF-61EF-4AC2-9C64-501A9C9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6A075-25CF-44D7-8605-67031D3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AB4BD-2710-4CEB-AB12-8D30081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B81-4422-48CA-8F07-A789C6E1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13B03-F289-4281-8C23-CE74EC1D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3D1D-A90A-409B-823E-FEAE7DE8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1DEEE-7894-4FE8-8348-129EBAEB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5FFDB-C042-448E-801E-73F2B058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A3D41-082D-49D4-B616-48782206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0B873-4B49-4DAF-9844-C82CD25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2C171-DD8E-4D06-ACA5-20FCC6FB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C8F74-D52C-47C3-895C-458CCC20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E8CA4-E673-44E1-B15B-AD852EF6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F170C-DEAE-45AB-B390-7CEC7DB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0F0-447F-423C-9C48-BA9BD4D0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7132-39D7-441B-ABBF-E3FA0A9B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5587B-1E9E-4EAB-98D7-19073C8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9E8ED-1CF0-4AE7-9C41-FF4DC068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5F74A-9BC9-40AA-ADA2-2D23F040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3448-8C7C-43DB-8873-EC6B2238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9759E-F131-41BD-8E06-5809EAE0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787A9-114F-4F25-B1FE-0609DD0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D209-3279-40C9-9DBC-DCA2C65A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9828-18AC-486D-BB18-30FBE475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6AF45-CCCF-40AC-A17E-2C684BD2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24B-8408-440D-A246-2FAF6AF4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1E64B-F621-41F0-96CD-F1AAA2AD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672C-F030-4755-90CE-E0D6C60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F7B29-8DD6-490B-9647-D1A6E1D6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24427-DC44-42F4-98C8-220373F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3E4B5-409E-4345-92E6-EA5B10BD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B80B-E83E-499D-8A20-37FAB8C1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3B950-E26E-4D57-98D7-45F88E18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2761A-482D-4349-B77A-72D7FFA4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8D822-BD43-4584-8904-5F354D49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8D937-19AB-40B0-A789-1257ECC3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D83E-E2E7-4075-AE4F-B059CA6AB0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5A3B-D835-43AA-9915-DE47EDEDB4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21C9-BEF2-4F73-8B9E-0948B2788A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D4E-591A-4C58-BA2E-490C850612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4042-9A36-4B4D-B7BE-D1193F4DF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FC7C-DB59-4277-9CDB-9968F5B842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C675-8820-4618-B435-52A0246E1F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8588-49E1-4194-82B2-F6A22A54EB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045A-A2D2-4409-97C0-D326928F3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28FE-F13B-4EAE-AF84-999DD25F28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64E9-8D7B-41E5-81EC-67D5806C3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8E23-7EA8-4B94-A9F1-D9074BCFA4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62D4-FDA4-4608-A3A3-F85E60E568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805B-2AA1-44C8-B8BC-5B76A7C6D9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B0F5-CAD5-480B-86F1-408986B68E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17C-5455-40D4-94B4-A5FE866BDE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DB50-D4C5-4B5C-932F-F3FDC1925A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8018-B640-4F0F-B132-DB5E572D5F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7774-ED9A-4682-8740-4CDF02264F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F478-E3A9-40B5-A560-41EA93BFE3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5AF-C098-4D4A-92B6-C260350A28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5FD8-00BC-4180-9B71-F5B09C1F0D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0C5D-9D78-4450-ACE7-3EE3E2305B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93EB-36BD-41C2-A849-9253A793ED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97C0-532D-4A20-A378-4ACF7B2C32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4DAC-D7F6-40E7-9A7F-5A122657A0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159120" y="5400"/>
            <a:ext cx="1207440" cy="1638720"/>
            <a:chOff x="159120" y="5400"/>
            <a:chExt cx="1207440" cy="1638720"/>
          </a:xfrm>
        </p:grpSpPr>
        <p:sp>
          <p:nvSpPr>
            <p:cNvPr id="575" name="AutoShape 3"/>
            <p:cNvSpPr/>
            <p:nvPr/>
          </p:nvSpPr>
          <p:spPr>
            <a:xfrm rot="20700000">
              <a:off x="450720" y="593640"/>
              <a:ext cx="492120" cy="492840"/>
            </a:xfrm>
            <a:custGeom>
              <a:avLst/>
              <a:gdLst>
                <a:gd name="textAreaLeft" fmla="*/ 114840 w 492120"/>
                <a:gd name="textAreaRight" fmla="*/ 377280 w 492120"/>
                <a:gd name="textAreaTop" fmla="*/ 51840 h 492840"/>
                <a:gd name="textAreaBottom" fmla="*/ 311760 h 4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noFill/>
            <a:ln w="28440">
              <a:solidFill>
                <a:srgbClr val="a42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4"/>
            <p:cNvSpPr/>
            <p:nvPr/>
          </p:nvSpPr>
          <p:spPr>
            <a:xfrm rot="20700000">
              <a:off x="415800" y="4140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5"/>
            <p:cNvSpPr/>
            <p:nvPr/>
          </p:nvSpPr>
          <p:spPr>
            <a:xfrm rot="20700000">
              <a:off x="235800" y="929160"/>
              <a:ext cx="3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6"/>
            <p:cNvSpPr/>
            <p:nvPr/>
          </p:nvSpPr>
          <p:spPr>
            <a:xfrm rot="20700000">
              <a:off x="642960" y="9651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7"/>
            <p:cNvSpPr/>
            <p:nvPr/>
          </p:nvSpPr>
          <p:spPr>
            <a:xfrm rot="20700000">
              <a:off x="924480" y="7437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247840"/>
            <a:ext cx="5470560" cy="1470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Arial"/>
              </a:rPr>
              <a:t>父爱，从未走远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231920" y="3744720"/>
            <a:ext cx="5068800" cy="83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父亲节感恩模板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父爱如山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长期以来，我们总是习惯强调母爱的力量，强调母爱最崇高，但事实上，父爱的力量同样伟大。就像一只鸟两只翅膀、一个人两条腿一样，母爱和父爱是缺一不可，无法替代的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父爱同母爱一样的无私，他不求回报；父爱是一种默默无闻，寓于无形之中的一种感情，只有用心的人才能体会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小的时候，父亲的一句严厉吆喝，我们就会觉得委屈不堪，跑到母亲面前哭泣，却没发现满满的父爱原来就蕴藏在深沉的吆喝声中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我们不懂，从来就不懂父爱的伟大，以为每一位父亲都是一个冷冰的个体。但爱，需要我们体味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000" y="275760"/>
            <a:ext cx="8002440" cy="993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父亲，节日快乐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我最亲爱的父亲，今年没为你准备特别的礼物，我只想真诚的跟你说一句：“爸，节日快乐。你的爱，从未走远，我理解了。在以后的每一个平凡相依的日子里，伴随左右，分享你的快乐与忧愁。”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159120" y="5400"/>
            <a:ext cx="1207440" cy="1638720"/>
            <a:chOff x="159120" y="5400"/>
            <a:chExt cx="1207440" cy="1638720"/>
          </a:xfrm>
        </p:grpSpPr>
        <p:sp>
          <p:nvSpPr>
            <p:cNvPr id="587" name="AutoShape 3"/>
            <p:cNvSpPr/>
            <p:nvPr/>
          </p:nvSpPr>
          <p:spPr>
            <a:xfrm rot="20700000">
              <a:off x="450720" y="593640"/>
              <a:ext cx="492120" cy="492840"/>
            </a:xfrm>
            <a:custGeom>
              <a:avLst/>
              <a:gdLst>
                <a:gd name="textAreaLeft" fmla="*/ 114840 w 492120"/>
                <a:gd name="textAreaRight" fmla="*/ 377280 w 492120"/>
                <a:gd name="textAreaTop" fmla="*/ 51840 h 492840"/>
                <a:gd name="textAreaBottom" fmla="*/ 311760 h 4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noFill/>
            <a:ln w="28440">
              <a:solidFill>
                <a:srgbClr val="a42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4"/>
            <p:cNvSpPr/>
            <p:nvPr/>
          </p:nvSpPr>
          <p:spPr>
            <a:xfrm rot="20700000">
              <a:off x="415800" y="4140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5"/>
            <p:cNvSpPr/>
            <p:nvPr/>
          </p:nvSpPr>
          <p:spPr>
            <a:xfrm rot="20700000">
              <a:off x="235800" y="929160"/>
              <a:ext cx="3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 rot="20700000">
              <a:off x="642960" y="9651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7"/>
            <p:cNvSpPr/>
            <p:nvPr/>
          </p:nvSpPr>
          <p:spPr>
            <a:xfrm rot="20700000">
              <a:off x="924480" y="7437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祝父亲们节日快乐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06:33:43Z</dcterms:created>
  <dc:creator/>
  <dc:description/>
  <cp:keywords/>
  <dc:language>en-US</dc:language>
  <cp:lastModifiedBy>a</cp:lastModifiedBy>
  <cp:lastPrinted>1899-12-30T00:00:00Z</cp:lastPrinted>
  <dcterms:modified xsi:type="dcterms:W3CDTF">2015-03-18T05:49:47Z</dcterms:modified>
  <cp:revision>4</cp:revision>
  <dc:subject/>
  <dc:title>父爱，从未走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