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media/image1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CF2-0803-49BE-8F71-BBEBD110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23E-2F76-4263-95BE-EBA11F4C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D0E10-5057-4D2B-885D-025F586B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070DE-0F49-403C-AEAA-05363F86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16742-5D2A-4CD2-A801-6D07B8A3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E45632-59EF-4707-AFE2-15765F23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00B2B-919D-4CBC-AF32-2D1D59B7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97E56-C939-45B1-9178-40EFD2A3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8DE32F-9436-47CA-B7CC-EE6CF436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75839-A8C8-4974-A578-FF1E23AB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351D2-8C31-43F8-84E7-0F8504A0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25FBB-D8E1-4371-B263-FE49E5B0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AE2-E4A5-4633-A19B-EAF47C31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8AD6C-5C6F-4A86-AD5F-27B29668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13AFA-53B6-4D41-A7E2-D207230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B7762-CA16-44AE-ACBB-E4688CFF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FF1D8-4347-4693-B5E9-AC2EC219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22045-A7D7-47F1-87F2-4C72188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2517B-2759-4FBD-B1DA-96667350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D37C3-152A-41F9-A04E-78EAA2A2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B91BE-17F5-4E70-9124-276C857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CC98D-2893-473A-A1B2-DDE4195E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34EAF-BB25-41EC-8414-1B78160A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AED-0A16-487E-9198-184BAF68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2BEF3-491E-41FE-9286-6F1CD548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C1B09-ABB0-41EF-A8B8-832F3920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B2AAE-A6C3-4476-A08F-05CF2715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E2365-3F72-444E-B4C1-9FE6B26B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8C2D1-78A9-4A29-AE4F-AD3D1DA3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5BB43-3DBD-4065-8D76-5F3F13F5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D54F4-73EF-4D73-A7C7-7669E6E4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01FC2-B376-4170-9F7F-74551852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3AAAA-0435-4502-85A7-9EB6D59D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2157E-296E-431C-B1FD-ECE72258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58A7-7D17-4C52-94BD-E9A41207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50597-6421-4B55-B80F-45DA2D4C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8C915-01D8-4886-AD7E-223600DC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07BA9-84E0-4F55-AE90-5E551A83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3F373-F957-4FB7-A632-89BCF169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60946-5A2F-4990-A160-6ECEF1FB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644AB-D809-467B-B60E-32DBCFA1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BCDB9-82DE-4F32-8F23-34E89AA6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2DFCB-B685-4D0C-B069-9B9D3116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EFC7A-1BB8-46A8-937A-E6FBA11D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96832-B539-4D74-AD84-BBA346A1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DBD6-2451-495B-B33F-3B8AEDD2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567D8-3CFD-4C5A-8818-0ACC9B8C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25565-6F5E-4CF4-BA04-1107BC90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539C2-F206-4062-AFA0-B1877B84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B9DB2-AEC9-4086-80FC-DF0AC339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9AA65-92C4-49E4-840C-14C032E4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466C8-FE04-4244-A925-2FC36D12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BE9BD-F796-4B34-BD60-84570824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E8CF7-98C2-4735-A8E2-1B579CD5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AF3B9-2761-4179-BC80-422BB11F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5875AF-CD0E-4E47-B37B-5BCB85E9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D8E0-0F80-430D-84D5-28892731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15794-70D4-4C0D-A518-D5AC16DC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504AD-E27E-43A0-9AC8-06F08275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8901F-78BE-4137-849A-C3BA95AA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EF3B6-16A8-4C35-936E-37B1FA48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945A7-5570-43F2-89B6-72401FEE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0DB6A-2671-41AC-BB37-C2521606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42D047-A170-42FF-8E9B-85C31898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3FBE-371B-489F-BD13-CA5189F2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9512-0F6F-4F9A-AD3D-1CB99A98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5C7A-A6E0-407C-A587-BE7AC1AC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3A19-AF01-4E5A-9BFC-3E0C270D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D41E-1991-4091-A3C5-0C25803C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1E68-82B7-4161-A60B-61769021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E275-A0CA-40CC-8AEF-7678F09E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F3FC-F626-4B82-8CEE-19AA8B13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2B00-009F-497E-BC48-C85E3537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DB52-7AA0-429C-97F1-04B6F116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8C052-80C6-4B8A-AFFE-7A579E2A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92646-4166-4F23-9C93-FDAA5E63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57857-6729-4DB4-9183-A0F7C39E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B61D1-9039-4D28-8936-41E9DAB3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A538-44A2-4D1A-89D7-8A70A64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42B-FD71-4A3A-B856-838B7CDD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E405E-CE5E-46BC-811E-D9D38AAF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E2B08-8129-40CC-A44E-F410C82D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C4ECC-3F9A-46E1-967B-764C4B8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6ADB-BE1E-4A89-9A00-9813A6A2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2FD3-7DA1-4F0C-B3C0-0A2A7B78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9342F-E202-4A47-83A2-98ED8B9D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D75C-32A8-4F41-9F84-78ECE5B8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E0E0-45C5-41CC-9C95-794C6D48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2296-D597-47AE-9469-1A387105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35EC5-E703-498E-8E33-D21548E0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8A1-D168-4D46-8584-7AA71CB0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37FA-9064-4BEC-8A1A-552A26D6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A7829-E7F8-4522-B255-5C3C0B6E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24A8-2C4A-4950-B7C7-17FD5C42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86B9-598E-4F28-BB47-76DF9C46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E3788-F27C-46A4-B66D-C4530EC4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96104-1E93-413A-A9B0-55710CBB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4C663-3FAB-4687-8BE2-58B415C1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D553-F7F6-439D-B2D2-A8B9C9C1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C752-1A22-4553-B8A0-FA148203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9EA4C-F556-46CE-A9DD-40D9F645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73F-B9A7-4F38-838E-1C1E0B88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FFB4A-79E8-4C12-A07E-CC3AF06C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44C84-8424-460C-92F0-EA80CC58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F8935-37AA-49B2-A54C-FDE3754E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3BF39-FA08-431F-916C-E1923C6E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4699D-40E2-4270-902E-D5837972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64EE3-FD03-4C6B-B014-B167F76C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ABEA1-18FD-4F47-88CB-317F686A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74ECC-7964-46BF-99D3-9F239859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61B0A-53FD-4D0A-8891-7D3450D0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CEDD-8725-4EA2-9E9B-44F05A8F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884-DDF0-4F5B-BD81-BB06E784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51C6-D45C-4D92-A1FB-C05FFD2C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18A8-6780-46C8-B418-5CC04E2BC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03020-9B50-4C67-AD5B-66FF70D1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E00C4-3F21-46D4-B2A7-0A9FA1B7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2AD5D-D012-48AB-8B92-4EBC26D2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CE87E-D027-437A-B43F-B265A1E8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D005-0D76-4D80-B6C6-8F2F85F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A1337-C592-47EA-AD9A-CF0C998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026FD-43EE-451B-819B-2DDB4928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0BED2-D316-4F89-9013-10216F24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EB1-6DE7-4C18-9D89-1DF0C160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C98A1-8A0F-4139-A71D-E3F6126D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19A4E-EEF3-4B8D-AF70-6B85B370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110CE-4753-48BA-BB2C-452DAEB7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E6C29-ACA9-403C-BB11-2E1D65EB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D32C5-561C-4E5B-9F39-CE5DE26A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81F68-99D1-42CE-9D57-21A3086F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8D051-CE67-4115-ADA5-46956073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91281-5845-4848-B321-C76A6D1C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FBBE8-9987-455F-8E64-80D79501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84085-E723-4E5C-BDB1-9A0653C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EDB-3D72-4186-A20D-C8A4B07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73DF4-6935-4A45-B487-F9660F2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EBF8D-23A5-43F7-AABD-BAB684C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D316E-025C-4D90-889C-C1308142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47FD-9D59-4D1E-A154-CFAF6798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9D569-5A68-46B1-A5D6-51A460EA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6509-7E1D-429A-AF36-C6E0DB76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376BF-DB0A-4CF6-9E6E-553C011C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D7650-6641-4528-8678-F0D0395E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00F16-FBEA-4ADA-A7AA-93FBC7EA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6ECA5-E868-4141-94D6-5EDE79BE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8ABB-43FD-4FA5-B8DC-623B2BEE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2826F-6E78-4BDA-AEAE-C7F95432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A53C3-39CA-4006-92C1-258545C2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CFBCC-66BD-4AB6-AAF9-155BA7F2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C6520-20AD-4DB0-B2CB-6EA6A6E7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8E66F-14D8-4113-87BF-40ABB536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C15EE-1C8B-4B8B-B5BF-635318E6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0F63C-7ADE-43DE-A617-30DE8269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9B06A-F12A-47F7-9BEC-57B0C6B3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48F1C-9538-417E-B0EA-1B94D693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74421-8A2D-4A9D-A183-CCAAE871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0CAE-CF3F-4FCB-9A69-0EC870CF9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D7E0-65CE-481E-9A3B-0AA615FDCF9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CFD5-F947-449F-9FA1-3E9B0E35F2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470F-E885-4B21-AAE2-81820834C10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2C7E-6C95-444B-BAA3-5BF30BFB43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CBF7-AB04-4CE5-89EB-5B5B5480808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48F9-93C3-43E6-A3B4-16CE2E3D68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88CF-69EC-4A72-8F47-3480B049215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F005-14EB-4D7C-A3BC-A6D85EB536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FB8A-2C8A-4059-8C70-876CBCBBAE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41A8-A684-467F-844D-39968986CA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B375-7860-4DB7-BBCE-D4A83B1A35C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EAEB-FCE1-4BB8-A40D-8746AEBA9C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CE3-BF7A-4E29-98C3-229E21F7B0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ED62-E4FA-40F6-8A24-714CCB233C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5ABE-8FE3-44E6-9FC4-8113EE68D8C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485-3182-4BD9-B5BE-55B774703C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AF2F-BB04-421E-8CB2-BCA3240853C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BFC7-D4B1-4E94-B6E0-278DAF691A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B0E9-9C2E-4EBC-A4AB-934FD30D9F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78FF-5029-4871-A7B8-1C09D168D1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1DA-8369-480F-9652-8A5E76D3AA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4081-4427-4B74-A91C-00E2923251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8EB3-CD82-4AA7-BB7D-AADA18B9C1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5F61-36BB-4563-85FD-69CF7D78CE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5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image" Target="../media/image2.jpeg"/><Relationship Id="rId5" Type="http://schemas.openxmlformats.org/officeDocument/2006/relationships/slide" Target="slide7.xml"/><Relationship Id="rId6" Type="http://schemas.openxmlformats.org/officeDocument/2006/relationships/image" Target="../media/image2.jpeg"/><Relationship Id="rId7" Type="http://schemas.openxmlformats.org/officeDocument/2006/relationships/slide" Target="slide5.xml"/><Relationship Id="rId8" Type="http://schemas.openxmlformats.org/officeDocument/2006/relationships/image" Target="../media/image2.jpeg"/><Relationship Id="rId9" Type="http://schemas.openxmlformats.org/officeDocument/2006/relationships/slide" Target="slide4.xml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D:\图片库\背景\蓝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"/>
          <p:cNvSpPr/>
          <p:nvPr/>
        </p:nvSpPr>
        <p:spPr>
          <a:xfrm>
            <a:off x="457200" y="1981080"/>
            <a:ext cx="838188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Times New Roman"/>
                <a:ea typeface="文鼎火柴体"/>
              </a:rPr>
              <a:t>     </a:t>
            </a:r>
            <a:r>
              <a:rPr b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富饶的西沙群岛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</a:t>
            </a:r>
            <a:r>
              <a:rPr b="1" lang="zh-CN" sz="4000" spc="-1" strike="noStrike">
                <a:solidFill>
                  <a:srgbClr val="cc3399"/>
                </a:solidFill>
                <a:latin typeface="Times New Roman"/>
                <a:ea typeface="隶书"/>
              </a:rPr>
              <a:t>执教、课件制作：陈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D:\语文教学\富饶的西沙群岛\s2.jpg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3"/>
          <p:cNvSpPr/>
          <p:nvPr/>
        </p:nvSpPr>
        <p:spPr>
          <a:xfrm>
            <a:off x="762120" y="914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一群群的鱼在珊瑚丛中穿来穿去。有的身上长着彩色的条纹，有的头上长着一簇红缨。飞虎鱼的周身像插着好些扇子，游动的时候好看极了。气鼓鱼的眼睛圆溜溜的，身上长满刺儿，它鼓起气来，像皮球一样圆。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各种各样的鱼，多得数不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4" descr="D:\图片库\按钮\bl_paw.gi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791320"/>
            <a:ext cx="8380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D:\图片库\背景\深蓝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2"/>
          <p:cNvSpPr/>
          <p:nvPr/>
        </p:nvSpPr>
        <p:spPr>
          <a:xfrm>
            <a:off x="609480" y="1295280"/>
            <a:ext cx="7696440" cy="30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ffffcc"/>
                </a:solidFill>
                <a:latin typeface="宋体"/>
                <a:ea typeface="宋体"/>
              </a:rPr>
              <a:t>在西沙群岛的海底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宋体"/>
                <a:ea typeface="宋体"/>
              </a:rPr>
              <a:t>各种各样的鱼，多得数不清。有的</a:t>
            </a:r>
            <a:r>
              <a:rPr b="1" lang="zh-CN" sz="4400" spc="-1" strike="noStrike" u="sng">
                <a:solidFill>
                  <a:srgbClr val="ffffcc"/>
                </a:solidFill>
                <a:uFillTx/>
                <a:latin typeface="宋体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ffffcc"/>
                </a:solidFill>
                <a:latin typeface="宋体"/>
                <a:ea typeface="宋体"/>
              </a:rPr>
              <a:t>，有的</a:t>
            </a:r>
            <a:r>
              <a:rPr b="1" lang="zh-CN" sz="4400" spc="-1" strike="noStrike" u="sng">
                <a:solidFill>
                  <a:srgbClr val="ffffcc"/>
                </a:solidFill>
                <a:uFillTx/>
                <a:latin typeface="宋体"/>
                <a:ea typeface="宋体"/>
              </a:rPr>
              <a:t>                </a:t>
            </a:r>
            <a:r>
              <a:rPr b="1" lang="zh-CN" sz="4400" spc="-1" strike="noStrike">
                <a:solidFill>
                  <a:srgbClr val="ffffcc"/>
                </a:solidFill>
                <a:latin typeface="宋体"/>
                <a:ea typeface="宋体"/>
              </a:rPr>
              <a:t>，还有的</a:t>
            </a:r>
            <a:r>
              <a:rPr b="1" lang="zh-CN" sz="4400" spc="-1" strike="noStrike" u="sng">
                <a:solidFill>
                  <a:srgbClr val="ffffcc"/>
                </a:solidFill>
                <a:uFillTx/>
                <a:latin typeface="宋体"/>
                <a:ea typeface="宋体"/>
              </a:rPr>
              <a:t>             </a:t>
            </a:r>
            <a:r>
              <a:rPr b="1" lang="zh-CN" sz="4400" spc="-1" strike="noStrike">
                <a:solidFill>
                  <a:srgbClr val="ffffcc"/>
                </a:solidFill>
                <a:latin typeface="宋体"/>
                <a:ea typeface="宋体"/>
              </a:rPr>
              <a:t>。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宋体"/>
                <a:ea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D:\图片库\背景\深蓝色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2"/>
          <p:cNvSpPr/>
          <p:nvPr/>
        </p:nvSpPr>
        <p:spPr>
          <a:xfrm>
            <a:off x="1523880" y="1066680"/>
            <a:ext cx="632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400" spc="-1" strike="noStrike">
                <a:solidFill>
                  <a:srgbClr val="ffcccc"/>
                </a:solidFill>
                <a:latin typeface="宋体"/>
              </a:rPr>
              <a:t>西沙群岛海底的鱼有的</a:t>
            </a:r>
            <a:r>
              <a:rPr b="1" lang="zh-CN" sz="4400" spc="-1" strike="noStrike" u="sng">
                <a:solidFill>
                  <a:srgbClr val="ffcccc"/>
                </a:solidFill>
                <a:uFillTx/>
                <a:latin typeface="宋体"/>
              </a:rPr>
              <a:t>               </a:t>
            </a:r>
            <a:r>
              <a:rPr b="1" lang="zh-CN" sz="4400" spc="-1" strike="noStrike">
                <a:solidFill>
                  <a:srgbClr val="ffcccc"/>
                </a:solidFill>
                <a:latin typeface="宋体"/>
              </a:rPr>
              <a:t>，有的</a:t>
            </a:r>
            <a:r>
              <a:rPr b="1" lang="zh-CN" sz="4400" spc="-1" strike="noStrike" u="sng">
                <a:solidFill>
                  <a:srgbClr val="ffcccc"/>
                </a:solidFill>
                <a:uFillTx/>
                <a:latin typeface="宋体"/>
              </a:rPr>
              <a:t>               </a:t>
            </a:r>
            <a:r>
              <a:rPr b="1" lang="zh-CN" sz="4400" spc="-1" strike="noStrike">
                <a:solidFill>
                  <a:srgbClr val="ffcccc"/>
                </a:solidFill>
                <a:latin typeface="宋体"/>
              </a:rPr>
              <a:t>，还有的</a:t>
            </a:r>
            <a:r>
              <a:rPr b="1" lang="zh-CN" sz="4400" spc="-1" strike="noStrike" u="sng">
                <a:solidFill>
                  <a:srgbClr val="ffcccc"/>
                </a:solidFill>
                <a:uFillTx/>
                <a:latin typeface="宋体"/>
              </a:rPr>
              <a:t>             </a:t>
            </a:r>
            <a:r>
              <a:rPr b="1" lang="zh-CN" sz="4400" spc="-1" strike="noStrike">
                <a:solidFill>
                  <a:srgbClr val="ffcccc"/>
                </a:solidFill>
                <a:latin typeface="宋体"/>
              </a:rPr>
              <a:t>。各种各样的鱼，多得数不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D:\陈奕\语文教学\西沙群岛\海滩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9" name="Object 3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990720" y="5715000"/>
            <a:ext cx="1676160" cy="892080"/>
          </a:xfrm>
          <a:prstGeom prst="rect">
            <a:avLst/>
          </a:prstGeom>
          <a:ln w="0">
            <a:noFill/>
          </a:ln>
        </p:spPr>
      </p:pic>
      <p:sp>
        <p:nvSpPr>
          <p:cNvPr id="580" name="Oval 6"/>
          <p:cNvSpPr/>
          <p:nvPr/>
        </p:nvSpPr>
        <p:spPr>
          <a:xfrm>
            <a:off x="7848720" y="5943600"/>
            <a:ext cx="761760" cy="685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457200" y="1371600"/>
            <a:ext cx="777240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海滩上有许多美丽的贝壳，大的，小的，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颜色不一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，有的</a:t>
            </a:r>
            <a:r>
              <a:rPr b="1" lang="zh-CN" sz="4000" spc="-1" strike="noStrike" u="sng">
                <a:solidFill>
                  <a:srgbClr val="6633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，有的</a:t>
            </a:r>
            <a:r>
              <a:rPr b="1" lang="zh-CN" sz="4000" spc="-1" strike="noStrike" u="sng">
                <a:solidFill>
                  <a:srgbClr val="6633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；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形状多样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，有的像</a:t>
            </a:r>
            <a:r>
              <a:rPr b="1" lang="zh-CN" sz="4000" spc="-1" strike="noStrike" u="sng">
                <a:solidFill>
                  <a:srgbClr val="6633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，有的像</a:t>
            </a:r>
            <a:r>
              <a:rPr b="1" lang="zh-CN" sz="4000" spc="-1" strike="noStrike" u="sng">
                <a:solidFill>
                  <a:srgbClr val="663300"/>
                </a:solidFill>
                <a:uFillTx/>
                <a:latin typeface="宋体"/>
                <a:ea typeface="宋体"/>
              </a:rPr>
              <a:t>         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  <a:ea typeface="宋体"/>
              </a:rPr>
              <a:t>，真是千奇百怪，无所不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Picture 4" descr="D:\图片库\按钮\29.gif"/>
          <p:cNvPicPr/>
          <p:nvPr/>
        </p:nvPicPr>
        <p:blipFill>
          <a:blip r:embed="rId2"/>
          <a:stretch/>
        </p:blipFill>
        <p:spPr>
          <a:xfrm>
            <a:off x="7848720" y="4724280"/>
            <a:ext cx="628560" cy="628920"/>
          </a:xfrm>
          <a:prstGeom prst="rect">
            <a:avLst/>
          </a:prstGeom>
          <a:ln w="0">
            <a:noFill/>
          </a:ln>
        </p:spPr>
      </p:pic>
      <p:grpSp>
        <p:nvGrpSpPr>
          <p:cNvPr id="584" name="Group 1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5" name="Picture 5" descr="A:\贝壳2.files\thm046_DSCF0016.jpg"/>
            <p:cNvPicPr/>
            <p:nvPr/>
          </p:nvPicPr>
          <p:blipFill>
            <a:blip r:embed="rId3"/>
            <a:stretch/>
          </p:blipFill>
          <p:spPr>
            <a:xfrm>
              <a:off x="533520" y="0"/>
              <a:ext cx="213336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6" descr=""/>
            <p:cNvPicPr/>
            <p:nvPr/>
          </p:nvPicPr>
          <p:blipFill>
            <a:blip r:embed="rId4"/>
            <a:stretch/>
          </p:blipFill>
          <p:spPr>
            <a:xfrm>
              <a:off x="4648320" y="0"/>
              <a:ext cx="1981080" cy="14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7" descr="A:\贝壳2.files\thm024_Dscf0025.jpg"/>
            <p:cNvPicPr/>
            <p:nvPr/>
          </p:nvPicPr>
          <p:blipFill>
            <a:blip r:embed="rId5"/>
            <a:stretch/>
          </p:blipFill>
          <p:spPr>
            <a:xfrm>
              <a:off x="2666880" y="0"/>
              <a:ext cx="198144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8" descr=""/>
            <p:cNvPicPr/>
            <p:nvPr/>
          </p:nvPicPr>
          <p:blipFill>
            <a:blip r:embed="rId6"/>
            <a:stretch/>
          </p:blipFill>
          <p:spPr>
            <a:xfrm>
              <a:off x="6629400" y="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9" descr=""/>
            <p:cNvPicPr/>
            <p:nvPr/>
          </p:nvPicPr>
          <p:blipFill>
            <a:blip r:embed="rId7"/>
            <a:stretch/>
          </p:blipFill>
          <p:spPr>
            <a:xfrm>
              <a:off x="5562720" y="5506920"/>
              <a:ext cx="1828800" cy="13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10" descr="A:\贝壳7.files\thm042_Dscf0007_4.jpg"/>
            <p:cNvPicPr/>
            <p:nvPr/>
          </p:nvPicPr>
          <p:blipFill>
            <a:blip r:embed="rId8"/>
            <a:stretch/>
          </p:blipFill>
          <p:spPr>
            <a:xfrm>
              <a:off x="7391520" y="5510160"/>
              <a:ext cx="1752480" cy="134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11" descr="A:\贝壳7.files\thm035_Dscf0012_2.jpg"/>
            <p:cNvPicPr/>
            <p:nvPr/>
          </p:nvPicPr>
          <p:blipFill>
            <a:blip r:embed="rId9"/>
            <a:stretch/>
          </p:blipFill>
          <p:spPr>
            <a:xfrm>
              <a:off x="0" y="5486400"/>
              <a:ext cx="19051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12" descr="A:\贝壳2.files\thm041_DSCF0011.jpg"/>
            <p:cNvPicPr/>
            <p:nvPr/>
          </p:nvPicPr>
          <p:blipFill>
            <a:blip r:embed="rId10"/>
            <a:stretch/>
          </p:blipFill>
          <p:spPr>
            <a:xfrm>
              <a:off x="1828800" y="5486400"/>
              <a:ext cx="19051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3" descr="A:\贝壳.files\thm010_Dscf0006.jpg"/>
            <p:cNvPicPr/>
            <p:nvPr/>
          </p:nvPicPr>
          <p:blipFill>
            <a:blip r:embed="rId11"/>
            <a:stretch/>
          </p:blipFill>
          <p:spPr>
            <a:xfrm>
              <a:off x="3733920" y="5510160"/>
              <a:ext cx="1828800" cy="134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yu.avi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556416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3"/>
          <p:cNvSpPr/>
          <p:nvPr/>
        </p:nvSpPr>
        <p:spPr>
          <a:xfrm>
            <a:off x="8229600" y="6019920"/>
            <a:ext cx="609480" cy="585720"/>
          </a:xfrm>
          <a:custGeom>
            <a:avLst/>
            <a:gdLst>
              <a:gd name="textAreaLeft" fmla="*/ 37800 w 609480"/>
              <a:gd name="textAreaRight" fmla="*/ 571680 w 6094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2476" h="21600">
                <a:moveTo>
                  <a:pt x="0" y="0"/>
                </a:moveTo>
                <a:lnTo>
                  <a:pt x="22476" y="0"/>
                </a:lnTo>
                <a:lnTo>
                  <a:pt x="22476" y="21600"/>
                </a:lnTo>
                <a:lnTo>
                  <a:pt x="0" y="21600"/>
                </a:lnTo>
                <a:close/>
              </a:path>
              <a:path fill="lightenLess" w="22476" h="21600">
                <a:moveTo>
                  <a:pt x="0" y="0"/>
                </a:moveTo>
                <a:lnTo>
                  <a:pt x="22476" y="0"/>
                </a:lnTo>
                <a:lnTo>
                  <a:pt x="21076" y="1400"/>
                </a:lnTo>
                <a:lnTo>
                  <a:pt x="1400" y="1400"/>
                </a:lnTo>
                <a:close/>
              </a:path>
              <a:path fill="darken" w="22476" h="21600">
                <a:moveTo>
                  <a:pt x="22476" y="0"/>
                </a:moveTo>
                <a:lnTo>
                  <a:pt x="22476" y="21600"/>
                </a:lnTo>
                <a:lnTo>
                  <a:pt x="21076" y="20200"/>
                </a:lnTo>
                <a:lnTo>
                  <a:pt x="21076" y="1400"/>
                </a:lnTo>
                <a:close/>
              </a:path>
              <a:path fill="darkenLess" w="22476" h="21600">
                <a:moveTo>
                  <a:pt x="22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76" y="20200"/>
                </a:lnTo>
                <a:close/>
              </a:path>
              <a:path fill="lighten" w="22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9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533520" y="4572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底的岩石上有各种颜色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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的像绽开的花朵，有的像美丽的鹿角。到处都是，在海底懒洋洋地蠕动着。全身披甲，划过来，划过去，样子挺威武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群群的鱼在珊瑚丛中穿来穿去。有的身上长着彩色的条纹，有的头上长着一簇红缨。飞虎鱼的周身像插着好些扇子，游动的时候好看极了。气鼓鱼的眼睛圆溜溜的，身上长满刺儿，它鼓起气来，像皮球一样圆。各种各样的  ，多得数不清。正像人们说的那样，西沙群岛的海里，一半是水，一半是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18408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珊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74440" y="94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7105680" y="144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龙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4731120" y="4876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533520" y="45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底的岩石上有各种颜色的，有的像绽开的花朵，有的像美丽的鹿角。到处都是，在海底懒洋洋地蠕动着。全身披甲，划过来，划过去，样子挺威武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群群的鱼在珊瑚丛中穿来穿去。有的身上长着彩色的条纹，有的头上长着一簇红缨。飞虎鱼的周身像插着好些扇子，游动的时候好看极了。气鼓鱼的眼睛圆溜溜的，身上长满刺儿，它鼓起气来，像皮球一样圆。各种各样的  ，多得数不清。正像人们说的那样，西沙群岛的海里，一半是水，一半是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618408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珊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174440" y="94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海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7182000" y="1447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大龙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4731120" y="4876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11">
            <a:hlinkClick r:id="rId3" action="ppaction://hlinksldjump"/>
          </p:cNvPr>
          <p:cNvSpPr/>
          <p:nvPr/>
        </p:nvSpPr>
        <p:spPr>
          <a:xfrm>
            <a:off x="838188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AutoShape 12">
            <a:hlinkClick r:id="rId5" action="ppaction://hlinksldjump"/>
          </p:cNvPr>
          <p:cNvSpPr/>
          <p:nvPr/>
        </p:nvSpPr>
        <p:spPr>
          <a:xfrm>
            <a:off x="838188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13">
            <a:hlinkClick r:id="rId7" action="ppaction://hlinksldjump"/>
          </p:cNvPr>
          <p:cNvSpPr/>
          <p:nvPr/>
        </p:nvSpPr>
        <p:spPr>
          <a:xfrm>
            <a:off x="8381880" y="1066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14">
            <a:hlinkClick r:id="rId9" action="ppaction://hlinksldjump"/>
          </p:cNvPr>
          <p:cNvSpPr/>
          <p:nvPr/>
        </p:nvSpPr>
        <p:spPr>
          <a:xfrm>
            <a:off x="8381880" y="533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D:\语文教学\富饶的西沙群岛\d8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67280" y="3200400"/>
            <a:ext cx="3276720" cy="36576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" descr="D:\语文教学\富饶的西沙群岛\d97.gif"/>
          <p:cNvPicPr/>
          <p:nvPr/>
        </p:nvPicPr>
        <p:blipFill>
          <a:blip r:embed="rId3"/>
          <a:stretch/>
        </p:blipFill>
        <p:spPr>
          <a:xfrm>
            <a:off x="0" y="0"/>
            <a:ext cx="4495680" cy="3276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D:\语文教学\富饶的西沙群岛\d993.jpg"/>
          <p:cNvPicPr/>
          <p:nvPr/>
        </p:nvPicPr>
        <p:blipFill>
          <a:blip r:embed="rId4"/>
          <a:stretch/>
        </p:blipFill>
        <p:spPr>
          <a:xfrm>
            <a:off x="0" y="3276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D:\语文教学\富饶的西沙群岛\d9992.jpg"/>
          <p:cNvPicPr/>
          <p:nvPr/>
        </p:nvPicPr>
        <p:blipFill>
          <a:blip r:embed="rId5"/>
          <a:stretch/>
        </p:blipFill>
        <p:spPr>
          <a:xfrm>
            <a:off x="3581280" y="3276720"/>
            <a:ext cx="2362320" cy="3581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D:\语文教学\富饶的西沙群岛\d6.jpg"/>
          <p:cNvPicPr/>
          <p:nvPr/>
        </p:nvPicPr>
        <p:blipFill>
          <a:blip r:embed="rId6"/>
          <a:stretch/>
        </p:blipFill>
        <p:spPr>
          <a:xfrm>
            <a:off x="4495680" y="0"/>
            <a:ext cx="4648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50000">
                <a:srgbClr val="000000"/>
              </a:gs>
              <a:gs pos="100000">
                <a:srgbClr val="00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4">
            <a:hlinkClick r:id="rId1" action="ppaction://hlinksldjump"/>
          </p:cNvPr>
          <p:cNvSpPr/>
          <p:nvPr/>
        </p:nvSpPr>
        <p:spPr>
          <a:xfrm>
            <a:off x="8153280" y="60199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2"/>
          <p:cNvSpPr/>
          <p:nvPr/>
        </p:nvSpPr>
        <p:spPr>
          <a:xfrm>
            <a:off x="838080" y="609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幼圆"/>
              </a:rPr>
              <a:t>海 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7" descr=""/>
          <p:cNvPicPr/>
          <p:nvPr/>
        </p:nvPicPr>
        <p:blipFill>
          <a:blip r:embed="rId2"/>
          <a:stretch/>
        </p:blipFill>
        <p:spPr>
          <a:xfrm>
            <a:off x="1600200" y="1447920"/>
            <a:ext cx="59389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30700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D:\陈奕\语文教学\西沙群岛\longxia_1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D:\陈奕\语文教学\西沙群岛\龙虾2.bmp"/>
          <p:cNvPicPr/>
          <p:nvPr/>
        </p:nvPicPr>
        <p:blipFill>
          <a:blip r:embed="rId3"/>
          <a:stretch/>
        </p:blipFill>
        <p:spPr>
          <a:xfrm>
            <a:off x="0" y="3048120"/>
            <a:ext cx="4343400" cy="380988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">
            <a:hlinkClick r:id="rId4" action="ppaction://hlinksldjump"/>
          </p:cNvPr>
          <p:cNvSpPr/>
          <p:nvPr/>
        </p:nvSpPr>
        <p:spPr>
          <a:xfrm>
            <a:off x="82296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D:\语文教学\富饶的西沙群岛\s7.jpg"/>
          <p:cNvPicPr/>
          <p:nvPr/>
        </p:nvPicPr>
        <p:blipFill>
          <a:blip r:embed="rId1"/>
          <a:stretch/>
        </p:blipFill>
        <p:spPr>
          <a:xfrm>
            <a:off x="0" y="0"/>
            <a:ext cx="5257800" cy="34290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D:\语文教学\富饶的西沙群岛\鱼.jpg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G:\图库\photo\WATER\141053.JPG"/>
          <p:cNvPicPr/>
          <p:nvPr/>
        </p:nvPicPr>
        <p:blipFill>
          <a:blip r:embed="rId3"/>
          <a:stretch/>
        </p:blipFill>
        <p:spPr>
          <a:xfrm>
            <a:off x="0" y="3429000"/>
            <a:ext cx="525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7" descr="D:\语文教学\富饶的西沙群岛\s2.jpg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09480" y="457200"/>
            <a:ext cx="75438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一群群的鱼在珊瑚丛中穿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穿去。有的（          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有的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(                 )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。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虎鱼的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(           ,        )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气鼓鱼的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(      ,     ,     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。各种各样的鱼，多得数不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D:\语文教学\富饶的西沙群岛\s2.jpg"/>
          <p:cNvPicPr/>
          <p:nvPr/>
        </p:nvPicPr>
        <p:blipFill>
          <a:blip r:embed="rId1"/>
          <a:stretch/>
        </p:blipFill>
        <p:spPr>
          <a:xfrm>
            <a:off x="0" y="-990720"/>
            <a:ext cx="9144000" cy="784872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6"/>
          <p:cNvSpPr/>
          <p:nvPr/>
        </p:nvSpPr>
        <p:spPr>
          <a:xfrm>
            <a:off x="762120" y="91440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一群群的鱼在珊瑚丛中穿来穿去。有的身上长着彩色的条纹，有的头上长着一簇红缨。飞虎鱼的周身像插着好些扇子，游动的时候好看极了。气鼓鱼的眼睛圆溜溜的，身上长满刺儿，它鼓起气来，像皮球一样圆。各种各样的鱼，多得数不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a</cp:lastModifiedBy>
  <dcterms:modified xsi:type="dcterms:W3CDTF">2015-02-10T11:15:30Z</dcterms:modified>
  <cp:revision>22</cp:revision>
  <dc:subject/>
  <dc:title>没有幻灯片标题</dc:title>
</cp:coreProperties>
</file>