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63D-C278-4D09-9591-0562579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E14-AD58-4E84-9BDB-9D24671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22359-746E-4CEB-B7BE-457F5A7A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F5038-58D0-4B84-83DE-693ED0A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921C7-2718-416F-9EC4-FBD419E6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9305A-2739-43F1-8EF8-699021D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000AA-62B1-4AA1-BB64-1F0FBB1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54A9A-4AA1-4342-A549-9E0C618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45308-C8EB-4FB5-B2EB-C1FA5EF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E8894-ADE4-4213-9A1B-B8C2900D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EB0AD-E426-4907-ADA0-3BC11C48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D6D96-4B83-4074-A694-681F467C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58E-B631-490D-8C86-4DC6E951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03703-A9AE-4EC1-8E24-2483193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801C5-29AF-450E-AEC1-4E152104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69F9-8A0B-40B8-8C13-84E8AEA8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DE53D-3B2C-43F2-BAE1-1662DA7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D1C31-05A8-48C1-AED3-F95A79C2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33362-0FAF-4986-B616-D22F576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EE207-DA91-4B3C-9BCE-3217ACEE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7A59E-1C69-4B19-9E42-CBE8819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FB85D-6FBB-43BF-84E9-A268214F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12AB8-DA8D-423F-AE12-88306A1C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4F4-BAC5-41BE-B7E6-6A08E5B2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53FD1-02F9-4116-8FB8-104FDA46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77B1-91ED-45AF-9B5D-D7A5C92D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D1743-6C47-4B75-9B17-2FA5979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2513-72AF-45B9-8D5B-E580B74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4910A-01B2-4185-AD87-C955AE7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97AAF-C6FB-4B8E-9678-20B61E39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72B40-0525-4660-BC74-846E91AB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0857-3944-43B3-9531-3795661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D1FEF-2B15-4AC6-99AF-2961EEF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6CA33-A71A-4E96-97C3-EFC27ADE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D3F9-8EB9-43CF-96ED-EA4E307F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15AB4-4560-4D57-AD68-E647D774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F57DE-0E6C-4856-AAE1-F78FF65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74622-D4D1-4BED-9D4B-17A5BCD4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135F8-072B-46FD-9299-38A95157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C36F7-9ABD-411C-9731-9067982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54CF7-8FD3-4336-91C9-78C3E5E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8984F-E37B-4929-94AC-DA3FFF99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C98BF-D3AB-414E-903C-6B03A41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C6478-2984-464D-B095-1111097F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697D8-D9EC-44FA-9CD2-9ACAF09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CB08-235F-466C-BA71-C82F2B5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6D409-CFCA-49CA-AB67-2004925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94213-8EBB-48A0-B1DA-8A921A2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CE29-1D4A-444D-ABEC-09C85970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87604-D61C-4DCD-856C-E7B81436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92DCD-6CB9-4896-8D5B-0C005693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06527-CB4B-4237-890E-2D346ACF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76F7F-45B1-4CAB-8B9B-E0520F02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5A926-8466-495D-B8E7-38A5CC64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E3332-66DE-48E6-8544-35E72CC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1D843-4CFF-4279-BA58-2BC8D701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FEB9-1C19-47C8-918D-94DF4845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6571A-3FC0-4CA5-B799-0FDD33B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5A001-9DB4-47BC-AE5D-B890094E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5F316-0093-4BDF-921C-0DF32E6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2A936-3F09-465B-8FA8-0E55741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BD7E0-F83D-4187-8C98-C6E1389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44390-5893-4297-BF38-7E5B9A4B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C459A-9A18-4916-A396-A99C21AA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84122-5040-4536-ADAF-9BE8C1B5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BC34E-E579-4A5D-93F8-F8576385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DE053-0FFD-42FD-A0B5-A79C84E1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B388-1DCF-4E7D-9D68-9C964CC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58C39-FAF7-428F-A7B6-93848F7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BD9BB-4B13-4AE1-9F2B-0309BE1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6B241-0FEA-48A7-9DFE-73318D3E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FA430-2694-4AEE-8DF0-4FE98E9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3279E-236A-4644-9216-8B58EBD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E350E-C469-49FD-8E67-9519F12C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B0090-9FE8-4FA8-940A-E852D8D7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825F5-3F4C-45AA-8DB8-E11D1247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692A4-3CC1-4D1D-8BCC-901CFE50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FB05-6946-4BAD-BF69-586AE44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38C9-063C-4FDD-98C5-B90CFB8D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4655-0A9A-4E90-B89F-D4354A3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92C-83BD-484B-A9E8-65CD679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5A44-1B94-4EAD-B32F-A316EB86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A8D4-E938-4A50-9589-F9AEC9B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70C5-9715-45BA-9E71-7E5F6F18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89FD-5C39-45AB-A4A9-298A5119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F2E-BBC3-438F-9CED-C0872698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00B8-F7B0-4AC8-A15F-EE564732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8E2C-F616-4582-8A9C-F4647946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FCCD-2160-48C3-B03A-349E654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DF20-3D91-4754-B598-B9EB896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4A6F-F440-4155-A67E-CB74726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608-B02D-489E-AE9D-D5CB4244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57BC-94D5-463E-AB9C-9A448D61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4E92-ACFA-4E84-B351-6F7199C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336E-8417-4878-B7BA-3D203FB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192F-48A2-4719-928A-F47F481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1297-64C1-4C8B-9BC2-A8F35A9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5023-65B1-4773-9C85-E2CDCF68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BDEC-9390-4D84-A0A3-A90CA814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1DDC-581C-4611-9EC1-036AFB78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8F44-BFB4-45F9-BFB8-A61C31C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F634-39C3-467D-A248-1B0D9C1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94B-A331-43D9-A757-AB786D4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83A2-3D11-4E2A-AFEE-4610E40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3064-9187-4305-BB12-E8F95600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9B37-8F8C-47A0-946E-E758183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E6D7-8C7A-4D70-979F-E93ED0E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6FC1-C99D-4883-BBC1-4053B0E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DE9F-09FF-43FC-94B2-EE4C0BC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E383-6516-47CE-AEEF-7E4BDE2A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29DA-5967-4C48-9512-99830643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C95D-1887-4579-8F60-90545409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A23C-6315-4051-994B-BC5252BA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327-72C6-4C10-A221-C5069BF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E3EC-60DE-4244-9E4C-4482A44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A002-BFBC-4D1F-BC7B-40E11824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3FFCD-B8BD-469A-9423-1F5EBE5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2A15-E64B-41B7-A277-ED7C480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694A-C700-4DFC-83B2-A34B12A5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C7A5-3BD6-4DCE-9AE8-EC14C34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74A9-89F2-448A-B721-7B12B665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BEA33-B1A5-4C92-9779-25A50E0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5E02-1207-4717-A2D3-A48D925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D3D9-97EC-4E7D-ABB8-6CDA3CEA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A50-37EF-4338-A5CA-67251F74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65A8-1D77-4F4A-AD20-C8E19573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FEFF9-A824-4933-B328-3E8D80CB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A2FF8-2C66-4AE8-8657-20FF8CC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5BF3-9722-46EE-B0EC-7334AB47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2E566-5D74-4EC2-8BF2-84E78CF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24883-20C7-424E-B21C-E465B1F7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BFF4F-2ADB-4079-9A37-D258C22D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4B88-6B78-4118-9ECA-4D61F8B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E249-2367-43BC-AA73-AC9F78D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B42D-05F5-4505-AEC4-18FD9AE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303-851D-4D38-9176-098BFAB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7DB1C-5634-4443-B081-28C70135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CD40-3340-4AAD-BB2E-DC648DA2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B4D0-15CD-459C-BAF4-F6304217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CFAA3-B33B-47F1-95D1-DFF96D56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DABF-2919-4CD5-8643-AA874CB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8F4BA-9DBC-4A6D-A480-E85FAB94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D694-0B14-487B-BEF4-A738C9BA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BC162-440C-4581-B5AB-04C8B6DD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E5416-08D9-4EE4-9D0A-8D95895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D468D-7084-4120-B0AA-85A05F28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DA0-C93C-429A-9241-D009C52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95FF-3BAB-44F0-9B46-E14C9F3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AC278-B62C-47B4-A7CF-3A0FAB2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99DE-C8B6-4504-A5B0-65DC259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3E561-F451-41C2-8118-882AA3D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37A5-311C-47FF-BC2F-E22A302D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1449-D6BD-41C6-B8CB-B8F56745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1D954-818E-49D1-AFE4-DE0C4CB9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EF053-977A-465B-A5E0-C4109121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2D98F-3714-40BF-A19A-A38ABB99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5560C-C7BE-4E19-BE21-CC61394F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661-EE05-4F17-A9CF-E52AFA2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C727A-5B57-4C7C-BA42-7B479505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7E00-B4AA-4B3D-A962-D85E44D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E895B-C75E-4196-B3DF-B91EF3A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4F65-DC48-4D1B-B3F0-8076C9E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0E91D-160D-4CB4-BC39-1589CE62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B7D3E-6B13-4C5F-AEEC-F47A968D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ED9B-79F9-49AF-8044-1FD3303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76A91-0854-4040-BFCB-A94B8389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CAD5B-335C-4220-8D16-2609A4B7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C5F51-E50B-4998-8848-06F3BE56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D90A-4344-45C1-BFA9-D420A8B31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A97A-212F-41AC-8E92-1DAB8B46B2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978B-B66E-4600-8AF8-85D9FA1C86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16F-2240-45F1-9C21-8627FA5CBB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17F0-627C-4CAB-8E02-69E5E42E90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F91-C36E-4789-BE45-4ED1BFC219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619-4A97-4762-A4AF-AFBA02B428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DB0-9BAD-498D-A9B7-2041531376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AE3A-B1C1-4948-AC9E-9EA533271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928-9779-4F00-BC8E-A34B0F87C2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CB21-3741-4F19-A8C4-53D5149BA8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1CB8-08FD-4412-88D0-7135DE2A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3C54-9B32-437A-8EBD-633FF7BE6B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530F-2ABD-4020-925D-DF613E132A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DA5-32AA-4513-8D0D-DCA89DD7E8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F629-CFDE-4603-B962-FB7CFABAC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F02B-A4F6-41F3-B05B-A7E1535AA4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78C-2915-45D8-B3A4-9113FD2D2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1472-24C1-44DD-83BD-94134A21DE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175-E5DA-4859-BB2E-AA7A992ABB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7788-ECBF-427B-8B60-301D6A616B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497-AE10-4955-9716-4908E7BA97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9DEE-E00C-4101-9AA8-2F6A1810BE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BF04-D10E-4F29-B1E7-974BB889E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02F-7AF5-43C2-A67C-640FF08461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A4D1-0C3D-4EF1-A5CF-3D687E0CE8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1258920" y="569736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尚经小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吴    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WordArt 11" descr=""/>
          <p:cNvPicPr/>
          <p:nvPr/>
        </p:nvPicPr>
        <p:blipFill>
          <a:blip r:embed="rId2"/>
          <a:stretch/>
        </p:blipFill>
        <p:spPr>
          <a:xfrm>
            <a:off x="2189160" y="334800"/>
            <a:ext cx="5016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762120" y="838080"/>
            <a:ext cx="7772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这一假说，一些与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亲缘关系较近的恐龙应该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羽毛，但相关化石一直没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找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6012000" y="148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51672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4"/>
          <p:cNvSpPr/>
          <p:nvPr/>
        </p:nvSpPr>
        <p:spPr>
          <a:xfrm>
            <a:off x="2124000" y="2781360"/>
            <a:ext cx="87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搜集关于恐龙的资料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以自由形式组合，制作成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抄报。举办恐龙知识展活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Object 13"/>
          <p:cNvGraphicFramePr/>
          <p:nvPr/>
        </p:nvGraphicFramePr>
        <p:xfrm>
          <a:off x="685800" y="1981080"/>
          <a:ext cx="38098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9" name="Picture 17" descr="05"/>
          <p:cNvPicPr/>
          <p:nvPr/>
        </p:nvPicPr>
        <p:blipFill>
          <a:blip r:embed="rId3"/>
          <a:stretch/>
        </p:blipFill>
        <p:spPr>
          <a:xfrm>
            <a:off x="4572000" y="3573360"/>
            <a:ext cx="4176720" cy="3024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8" descr="07"/>
          <p:cNvPicPr/>
          <p:nvPr/>
        </p:nvPicPr>
        <p:blipFill>
          <a:blip r:embed="rId4"/>
          <a:stretch/>
        </p:blipFill>
        <p:spPr>
          <a:xfrm>
            <a:off x="250920" y="3573360"/>
            <a:ext cx="3889440" cy="3095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9" descr="kl17-1"/>
          <p:cNvPicPr/>
          <p:nvPr/>
        </p:nvPicPr>
        <p:blipFill>
          <a:blip r:embed="rId5"/>
          <a:stretch/>
        </p:blipFill>
        <p:spPr>
          <a:xfrm>
            <a:off x="324000" y="260280"/>
            <a:ext cx="3743280" cy="2989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1" descr="proceratopsias1"/>
          <p:cNvPicPr/>
          <p:nvPr/>
        </p:nvPicPr>
        <p:blipFill>
          <a:blip r:embed="rId6"/>
          <a:stretch/>
        </p:blipFill>
        <p:spPr>
          <a:xfrm>
            <a:off x="4427640" y="260280"/>
            <a:ext cx="4248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838080" y="1143000"/>
            <a:ext cx="7925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中生代时期，恐龙的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支经过漫长的演化，最终变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凌空翱翔的鸟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7488360" y="1844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900000" y="285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700360" y="2781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●  ●  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324000" y="220500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3203640" y="0"/>
            <a:ext cx="568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资料袋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在我国辽西                                                             地区大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亿年前沉积的岩石当中发现了一种叫做“中华龙鸟”的小型肉食性恐龙化石标本。我国科学家发现，这一恐龙身体上覆盖着一层“毛”状皮肤衍生物。这是历史上第一次在非鸟类的动物身体上发现羽毛，这一发现为“鸟类起源于恐龙的假说”提供了强有力的证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6" descr="tu_05"/>
          <p:cNvPicPr/>
          <p:nvPr/>
        </p:nvPicPr>
        <p:blipFill>
          <a:blip r:embed="rId2"/>
          <a:stretch/>
        </p:blipFill>
        <p:spPr>
          <a:xfrm>
            <a:off x="179280" y="476280"/>
            <a:ext cx="266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79280" y="189000"/>
          <a:ext cx="8785440" cy="5297400"/>
        </p:xfrm>
        <a:graphic>
          <a:graphicData uri="http://schemas.openxmlformats.org/drawingml/2006/table">
            <a:tbl>
              <a:tblPr/>
              <a:tblGrid>
                <a:gridCol w="1152720"/>
                <a:gridCol w="6264360"/>
                <a:gridCol w="1368360"/>
              </a:tblGrid>
              <a:tr h="154944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形态各异的庞大家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它们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作者说明的角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些两足奔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生活   习性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些身长几十米，重达数十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些凶猛异常，茹毛饮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2" name="Text Box 124"/>
          <p:cNvSpPr/>
          <p:nvPr/>
        </p:nvSpPr>
        <p:spPr>
          <a:xfrm>
            <a:off x="1403280" y="2276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些四足行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35"/>
          <p:cNvSpPr/>
          <p:nvPr/>
        </p:nvSpPr>
        <p:spPr>
          <a:xfrm>
            <a:off x="1403280" y="342900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材小巧，体重不足几公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0"/>
          <p:cNvSpPr/>
          <p:nvPr/>
        </p:nvSpPr>
        <p:spPr>
          <a:xfrm>
            <a:off x="7772760" y="32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形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1"/>
          <p:cNvSpPr/>
          <p:nvPr/>
        </p:nvSpPr>
        <p:spPr>
          <a:xfrm>
            <a:off x="1476360" y="4797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些温顺可爱，以植物为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2"/>
          <p:cNvSpPr/>
          <p:nvPr/>
        </p:nvSpPr>
        <p:spPr>
          <a:xfrm>
            <a:off x="7596360" y="4437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性情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43" descr="75KT2046"/>
          <p:cNvPicPr/>
          <p:nvPr/>
        </p:nvPicPr>
        <p:blipFill>
          <a:blip r:embed="rId2"/>
          <a:stretch/>
        </p:blipFill>
        <p:spPr>
          <a:xfrm>
            <a:off x="684360" y="556272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5"/>
          <p:cNvSpPr/>
          <p:nvPr/>
        </p:nvSpPr>
        <p:spPr>
          <a:xfrm>
            <a:off x="0" y="0"/>
            <a:ext cx="95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课文，完成下面的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身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体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转移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树木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具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最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3492360" y="14842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3564000" y="206064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564000" y="270828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3240" y="-1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1116000" y="1197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逐渐变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14836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长出美丽的羽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1619280" y="19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树上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6156360" y="1844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跳跃、降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1042920" y="2492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滑翔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5292720" y="2492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能够主动飞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0"/>
          <p:cNvSpPr/>
          <p:nvPr/>
        </p:nvSpPr>
        <p:spPr>
          <a:xfrm>
            <a:off x="8494560" y="141300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8494560" y="213372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23" descr="图片1"/>
          <p:cNvPicPr/>
          <p:nvPr/>
        </p:nvPicPr>
        <p:blipFill>
          <a:blip r:embed="rId2"/>
          <a:stretch/>
        </p:blipFill>
        <p:spPr>
          <a:xfrm>
            <a:off x="0" y="3301920"/>
            <a:ext cx="9144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990720" y="1295280"/>
            <a:ext cx="6933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，一些猎食性恐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身体逐渐变小，长得也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越像鸟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851280" y="1916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771640" y="2924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838080" y="1143000"/>
            <a:ext cx="87631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们中的一些种类可能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躲避敌害或寻找食物而转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树上生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4356000" y="17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651672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826920" y="765000"/>
            <a:ext cx="69343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树栖的恐龙在树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间跳跃、降落，慢慢具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滑翔能力，并最终能够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飞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5435640" y="24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4:41:27Z</dcterms:created>
  <dc:creator>顾键</dc:creator>
  <dc:description/>
  <dc:language>en-US</dc:language>
  <cp:lastModifiedBy>a</cp:lastModifiedBy>
  <dcterms:modified xsi:type="dcterms:W3CDTF">2015-01-22T02:32:04Z</dcterms:modified>
  <cp:revision>21</cp:revision>
  <dc:subject/>
  <dc:title>PowerPoint 演示文稿</dc:title>
</cp:coreProperties>
</file>