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9.jpeg" ContentType="image/jpeg"/>
  <Override PartName="/ppt/media/image16.gif" ContentType="image/gif"/>
  <Override PartName="/ppt/media/image14.jpeg" ContentType="image/jpeg"/>
  <Override PartName="/ppt/media/image20.gif" ContentType="image/gif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type.wav" ContentType="audio/x-wav"/>
  <Override PartName="/ppt/media/image8.jpeg" ContentType="image/jpeg"/>
  <Override PartName="/ppt/media/camera.wav" ContentType="audio/x-wav"/>
  <Override PartName="/ppt/media/image23.png" ContentType="image/png"/>
  <Override PartName="/ppt/media/image13.jpeg" ContentType="image/jpeg"/>
  <Override PartName="/ppt/media/image24.gif" ContentType="image/gif"/>
  <Override PartName="/ppt/media/image9.gif" ContentType="image/gif"/>
  <Override PartName="/ppt/media/laser.wav" ContentType="audio/x-wav"/>
  <Override PartName="/ppt/media/projctor.wav" ContentType="audio/x-wav"/>
  <Override PartName="/ppt/media/image26.png" ContentType="image/png"/>
  <Override PartName="/ppt/media/image3.png" ContentType="image/png"/>
  <Override PartName="/ppt/media/image27.jpeg" ContentType="image/jpeg"/>
  <Override PartName="/ppt/media/glass.wav" ContentType="audio/x-wav"/>
  <Override PartName="/ppt/media/image4.jpeg" ContentType="image/jpeg"/>
  <Override PartName="/ppt/media/image25.jpeg" ContentType="image/jpeg"/>
  <Override PartName="/ppt/media/image2.png" ContentType="image/png"/>
  <Override PartName="/ppt/media/image1.jpeg" ContentType="image/jpeg"/>
  <Override PartName="/ppt/media/image10.gif" ContentType="image/gif"/>
  <Override PartName="/ppt/media/image22.jpeg" ContentType="image/jpeg"/>
  <Override PartName="/ppt/media/cashreg.wav" ContentType="audio/x-wav"/>
  <Override PartName="/ppt/media/image21.jpeg" ContentType="image/jpeg"/>
  <Override PartName="/ppt/media/image6.gif" ContentType="image/gif"/>
  <Override PartName="/ppt/media/chimes.wav" ContentType="audio/x-wav"/>
  <Override PartName="/ppt/media/image11.jpeg" ContentType="image/jpeg"/>
  <Override PartName="/ppt/media/image17.jpeg" ContentType="image/jpeg"/>
  <Override PartName="/ppt/media/image1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D07-7F74-4A6A-9078-BD0350C8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A68-5324-4604-85DC-AA12C777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784BE-5669-4755-B06B-B0B76F0C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C8B3C-EF1F-4001-8E1D-8E5B75C4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E60C3-44A5-42F0-908C-CFB7CB69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3AF361-B1E2-472B-AFEF-00C56CF09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B8369-1740-4210-A68E-F17667C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A3373-19C3-471B-AF0B-D4F76679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A74D2-D12E-4598-9FD9-56E72091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91D00-E962-4A5A-BFBE-060CC03E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0C126-2AB2-4557-9ACE-C5CCBA6D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53A7E-148F-43A6-8216-BAE00B0A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780-3A27-4C49-A3F3-4DCE41DD8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90475-ADBE-4A4F-82C6-B80F126B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C9066-28EC-4A85-B4AE-C171F572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1F7D7-0E8E-4627-AE65-435132EE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57453-A130-49B7-859C-495B9715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6AFBE-A671-475E-B4DD-C2A2353B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28C1A-8A7B-476C-AA70-81398231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AE4EA-BE2A-42A7-91FC-850ED31D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E3DA85-DCD4-4F18-A423-674FEB5B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9DC91-4745-4106-9235-4D9B1CC1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B2152-5661-4907-9CFD-0624227F7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2C8-A241-441C-B43C-2C272A08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BF4C7-488D-4109-B74B-4A13EE95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77208-1C61-4EE3-8C69-339A4E91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4D97E-FD0B-4780-8C75-CF75BBB1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D3E43-E04D-4A6C-ACE2-A7F696CA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A3D84-E7AD-4E88-8393-23D48EFD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73537-8917-4A53-977D-7426B25C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A1D22-CA74-4ECE-9239-0BC7D219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CCCAF-6E7E-4A2A-B0D7-1ADFB9D3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75ECB-AD37-4614-AD68-40F92B1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33268E-FAF1-4099-89D3-22CE5A0B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FF41-98E2-485C-A360-3DB13770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8E360-6614-4A4D-899D-E6FEAD7C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FD97C-BC5E-44A3-96FC-08F82037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9353F-32EC-4B32-B795-BAED54978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59C9D-1913-4996-A1C6-F96F5CBB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AB3B1-90F6-473D-9655-DAF5E02E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3BA17-8223-46B0-8DD6-E9C8B03B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86B1B-13AB-41A1-85EB-8059ED18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44B8D-BE97-41EF-A2C5-E3D8369F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2CBB8-D0B2-4038-B1C8-152D2C25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14963D-32A9-4DE8-A154-4198216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6425-3C58-41FF-8614-41C744AF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6AEBB-26F3-466C-A826-46B66604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760AC0-0A06-4EF1-95A2-59DDF85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CA978-4651-4495-8E21-7712C1A2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BB018-4405-4FB6-98B9-F9491C0C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83651E-8421-435C-8FCC-06E38704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AE916D-E4E7-4877-8842-63FF7106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C0BD4-725A-4EEE-986E-B1FB2A07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742AD3-396A-45F1-8A32-DFF6ABCA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84DDA-F479-48AE-8387-89723EE2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461A22-04C7-4CAD-9D22-24D90DB6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F560-6986-4314-AF8B-51132368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FE9E2-E52B-4399-A12E-607AA249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5D986C-1418-4106-A9A7-E61FEEDA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4714D-1A75-4C92-BDD8-36411DB0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DF844-DF8A-44FE-B6F0-93E34722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E3C9A-FFFB-4A6A-BEEA-76E3F4B7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4CDB2-CAEA-4CCB-AE5D-F46D3A27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829F9-6D97-4C6D-B895-FB6B4392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EE64-8A87-41AA-B6BF-66A6939D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FB02-3EA5-480C-8CBF-17834209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3148-03F1-4336-A64C-2DFF3A9B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7E40-930D-4395-A0AE-1D7CFBD6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8A6-05DD-4E79-883D-134A1DAA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A178-8AA7-4890-BB24-58FC46F2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B004-E6EA-4A6E-80F6-D941163C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7B71-6C06-4166-A13B-67EFAF9A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2E0F-4390-42B0-8D55-D0734ED18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F505-BCA0-4840-AE1B-5517648A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1D5B-36C0-47D8-AC46-D24337D4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557F-1DDC-4A51-A0D6-437B058C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90258-7862-4AF4-98A5-E257D7FA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EB534-D424-4E87-BEED-9339D356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8D902-0B12-43A1-A34A-779DCD7B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0CFA-DA90-4A64-BD16-76BC1DC1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DEB4C-A27E-4427-BCA0-019B37FD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88251-8D98-4904-AAF4-8D6AF63E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D0CE9-5C5D-435C-8651-703420C7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6A9AC-F570-4F4B-B5E3-2C780B2D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0ED01-4A7E-4F3C-889F-A8F13A2B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7A45-80A6-43FE-97D6-5F62022D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8FD7C-6B25-4FED-AF2C-0BD45D11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F25E2-405D-4A82-AAAF-914AFAF0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6E3C1-82DF-40D4-97BE-7D6FCAA0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3B46D-FB48-41AA-81FC-B4D5D32A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792E-8E08-49D4-B3FE-01FF7257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D5AE-7EB4-45E9-8ED3-AA26F94C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B048-72C2-4196-ABEB-D14BB54B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BB87E-F6A1-49DB-8B4C-E34A3C9E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5C75B-B43A-48C5-BAF2-CAD5622D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120ED-B3BD-4402-81EC-27EF2C23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8141-8B4D-46A3-A98A-0CF6B546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BAA78-5FCE-4DFD-AE32-3D9EE97A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7074-9F06-4F0E-B8BF-EB8DC587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2B3C-6F75-4067-80AC-6C480A00F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5AE3A-781E-4247-B38D-899F5A6F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6F8-64C1-4590-91E0-92B6B249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C9466-5953-4667-B294-E6F75925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6257F-26AA-43B3-8B3F-A0F922B8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B9DD1-BD7E-411A-9CD5-D6E7F7FB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BEEB8-EECE-4C7A-8AE2-10039353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714C9-F1EE-43A2-B51E-98F3CD7B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498F3-E812-4FCC-BDED-EA59B26C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F3749-FE1E-46A5-9128-1EA381FF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3318A-03E6-4705-AA72-A55CBAAB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D0C7E-A0AC-45E7-B5F5-79A71870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F10C-F64A-4D1D-9EB3-8B6CC5EA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52D-09A7-4CBE-B309-E422A8A3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9EF8-58C7-47D4-B31E-A795491B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05477-01EB-4D42-B68B-F62A00D6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B5C7-842D-4821-AD2C-DD02996E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22A02-6D2E-46FE-83C9-5C828BE89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F76B5-1EE1-47FB-8F28-49BF3988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CD658-7C9B-4D87-9CCC-9D26F230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6F4E-E14B-492E-8FD2-4F54A56C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C74FB-44E1-4AF0-A3EC-B88685C8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40DF0-D55B-4320-BBFD-C3585843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EFBD2-CBED-45AE-A3DC-0428DA57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193-09C6-4F98-800D-C0A024D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F753F-75DE-4509-B822-732BA66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EFC1D-B6F6-4836-9FFF-82453BF5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DE82E-38DC-4272-9E32-2E9F7FFAF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49076-985F-493F-A142-393ECC314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12282-3A82-4868-A69C-4BFB1046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D3E9A-19E7-4C99-B430-9D1FB23F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2EB28-F5FC-4B3F-847A-7F316EC5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1833-1E58-4AA3-8C67-0C0C5FF0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3239B-BC59-4F0B-938B-1E96805E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7BB7-2A5E-41AD-BF48-6CE27AD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A0A-5C6C-4695-BFD6-92FB8D3E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23C26-4B7A-4A57-B6B7-50E0AECC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EC734-50A4-406A-95C4-24F973D3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BDE92-5C75-402B-81AB-42D3EB19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507E8-0233-431B-90EA-3A567C15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F5DA5-EA75-43ED-85E3-E2764693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D82B9-D948-47DD-B9BC-941A7A36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12CFF-8AE5-42DC-ADB5-2DDDC8AC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98742-96E6-429A-9D9B-B383753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EBA81-9302-4A87-B2A1-FD9C52B0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3DC21-3FD0-44E5-B244-975BD617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A65-BCBB-40AA-A5F7-61954BF8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65DCD-36F4-4B31-BCFC-2B1D53E5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789E1-FDB4-417B-83C5-B3FCAD8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F1BA9-9EAC-444D-8E4C-E73D874E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46D8-A1DD-458C-88D7-F980D82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27390-5C73-4DC0-A0A3-3B9C8D45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297C0-3D15-467B-B9E3-0D13283DA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7C305-6129-4896-933E-73ECBDAB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0F63D3-2406-4883-A633-0FD15DA8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4DB41-7C4A-40E2-91AD-6F1608E6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8568E-E32B-410E-9A54-675B525D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008F-072C-46AB-814D-5300C9B3A04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E0C5-BF8C-475E-AE9D-35A99F51D55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8978-98B2-46E8-A4AA-0A64664232A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247A-1129-414F-8681-0EA954A9A08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5F60-9B7D-43F3-BC2D-AA744A06299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CC26-BC36-4B33-AF6D-70DFEDE67CB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91D9-79A3-40DD-87A5-B707827BBA3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91FC-6FE5-4767-947A-3F67540B9DA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9AF1-55C4-4288-B753-7DDD5569E83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6FA8-D07E-4200-B82A-D229FC70817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D42D-EDB2-498F-A5CF-A91A0A3AA4B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52CF-5870-4839-ADC9-F238F753EE7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00A7-6714-4591-BBD7-48216D411C2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E71F-F51D-4A22-8809-D55368FE24C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D532-24C8-4195-9E86-B22C0BBEE82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854B-074C-47A8-B05E-4EA51A49748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1FCE-84D0-4C04-8AB8-F56C1DECC9D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78A4-BB1E-4756-8228-01B3AE8F366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B8EF-509F-481D-B402-61DA0C5F0BA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AF7D-139E-421C-BDFA-1EB0F7F4C1A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AFBB-CE76-4DE4-8E7D-A870133D812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2E85-998D-4BCC-B89C-E54BB8AC712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0ABC-B409-4328-B68B-4CA0A3300C0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2D50-A307-41B3-9786-40AF71754F4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5512-3AD5-4902-81AC-62A9AEE3529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type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gi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woods.mid" descr=""/>
          <p:cNvPicPr/>
          <p:nvPr/>
        </p:nvPicPr>
        <p:blipFill>
          <a:blip r:embed="rId2"/>
          <a:stretch/>
        </p:blipFill>
        <p:spPr>
          <a:xfrm>
            <a:off x="7620120" y="5719680"/>
            <a:ext cx="990360" cy="681120"/>
          </a:xfrm>
          <a:prstGeom prst="rect">
            <a:avLst/>
          </a:prstGeom>
          <a:ln w="0">
            <a:noFill/>
          </a:ln>
        </p:spPr>
      </p:pic>
      <p:pic>
        <p:nvPicPr>
          <p:cNvPr id="535" name="Text Box 10" descr=""/>
          <p:cNvPicPr/>
          <p:nvPr/>
        </p:nvPicPr>
        <p:blipFill>
          <a:blip r:embed="rId3"/>
          <a:stretch/>
        </p:blipFill>
        <p:spPr>
          <a:xfrm>
            <a:off x="1285920" y="835200"/>
            <a:ext cx="4754520" cy="221904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质疑探究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、“我不幸偶而看了一本外国的讲论儿童的书，才知道游戏是儿童的最正当的行为，玩具是儿童的天使。”为什么说“不幸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、从第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段中找出一句有关文章主旨的句子，说说反映了什么主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、对待早年的过错，鲁迅先生的心情如此沉重，你从鲁迅先生身上学到一种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新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5" descr="08"/>
          <p:cNvPicPr/>
          <p:nvPr/>
        </p:nvPicPr>
        <p:blipFill>
          <a:blip r:embed="rId1"/>
          <a:stretch/>
        </p:blipFill>
        <p:spPr>
          <a:xfrm>
            <a:off x="6019920" y="380880"/>
            <a:ext cx="213336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5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6" descr="BJ_0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华文行楷"/>
                <a:ea typeface="华文行楷"/>
              </a:rPr>
              <a:t>小结</a:t>
            </a:r>
            <a:r>
              <a:rPr b="1" lang="zh-CN" sz="5400" spc="-1" strike="noStrike">
                <a:solidFill>
                  <a:srgbClr val="660033"/>
                </a:solidFill>
                <a:latin typeface="华文行楷"/>
                <a:ea typeface="华文行楷"/>
              </a:rPr>
              <a:t>(3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Times New Roman"/>
                <a:ea typeface="华文中宋"/>
              </a:rPr>
              <a:t>   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华文中宋"/>
              </a:rPr>
              <a:t>这部分主我们刻画了一个天真、活泼、聪明、瘦弱的小兄弟形象。而“我”是一个野蛮粗暴的“虐杀者”。文中隐含着对小兄弟的可怜、同情和痛楚的手足之情，也隐含着深深的自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5" descr="ZW_008"/>
          <p:cNvPicPr/>
          <p:nvPr/>
        </p:nvPicPr>
        <p:blipFill>
          <a:blip r:embed="rId2"/>
          <a:stretch/>
        </p:blipFill>
        <p:spPr>
          <a:xfrm>
            <a:off x="6629400" y="4800600"/>
            <a:ext cx="2057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6" descr="景色1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5" descr="12"/>
          <p:cNvPicPr/>
          <p:nvPr/>
        </p:nvPicPr>
        <p:blipFill>
          <a:blip r:embed="rId2"/>
          <a:stretch/>
        </p:blipFill>
        <p:spPr>
          <a:xfrm>
            <a:off x="0" y="0"/>
            <a:ext cx="1095480" cy="11905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质疑探究</a:t>
            </a: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阅读最后段，回答下列问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、为什么说“我”的悲哀是“无可把握的悲哀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、“我”为什么要“躲到肃杀的严冬中去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  <a:ea typeface="华文中宋"/>
              </a:rPr>
              <a:t>、如何理解最后的“寒威和冷气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2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6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质疑探究</a:t>
            </a: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中两次强调季节的严寒，语意双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面上写季节，实指当时的黑暗统治。“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杀”、“寒威”、“冷气”，形容冷酷萧条，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生气的景象和给人的感受，实指军阀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府实行高压政策造成冷酷沉闷气氛和“我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这种气氛的不满和愤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5" descr="Br045"/>
          <p:cNvPicPr/>
          <p:nvPr/>
        </p:nvPicPr>
        <p:blipFill>
          <a:blip r:embed="rId1"/>
          <a:stretch/>
        </p:blipFill>
        <p:spPr>
          <a:xfrm>
            <a:off x="5562720" y="4952880"/>
            <a:ext cx="358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7" descr="scene3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ff33"/>
                </a:solidFill>
                <a:latin typeface="Times New Roman"/>
                <a:ea typeface="华文行楷"/>
              </a:rPr>
              <a:t>全文小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这篇散文，说的是“我”小时候以十分粗暴的行为不许小兄弟放风筝，不准小兄弟弄这种“我”当时以为没出息的玩意。待到终于醒悟过来，明白游戏之于儿童的意义，才觉得自己当年的行径，简直是“对于精神的虐杀”。虽然事隔久远，作者还是一心想补过，然而小兄弟却全然忘却，“我”的沉重的心只得一直沉重下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340000" y="62028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体验与拓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12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结合课后“研讨与练习”三，阅读周粲的《满天的风筝》一文，比较与课文所蕴含的情感有什么不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通过比较可知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鲁迅《风筝》一文，感情的基调是深沉的悲哀：虐杀者觉悟要改过，而被虐杀者对过去的虐杀行为早已忘却，以致我无从补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周粲的《风筝》一文则完全不同，全文抒发的是小时候跟二哥一起放风筝的快乐，写自己类推风筝放起来又满足又骄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7" descr="ZW_022"/>
          <p:cNvPicPr/>
          <p:nvPr/>
        </p:nvPicPr>
        <p:blipFill>
          <a:blip r:embed="rId2"/>
          <a:stretch/>
        </p:blipFill>
        <p:spPr>
          <a:xfrm>
            <a:off x="838080" y="304920"/>
            <a:ext cx="27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033" descr="scene383"/>
          <p:cNvPicPr/>
          <p:nvPr/>
        </p:nvPicPr>
        <p:blipFill>
          <a:blip r:embed="rId2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607" name="WordArt 1029"/>
          <p:cNvSpPr txBox="1"/>
          <p:nvPr/>
        </p:nvSpPr>
        <p:spPr>
          <a:xfrm>
            <a:off x="1219320" y="838080"/>
            <a:ext cx="69339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谢谢大家参与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08" name="WordArt 1030" descr="纸袋"/>
          <p:cNvPicPr/>
          <p:nvPr/>
        </p:nvPicPr>
        <p:blipFill>
          <a:blip r:embed="rId3"/>
          <a:stretch/>
        </p:blipFill>
        <p:spPr>
          <a:xfrm>
            <a:off x="1871640" y="3035160"/>
            <a:ext cx="6113520" cy="1317600"/>
          </a:xfrm>
          <a:prstGeom prst="rect">
            <a:avLst/>
          </a:prstGeom>
          <a:ln w="0">
            <a:noFill/>
          </a:ln>
        </p:spPr>
      </p:pic>
      <p:pic>
        <p:nvPicPr>
          <p:cNvPr id="609" name="bgm12.mid" descr=""/>
          <p:cNvPicPr/>
          <p:nvPr/>
        </p:nvPicPr>
        <p:blipFill>
          <a:blip r:embed="rId4"/>
          <a:stretch/>
        </p:blipFill>
        <p:spPr>
          <a:xfrm>
            <a:off x="7391520" y="51814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ff00"/>
                </a:solidFill>
                <a:latin typeface="Times New Roman"/>
              </a:endParaRPr>
            </a:p>
          </p:txBody>
        </p:sp>
        <p:pic>
          <p:nvPicPr>
            <p:cNvPr id="61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1" lang="en-US" sz="3200" spc="-1" strike="noStrike">
                <a:solidFill>
                  <a:srgbClr val="00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shiti/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1" lang="en-US" sz="100" spc="-1" strike="noStrike">
              <a:solidFill>
                <a:srgbClr val="00ff00"/>
              </a:solidFill>
              <a:latin typeface="Times New Roman"/>
            </a:endParaRPr>
          </a:p>
        </p:txBody>
      </p:sp>
      <p:pic>
        <p:nvPicPr>
          <p:cNvPr id="537" name="Picture 5" descr="bj1201"/>
          <p:cNvPicPr/>
          <p:nvPr/>
        </p:nvPicPr>
        <p:blipFill>
          <a:blip r:embed="rId11"/>
          <a:srcRect l="0" t="0" r="6717" b="6336"/>
          <a:stretch/>
        </p:blipFill>
        <p:spPr>
          <a:xfrm>
            <a:off x="-648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教学目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590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整体感知课文内容，提出问题，体会作者的思想感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在合作中，探究问题，解决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能结合具体的语境，分析语言所蕴含的深刻含义，巩固分析语言的方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学习鲁迅先生勇于自我解剖、自我反省，并从小事中透视出重大主题的精神和境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cover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幼圆"/>
              </a:rPr>
              <a:t>整体感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、这篇散文回忆的是什么事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、“我”为什么不许小兄弟放风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、为什么说不许小兄弟放风筝是“对于精神的虐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4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、鲁迅对待自己错误的态度与一般人有什么不同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Picture 5" descr="46"/>
          <p:cNvPicPr/>
          <p:nvPr/>
        </p:nvPicPr>
        <p:blipFill>
          <a:blip r:embed="rId1"/>
          <a:stretch/>
        </p:blipFill>
        <p:spPr>
          <a:xfrm>
            <a:off x="533520" y="457200"/>
            <a:ext cx="2286000" cy="13590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ZW_039"/>
          <p:cNvPicPr/>
          <p:nvPr/>
        </p:nvPicPr>
        <p:blipFill>
          <a:blip r:embed="rId2"/>
          <a:stretch/>
        </p:blipFill>
        <p:spPr>
          <a:xfrm>
            <a:off x="7086600" y="5303880"/>
            <a:ext cx="2057400" cy="1554120"/>
          </a:xfrm>
          <a:prstGeom prst="rect">
            <a:avLst/>
          </a:prstGeom>
          <a:ln w="0">
            <a:noFill/>
          </a:ln>
        </p:spPr>
      </p:pic>
    </p:spTree>
  </p:cSld>
  <p:transition advTm="0">
    <p:comb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i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小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这篇课文的意蕴很丰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有手足情；游戏对于儿童的意义；“我”的自省精神；小兄弟无怨恨的思想内容。又集中表达了“我”的惊异、悔恨、补过、悲哀的情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5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质疑探究</a:t>
            </a:r>
            <a:r>
              <a:rPr b="1" lang="zh-CN" sz="54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、为什么“在我是一种惊异和悲哀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中宋"/>
              </a:rPr>
              <a:t>、画出描写故乡风筝时节的“春光明媚”的句子，说说作者为什么把往事的回忆放在这样的画面中展开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6" descr="0002"/>
          <p:cNvPicPr/>
          <p:nvPr/>
        </p:nvPicPr>
        <p:blipFill>
          <a:blip r:embed="rId2"/>
          <a:stretch/>
        </p:blipFill>
        <p:spPr>
          <a:xfrm>
            <a:off x="838080" y="533520"/>
            <a:ext cx="2971800" cy="1218960"/>
          </a:xfrm>
          <a:prstGeom prst="rect">
            <a:avLst/>
          </a:prstGeom>
          <a:ln w="0">
            <a:noFill/>
          </a:ln>
        </p:spPr>
      </p:pic>
    </p:spTree>
  </p:cSld>
  <p:transition advTm="0">
    <p:newsflash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ZW_023"/>
          <p:cNvPicPr/>
          <p:nvPr/>
        </p:nvPicPr>
        <p:blipFill>
          <a:blip r:embed="rId2"/>
          <a:stretch/>
        </p:blipFill>
        <p:spPr>
          <a:xfrm>
            <a:off x="7391520" y="5375160"/>
            <a:ext cx="1752480" cy="148284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小结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(1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  <a:ea typeface="黑体"/>
              </a:rPr>
              <a:t>     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作者在北京的冬季看到天空中的风筝所引发的惊慌和悲哀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引出下文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)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在“春光明媚”的画面里展开了对往事的回忆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使现实中的严冬的“寒威”与回想中春日的“温和”互相映衬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既增添了回忆往事哀婉动 人的力量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又使文章带上几分明丽的色彩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透露出作者不满黑暗现实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向往光明天地的心情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ef2e5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6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质疑探究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、找出描写小兄弟观望他人放风筝的语句，分析从哪几方面写的？他为我们勾画了一个什么样的儿童形象？对小兄弟流露出什么感情？（结合插图体会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、第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段、第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4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段，一面写“我”，一面写小兄弟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根据提示表演小短剧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3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华文中宋"/>
              </a:rPr>
              <a:t>、文中所说的“精神虐杀”的一幕，具体指什么？用自己的话概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5" descr="16"/>
          <p:cNvPicPr/>
          <p:nvPr/>
        </p:nvPicPr>
        <p:blipFill>
          <a:blip r:embed="rId2"/>
          <a:stretch/>
        </p:blipFill>
        <p:spPr>
          <a:xfrm>
            <a:off x="685800" y="0"/>
            <a:ext cx="1496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景色9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3"/>
          <p:cNvSpPr/>
          <p:nvPr/>
        </p:nvSpPr>
        <p:spPr>
          <a:xfrm>
            <a:off x="1087200" y="260280"/>
            <a:ext cx="45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提示性词语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endParaRPr b="1" lang="en-US" sz="9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95920" y="206064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我”：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生疑”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212400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2445120" y="220500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侦察”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4" name="Line 7"/>
          <p:cNvSpPr/>
          <p:nvPr/>
        </p:nvSpPr>
        <p:spPr>
          <a:xfrm>
            <a:off x="3419640" y="2421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995640" y="2205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破获”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6" name="Line 9"/>
          <p:cNvSpPr/>
          <p:nvPr/>
        </p:nvSpPr>
        <p:spPr>
          <a:xfrm>
            <a:off x="5003640" y="2492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5783760" y="2276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抓断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644364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7341480" y="2276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掷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0" name="Line 13"/>
          <p:cNvSpPr/>
          <p:nvPr/>
        </p:nvSpPr>
        <p:spPr>
          <a:xfrm>
            <a:off x="8028000" y="2492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11040" y="3160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踏扁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2" name="Line 15"/>
          <p:cNvSpPr/>
          <p:nvPr/>
        </p:nvSpPr>
        <p:spPr>
          <a:xfrm>
            <a:off x="1042920" y="3357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2154960" y="308772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傲然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走出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4" name="Line 17"/>
          <p:cNvSpPr/>
          <p:nvPr/>
        </p:nvSpPr>
        <p:spPr>
          <a:xfrm>
            <a:off x="3419640" y="3357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5" name="Text Box 18"/>
          <p:cNvSpPr/>
          <p:nvPr/>
        </p:nvSpPr>
        <p:spPr>
          <a:xfrm>
            <a:off x="4619880" y="30877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没有留</a:t>
            </a:r>
            <a:r>
              <a:rPr b="1" lang="zh-CN" sz="1800" spc="-1" strike="noStrike">
                <a:solidFill>
                  <a:srgbClr val="ff33cc"/>
                </a:solidFill>
                <a:latin typeface="Arial"/>
                <a:ea typeface="宋体"/>
              </a:rPr>
              <a:t>心”</a:t>
            </a:r>
            <a:endParaRPr b="1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6" name="Text Box 19"/>
          <p:cNvSpPr/>
          <p:nvPr/>
        </p:nvSpPr>
        <p:spPr>
          <a:xfrm>
            <a:off x="340200" y="3860640"/>
            <a:ext cx="17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宋体"/>
              </a:rPr>
              <a:t>小兄弟”：</a:t>
            </a: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7" name="Text Box 20"/>
          <p:cNvSpPr/>
          <p:nvPr/>
        </p:nvSpPr>
        <p:spPr>
          <a:xfrm>
            <a:off x="2465280" y="4005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惊惶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8" name="Line 21"/>
          <p:cNvSpPr/>
          <p:nvPr/>
        </p:nvSpPr>
        <p:spPr>
          <a:xfrm>
            <a:off x="3348000" y="422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79" name="Text Box 22"/>
          <p:cNvSpPr/>
          <p:nvPr/>
        </p:nvSpPr>
        <p:spPr>
          <a:xfrm>
            <a:off x="4500720" y="3933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瑟缩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80" name="Line 23"/>
          <p:cNvSpPr/>
          <p:nvPr/>
        </p:nvSpPr>
        <p:spPr>
          <a:xfrm>
            <a:off x="5435640" y="422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81" name="Text Box 24"/>
          <p:cNvSpPr/>
          <p:nvPr/>
        </p:nvSpPr>
        <p:spPr>
          <a:xfrm>
            <a:off x="7004520" y="4005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宋体"/>
              </a:rPr>
              <a:t>绝望地站在小屋里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transition spd="slow" advTm="0">
    <p:wheel spokes="1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BJ_0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小结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仿宋_GB2312"/>
              </a:rPr>
              <a:t>          </a:t>
            </a:r>
            <a:r>
              <a:rPr b="1" lang="zh-CN" sz="4000" spc="-1" strike="noStrike">
                <a:solidFill>
                  <a:srgbClr val="993366"/>
                </a:solidFill>
                <a:latin typeface="Times New Roman"/>
                <a:ea typeface="仿宋_GB2312"/>
              </a:rPr>
              <a:t>这部分为我们刻画了一个天真、活泼、聪明、瘦弱的小兄弟形象。而“我”是一个野蛮、粗暴的“虐杀者”。文中隐含着对小兄弟的可怜、同情和痛楚的手足之情，也隐含着深深的自责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5" descr="13"/>
          <p:cNvPicPr/>
          <p:nvPr/>
        </p:nvPicPr>
        <p:blipFill>
          <a:blip r:embed="rId2"/>
          <a:stretch/>
        </p:blipFill>
        <p:spPr>
          <a:xfrm>
            <a:off x="838080" y="457200"/>
            <a:ext cx="1981440" cy="1246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8T05:38:52Z</dcterms:modified>
  <cp:revision>80</cp:revision>
  <dc:subject>第一PPT模板网-WWW.1PPT.COM</dc:subject>
  <dc:title>第一PPT模板网-WWW.1PPT.COM</dc:title>
</cp:coreProperties>
</file>