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gif" ContentType="image/gif"/>
  <Override PartName="/ppt/media/image4.gif" ContentType="image/gif"/>
  <Override PartName="/ppt/media/image5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1BE97-2F5C-40E1-8D2B-865853DF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1063B-FC4A-44D9-B154-26F94A35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8A13C-83A5-4C6C-B119-9A7C3BF2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EDD36-A312-4015-99FB-8451B17D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22B30-9795-4410-BBE8-B0A584D2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4E612-C839-4AA5-81D9-7AF2D479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6E4BF-6375-4FFF-A688-954085D0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624CF-21A0-4617-A9DE-5B5CF0B91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AA580-D274-45F8-880E-46650198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A5870-E07D-4B3E-BC00-2BCCE1CD0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005F3-B1F2-42BD-A89B-A9A11A27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ACEB4-B257-4DEA-B7DB-6EEA7529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7C01E-2682-4248-B8EB-FF4A1CFF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AA19D-931C-4D03-8F6B-7CE44C2A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6E845-2698-434D-A6C8-86590B30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D1793-24AE-4EC0-AD48-5E610DCF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83EC3-F572-4A7D-89E5-CB338438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04086-CB20-4517-8BD9-6E489627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9DEF0-5657-4BB3-B750-F1BA5885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51625-F3E3-4289-B93F-54FB85D61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DCE6B-5738-4417-B6B0-4D175C40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00F0D-8871-4A16-BB01-459BF9688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B4209-0E2C-4872-89B4-E5986C87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AE32F8-48AE-41B1-AFF3-3BBE23E4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5DCDC8-DA19-474D-9386-2C635C89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CFA25-CF15-4FB9-BA17-D715ADE0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435C0-C76F-4ADC-9F7B-BB1E9A60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7D671-E4D6-471F-90BA-1CB9EE9D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834B2-8A78-4DA4-9C17-4CAE2E33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DC066D-B982-4AA1-90E3-32EB84B1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DF0F-7380-44B8-B48A-4A37B4EAC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CB0FA-3A78-485B-A640-01104E36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57EFA-F9E0-48E4-BE64-B06E6E609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8F71A-8DAA-4AB4-BC23-BF3DB21F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345624-8ADC-4AEB-8775-D903C6F82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D19C5-D822-4DA7-B8F4-29524A92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2EDD32-E353-4059-80D4-9A33F035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C996C-B7DF-4606-9FD7-B9374473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636DB-7503-41D8-89D1-91749356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86888-B342-4D08-A8EC-CFF3F5AB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476EC-64C7-499E-882B-959126F4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D975-2486-438B-B367-76718BA2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4D25B-5566-49D2-85A0-302A11BB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27FFA3-BE16-487B-BA64-1AA76D6D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7B1E0-DDAD-45AF-8772-BE63AF5F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C04C14-085A-4006-AB1C-7A49964E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EF2C6-8909-4773-A177-FA6510989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C128C-A147-48A1-9B4D-23B233104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D8009-F46B-471C-AF9B-BADE4C05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79ABA6-D1CB-4490-8AEE-DF2B6D6A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331E6-153C-4CBE-95A7-2FDE3984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17060-0A79-4B4F-8060-8ACF201A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925A-379B-4AA2-BED6-C267DBBA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6D6D9-FE2F-4A8F-8EAA-1E7FC7DE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94E4B-E52A-4630-AC87-C8553F1A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D6700-ABE1-43F3-9629-6DFB59B5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18FBB-F14A-4543-B6EF-08DB34D2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35228-66DC-4FB0-B1EB-230270E6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F7B13-2B5F-427D-AFD5-88F445404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F46AC-64D4-450B-B24F-8B7519914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A07943-24F4-42AA-A21C-A107D846B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739311-4446-4A9C-8F77-267FDEE1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30BBD5-796D-4B87-8034-B55347AC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9759-D841-4433-B139-78845AF2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963ADB-CE53-44C9-978A-46400B30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C1D00E-7D2D-41AD-9BD1-C1E40040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CAEC44-6BC5-4641-8D78-E4474D8F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D75D2B-560F-43FD-97B2-DFA448E8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EF8386-FF8F-45F3-919F-B44FD186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F049F0-AE45-407A-B11A-AA512E0C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E17BD6-127B-402D-ACAB-4B92626D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3931DA-7353-460C-8122-B21126A13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8F253B-4CA4-4AD7-A5B8-115255CDA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A3CB-7E4E-4704-92A0-470E1067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815A-CBE2-4B37-939C-A8D4650D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66DA-5744-461F-894B-60C59CF3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5121-78BA-47A0-8AE1-75FA9151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C721-0314-424D-AE7D-FCFE98E2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C2D3-9E28-45D2-8064-BBF45D15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10B7-BDDB-4BF5-A5F1-6A31ABFA5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6BD3-9A48-45E1-8B6F-0A4CFFC8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0E26-C4BD-4F7B-9893-56D19E164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1001-8F26-431A-BF84-695286A8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A643-BA0F-4E20-8C61-C0B15D4D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A943-6D94-420C-82F9-A7C3F268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BF17-8569-43D4-8BA5-C3D80765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927A-2051-4182-872E-2917F1C8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7D65-2EC0-4395-8FA1-C3788547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C554-C0A8-416E-BD8E-9678D129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25DC-21EB-4E93-9690-9D43CD17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1B66-F213-4363-8E35-BC33AE4C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58B3-C6BD-44E2-AFA2-26BFC2121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8467-EDEF-4AB9-AA2E-37181879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C89CB-5311-4EE1-8402-D41DEA6E6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2EF21-515D-46D2-A58A-7DE250B0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10294-5178-4952-A382-229AF725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259B8-ECDE-478A-A5AB-A9CFDEAB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8BDED-58FA-4A25-B1C0-EB0F94E0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14A69-08CC-4F31-9C1C-5A54DC77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1D6E0-F236-4F79-9A73-0381301B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967B7-5BA1-4B54-BD2D-38BD0A54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2F87A-94BD-4AF4-A7DB-80569E96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58ED1-385F-4E3A-BA4A-AF587DBA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A5D16-AACC-44E2-9D84-151C2A231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BE1B4-6897-48E8-90B8-BE47822DD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98439-0C12-4FF7-A148-1AA54AFE9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9CBAE-A619-4069-BB2F-83F26BBA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6D671-771A-435E-876E-8C3D6B69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9BB5E-83DC-43BD-8466-329C4D4E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4FF04-C501-4967-BB15-E13E1F47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88949-A90E-4CCC-AC87-CE662ADC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3DAE8-6451-4795-9F06-18F36CC6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F4A3F-E21A-4929-A2A8-91CDC2A2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0AFDA-84F9-4BCF-9953-3F0FCD14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224CC-2E7A-46B8-B68D-FD585F9E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D3F56-90E6-4B6A-A506-FE3303328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73BFD-84CC-4FCE-A248-4D98281A7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DDC9B-10F9-4EA6-B630-FB027F1A0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3FE40-3F73-4178-A981-6512975F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74256-6FF8-4408-AA97-EBACE245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F590F-58E0-40BB-90AC-B8041C3D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1484D-7ACD-49C6-812F-0FEEFA05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4F3FB-B621-41D5-915F-BF0DB765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67973-E37E-4398-B088-94599B67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DF640-41B9-4122-9BA8-D2CE44E7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7CE16-3682-45AB-A32D-8EFDA368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F6550-9D2A-4FDD-8CC7-E2B37929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D025B-D6F7-4144-A6F5-7B89BF52D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13585-ED32-4703-8E79-A9318C1C1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DE115-3347-44F1-A12E-043639F5F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545EB-9C43-4910-9E8E-025C09B8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77E8D-0FCE-45D7-81EE-94E71EC9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A7D78-401A-44FA-9247-1D02C853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0D157-7D6A-4E5B-9AD4-A3C34343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0DFA7-6994-4E0E-B6E3-20CABFB1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7BAE6-0105-4587-9952-32913A22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46A61-DBC2-48C0-87EF-D573E5F6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C0367-F0B3-4E7C-8129-E3CE8BE2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E4221-0007-407D-9A87-B816940B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7877E-7D0D-4D6F-8AE1-19CC5F432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B5B99-884B-46A1-82B5-B4A188C8D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FB6B1-622A-40B6-ABAC-E71909ABB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69BC9-FA85-4FC0-9E99-4B78E11B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6D7A4-8D12-4D4F-A6BA-3F3D836B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4"/>
          <p:cNvSpPr/>
          <p:nvPr/>
        </p:nvSpPr>
        <p:spPr>
          <a:xfrm>
            <a:off x="0" y="0"/>
            <a:ext cx="9144000" cy="6524640"/>
          </a:xfrm>
          <a:prstGeom prst="rect">
            <a:avLst/>
          </a:prstGeom>
          <a:solidFill>
            <a:srgbClr val="ffdb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68"/>
          <p:cNvSpPr/>
          <p:nvPr/>
        </p:nvSpPr>
        <p:spPr>
          <a:xfrm>
            <a:off x="-541440" y="-27000"/>
            <a:ext cx="2448000" cy="431640"/>
          </a:xfrm>
          <a:prstGeom prst="flowChartInputOutput">
            <a:avLst/>
          </a:prstGeom>
          <a:solidFill>
            <a:srgbClr val="ff9933">
              <a:alpha val="36000"/>
            </a:srgbClr>
          </a:solidFill>
          <a:ln w="28440">
            <a:solidFill>
              <a:srgbClr val="fe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华文隶书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隶书"/>
              </a:rPr>
              <a:t>吴功斌制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ff9933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9"/>
          <p:cNvSpPr/>
          <p:nvPr/>
        </p:nvSpPr>
        <p:spPr>
          <a:xfrm>
            <a:off x="0" y="6237360"/>
            <a:ext cx="9144000" cy="71280"/>
          </a:xfrm>
          <a:prstGeom prst="rect">
            <a:avLst/>
          </a:prstGeom>
          <a:gradFill rotWithShape="0">
            <a:gsLst>
              <a:gs pos="0">
                <a:srgbClr val="e67300"/>
              </a:gs>
              <a:gs pos="100000">
                <a:srgbClr val="ffffff">
                  <a:alpha val="2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0"/>
          <p:cNvSpPr/>
          <p:nvPr/>
        </p:nvSpPr>
        <p:spPr>
          <a:xfrm>
            <a:off x="0" y="6742080"/>
            <a:ext cx="9144000" cy="71640"/>
          </a:xfrm>
          <a:prstGeom prst="rect">
            <a:avLst/>
          </a:prstGeom>
          <a:gradFill rotWithShape="0">
            <a:gsLst>
              <a:gs pos="0">
                <a:srgbClr val="e67300"/>
              </a:gs>
              <a:gs pos="100000">
                <a:srgbClr val="ffffff">
                  <a:alpha val="2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0"/>
          <p:cNvGrpSpPr/>
          <p:nvPr/>
        </p:nvGrpSpPr>
        <p:grpSpPr>
          <a:xfrm>
            <a:off x="7740720" y="6381720"/>
            <a:ext cx="934920" cy="287280"/>
            <a:chOff x="7740720" y="6381720"/>
            <a:chExt cx="934920" cy="287280"/>
          </a:xfrm>
        </p:grpSpPr>
        <p:sp>
          <p:nvSpPr>
            <p:cNvPr id="6" name="AutoShape 61"/>
            <p:cNvSpPr/>
            <p:nvPr/>
          </p:nvSpPr>
          <p:spPr>
            <a:xfrm>
              <a:off x="7740720" y="6381720"/>
              <a:ext cx="934920" cy="287280"/>
            </a:xfrm>
            <a:prstGeom prst="flowChartAlternateProcess">
              <a:avLst/>
            </a:prstGeom>
            <a:gradFill rotWithShape="0">
              <a:gsLst>
                <a:gs pos="0">
                  <a:srgbClr val="d8beff">
                    <a:alpha val="23137"/>
                  </a:srgbClr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63"/>
            <p:cNvSpPr/>
            <p:nvPr/>
          </p:nvSpPr>
          <p:spPr>
            <a:xfrm>
              <a:off x="7956720" y="6453360"/>
              <a:ext cx="287280" cy="144360"/>
            </a:xfrm>
            <a:prstGeom prst="rightArrow">
              <a:avLst>
                <a:gd name="adj1" fmla="val 50000"/>
                <a:gd name="adj2" fmla="val 49751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64"/>
            <p:cNvSpPr/>
            <p:nvPr/>
          </p:nvSpPr>
          <p:spPr>
            <a:xfrm>
              <a:off x="8317080" y="6453360"/>
              <a:ext cx="0" cy="1443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AutoShape 72">
            <a:hlinkClick r:id="" action="ppaction://hlinkshowjump?jump=endshow"/>
          </p:cNvPr>
          <p:cNvSpPr/>
          <p:nvPr/>
        </p:nvSpPr>
        <p:spPr>
          <a:xfrm>
            <a:off x="7524720" y="630864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20"/>
          <p:cNvGrpSpPr/>
          <p:nvPr/>
        </p:nvGrpSpPr>
        <p:grpSpPr>
          <a:xfrm>
            <a:off x="0" y="-27000"/>
            <a:ext cx="9144000" cy="531720"/>
            <a:chOff x="0" y="-27000"/>
            <a:chExt cx="9144000" cy="531720"/>
          </a:xfrm>
        </p:grpSpPr>
        <p:sp>
          <p:nvSpPr>
            <p:cNvPr id="11" name="AutoShape 7"/>
            <p:cNvSpPr/>
            <p:nvPr/>
          </p:nvSpPr>
          <p:spPr>
            <a:xfrm>
              <a:off x="1476360" y="-27000"/>
              <a:ext cx="7667640" cy="287280"/>
            </a:xfrm>
            <a:prstGeom prst="flowChartProcess">
              <a:avLst/>
            </a:prstGeom>
            <a:solidFill>
              <a:srgbClr val="ffab57"/>
            </a:solidFill>
            <a:ln w="28440">
              <a:solidFill>
                <a:srgbClr val="b84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AutoShape 10"/>
            <p:cNvSpPr/>
            <p:nvPr/>
          </p:nvSpPr>
          <p:spPr>
            <a:xfrm>
              <a:off x="0" y="-27000"/>
              <a:ext cx="2340000" cy="531720"/>
            </a:xfrm>
            <a:custGeom>
              <a:avLst/>
              <a:gdLst>
                <a:gd name="textAreaLeft" fmla="*/ 0 w 2340000"/>
                <a:gd name="textAreaRight" fmla="*/ 2340000 w 234000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972" y="0"/>
                  </a:lnTo>
                  <a:lnTo>
                    <a:pt x="21600" y="10800"/>
                  </a:lnTo>
                  <a:lnTo>
                    <a:pt x="1797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ab57"/>
            </a:solidFill>
            <a:ln w="28440">
              <a:solidFill>
                <a:srgbClr val="b84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6"/>
            <p:cNvSpPr/>
            <p:nvPr/>
          </p:nvSpPr>
          <p:spPr>
            <a:xfrm>
              <a:off x="1908000" y="-27000"/>
              <a:ext cx="792360" cy="287280"/>
            </a:xfrm>
            <a:custGeom>
              <a:avLst/>
              <a:gdLst/>
              <a:ahLst/>
              <a:rect l="l" t="t" r="r" b="b"/>
              <a:pathLst>
                <a:path w="408" h="227">
                  <a:moveTo>
                    <a:pt x="181" y="227"/>
                  </a:moveTo>
                  <a:lnTo>
                    <a:pt x="408" y="136"/>
                  </a:lnTo>
                  <a:lnTo>
                    <a:pt x="272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181" y="227"/>
                  </a:lnTo>
                  <a:close/>
                </a:path>
              </a:pathLst>
            </a:custGeom>
            <a:solidFill>
              <a:srgbClr val="ffab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" name="Picture 69" descr="bz2"/>
          <p:cNvPicPr/>
          <p:nvPr/>
        </p:nvPicPr>
        <p:blipFill>
          <a:blip r:embed="rId2"/>
          <a:stretch/>
        </p:blipFill>
        <p:spPr>
          <a:xfrm>
            <a:off x="250920" y="4428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2"/>
          <p:cNvSpPr/>
          <p:nvPr/>
        </p:nvSpPr>
        <p:spPr>
          <a:xfrm>
            <a:off x="755640" y="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观沧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6BE5-DA7D-41C0-BF23-87F01498BF3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9A95-EE68-4370-870B-7872FB593E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4612-6FB5-424F-A3B4-4937655E3B6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B5CA-1C76-41F4-BD3D-6E14C9D8BD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15B0-9880-45F6-A60A-CC3F8A94207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8DEB-81FF-43DA-89D7-F91E72D848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2190-8439-4E05-BAB4-AA70EB679B1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9A8A-E3FF-4E9F-93D0-C603F649FC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C022-DAA2-42E7-A599-D6CE14ACCFD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AF96-CB92-41C3-9D9E-15A73C7A9D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58A2-FA52-4120-83C0-501A75C4B2C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9275-0D8C-40FE-8141-4BB2BCAE8D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6524640"/>
          </a:xfrm>
          <a:prstGeom prst="rect">
            <a:avLst/>
          </a:prstGeom>
          <a:solidFill>
            <a:srgbClr val="ffdb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-541440" y="-27000"/>
            <a:ext cx="2448000" cy="431640"/>
          </a:xfrm>
          <a:prstGeom prst="flowChartInputOutput">
            <a:avLst/>
          </a:prstGeom>
          <a:solidFill>
            <a:srgbClr val="ff9933">
              <a:alpha val="36000"/>
            </a:srgbClr>
          </a:solidFill>
          <a:ln w="28440">
            <a:solidFill>
              <a:srgbClr val="fe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华文隶书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隶书"/>
              </a:rPr>
              <a:t>吴功斌制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ff9933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6237360"/>
            <a:ext cx="9144000" cy="71280"/>
          </a:xfrm>
          <a:prstGeom prst="rect">
            <a:avLst/>
          </a:prstGeom>
          <a:gradFill rotWithShape="0">
            <a:gsLst>
              <a:gs pos="0">
                <a:srgbClr val="e67300"/>
              </a:gs>
              <a:gs pos="100000">
                <a:srgbClr val="ffffff">
                  <a:alpha val="2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6742080"/>
            <a:ext cx="9144000" cy="71640"/>
          </a:xfrm>
          <a:prstGeom prst="rect">
            <a:avLst/>
          </a:prstGeom>
          <a:gradFill rotWithShape="0">
            <a:gsLst>
              <a:gs pos="0">
                <a:srgbClr val="e67300"/>
              </a:gs>
              <a:gs pos="100000">
                <a:srgbClr val="ffffff">
                  <a:alpha val="2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3"/>
          <p:cNvGrpSpPr/>
          <p:nvPr/>
        </p:nvGrpSpPr>
        <p:grpSpPr>
          <a:xfrm>
            <a:off x="7740720" y="6381720"/>
            <a:ext cx="934920" cy="287280"/>
            <a:chOff x="7740720" y="6381720"/>
            <a:chExt cx="934920" cy="287280"/>
          </a:xfrm>
        </p:grpSpPr>
        <p:sp>
          <p:nvSpPr>
            <p:cNvPr id="99" name="AutoShape 14"/>
            <p:cNvSpPr/>
            <p:nvPr/>
          </p:nvSpPr>
          <p:spPr>
            <a:xfrm>
              <a:off x="7740720" y="6381720"/>
              <a:ext cx="934920" cy="287280"/>
            </a:xfrm>
            <a:prstGeom prst="flowChartAlternateProcess">
              <a:avLst/>
            </a:prstGeom>
            <a:gradFill rotWithShape="0">
              <a:gsLst>
                <a:gs pos="0">
                  <a:srgbClr val="d8beff">
                    <a:alpha val="23137"/>
                  </a:srgbClr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15"/>
            <p:cNvSpPr/>
            <p:nvPr/>
          </p:nvSpPr>
          <p:spPr>
            <a:xfrm>
              <a:off x="7956720" y="6453360"/>
              <a:ext cx="287280" cy="144360"/>
            </a:xfrm>
            <a:prstGeom prst="rightArrow">
              <a:avLst>
                <a:gd name="adj1" fmla="val 50000"/>
                <a:gd name="adj2" fmla="val 49751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6"/>
            <p:cNvSpPr/>
            <p:nvPr/>
          </p:nvSpPr>
          <p:spPr>
            <a:xfrm>
              <a:off x="8317080" y="6453360"/>
              <a:ext cx="0" cy="1443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AutoShape 17">
            <a:hlinkClick r:id="" action="ppaction://hlinkshowjump?jump=endshow"/>
          </p:cNvPr>
          <p:cNvSpPr/>
          <p:nvPr/>
        </p:nvSpPr>
        <p:spPr>
          <a:xfrm>
            <a:off x="7524720" y="630864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9"/>
          <p:cNvGrpSpPr/>
          <p:nvPr/>
        </p:nvGrpSpPr>
        <p:grpSpPr>
          <a:xfrm>
            <a:off x="0" y="-27000"/>
            <a:ext cx="9144000" cy="531720"/>
            <a:chOff x="0" y="-27000"/>
            <a:chExt cx="9144000" cy="531720"/>
          </a:xfrm>
        </p:grpSpPr>
        <p:sp>
          <p:nvSpPr>
            <p:cNvPr id="104" name="AutoShape 20"/>
            <p:cNvSpPr/>
            <p:nvPr/>
          </p:nvSpPr>
          <p:spPr>
            <a:xfrm>
              <a:off x="1476360" y="-27000"/>
              <a:ext cx="7667640" cy="287280"/>
            </a:xfrm>
            <a:prstGeom prst="flowChartProcess">
              <a:avLst/>
            </a:prstGeom>
            <a:solidFill>
              <a:srgbClr val="ffab57"/>
            </a:solidFill>
            <a:ln w="28440">
              <a:solidFill>
                <a:srgbClr val="b84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21"/>
            <p:cNvSpPr/>
            <p:nvPr/>
          </p:nvSpPr>
          <p:spPr>
            <a:xfrm>
              <a:off x="0" y="-27000"/>
              <a:ext cx="2340000" cy="531720"/>
            </a:xfrm>
            <a:custGeom>
              <a:avLst/>
              <a:gdLst>
                <a:gd name="textAreaLeft" fmla="*/ 0 w 2340000"/>
                <a:gd name="textAreaRight" fmla="*/ 2340000 w 234000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972" y="0"/>
                  </a:lnTo>
                  <a:lnTo>
                    <a:pt x="21600" y="10800"/>
                  </a:lnTo>
                  <a:lnTo>
                    <a:pt x="1797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ab57"/>
            </a:solidFill>
            <a:ln w="28440">
              <a:solidFill>
                <a:srgbClr val="b84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2"/>
            <p:cNvSpPr/>
            <p:nvPr/>
          </p:nvSpPr>
          <p:spPr>
            <a:xfrm>
              <a:off x="1908000" y="-27000"/>
              <a:ext cx="792360" cy="287280"/>
            </a:xfrm>
            <a:custGeom>
              <a:avLst/>
              <a:gdLst/>
              <a:ahLst/>
              <a:rect l="l" t="t" r="r" b="b"/>
              <a:pathLst>
                <a:path w="408" h="227">
                  <a:moveTo>
                    <a:pt x="181" y="227"/>
                  </a:moveTo>
                  <a:lnTo>
                    <a:pt x="408" y="136"/>
                  </a:lnTo>
                  <a:lnTo>
                    <a:pt x="272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181" y="227"/>
                  </a:lnTo>
                  <a:close/>
                </a:path>
              </a:pathLst>
            </a:custGeom>
            <a:solidFill>
              <a:srgbClr val="ffab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Picture 23" descr="bz2"/>
          <p:cNvPicPr/>
          <p:nvPr/>
        </p:nvPicPr>
        <p:blipFill>
          <a:blip r:embed="rId2"/>
          <a:stretch/>
        </p:blipFill>
        <p:spPr>
          <a:xfrm>
            <a:off x="250920" y="4428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4"/>
          <p:cNvSpPr/>
          <p:nvPr/>
        </p:nvSpPr>
        <p:spPr>
          <a:xfrm>
            <a:off x="755640" y="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观沧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31B9-3AFA-47B0-9EEF-112F8EC66CC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C7B8-F0AA-470B-9370-A26A1DF109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38BB-B165-446A-AA6C-53FCA445F7D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8B6A-F697-4D8B-972B-DE2ACDE357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5410-4F93-4827-83EF-98B70C5DE93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F691-DB34-451D-A86F-DB8BA7AD62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86DA-A0EE-40F7-BF07-C46CA92346E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3DCC-C47C-47BD-B9FF-628AAA1529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74CC-D83D-409A-9A93-B0D2255BFD1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770A-6BA9-4541-A28C-B60F4577A8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744F-C4CB-4BF9-B3C7-3DBE9ED1B54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39B3-1184-42C4-8877-525890FAE1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Group 17"/>
          <p:cNvGrpSpPr/>
          <p:nvPr/>
        </p:nvGrpSpPr>
        <p:grpSpPr>
          <a:xfrm>
            <a:off x="1835280" y="6381720"/>
            <a:ext cx="934920" cy="287280"/>
            <a:chOff x="1835280" y="6381720"/>
            <a:chExt cx="934920" cy="287280"/>
          </a:xfrm>
        </p:grpSpPr>
        <p:sp>
          <p:nvSpPr>
            <p:cNvPr id="597" name="AutoShape 18"/>
            <p:cNvSpPr/>
            <p:nvPr/>
          </p:nvSpPr>
          <p:spPr>
            <a:xfrm>
              <a:off x="1835280" y="6381720"/>
              <a:ext cx="934920" cy="287280"/>
            </a:xfrm>
            <a:prstGeom prst="flowChartAlternateProcess">
              <a:avLst/>
            </a:prstGeom>
            <a:gradFill rotWithShape="0">
              <a:gsLst>
                <a:gs pos="0">
                  <a:srgbClr val="d8beff">
                    <a:alpha val="23137"/>
                  </a:srgbClr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19"/>
            <p:cNvSpPr/>
            <p:nvPr/>
          </p:nvSpPr>
          <p:spPr>
            <a:xfrm>
              <a:off x="2195640" y="6453360"/>
              <a:ext cx="215640" cy="1443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9" name="Picture 12" descr="">
            <a:hlinkClick r:id="rId1" action="ppaction://hlinksldjump"/>
          </p:cNvPr>
          <p:cNvPicPr/>
          <p:nvPr/>
        </p:nvPicPr>
        <p:blipFill>
          <a:blip r:embed="rId2"/>
          <a:srcRect l="0" t="0" r="-82" b="-83"/>
          <a:stretch/>
        </p:blipFill>
        <p:spPr>
          <a:xfrm>
            <a:off x="684360" y="1700280"/>
            <a:ext cx="2612880" cy="323856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13"/>
          <p:cNvSpPr/>
          <p:nvPr/>
        </p:nvSpPr>
        <p:spPr>
          <a:xfrm>
            <a:off x="3851280" y="692280"/>
            <a:ext cx="446400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观沧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曹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东临碣石，以观沧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水河澹澹，山岛竦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树木丛生，百草丰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秋分萧瑟，洪波涌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日月之行，若出其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星汉灿烂，若出其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幸甚至哉，歌以咏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14"/>
          <p:cNvGrpSpPr/>
          <p:nvPr/>
        </p:nvGrpSpPr>
        <p:grpSpPr>
          <a:xfrm>
            <a:off x="468360" y="6381720"/>
            <a:ext cx="934920" cy="287280"/>
            <a:chOff x="468360" y="6381720"/>
            <a:chExt cx="934920" cy="287280"/>
          </a:xfrm>
        </p:grpSpPr>
        <p:sp>
          <p:nvSpPr>
            <p:cNvPr id="602" name="AutoShape 15"/>
            <p:cNvSpPr/>
            <p:nvPr/>
          </p:nvSpPr>
          <p:spPr>
            <a:xfrm>
              <a:off x="468360" y="6381720"/>
              <a:ext cx="934920" cy="287280"/>
            </a:xfrm>
            <a:prstGeom prst="flowChartAlternateProcess">
              <a:avLst/>
            </a:prstGeom>
            <a:gradFill rotWithShape="0">
              <a:gsLst>
                <a:gs pos="0">
                  <a:srgbClr val="d8beff">
                    <a:alpha val="23137"/>
                  </a:srgbClr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AutoShape 16"/>
            <p:cNvSpPr/>
            <p:nvPr/>
          </p:nvSpPr>
          <p:spPr>
            <a:xfrm rot="5400000">
              <a:off x="862560" y="6417360"/>
              <a:ext cx="144360" cy="216000"/>
            </a:xfrm>
            <a:prstGeom prst="flowChartExtra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AutoShape 20">
            <a:hlinkClick r:id="rId3" action="ppaction://hlinksldjump"/>
          </p:cNvPr>
          <p:cNvSpPr/>
          <p:nvPr/>
        </p:nvSpPr>
        <p:spPr>
          <a:xfrm>
            <a:off x="395280" y="6381720"/>
            <a:ext cx="1008000" cy="287280"/>
          </a:xfrm>
          <a:custGeom>
            <a:avLst/>
            <a:gdLst>
              <a:gd name="textAreaLeft" fmla="*/ 18360 w 1008000"/>
              <a:gd name="textAreaRight" fmla="*/ 989640 w 1008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75722" h="21600">
                <a:moveTo>
                  <a:pt x="0" y="0"/>
                </a:moveTo>
                <a:lnTo>
                  <a:pt x="75722" y="0"/>
                </a:lnTo>
                <a:lnTo>
                  <a:pt x="75722" y="21600"/>
                </a:lnTo>
                <a:lnTo>
                  <a:pt x="0" y="21600"/>
                </a:lnTo>
                <a:close/>
              </a:path>
              <a:path fill="lightenLess" w="75722" h="21600">
                <a:moveTo>
                  <a:pt x="0" y="0"/>
                </a:moveTo>
                <a:lnTo>
                  <a:pt x="75722" y="0"/>
                </a:lnTo>
                <a:lnTo>
                  <a:pt x="74322" y="1400"/>
                </a:lnTo>
                <a:lnTo>
                  <a:pt x="1400" y="1400"/>
                </a:lnTo>
                <a:close/>
              </a:path>
              <a:path fill="darken" w="75722" h="21600">
                <a:moveTo>
                  <a:pt x="75722" y="0"/>
                </a:moveTo>
                <a:lnTo>
                  <a:pt x="75722" y="21600"/>
                </a:lnTo>
                <a:lnTo>
                  <a:pt x="74322" y="20200"/>
                </a:lnTo>
                <a:lnTo>
                  <a:pt x="74322" y="1400"/>
                </a:lnTo>
                <a:close/>
              </a:path>
              <a:path fill="darkenLess" w="75722" h="21600">
                <a:moveTo>
                  <a:pt x="757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322" y="20200"/>
                </a:lnTo>
                <a:close/>
              </a:path>
              <a:path fill="lighten" w="757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4" descr="">
            <a:hlinkClick r:id="rId1" action="ppaction://hlinksldjump"/>
          </p:cNvPr>
          <p:cNvPicPr/>
          <p:nvPr/>
        </p:nvPicPr>
        <p:blipFill>
          <a:blip r:embed="rId2"/>
          <a:srcRect l="0" t="0" r="-82" b="-83"/>
          <a:stretch/>
        </p:blipFill>
        <p:spPr>
          <a:xfrm>
            <a:off x="684360" y="1700280"/>
            <a:ext cx="2612880" cy="323856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5"/>
          <p:cNvSpPr/>
          <p:nvPr/>
        </p:nvSpPr>
        <p:spPr>
          <a:xfrm>
            <a:off x="3708360" y="1197000"/>
            <a:ext cx="482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曹操（</a:t>
            </a: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15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隶书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220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，字孟德，小名阿瞒。曾历任 大将军、丞相，封魏王，建安二十五年卒。子曹丕称帝，追尊为武帝。东汉末年政治家、军事家、杰出的诗人。代表诗作有</a:t>
            </a: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步出夏门行</a:t>
            </a: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蒿里行</a:t>
            </a: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短歌行</a:t>
            </a: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等。文学史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三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是指曹操、曹丕、曹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7"/>
          <p:cNvSpPr/>
          <p:nvPr/>
        </p:nvSpPr>
        <p:spPr>
          <a:xfrm>
            <a:off x="468360" y="6381720"/>
            <a:ext cx="934920" cy="287280"/>
          </a:xfrm>
          <a:prstGeom prst="flowChartAlternateProcess">
            <a:avLst/>
          </a:prstGeom>
          <a:gradFill rotWithShape="0">
            <a:gsLst>
              <a:gs pos="0">
                <a:srgbClr val="d8beff">
                  <a:alpha val="23137"/>
                </a:srgbClr>
              </a:gs>
              <a:gs pos="100000">
                <a:srgbClr val="6600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8"/>
          <p:cNvSpPr/>
          <p:nvPr/>
        </p:nvSpPr>
        <p:spPr>
          <a:xfrm rot="5400000">
            <a:off x="862560" y="6417360"/>
            <a:ext cx="144360" cy="216000"/>
          </a:xfrm>
          <a:prstGeom prst="flowChartExtra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10"/>
          <p:cNvSpPr/>
          <p:nvPr/>
        </p:nvSpPr>
        <p:spPr>
          <a:xfrm>
            <a:off x="1835280" y="6381720"/>
            <a:ext cx="934920" cy="287280"/>
          </a:xfrm>
          <a:prstGeom prst="flowChartAlternateProcess">
            <a:avLst/>
          </a:prstGeom>
          <a:gradFill rotWithShape="0">
            <a:gsLst>
              <a:gs pos="0">
                <a:srgbClr val="d8beff">
                  <a:alpha val="23137"/>
                </a:srgbClr>
              </a:gs>
              <a:gs pos="100000">
                <a:srgbClr val="6600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11"/>
          <p:cNvSpPr/>
          <p:nvPr/>
        </p:nvSpPr>
        <p:spPr>
          <a:xfrm>
            <a:off x="2124000" y="6453360"/>
            <a:ext cx="287280" cy="144360"/>
          </a:xfrm>
          <a:custGeom>
            <a:avLst/>
            <a:gdLst>
              <a:gd name="textAreaLeft" fmla="*/ 50040 w 287280"/>
              <a:gd name="textAreaRight" fmla="*/ 208440 w 28728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2">
            <a:hlinkClick r:id="" action="ppaction://hlinkshowjump?jump=previousslide"/>
          </p:cNvPr>
          <p:cNvSpPr/>
          <p:nvPr/>
        </p:nvSpPr>
        <p:spPr>
          <a:xfrm>
            <a:off x="1692360" y="6308640"/>
            <a:ext cx="1224000" cy="360360"/>
          </a:xfrm>
          <a:custGeom>
            <a:avLst/>
            <a:gdLst>
              <a:gd name="textAreaLeft" fmla="*/ 23040 w 1224000"/>
              <a:gd name="textAreaRight" fmla="*/ 1200960 w 1224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73315" h="21600">
                <a:moveTo>
                  <a:pt x="0" y="0"/>
                </a:moveTo>
                <a:lnTo>
                  <a:pt x="73315" y="0"/>
                </a:lnTo>
                <a:lnTo>
                  <a:pt x="73315" y="21600"/>
                </a:lnTo>
                <a:lnTo>
                  <a:pt x="0" y="21600"/>
                </a:lnTo>
                <a:close/>
              </a:path>
              <a:path fill="lightenLess" w="73315" h="21600">
                <a:moveTo>
                  <a:pt x="0" y="0"/>
                </a:moveTo>
                <a:lnTo>
                  <a:pt x="73315" y="0"/>
                </a:lnTo>
                <a:lnTo>
                  <a:pt x="71915" y="1400"/>
                </a:lnTo>
                <a:lnTo>
                  <a:pt x="1400" y="1400"/>
                </a:lnTo>
                <a:close/>
              </a:path>
              <a:path fill="darken" w="73315" h="21600">
                <a:moveTo>
                  <a:pt x="73315" y="0"/>
                </a:moveTo>
                <a:lnTo>
                  <a:pt x="73315" y="21600"/>
                </a:lnTo>
                <a:lnTo>
                  <a:pt x="71915" y="20200"/>
                </a:lnTo>
                <a:lnTo>
                  <a:pt x="71915" y="1400"/>
                </a:lnTo>
                <a:close/>
              </a:path>
              <a:path fill="darkenLess" w="73315" h="21600">
                <a:moveTo>
                  <a:pt x="73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15" y="20200"/>
                </a:lnTo>
                <a:close/>
              </a:path>
              <a:path fill="lighten" w="73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">
            <a:hlinkClick r:id="rId1" action="ppaction://hlinksldjump"/>
          </p:cNvPr>
          <p:cNvPicPr/>
          <p:nvPr/>
        </p:nvPicPr>
        <p:blipFill>
          <a:blip r:embed="rId2"/>
          <a:srcRect l="0" t="0" r="-82" b="-83"/>
          <a:stretch/>
        </p:blipFill>
        <p:spPr>
          <a:xfrm>
            <a:off x="684360" y="1700280"/>
            <a:ext cx="2612880" cy="323856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3"/>
          <p:cNvSpPr/>
          <p:nvPr/>
        </p:nvSpPr>
        <p:spPr>
          <a:xfrm>
            <a:off x="3851280" y="692280"/>
            <a:ext cx="446400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观沧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曹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东临碣石，以观沧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水河澹澹，山岛竦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树木丛生，百草丰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秋分萧瑟，洪波涌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日月之行，若出其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星汉灿烂，若出其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幸甚至哉，歌以咏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Group 4"/>
          <p:cNvGrpSpPr/>
          <p:nvPr/>
        </p:nvGrpSpPr>
        <p:grpSpPr>
          <a:xfrm>
            <a:off x="468360" y="6381720"/>
            <a:ext cx="934920" cy="287280"/>
            <a:chOff x="468360" y="6381720"/>
            <a:chExt cx="934920" cy="287280"/>
          </a:xfrm>
        </p:grpSpPr>
        <p:sp>
          <p:nvSpPr>
            <p:cNvPr id="615" name="AutoShape 5"/>
            <p:cNvSpPr/>
            <p:nvPr/>
          </p:nvSpPr>
          <p:spPr>
            <a:xfrm>
              <a:off x="468360" y="6381720"/>
              <a:ext cx="934920" cy="287280"/>
            </a:xfrm>
            <a:prstGeom prst="flowChartAlternateProcess">
              <a:avLst/>
            </a:prstGeom>
            <a:gradFill rotWithShape="0">
              <a:gsLst>
                <a:gs pos="0">
                  <a:srgbClr val="d8beff">
                    <a:alpha val="23137"/>
                  </a:srgbClr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AutoShape 6"/>
            <p:cNvSpPr/>
            <p:nvPr/>
          </p:nvSpPr>
          <p:spPr>
            <a:xfrm rot="5400000">
              <a:off x="862560" y="6417360"/>
              <a:ext cx="144360" cy="216000"/>
            </a:xfrm>
            <a:prstGeom prst="flowChartExtract">
              <a:avLst/>
            </a:prstGeom>
            <a:solidFill>
              <a:srgbClr val="e6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7"/>
          <p:cNvGrpSpPr/>
          <p:nvPr/>
        </p:nvGrpSpPr>
        <p:grpSpPr>
          <a:xfrm>
            <a:off x="1835280" y="6381720"/>
            <a:ext cx="934920" cy="287280"/>
            <a:chOff x="1835280" y="6381720"/>
            <a:chExt cx="934920" cy="287280"/>
          </a:xfrm>
        </p:grpSpPr>
        <p:sp>
          <p:nvSpPr>
            <p:cNvPr id="618" name="AutoShape 8"/>
            <p:cNvSpPr/>
            <p:nvPr/>
          </p:nvSpPr>
          <p:spPr>
            <a:xfrm>
              <a:off x="1835280" y="6381720"/>
              <a:ext cx="934920" cy="287280"/>
            </a:xfrm>
            <a:prstGeom prst="flowChartAlternateProcess">
              <a:avLst/>
            </a:prstGeom>
            <a:gradFill rotWithShape="0">
              <a:gsLst>
                <a:gs pos="0">
                  <a:srgbClr val="d8beff">
                    <a:alpha val="23137"/>
                  </a:srgbClr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AutoShape 9"/>
            <p:cNvSpPr/>
            <p:nvPr/>
          </p:nvSpPr>
          <p:spPr>
            <a:xfrm>
              <a:off x="2124000" y="6453360"/>
              <a:ext cx="287280" cy="144360"/>
            </a:xfrm>
            <a:custGeom>
              <a:avLst/>
              <a:gdLst>
                <a:gd name="textAreaLeft" fmla="*/ 50040 w 287280"/>
                <a:gd name="textAreaRight" fmla="*/ 208440 w 287280"/>
                <a:gd name="textAreaTop" fmla="*/ 19080 h 144360"/>
                <a:gd name="textAreaBottom" fmla="*/ 12528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33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AutoShape 10"/>
          <p:cNvSpPr/>
          <p:nvPr/>
        </p:nvSpPr>
        <p:spPr>
          <a:xfrm>
            <a:off x="1692360" y="6308640"/>
            <a:ext cx="1224000" cy="360360"/>
          </a:xfrm>
          <a:custGeom>
            <a:avLst/>
            <a:gdLst>
              <a:gd name="textAreaLeft" fmla="*/ 23040 w 1224000"/>
              <a:gd name="textAreaRight" fmla="*/ 1200960 w 1224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73315" h="21600">
                <a:moveTo>
                  <a:pt x="0" y="0"/>
                </a:moveTo>
                <a:lnTo>
                  <a:pt x="73315" y="0"/>
                </a:lnTo>
                <a:lnTo>
                  <a:pt x="73315" y="21600"/>
                </a:lnTo>
                <a:lnTo>
                  <a:pt x="0" y="21600"/>
                </a:lnTo>
                <a:close/>
              </a:path>
              <a:path fill="lightenLess" w="73315" h="21600">
                <a:moveTo>
                  <a:pt x="0" y="0"/>
                </a:moveTo>
                <a:lnTo>
                  <a:pt x="73315" y="0"/>
                </a:lnTo>
                <a:lnTo>
                  <a:pt x="71915" y="1400"/>
                </a:lnTo>
                <a:lnTo>
                  <a:pt x="1400" y="1400"/>
                </a:lnTo>
                <a:close/>
              </a:path>
              <a:path fill="darken" w="73315" h="21600">
                <a:moveTo>
                  <a:pt x="73315" y="0"/>
                </a:moveTo>
                <a:lnTo>
                  <a:pt x="73315" y="21600"/>
                </a:lnTo>
                <a:lnTo>
                  <a:pt x="71915" y="20200"/>
                </a:lnTo>
                <a:lnTo>
                  <a:pt x="71915" y="1400"/>
                </a:lnTo>
                <a:close/>
              </a:path>
              <a:path fill="darkenLess" w="73315" h="21600">
                <a:moveTo>
                  <a:pt x="73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15" y="20200"/>
                </a:lnTo>
                <a:close/>
              </a:path>
              <a:path fill="lighten" w="73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1"/>
          <p:cNvSpPr/>
          <p:nvPr/>
        </p:nvSpPr>
        <p:spPr>
          <a:xfrm flipV="1">
            <a:off x="4211640" y="692280"/>
            <a:ext cx="0" cy="525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Group 20"/>
          <p:cNvGrpSpPr/>
          <p:nvPr/>
        </p:nvGrpSpPr>
        <p:grpSpPr>
          <a:xfrm>
            <a:off x="4572000" y="749160"/>
            <a:ext cx="2447640" cy="549360"/>
            <a:chOff x="4572000" y="749160"/>
            <a:chExt cx="2447640" cy="549360"/>
          </a:xfrm>
        </p:grpSpPr>
        <p:pic>
          <p:nvPicPr>
            <p:cNvPr id="623" name="Picture 18" descr="wh"/>
            <p:cNvPicPr/>
            <p:nvPr/>
          </p:nvPicPr>
          <p:blipFill>
            <a:blip r:embed="rId3"/>
            <a:stretch/>
          </p:blipFill>
          <p:spPr>
            <a:xfrm>
              <a:off x="4572000" y="765000"/>
              <a:ext cx="5918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Text Box 19"/>
            <p:cNvSpPr/>
            <p:nvPr/>
          </p:nvSpPr>
          <p:spPr>
            <a:xfrm>
              <a:off x="5148000" y="749160"/>
              <a:ext cx="18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ff"/>
                  </a:solidFill>
                  <a:latin typeface="Arial"/>
                  <a:ea typeface="华文隶书"/>
                </a:rPr>
                <a:t>解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Text Box 21"/>
          <p:cNvSpPr/>
          <p:nvPr/>
        </p:nvSpPr>
        <p:spPr>
          <a:xfrm>
            <a:off x="4500720" y="206064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  <a:ea typeface="华文隶书"/>
              </a:rPr>
              <a:t>       </a:t>
            </a:r>
            <a:r>
              <a:rPr b="0" lang="zh-CN" sz="2400" spc="-1" strike="noStrike">
                <a:solidFill>
                  <a:srgbClr val="0066ff"/>
                </a:solidFill>
                <a:latin typeface="Arial"/>
                <a:ea typeface="华文隶书"/>
              </a:rPr>
              <a:t>初读之下，这首诗仿佛通篇写的诗山水景物。然而细读之后，可以体会到山水景物只不过是抒情的依托，通过大海吞吐宇宙的气象，可以领略到诗人开阔的胸襟和宏大的抱负，因为这时的曹操正踌躇满志，渴望着建功立业呢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22">
            <a:hlinkClick r:id="" action="ppaction://hlinkshowjump?jump=nextslide"/>
          </p:cNvPr>
          <p:cNvSpPr/>
          <p:nvPr/>
        </p:nvSpPr>
        <p:spPr>
          <a:xfrm>
            <a:off x="395280" y="6381720"/>
            <a:ext cx="1081080" cy="287280"/>
          </a:xfrm>
          <a:custGeom>
            <a:avLst/>
            <a:gdLst>
              <a:gd name="textAreaLeft" fmla="*/ 18360 w 1081080"/>
              <a:gd name="textAreaRight" fmla="*/ 1062720 w 1081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81210" h="21600">
                <a:moveTo>
                  <a:pt x="0" y="0"/>
                </a:moveTo>
                <a:lnTo>
                  <a:pt x="81210" y="0"/>
                </a:lnTo>
                <a:lnTo>
                  <a:pt x="81210" y="21600"/>
                </a:lnTo>
                <a:lnTo>
                  <a:pt x="0" y="21600"/>
                </a:lnTo>
                <a:close/>
              </a:path>
              <a:path fill="lightenLess" w="81210" h="21600">
                <a:moveTo>
                  <a:pt x="0" y="0"/>
                </a:moveTo>
                <a:lnTo>
                  <a:pt x="81210" y="0"/>
                </a:lnTo>
                <a:lnTo>
                  <a:pt x="79810" y="1400"/>
                </a:lnTo>
                <a:lnTo>
                  <a:pt x="1400" y="1400"/>
                </a:lnTo>
                <a:close/>
              </a:path>
              <a:path fill="darken" w="81210" h="21600">
                <a:moveTo>
                  <a:pt x="81210" y="0"/>
                </a:moveTo>
                <a:lnTo>
                  <a:pt x="81210" y="21600"/>
                </a:lnTo>
                <a:lnTo>
                  <a:pt x="79810" y="20200"/>
                </a:lnTo>
                <a:lnTo>
                  <a:pt x="79810" y="1400"/>
                </a:lnTo>
                <a:close/>
              </a:path>
              <a:path fill="darkenLess" w="81210" h="21600">
                <a:moveTo>
                  <a:pt x="81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810" y="20200"/>
                </a:lnTo>
                <a:close/>
              </a:path>
              <a:path fill="lighten" w="81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210" h="21600">
                <a:moveTo>
                  <a:pt x="33598" y="3794"/>
                </a:moveTo>
                <a:lnTo>
                  <a:pt x="47611" y="10800"/>
                </a:lnTo>
                <a:lnTo>
                  <a:pt x="3359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39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Motion origin="layout" path="M -0.39358 3.12139E-006 C -0.39358 0.05318 -0.35 0.09433 -0.29636 0.09433 C -0.24097 0.09433 -0.19688 0.05318 -0.19688 3.12139E-006 C -0.19688 -0.05341 -0.15313 -0.09434 -0.09775 -0.09434 C -0.0441 -0.09434 2.22222E-006 -0.05341 2.22222E-006 3.12139E-006 E">
                                      <p:cBhvr>
                                        <p:cTn id="26" dur="5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325"/>
                            </p:stCondLst>
                            <p:childTnLst>
                              <p:par>
                                <p:cTn id="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825"/>
                            </p:stCondLst>
                            <p:childTnLst>
                              <p:par>
                                <p:cTn id="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622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622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6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3"/>
          <p:cNvSpPr/>
          <p:nvPr/>
        </p:nvSpPr>
        <p:spPr>
          <a:xfrm>
            <a:off x="250920" y="692280"/>
            <a:ext cx="446400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观沧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曹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东临碣石，以观沧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水河澹澹，山岛竦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树木丛生，百草丰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秋分萧瑟，洪波涌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日月之行，若出其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星汉灿烂，若出其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幸甚至哉，歌以咏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4"/>
          <p:cNvGrpSpPr/>
          <p:nvPr/>
        </p:nvGrpSpPr>
        <p:grpSpPr>
          <a:xfrm>
            <a:off x="468360" y="6381720"/>
            <a:ext cx="934920" cy="287280"/>
            <a:chOff x="468360" y="6381720"/>
            <a:chExt cx="934920" cy="287280"/>
          </a:xfrm>
        </p:grpSpPr>
        <p:sp>
          <p:nvSpPr>
            <p:cNvPr id="629" name="AutoShape 5"/>
            <p:cNvSpPr/>
            <p:nvPr/>
          </p:nvSpPr>
          <p:spPr>
            <a:xfrm>
              <a:off x="468360" y="6381720"/>
              <a:ext cx="934920" cy="287280"/>
            </a:xfrm>
            <a:prstGeom prst="flowChartAlternateProcess">
              <a:avLst/>
            </a:prstGeom>
            <a:gradFill rotWithShape="0">
              <a:gsLst>
                <a:gs pos="0">
                  <a:srgbClr val="d8beff">
                    <a:alpha val="23137"/>
                  </a:srgbClr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AutoShape 6"/>
            <p:cNvSpPr/>
            <p:nvPr/>
          </p:nvSpPr>
          <p:spPr>
            <a:xfrm rot="5400000">
              <a:off x="862560" y="6417360"/>
              <a:ext cx="144360" cy="216000"/>
            </a:xfrm>
            <a:prstGeom prst="flowChartExtra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7"/>
          <p:cNvGrpSpPr/>
          <p:nvPr/>
        </p:nvGrpSpPr>
        <p:grpSpPr>
          <a:xfrm>
            <a:off x="1835280" y="6381720"/>
            <a:ext cx="934920" cy="287280"/>
            <a:chOff x="1835280" y="6381720"/>
            <a:chExt cx="934920" cy="287280"/>
          </a:xfrm>
        </p:grpSpPr>
        <p:sp>
          <p:nvSpPr>
            <p:cNvPr id="632" name="AutoShape 8"/>
            <p:cNvSpPr/>
            <p:nvPr/>
          </p:nvSpPr>
          <p:spPr>
            <a:xfrm>
              <a:off x="1835280" y="6381720"/>
              <a:ext cx="934920" cy="287280"/>
            </a:xfrm>
            <a:prstGeom prst="flowChartAlternateProcess">
              <a:avLst/>
            </a:prstGeom>
            <a:gradFill rotWithShape="0">
              <a:gsLst>
                <a:gs pos="0">
                  <a:srgbClr val="d8beff">
                    <a:alpha val="23137"/>
                  </a:srgbClr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AutoShape 9"/>
            <p:cNvSpPr/>
            <p:nvPr/>
          </p:nvSpPr>
          <p:spPr>
            <a:xfrm>
              <a:off x="2124000" y="6453360"/>
              <a:ext cx="287280" cy="144360"/>
            </a:xfrm>
            <a:custGeom>
              <a:avLst/>
              <a:gdLst>
                <a:gd name="textAreaLeft" fmla="*/ 50040 w 287280"/>
                <a:gd name="textAreaRight" fmla="*/ 208440 w 287280"/>
                <a:gd name="textAreaTop" fmla="*/ 19080 h 144360"/>
                <a:gd name="textAreaBottom" fmla="*/ 12528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33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AutoShape 10"/>
          <p:cNvSpPr/>
          <p:nvPr/>
        </p:nvSpPr>
        <p:spPr>
          <a:xfrm>
            <a:off x="1692360" y="6308640"/>
            <a:ext cx="1224000" cy="360360"/>
          </a:xfrm>
          <a:custGeom>
            <a:avLst/>
            <a:gdLst>
              <a:gd name="textAreaLeft" fmla="*/ 23040 w 1224000"/>
              <a:gd name="textAreaRight" fmla="*/ 1200960 w 1224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73315" h="21600">
                <a:moveTo>
                  <a:pt x="0" y="0"/>
                </a:moveTo>
                <a:lnTo>
                  <a:pt x="73315" y="0"/>
                </a:lnTo>
                <a:lnTo>
                  <a:pt x="73315" y="21600"/>
                </a:lnTo>
                <a:lnTo>
                  <a:pt x="0" y="21600"/>
                </a:lnTo>
                <a:close/>
              </a:path>
              <a:path fill="lightenLess" w="73315" h="21600">
                <a:moveTo>
                  <a:pt x="0" y="0"/>
                </a:moveTo>
                <a:lnTo>
                  <a:pt x="73315" y="0"/>
                </a:lnTo>
                <a:lnTo>
                  <a:pt x="71915" y="1400"/>
                </a:lnTo>
                <a:lnTo>
                  <a:pt x="1400" y="1400"/>
                </a:lnTo>
                <a:close/>
              </a:path>
              <a:path fill="darken" w="73315" h="21600">
                <a:moveTo>
                  <a:pt x="73315" y="0"/>
                </a:moveTo>
                <a:lnTo>
                  <a:pt x="73315" y="21600"/>
                </a:lnTo>
                <a:lnTo>
                  <a:pt x="71915" y="20200"/>
                </a:lnTo>
                <a:lnTo>
                  <a:pt x="71915" y="1400"/>
                </a:lnTo>
                <a:close/>
              </a:path>
              <a:path fill="darkenLess" w="73315" h="21600">
                <a:moveTo>
                  <a:pt x="73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15" y="20200"/>
                </a:lnTo>
                <a:close/>
              </a:path>
              <a:path fill="lighten" w="73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1"/>
          <p:cNvSpPr/>
          <p:nvPr/>
        </p:nvSpPr>
        <p:spPr>
          <a:xfrm flipV="1">
            <a:off x="4211640" y="692280"/>
            <a:ext cx="0" cy="525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2"/>
          <p:cNvGrpSpPr/>
          <p:nvPr/>
        </p:nvGrpSpPr>
        <p:grpSpPr>
          <a:xfrm>
            <a:off x="4572000" y="749160"/>
            <a:ext cx="2447640" cy="549360"/>
            <a:chOff x="4572000" y="749160"/>
            <a:chExt cx="2447640" cy="549360"/>
          </a:xfrm>
        </p:grpSpPr>
        <p:pic>
          <p:nvPicPr>
            <p:cNvPr id="637" name="Picture 13" descr="wh"/>
            <p:cNvPicPr/>
            <p:nvPr/>
          </p:nvPicPr>
          <p:blipFill>
            <a:blip r:embed="rId1"/>
            <a:stretch/>
          </p:blipFill>
          <p:spPr>
            <a:xfrm>
              <a:off x="4572000" y="765000"/>
              <a:ext cx="5918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Text Box 14"/>
            <p:cNvSpPr/>
            <p:nvPr/>
          </p:nvSpPr>
          <p:spPr>
            <a:xfrm>
              <a:off x="5148000" y="749160"/>
              <a:ext cx="18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ff"/>
                  </a:solidFill>
                  <a:latin typeface="Arial"/>
                  <a:ea typeface="华文隶书"/>
                </a:rPr>
                <a:t>注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" name="Text Box 16"/>
          <p:cNvSpPr/>
          <p:nvPr/>
        </p:nvSpPr>
        <p:spPr>
          <a:xfrm>
            <a:off x="2124000" y="1700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7300"/>
                </a:solidFill>
                <a:latin typeface="Arial"/>
                <a:ea typeface="楷体_GB2312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7"/>
          <p:cNvSpPr/>
          <p:nvPr/>
        </p:nvSpPr>
        <p:spPr>
          <a:xfrm>
            <a:off x="3564000" y="2205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7300"/>
                </a:solidFill>
                <a:latin typeface="Arial"/>
                <a:ea typeface="楷体_GB2312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8"/>
          <p:cNvSpPr/>
          <p:nvPr/>
        </p:nvSpPr>
        <p:spPr>
          <a:xfrm>
            <a:off x="2195640" y="33195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7300"/>
                </a:solidFill>
                <a:latin typeface="Arial"/>
                <a:ea typeface="楷体_GB2312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9"/>
          <p:cNvSpPr/>
          <p:nvPr/>
        </p:nvSpPr>
        <p:spPr>
          <a:xfrm>
            <a:off x="1476360" y="4365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7300"/>
                </a:solidFill>
                <a:latin typeface="Arial"/>
                <a:ea typeface="楷体_GB2312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21"/>
          <p:cNvSpPr/>
          <p:nvPr/>
        </p:nvSpPr>
        <p:spPr>
          <a:xfrm>
            <a:off x="4427640" y="177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7300"/>
                </a:solidFill>
                <a:latin typeface="Arial"/>
                <a:ea typeface="楷体_GB2312"/>
              </a:rPr>
              <a:t>①</a:t>
            </a:r>
            <a:r>
              <a:rPr b="0" lang="zh-CN" sz="2400" spc="-1" strike="noStrike">
                <a:solidFill>
                  <a:srgbClr val="6600ff"/>
                </a:solidFill>
                <a:latin typeface="华文隶书"/>
                <a:ea typeface="华文隶书"/>
              </a:rPr>
              <a:t>碣（</a:t>
            </a:r>
            <a:r>
              <a:rPr b="0" lang="en-US" sz="2400" spc="-1" strike="noStrike">
                <a:solidFill>
                  <a:srgbClr val="6600ff"/>
                </a:solidFill>
                <a:latin typeface="华文隶书"/>
                <a:ea typeface="华文隶书"/>
              </a:rPr>
              <a:t>ji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  <a:ea typeface="华文隶书"/>
              </a:rPr>
              <a:t>é</a:t>
            </a:r>
            <a:r>
              <a:rPr b="0" lang="zh-CN" sz="2400" spc="-1" strike="noStrike">
                <a:solidFill>
                  <a:srgbClr val="6600ff"/>
                </a:solidFill>
                <a:latin typeface="华文隶书"/>
                <a:ea typeface="华文隶书"/>
              </a:rPr>
              <a:t>）石</a:t>
            </a:r>
            <a:r>
              <a:rPr b="0" lang="en-US" sz="2400" spc="-1" strike="noStrike">
                <a:solidFill>
                  <a:srgbClr val="6600ff"/>
                </a:solidFill>
                <a:latin typeface="华文隶书"/>
                <a:ea typeface="华文隶书"/>
              </a:rPr>
              <a:t>:</a:t>
            </a:r>
            <a:r>
              <a:rPr b="0" lang="zh-CN" sz="2400" spc="-1" strike="noStrike">
                <a:solidFill>
                  <a:srgbClr val="6600ff"/>
                </a:solidFill>
                <a:latin typeface="华文隶书"/>
                <a:ea typeface="华文隶书"/>
              </a:rPr>
              <a:t>古山名，原在今河北昌黎北，后沉入海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22"/>
          <p:cNvSpPr/>
          <p:nvPr/>
        </p:nvSpPr>
        <p:spPr>
          <a:xfrm>
            <a:off x="4427640" y="2781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7300"/>
                </a:solidFill>
                <a:latin typeface="Arial"/>
                <a:ea typeface="楷体_GB2312"/>
              </a:rPr>
              <a:t>②</a:t>
            </a:r>
            <a:r>
              <a:rPr b="0" lang="zh-CN" sz="2400" spc="-1" strike="noStrike">
                <a:solidFill>
                  <a:srgbClr val="6600ff"/>
                </a:solidFill>
                <a:latin typeface="华文隶书"/>
                <a:ea typeface="华文隶书"/>
              </a:rPr>
              <a:t>竦（</a:t>
            </a:r>
            <a:r>
              <a:rPr b="0" lang="en-US" sz="2400" spc="-1" strike="noStrike">
                <a:solidFill>
                  <a:srgbClr val="6600ff"/>
                </a:solidFill>
                <a:latin typeface="华文隶书"/>
                <a:ea typeface="华文隶书"/>
              </a:rPr>
              <a:t>sǒng</a:t>
            </a:r>
            <a:r>
              <a:rPr b="0" lang="zh-CN" sz="2400" spc="-1" strike="noStrike">
                <a:solidFill>
                  <a:srgbClr val="6600ff"/>
                </a:solidFill>
                <a:latin typeface="华文隶书"/>
                <a:ea typeface="华文隶书"/>
              </a:rPr>
              <a:t>）峙（</a:t>
            </a:r>
            <a:r>
              <a:rPr b="0" lang="en-US" sz="2400" spc="-1" strike="noStrike">
                <a:solidFill>
                  <a:srgbClr val="6600ff"/>
                </a:solidFill>
                <a:latin typeface="华文隶书"/>
                <a:ea typeface="华文隶书"/>
              </a:rPr>
              <a:t>zh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  <a:ea typeface="华文隶书"/>
              </a:rPr>
              <a:t>ì</a:t>
            </a:r>
            <a:r>
              <a:rPr b="0" lang="zh-CN" sz="2400" spc="-1" strike="noStrike">
                <a:solidFill>
                  <a:srgbClr val="6600ff"/>
                </a:solidFill>
                <a:latin typeface="华文隶书"/>
                <a:ea typeface="华文隶书"/>
              </a:rPr>
              <a:t>）：耸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23"/>
          <p:cNvSpPr/>
          <p:nvPr/>
        </p:nvSpPr>
        <p:spPr>
          <a:xfrm>
            <a:off x="4427640" y="350028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7300"/>
                </a:solidFill>
                <a:latin typeface="Arial"/>
                <a:ea typeface="楷体_GB2312"/>
              </a:rPr>
              <a:t>③</a:t>
            </a:r>
            <a:r>
              <a:rPr b="0" lang="zh-CN" sz="2400" spc="-1" strike="noStrike">
                <a:solidFill>
                  <a:srgbClr val="6600ff"/>
                </a:solidFill>
                <a:latin typeface="华文隶书"/>
                <a:ea typeface="华文隶书"/>
              </a:rPr>
              <a:t>萧瑟（</a:t>
            </a:r>
            <a:r>
              <a:rPr b="0" lang="en-US" sz="2400" spc="-1" strike="noStrike">
                <a:solidFill>
                  <a:srgbClr val="6600ff"/>
                </a:solidFill>
                <a:latin typeface="华文隶书"/>
                <a:ea typeface="华文隶书"/>
              </a:rPr>
              <a:t>s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  <a:ea typeface="华文隶书"/>
              </a:rPr>
              <a:t>è</a:t>
            </a:r>
            <a:r>
              <a:rPr b="0" lang="zh-CN" sz="2400" spc="-1" strike="noStrike">
                <a:solidFill>
                  <a:srgbClr val="6600ff"/>
                </a:solidFill>
                <a:latin typeface="华文隶书"/>
                <a:ea typeface="华文隶书"/>
              </a:rPr>
              <a:t>）：树木被风吹动的声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24"/>
          <p:cNvSpPr/>
          <p:nvPr/>
        </p:nvSpPr>
        <p:spPr>
          <a:xfrm>
            <a:off x="4427640" y="450864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7300"/>
                </a:solidFill>
                <a:latin typeface="Arial"/>
                <a:ea typeface="楷体_GB2312"/>
              </a:rPr>
              <a:t>④</a:t>
            </a:r>
            <a:r>
              <a:rPr b="0" lang="zh-CN" sz="2400" spc="-1" strike="noStrike">
                <a:solidFill>
                  <a:srgbClr val="6600ff"/>
                </a:solidFill>
                <a:latin typeface="华文隶书"/>
                <a:ea typeface="华文隶书"/>
              </a:rPr>
              <a:t>星汉</a:t>
            </a:r>
            <a:r>
              <a:rPr b="0" lang="en-US" sz="2400" spc="-1" strike="noStrike">
                <a:solidFill>
                  <a:srgbClr val="6600ff"/>
                </a:solidFill>
                <a:latin typeface="华文隶书"/>
                <a:ea typeface="华文隶书"/>
              </a:rPr>
              <a:t>:</a:t>
            </a:r>
            <a:r>
              <a:rPr b="0" lang="zh-CN" sz="2400" spc="-1" strike="noStrike">
                <a:solidFill>
                  <a:srgbClr val="6600ff"/>
                </a:solidFill>
                <a:latin typeface="华文隶书"/>
                <a:ea typeface="华文隶书"/>
              </a:rPr>
              <a:t>天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25"/>
          <p:cNvSpPr/>
          <p:nvPr/>
        </p:nvSpPr>
        <p:spPr>
          <a:xfrm>
            <a:off x="395280" y="6308640"/>
            <a:ext cx="1008000" cy="360360"/>
          </a:xfrm>
          <a:custGeom>
            <a:avLst/>
            <a:gdLst>
              <a:gd name="textAreaLeft" fmla="*/ 23040 w 1008000"/>
              <a:gd name="textAreaRight" fmla="*/ 984960 w 1008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0381" h="21600">
                <a:moveTo>
                  <a:pt x="0" y="0"/>
                </a:moveTo>
                <a:lnTo>
                  <a:pt x="60381" y="0"/>
                </a:lnTo>
                <a:lnTo>
                  <a:pt x="60381" y="21600"/>
                </a:lnTo>
                <a:lnTo>
                  <a:pt x="0" y="21600"/>
                </a:lnTo>
                <a:close/>
              </a:path>
              <a:path fill="lightenLess" w="60381" h="21600">
                <a:moveTo>
                  <a:pt x="0" y="0"/>
                </a:moveTo>
                <a:lnTo>
                  <a:pt x="60381" y="0"/>
                </a:lnTo>
                <a:lnTo>
                  <a:pt x="58981" y="1400"/>
                </a:lnTo>
                <a:lnTo>
                  <a:pt x="1400" y="1400"/>
                </a:lnTo>
                <a:close/>
              </a:path>
              <a:path fill="darken" w="60381" h="21600">
                <a:moveTo>
                  <a:pt x="60381" y="0"/>
                </a:moveTo>
                <a:lnTo>
                  <a:pt x="60381" y="21600"/>
                </a:lnTo>
                <a:lnTo>
                  <a:pt x="58981" y="20200"/>
                </a:lnTo>
                <a:lnTo>
                  <a:pt x="58981" y="1400"/>
                </a:lnTo>
                <a:close/>
              </a:path>
              <a:path fill="darkenLess" w="60381" h="21600">
                <a:moveTo>
                  <a:pt x="60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81" y="20200"/>
                </a:lnTo>
                <a:close/>
              </a:path>
              <a:path fill="lighten" w="60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636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636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evt="onClick">
                          <p:tgtEl>
                            <p:spTgt spid="636"/>
                          </p:tgtEl>
                        </p:cond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evt="onClick">
                          <p:tgtEl>
                            <p:spTgt spid="636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evt="onClick">
                          <p:tgtEl>
                            <p:spTgt spid="636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10"/>
          <p:cNvSpPr/>
          <p:nvPr/>
        </p:nvSpPr>
        <p:spPr>
          <a:xfrm>
            <a:off x="466560" y="2276640"/>
            <a:ext cx="820908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选自</a:t>
            </a: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《          》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是乐府诗</a:t>
            </a: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《                   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第一章。作者是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华文隶书"/>
                <a:ea typeface="华文隶书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，字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华文隶书"/>
                <a:ea typeface="华文隶书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，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华文隶书"/>
                <a:ea typeface="华文隶书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末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华文隶书"/>
                <a:ea typeface="华文隶书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家、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华文隶书"/>
                <a:ea typeface="华文隶书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家、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华文隶书"/>
                <a:ea typeface="华文隶书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。他的诗以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华文隶书"/>
                <a:ea typeface="华文隶书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见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8"/>
          <p:cNvGrpSpPr/>
          <p:nvPr/>
        </p:nvGrpSpPr>
        <p:grpSpPr>
          <a:xfrm>
            <a:off x="449280" y="765000"/>
            <a:ext cx="2898720" cy="1112760"/>
            <a:chOff x="449280" y="765000"/>
            <a:chExt cx="2898720" cy="1112760"/>
          </a:xfrm>
        </p:grpSpPr>
        <p:pic>
          <p:nvPicPr>
            <p:cNvPr id="650" name="Picture 3" descr="AG00004_"/>
            <p:cNvPicPr/>
            <p:nvPr/>
          </p:nvPicPr>
          <p:blipFill>
            <a:blip r:embed="rId1"/>
            <a:stretch/>
          </p:blipFill>
          <p:spPr>
            <a:xfrm>
              <a:off x="449280" y="836640"/>
              <a:ext cx="954000" cy="920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1" name="Group 7"/>
            <p:cNvGrpSpPr/>
            <p:nvPr/>
          </p:nvGrpSpPr>
          <p:grpSpPr>
            <a:xfrm>
              <a:off x="1187280" y="765000"/>
              <a:ext cx="2160720" cy="1112760"/>
              <a:chOff x="1187280" y="765000"/>
              <a:chExt cx="2160720" cy="1112760"/>
            </a:xfrm>
          </p:grpSpPr>
          <p:sp>
            <p:nvSpPr>
              <p:cNvPr id="652" name="Text Box 2"/>
              <p:cNvSpPr/>
              <p:nvPr/>
            </p:nvSpPr>
            <p:spPr>
              <a:xfrm>
                <a:off x="1403280" y="765000"/>
                <a:ext cx="1944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66ff"/>
                    </a:solidFill>
                    <a:latin typeface="Arial"/>
                    <a:ea typeface="华文新魏"/>
                  </a:rPr>
                  <a:t>课后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Text Box 4"/>
              <p:cNvSpPr/>
              <p:nvPr/>
            </p:nvSpPr>
            <p:spPr>
              <a:xfrm>
                <a:off x="1187280" y="1052640"/>
                <a:ext cx="10098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800" spc="-1" strike="noStrike">
                    <a:solidFill>
                      <a:srgbClr val="e67300"/>
                    </a:solidFill>
                    <a:latin typeface="Arial"/>
                    <a:ea typeface="华文琥珀"/>
                  </a:rPr>
                  <a:t>作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Text Box 5"/>
              <p:cNvSpPr/>
              <p:nvPr/>
            </p:nvSpPr>
            <p:spPr>
              <a:xfrm>
                <a:off x="1835280" y="105264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66ff"/>
                    </a:solidFill>
                    <a:latin typeface="Arial"/>
                    <a:ea typeface="华文新魏"/>
                  </a:rPr>
                  <a:t>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5" name="Rectangle 9"/>
          <p:cNvSpPr/>
          <p:nvPr/>
        </p:nvSpPr>
        <p:spPr>
          <a:xfrm>
            <a:off x="416520" y="2276640"/>
            <a:ext cx="11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  <a:ea typeface="华文隶书"/>
              </a:rPr>
              <a:t>《</a:t>
            </a:r>
            <a:r>
              <a:rPr b="0" lang="zh-CN" sz="2800" spc="-1" strike="noStrike">
                <a:solidFill>
                  <a:srgbClr val="6600ff"/>
                </a:solidFill>
                <a:latin typeface="Arial"/>
                <a:ea typeface="华文隶书"/>
              </a:rPr>
              <a:t>观沧海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  <a:ea typeface="华文隶书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11"/>
          <p:cNvSpPr/>
          <p:nvPr/>
        </p:nvSpPr>
        <p:spPr>
          <a:xfrm>
            <a:off x="2340000" y="2276640"/>
            <a:ext cx="28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1237"/>
                </a:solidFill>
                <a:latin typeface="Times New Roman"/>
                <a:ea typeface="方正舒体"/>
              </a:rPr>
              <a:t>乐府诗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12"/>
          <p:cNvSpPr/>
          <p:nvPr/>
        </p:nvSpPr>
        <p:spPr>
          <a:xfrm>
            <a:off x="1187280" y="2708280"/>
            <a:ext cx="27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1237"/>
                </a:solidFill>
                <a:latin typeface="Times New Roman"/>
                <a:ea typeface="方正舒体"/>
              </a:rPr>
              <a:t>步出夏门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13"/>
          <p:cNvSpPr/>
          <p:nvPr/>
        </p:nvSpPr>
        <p:spPr>
          <a:xfrm>
            <a:off x="3780000" y="3213000"/>
            <a:ext cx="14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1237"/>
                </a:solidFill>
                <a:latin typeface="Times New Roman"/>
                <a:ea typeface="方正舒体"/>
              </a:rPr>
              <a:t>曹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4"/>
          <p:cNvSpPr/>
          <p:nvPr/>
        </p:nvSpPr>
        <p:spPr>
          <a:xfrm>
            <a:off x="1476360" y="357336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1237"/>
                </a:solidFill>
                <a:latin typeface="Times New Roman"/>
                <a:ea typeface="方正舒体"/>
              </a:rPr>
              <a:t>孟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5"/>
          <p:cNvSpPr/>
          <p:nvPr/>
        </p:nvSpPr>
        <p:spPr>
          <a:xfrm>
            <a:off x="3851280" y="3645000"/>
            <a:ext cx="15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1237"/>
                </a:solidFill>
                <a:latin typeface="Times New Roman"/>
                <a:ea typeface="方正舒体"/>
              </a:rPr>
              <a:t>东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6"/>
          <p:cNvSpPr/>
          <p:nvPr/>
        </p:nvSpPr>
        <p:spPr>
          <a:xfrm>
            <a:off x="826920" y="4149720"/>
            <a:ext cx="16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1237"/>
                </a:solidFill>
                <a:latin typeface="Times New Roman"/>
                <a:ea typeface="方正舒体"/>
              </a:rPr>
              <a:t>政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7"/>
          <p:cNvSpPr/>
          <p:nvPr/>
        </p:nvSpPr>
        <p:spPr>
          <a:xfrm>
            <a:off x="1619280" y="4149720"/>
            <a:ext cx="15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1237"/>
                </a:solidFill>
                <a:latin typeface="Times New Roman"/>
                <a:ea typeface="方正舒体"/>
              </a:rPr>
              <a:t>军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8"/>
          <p:cNvSpPr/>
          <p:nvPr/>
        </p:nvSpPr>
        <p:spPr>
          <a:xfrm>
            <a:off x="1692360" y="4653000"/>
            <a:ext cx="175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1237"/>
                </a:solidFill>
                <a:latin typeface="Times New Roman"/>
                <a:ea typeface="方正舒体"/>
              </a:rPr>
              <a:t>诗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19"/>
          <p:cNvSpPr/>
          <p:nvPr/>
        </p:nvSpPr>
        <p:spPr>
          <a:xfrm>
            <a:off x="5292720" y="4581360"/>
            <a:ext cx="27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21237"/>
                </a:solidFill>
                <a:uFillTx/>
                <a:latin typeface="Times New Roman"/>
                <a:ea typeface="方正舒体"/>
              </a:rPr>
              <a:t>慷慨悲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20"/>
          <p:cNvSpPr/>
          <p:nvPr/>
        </p:nvSpPr>
        <p:spPr>
          <a:xfrm>
            <a:off x="2916360" y="2276640"/>
            <a:ext cx="1728720" cy="431640"/>
          </a:xfrm>
          <a:custGeom>
            <a:avLst/>
            <a:gdLst>
              <a:gd name="textAreaLeft" fmla="*/ 27720 w 1728720"/>
              <a:gd name="textAreaRight" fmla="*/ 1701000 w 1728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6454" h="21600">
                <a:moveTo>
                  <a:pt x="0" y="0"/>
                </a:moveTo>
                <a:lnTo>
                  <a:pt x="86454" y="0"/>
                </a:lnTo>
                <a:lnTo>
                  <a:pt x="86454" y="21600"/>
                </a:lnTo>
                <a:lnTo>
                  <a:pt x="0" y="21600"/>
                </a:lnTo>
                <a:close/>
              </a:path>
              <a:path fill="lightenLess" w="86454" h="21600">
                <a:moveTo>
                  <a:pt x="0" y="0"/>
                </a:moveTo>
                <a:lnTo>
                  <a:pt x="86454" y="0"/>
                </a:lnTo>
                <a:lnTo>
                  <a:pt x="85054" y="1400"/>
                </a:lnTo>
                <a:lnTo>
                  <a:pt x="1400" y="1400"/>
                </a:lnTo>
                <a:close/>
              </a:path>
              <a:path fill="darken" w="86454" h="21600">
                <a:moveTo>
                  <a:pt x="86454" y="0"/>
                </a:moveTo>
                <a:lnTo>
                  <a:pt x="86454" y="21600"/>
                </a:lnTo>
                <a:lnTo>
                  <a:pt x="85054" y="20200"/>
                </a:lnTo>
                <a:lnTo>
                  <a:pt x="85054" y="1400"/>
                </a:lnTo>
                <a:close/>
              </a:path>
              <a:path fill="darkenLess" w="86454" h="21600">
                <a:moveTo>
                  <a:pt x="864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54" y="20200"/>
                </a:lnTo>
                <a:close/>
              </a:path>
              <a:path fill="lighten" w="864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21"/>
          <p:cNvSpPr/>
          <p:nvPr/>
        </p:nvSpPr>
        <p:spPr>
          <a:xfrm>
            <a:off x="1547640" y="2708280"/>
            <a:ext cx="1944720" cy="504720"/>
          </a:xfrm>
          <a:custGeom>
            <a:avLst/>
            <a:gdLst>
              <a:gd name="textAreaLeft" fmla="*/ 32400 w 1944720"/>
              <a:gd name="textAreaRight" fmla="*/ 1912320 w 194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3182" h="21600">
                <a:moveTo>
                  <a:pt x="0" y="0"/>
                </a:moveTo>
                <a:lnTo>
                  <a:pt x="83182" y="0"/>
                </a:lnTo>
                <a:lnTo>
                  <a:pt x="83182" y="21600"/>
                </a:lnTo>
                <a:lnTo>
                  <a:pt x="0" y="21600"/>
                </a:lnTo>
                <a:close/>
              </a:path>
              <a:path fill="lightenLess" w="83182" h="21600">
                <a:moveTo>
                  <a:pt x="0" y="0"/>
                </a:moveTo>
                <a:lnTo>
                  <a:pt x="83182" y="0"/>
                </a:lnTo>
                <a:lnTo>
                  <a:pt x="81782" y="1400"/>
                </a:lnTo>
                <a:lnTo>
                  <a:pt x="1400" y="1400"/>
                </a:lnTo>
                <a:close/>
              </a:path>
              <a:path fill="darken" w="83182" h="21600">
                <a:moveTo>
                  <a:pt x="83182" y="0"/>
                </a:moveTo>
                <a:lnTo>
                  <a:pt x="83182" y="21600"/>
                </a:lnTo>
                <a:lnTo>
                  <a:pt x="81782" y="20200"/>
                </a:lnTo>
                <a:lnTo>
                  <a:pt x="81782" y="1400"/>
                </a:lnTo>
                <a:close/>
              </a:path>
              <a:path fill="darkenLess" w="83182" h="21600">
                <a:moveTo>
                  <a:pt x="83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82" y="20200"/>
                </a:lnTo>
                <a:close/>
              </a:path>
              <a:path fill="lighten" w="83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22"/>
          <p:cNvSpPr/>
          <p:nvPr/>
        </p:nvSpPr>
        <p:spPr>
          <a:xfrm>
            <a:off x="3924360" y="3213000"/>
            <a:ext cx="1368360" cy="505080"/>
          </a:xfrm>
          <a:custGeom>
            <a:avLst/>
            <a:gdLst>
              <a:gd name="textAreaLeft" fmla="*/ 32400 w 1368360"/>
              <a:gd name="textAreaRight" fmla="*/ 1335960 w 136836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58492" h="21600">
                <a:moveTo>
                  <a:pt x="0" y="0"/>
                </a:moveTo>
                <a:lnTo>
                  <a:pt x="58492" y="0"/>
                </a:lnTo>
                <a:lnTo>
                  <a:pt x="58492" y="21600"/>
                </a:lnTo>
                <a:lnTo>
                  <a:pt x="0" y="21600"/>
                </a:lnTo>
                <a:close/>
              </a:path>
              <a:path fill="lightenLess" w="58492" h="21600">
                <a:moveTo>
                  <a:pt x="0" y="0"/>
                </a:moveTo>
                <a:lnTo>
                  <a:pt x="58492" y="0"/>
                </a:lnTo>
                <a:lnTo>
                  <a:pt x="57092" y="1400"/>
                </a:lnTo>
                <a:lnTo>
                  <a:pt x="1400" y="1400"/>
                </a:lnTo>
                <a:close/>
              </a:path>
              <a:path fill="darken" w="58492" h="21600">
                <a:moveTo>
                  <a:pt x="58492" y="0"/>
                </a:moveTo>
                <a:lnTo>
                  <a:pt x="58492" y="21600"/>
                </a:lnTo>
                <a:lnTo>
                  <a:pt x="57092" y="20200"/>
                </a:lnTo>
                <a:lnTo>
                  <a:pt x="57092" y="1400"/>
                </a:lnTo>
                <a:close/>
              </a:path>
              <a:path fill="darkenLess" w="58492" h="21600">
                <a:moveTo>
                  <a:pt x="58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092" y="20200"/>
                </a:lnTo>
                <a:close/>
              </a:path>
              <a:path fill="lighten" w="58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23"/>
          <p:cNvGrpSpPr/>
          <p:nvPr/>
        </p:nvGrpSpPr>
        <p:grpSpPr>
          <a:xfrm>
            <a:off x="539640" y="6381720"/>
            <a:ext cx="934920" cy="287280"/>
            <a:chOff x="539640" y="6381720"/>
            <a:chExt cx="934920" cy="287280"/>
          </a:xfrm>
        </p:grpSpPr>
        <p:sp>
          <p:nvSpPr>
            <p:cNvPr id="669" name="AutoShape 24"/>
            <p:cNvSpPr/>
            <p:nvPr/>
          </p:nvSpPr>
          <p:spPr>
            <a:xfrm>
              <a:off x="539640" y="6381720"/>
              <a:ext cx="934920" cy="287280"/>
            </a:xfrm>
            <a:prstGeom prst="flowChartAlternateProcess">
              <a:avLst/>
            </a:prstGeom>
            <a:gradFill rotWithShape="0">
              <a:gsLst>
                <a:gs pos="0">
                  <a:srgbClr val="d8beff">
                    <a:alpha val="23137"/>
                  </a:srgbClr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AutoShape 25"/>
            <p:cNvSpPr/>
            <p:nvPr/>
          </p:nvSpPr>
          <p:spPr>
            <a:xfrm rot="5400000">
              <a:off x="933840" y="6417360"/>
              <a:ext cx="144360" cy="216000"/>
            </a:xfrm>
            <a:prstGeom prst="flowChartExtra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Group 26"/>
          <p:cNvGrpSpPr/>
          <p:nvPr/>
        </p:nvGrpSpPr>
        <p:grpSpPr>
          <a:xfrm>
            <a:off x="1906560" y="6381720"/>
            <a:ext cx="934920" cy="287280"/>
            <a:chOff x="1906560" y="6381720"/>
            <a:chExt cx="934920" cy="287280"/>
          </a:xfrm>
        </p:grpSpPr>
        <p:sp>
          <p:nvSpPr>
            <p:cNvPr id="672" name="AutoShape 27"/>
            <p:cNvSpPr/>
            <p:nvPr/>
          </p:nvSpPr>
          <p:spPr>
            <a:xfrm>
              <a:off x="1906560" y="6381720"/>
              <a:ext cx="934920" cy="287280"/>
            </a:xfrm>
            <a:prstGeom prst="flowChartAlternateProcess">
              <a:avLst/>
            </a:prstGeom>
            <a:gradFill rotWithShape="0">
              <a:gsLst>
                <a:gs pos="0">
                  <a:srgbClr val="d8beff">
                    <a:alpha val="23137"/>
                  </a:srgbClr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AutoShape 28"/>
            <p:cNvSpPr/>
            <p:nvPr/>
          </p:nvSpPr>
          <p:spPr>
            <a:xfrm>
              <a:off x="2195280" y="6453360"/>
              <a:ext cx="287280" cy="144360"/>
            </a:xfrm>
            <a:custGeom>
              <a:avLst/>
              <a:gdLst>
                <a:gd name="textAreaLeft" fmla="*/ 50040 w 287280"/>
                <a:gd name="textAreaRight" fmla="*/ 208440 w 287280"/>
                <a:gd name="textAreaTop" fmla="*/ 19080 h 144360"/>
                <a:gd name="textAreaBottom" fmla="*/ 12528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33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4" name="AutoShape 29"/>
          <p:cNvSpPr/>
          <p:nvPr/>
        </p:nvSpPr>
        <p:spPr>
          <a:xfrm>
            <a:off x="1763640" y="6308640"/>
            <a:ext cx="1224000" cy="360360"/>
          </a:xfrm>
          <a:custGeom>
            <a:avLst/>
            <a:gdLst>
              <a:gd name="textAreaLeft" fmla="*/ 23040 w 1224000"/>
              <a:gd name="textAreaRight" fmla="*/ 1200960 w 1224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73315" h="21600">
                <a:moveTo>
                  <a:pt x="0" y="0"/>
                </a:moveTo>
                <a:lnTo>
                  <a:pt x="73315" y="0"/>
                </a:lnTo>
                <a:lnTo>
                  <a:pt x="73315" y="21600"/>
                </a:lnTo>
                <a:lnTo>
                  <a:pt x="0" y="21600"/>
                </a:lnTo>
                <a:close/>
              </a:path>
              <a:path fill="lightenLess" w="73315" h="21600">
                <a:moveTo>
                  <a:pt x="0" y="0"/>
                </a:moveTo>
                <a:lnTo>
                  <a:pt x="73315" y="0"/>
                </a:lnTo>
                <a:lnTo>
                  <a:pt x="71915" y="1400"/>
                </a:lnTo>
                <a:lnTo>
                  <a:pt x="1400" y="1400"/>
                </a:lnTo>
                <a:close/>
              </a:path>
              <a:path fill="darken" w="73315" h="21600">
                <a:moveTo>
                  <a:pt x="73315" y="0"/>
                </a:moveTo>
                <a:lnTo>
                  <a:pt x="73315" y="21600"/>
                </a:lnTo>
                <a:lnTo>
                  <a:pt x="71915" y="20200"/>
                </a:lnTo>
                <a:lnTo>
                  <a:pt x="71915" y="1400"/>
                </a:lnTo>
                <a:close/>
              </a:path>
              <a:path fill="darkenLess" w="73315" h="21600">
                <a:moveTo>
                  <a:pt x="73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15" y="20200"/>
                </a:lnTo>
                <a:close/>
              </a:path>
              <a:path fill="lighten" w="73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649"/>
                    </p:tgtEl>
                  </p:cond>
                </p:stCondLst>
                <p:childTnLst>
                  <p:par>
                    <p:cTn id="104" nodeType="clickEffect" fill="hold">
                      <p:stCondLst>
                        <p:cond evt="onClick">
                          <p:tgtEl>
                            <p:spTgt spid="649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665"/>
                    </p:tgtEl>
                  </p:cond>
                </p:stCondLst>
                <p:childTnLst>
                  <p:par>
                    <p:cTn id="125" nodeType="clickEffect" fill="hold">
                      <p:stCondLst>
                        <p:cond evt="onClick">
                          <p:tgtEl>
                            <p:spTgt spid="665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666"/>
                    </p:tgtEl>
                  </p:cond>
                </p:stCondLst>
                <p:childTnLst>
                  <p:par>
                    <p:cTn id="134" nodeType="clickEffect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667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667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7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7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08:06:22Z</dcterms:created>
  <dc:creator>吴功斌</dc:creator>
  <dc:description/>
  <dc:language>en-US</dc:language>
  <cp:lastModifiedBy>a</cp:lastModifiedBy>
  <dcterms:modified xsi:type="dcterms:W3CDTF">2015-02-10T11:28:57Z</dcterms:modified>
  <cp:revision>10</cp:revision>
  <dc:subject/>
  <dc:title>幻灯片 1</dc:title>
</cp:coreProperties>
</file>