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9F6-01D9-49A9-85B6-C84179E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ADC-3A60-4E86-A847-552D4D84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AA1B1-A655-47A0-9F56-B855A03C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9CAAB-7DBC-49F6-B5EC-465CA6B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AF6CC-E84E-4AC1-807A-3BE783EC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63B26-7277-4385-B59F-BA99638A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26AB9-7101-4791-913E-392D751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24918-3444-4958-B286-DA1BE0A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6E0BB-3D2A-4307-A107-8E4569A7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3F16F-5698-4AB3-B443-2DEC15E6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4EAB6-1ED4-4F60-A5D4-A88CBFC8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7EA75-CB54-4724-8061-BCD4B9EB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E42-B05E-452C-979C-A3AE7A3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E2296-3523-4F95-9C29-CD1C7F6A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C8E54-D01B-4E21-ADED-3A1AD96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A48BC-A0BB-47AA-94D5-7BDBEF50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6D242-93C8-4767-B5F1-D88339F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EAC0-0948-4ABF-9C3B-1954AD8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E426-784C-44BB-9EEB-BD6678DB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ABE1C-2B88-44B7-93BB-6EFDE87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3BB92-8051-47EE-8137-52D2676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82D3B-98E1-43F9-ABE3-3DC0B70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BF68E-3F59-417C-8EF7-90472835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1F2-6880-49E8-9C83-0C67FCDC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D3873-A74C-484D-B640-E5E95673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36694-D907-419A-9B7C-0266FF80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D975A-7E31-4350-A71A-FDB3B90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C67DD-755C-43AD-BF6F-70A44D6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BEA9B-503D-4BF1-A002-B9D61E39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93AB1-1805-4EE3-B2D3-BCF2EBE9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EC18-A0A8-4C58-AF8F-9E9163A5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82EEE-06B3-42C7-90F7-C84F3A6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2AF7-4DDC-4065-A0A2-30D719D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2B95A-D4D4-4299-8820-8F00511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BE9C-96BF-4EDB-84B4-B4F4F59A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8F96-2089-414C-959E-13E4BBAF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71835-48C7-4030-8D64-474298DE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D4549-3EAF-4486-AB1C-0508F4EC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6B26B-51BA-4E2E-9538-D96E57E3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464B3-B9A0-48F0-9D9D-E8A239F4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99DC9-6B52-4187-B882-65129753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ED303-2DA9-455C-B7B2-6B7CA50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F3521-F586-45FE-9E82-7D0103C9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872B7-C76F-4D03-8C74-8CFEA52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8A345-974B-4214-A0EA-EE5F9FC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ECE-42D6-40E3-9E1B-745B387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72CF6-E256-43A8-86F3-081C159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37E6E-AAA7-4688-9747-34DA02C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0F37C-4C92-43FC-98BB-35371037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6988A-3798-4F1A-A130-17473182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22883-96ED-4198-AD04-7C8F198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76B66-516F-469B-82C4-8EEF854C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E288E-ED5A-4BF8-97AC-EFAC478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37E15-CCF3-463A-9DD2-B73AA09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798BA-E58F-4F5B-8899-FBBDE904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9D0FC-5948-4757-8F77-800D1289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0EE0-190C-40A3-B922-E60DF12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03BC5-2C1C-4F0C-82B7-37E65637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FE65F-9CF0-47E1-83FE-A62875F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DD568-BBDD-4D18-9DC1-F29B1B20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BC8FC-015E-4BB4-B5EC-6A7BCC8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1DC0C-55BE-41DE-82D0-C5E31245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B1356-D47D-4A19-AE36-31CB6EA3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A8288-301B-4E93-B941-CB5B2F8C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34E8A-83B5-4B82-B10D-75474BD2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F673F-3853-4D9A-803B-5D6113AD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93DAF-7B5A-4982-AB23-CC17593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E7DA-D691-4B07-942E-9D6FFE5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5BFCD-FF26-454B-8D29-0BD60D29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7AED4-42D6-4830-BC8B-CDE36C15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C4B04-DD07-4608-94EC-5502B0B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66B54-F256-4CA8-8927-DFA86FE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0BEAF-8795-4DFD-BDFB-1D0B8D8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9CC7F-82B2-433C-B231-27C473C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0F890-4B96-41CA-9F0E-F04C8E6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F063C-B8C8-4273-B6EE-13D71BF5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A0A89-3DBE-44F4-9240-3F19FEB6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5F7-B31F-4F8B-9EDD-705CBE6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9036-9C85-4531-AC2E-A823356C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B9A7-09B5-4C41-A996-F64908F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C28-4474-41AC-A619-9E71400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A61-3729-476A-A728-BBF71CD2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79CB-A449-452A-93C3-D6FC3F2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0517-A637-4495-A779-4762E464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E4E-B7F3-4D66-A4FA-49F66BDF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17BE-B78B-4280-A4E1-9561C38B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479B-425C-4399-BD6F-1D113A12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4089-B088-400F-AA26-641611E2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2DB6-A870-47E3-9F72-1E93F86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BAD1-DBAB-4C21-B19A-586ADAA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D1CB-2232-45C7-A703-99B638C0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C13-60CE-4412-B820-317E616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2946-41EE-4224-92C8-04DA7D2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EC9B-9C01-433A-A96B-38B5022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8AFA-ACAE-4184-97E2-C303CAA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B144-AE6F-4124-B9F7-89A6C446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426B-9211-4E03-8B8B-C3CF623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3610-9E5B-4ADD-8747-40186DB0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796C-6AFC-46AE-A4DF-5CE7983D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2C0A-78D3-41AB-AAC0-777D9DE9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86F4-F82B-40A2-B0E3-E7F0168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D63C-4F36-4376-AFFB-6F1F128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01D-A557-4A08-879F-651FF8D1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7C97-B3DE-492C-AAFF-615D0B60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65A3-D4BA-48C9-B0B7-AD2FF146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BDAA-BAAD-4584-B3C1-5D00E3EA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1DA9-049E-4AC8-999F-6611E16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2AD9-4B07-4187-9DEA-864B8863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5920-7A6A-49C0-B93B-962F452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CBFE-7A09-41A5-B070-3050553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DF0F-3276-4170-AEAD-16283005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E75F-2E35-4A0D-A8B1-AE43E46E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6359-8B2E-4159-89A3-BFAD1D12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E9B-AEC5-4F0B-B587-9C9C6913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E2340-A3D8-4A9C-BE08-B47E7867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9938-88E3-408D-B7DA-9EEECAF7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9CCD-C1AA-4401-87FF-3A543E42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10B22-802A-45E6-BD5D-857447D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6C92-8CC4-4D50-8D9A-A296BEA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9376-2F69-4C09-99BB-C22E940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E31E-96E6-4EF6-9AAA-E6AA1B8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5010-C8EE-403B-B528-E084770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2B557-46DE-44D4-829A-5765B0E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6A2C-2C7A-476D-9BEC-15383F77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C72-A5E6-4825-A268-5B6F737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53B9C-6B38-459E-ABFB-22C7E940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237D-119D-400A-BE91-60DF46E7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6378-52A2-4BF1-A207-E004E665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7F39-8BD2-4441-BC21-693BC349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C454-7284-42CC-B3DE-C2810B6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7B17B-CDB1-43DB-A2B7-3E39361C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0992D-F20D-4029-86D9-F972295E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06100-5BC1-45D1-981A-00E9F59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4E66B-0C2B-462D-A1BA-2D57C91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3125E-1C93-4E32-A7FD-A3183A73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583-A04D-4941-8F72-12FEE7D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0A366-E504-48F2-A599-2FD628B4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80A0-5938-42F2-9909-AFDD02A2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D7EE-3E83-4402-B8E7-AEF3E0E4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A9CA-C69E-4B90-8874-F32CE83D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813B3-F5C7-4BCC-96EE-AFB7CD7F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B04C-4D8C-4577-9373-1864B2C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84205-F5E1-469E-8829-3412D53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B4C39-07ED-445E-AD34-51D47941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7785B-AC23-4B7F-AC81-9A400247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B7F8-2FD1-45ED-AF9D-25710F1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1C9-A80C-4B1D-BCB8-C6A0604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CB7A-BE2F-407C-A2D9-C8E1640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4AC9-256F-4781-878C-E2BFD2D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BBCC-8FF0-4774-9F50-063B4A6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046E-E5B0-4581-9BDD-AC03CA23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6ED4-6FC6-43F5-899F-3592E423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673AB-0AC3-46BE-AC12-8619D52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3721-AA3B-4BA9-B467-122807B2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7016-B225-47DB-AD7E-713DD0BC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9D30-1C18-4BC3-83EB-CB148C6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CEEA-7222-4865-814F-35563BA2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315-7ABD-45A7-ACF6-75AB0B6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58E2D-9A46-4E6E-8DB9-DF2533E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422C-08BD-4115-91F2-2F3B45E4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70BB8-BBB7-4579-8B4B-7DAD5F3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F5F6-5C18-4921-892A-FBCD0A5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82D92-72A5-4BA1-9BD4-E6F0D3C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B16F2-B497-4A16-9F3C-10E71C43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DE1F-01D5-4272-8B96-F0D8580C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5308D-F66D-4605-B28B-D6F210F9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36730-85A2-4D50-8192-A475C393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6B6E-8654-446C-B381-07B87566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6E33-D356-49B9-B4A2-5C1FE4DA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7272-0BE9-43A6-B5E4-E21F8E8296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7850-4C80-4A47-A9F2-6F316C5896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C186-39F6-471A-BF8E-EF30CD02F3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6FD2-0968-480A-A264-7ED67E851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FE4-6443-4E8F-A4E5-09A6AC18BA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BEC8-8C5F-4F46-AE91-D21774BE9B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3E92-B210-411F-93C6-D325F0F926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34A-38A5-4A26-A111-72A40501D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575-2FC7-4D9C-89C3-2E677DF0F1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4AF-BE56-404A-B97D-96386E5333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714-5357-463D-A56C-E5B4A60CBA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3B94-DAA3-44A1-AABD-B3D519511D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5F3-E5D3-4A90-A201-C8CE6A3CE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E92F-41ED-4C2F-95D0-16B5854055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6577-2732-48A8-A020-C27C587045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A14B-AF0A-4A3B-9264-2A892EC70C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7DF7-A714-4FAC-9723-D7EC476FEB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3DF-2B08-4F6C-B041-D694AA5A12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C289-321A-4785-99C3-E56FD64880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016E-CEF8-449B-819B-E8C36D8CDE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AAB1-4CE3-4DAB-B61E-7A3A528A6A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C19-994F-4010-9A7E-E23903DD84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10D0-4E78-4D52-AB62-095BB28A7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50E-E14C-4386-90EC-DBC17403BF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58E4-B340-4EC2-8EB0-9D63064BB3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700" spc="-1" strike="noStrike">
                <a:solidFill>
                  <a:srgbClr val="003399"/>
                </a:solidFill>
                <a:latin typeface="Arial"/>
                <a:ea typeface="华文新魏"/>
              </a:rPr>
              <a:t>观察物体</a:t>
            </a:r>
            <a:endParaRPr b="0" lang="en-US" sz="1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7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6"/>
          <p:cNvSpPr/>
          <p:nvPr/>
        </p:nvSpPr>
        <p:spPr>
          <a:xfrm>
            <a:off x="4284720" y="36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Arial"/>
              </a:rPr>
              <a:t>盲人摸象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3924360" y="3500280"/>
            <a:ext cx="1224000" cy="107964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087" y="1400"/>
                </a:lnTo>
                <a:lnTo>
                  <a:pt x="1400" y="140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087" y="20200"/>
                </a:lnTo>
                <a:lnTo>
                  <a:pt x="23087" y="140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7" y="2020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7" h="21600">
                <a:moveTo>
                  <a:pt x="5237" y="3794"/>
                </a:moveTo>
                <a:lnTo>
                  <a:pt x="19250" y="10800"/>
                </a:lnTo>
                <a:lnTo>
                  <a:pt x="5237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摆一摆，再仔细观察比较这三个物体，看有什么发现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75564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554040" y="29098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133200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1908000" y="27082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35258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1148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471636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AutoShape 9"/>
          <p:cNvSpPr/>
          <p:nvPr/>
        </p:nvSpPr>
        <p:spPr>
          <a:xfrm>
            <a:off x="39132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AutoShape 12"/>
          <p:cNvSpPr/>
          <p:nvPr/>
        </p:nvSpPr>
        <p:spPr>
          <a:xfrm>
            <a:off x="628488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AutoShape 13"/>
          <p:cNvSpPr/>
          <p:nvPr/>
        </p:nvSpPr>
        <p:spPr>
          <a:xfrm>
            <a:off x="68612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74376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AutoShape 15"/>
          <p:cNvSpPr/>
          <p:nvPr/>
        </p:nvSpPr>
        <p:spPr>
          <a:xfrm>
            <a:off x="72360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正面、背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279360" y="2286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两个侧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279360" y="4221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上面、下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94" name="Group 25"/>
          <p:cNvGrpSpPr/>
          <p:nvPr/>
        </p:nvGrpSpPr>
        <p:grpSpPr>
          <a:xfrm>
            <a:off x="2698920" y="1628640"/>
            <a:ext cx="1728720" cy="576360"/>
            <a:chOff x="2698920" y="1628640"/>
            <a:chExt cx="1728720" cy="576360"/>
          </a:xfrm>
        </p:grpSpPr>
        <p:sp>
          <p:nvSpPr>
            <p:cNvPr id="595" name="Rectangle 7"/>
            <p:cNvSpPr/>
            <p:nvPr/>
          </p:nvSpPr>
          <p:spPr>
            <a:xfrm>
              <a:off x="2698920" y="162864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327492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385128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98" name="Group 26"/>
          <p:cNvGrpSpPr/>
          <p:nvPr/>
        </p:nvGrpSpPr>
        <p:grpSpPr>
          <a:xfrm>
            <a:off x="2700360" y="3573360"/>
            <a:ext cx="1152360" cy="576360"/>
            <a:chOff x="2700360" y="3573360"/>
            <a:chExt cx="1152360" cy="576360"/>
          </a:xfrm>
        </p:grpSpPr>
        <p:sp>
          <p:nvSpPr>
            <p:cNvPr id="599" name="Rectangle 10"/>
            <p:cNvSpPr/>
            <p:nvPr/>
          </p:nvSpPr>
          <p:spPr>
            <a:xfrm>
              <a:off x="2700360" y="3573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Rectangle 11"/>
            <p:cNvSpPr/>
            <p:nvPr/>
          </p:nvSpPr>
          <p:spPr>
            <a:xfrm>
              <a:off x="3276720" y="357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01" name="Group 27"/>
          <p:cNvGrpSpPr/>
          <p:nvPr/>
        </p:nvGrpSpPr>
        <p:grpSpPr>
          <a:xfrm>
            <a:off x="900000" y="5157720"/>
            <a:ext cx="1727280" cy="1152720"/>
            <a:chOff x="900000" y="5157720"/>
            <a:chExt cx="1727280" cy="1152720"/>
          </a:xfrm>
        </p:grpSpPr>
        <p:sp>
          <p:nvSpPr>
            <p:cNvPr id="602" name="Rectangle 13"/>
            <p:cNvSpPr/>
            <p:nvPr/>
          </p:nvSpPr>
          <p:spPr>
            <a:xfrm>
              <a:off x="900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Rectangle 14"/>
            <p:cNvSpPr/>
            <p:nvPr/>
          </p:nvSpPr>
          <p:spPr>
            <a:xfrm>
              <a:off x="147636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Rectangle 15"/>
            <p:cNvSpPr/>
            <p:nvPr/>
          </p:nvSpPr>
          <p:spPr>
            <a:xfrm>
              <a:off x="20509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Rectangle 16"/>
            <p:cNvSpPr/>
            <p:nvPr/>
          </p:nvSpPr>
          <p:spPr>
            <a:xfrm>
              <a:off x="90000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06" name="Group 28"/>
          <p:cNvGrpSpPr/>
          <p:nvPr/>
        </p:nvGrpSpPr>
        <p:grpSpPr>
          <a:xfrm>
            <a:off x="3421080" y="5157720"/>
            <a:ext cx="1727280" cy="1152720"/>
            <a:chOff x="3421080" y="5157720"/>
            <a:chExt cx="1727280" cy="1152720"/>
          </a:xfrm>
        </p:grpSpPr>
        <p:sp>
          <p:nvSpPr>
            <p:cNvPr id="607" name="Rectangle 17"/>
            <p:cNvSpPr/>
            <p:nvPr/>
          </p:nvSpPr>
          <p:spPr>
            <a:xfrm>
              <a:off x="342108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Rectangle 18"/>
            <p:cNvSpPr/>
            <p:nvPr/>
          </p:nvSpPr>
          <p:spPr>
            <a:xfrm>
              <a:off x="399744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Rectangle 19"/>
            <p:cNvSpPr/>
            <p:nvPr/>
          </p:nvSpPr>
          <p:spPr>
            <a:xfrm>
              <a:off x="4572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Rectangle 20"/>
            <p:cNvSpPr/>
            <p:nvPr/>
          </p:nvSpPr>
          <p:spPr>
            <a:xfrm>
              <a:off x="399564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1" name="Group 29"/>
          <p:cNvGrpSpPr/>
          <p:nvPr/>
        </p:nvGrpSpPr>
        <p:grpSpPr>
          <a:xfrm>
            <a:off x="6373800" y="5157720"/>
            <a:ext cx="1727280" cy="1152720"/>
            <a:chOff x="6373800" y="5157720"/>
            <a:chExt cx="1727280" cy="1152720"/>
          </a:xfrm>
        </p:grpSpPr>
        <p:sp>
          <p:nvSpPr>
            <p:cNvPr id="612" name="Rectangle 21"/>
            <p:cNvSpPr/>
            <p:nvPr/>
          </p:nvSpPr>
          <p:spPr>
            <a:xfrm>
              <a:off x="63738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69501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75247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Rectangle 24"/>
            <p:cNvSpPr/>
            <p:nvPr/>
          </p:nvSpPr>
          <p:spPr>
            <a:xfrm>
              <a:off x="752472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把刚才的那三个物体变一变，使它们变成下图这样的三个物体吗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74304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43040" y="2637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33200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1908000" y="32259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350676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409428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AutoShape 9"/>
          <p:cNvSpPr/>
          <p:nvPr/>
        </p:nvSpPr>
        <p:spPr>
          <a:xfrm>
            <a:off x="468144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AutoShape 10"/>
          <p:cNvSpPr/>
          <p:nvPr/>
        </p:nvSpPr>
        <p:spPr>
          <a:xfrm>
            <a:off x="4095720" y="26496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628488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AutoShape 12"/>
          <p:cNvSpPr/>
          <p:nvPr/>
        </p:nvSpPr>
        <p:spPr>
          <a:xfrm>
            <a:off x="686124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AutoShape 13"/>
          <p:cNvSpPr/>
          <p:nvPr/>
        </p:nvSpPr>
        <p:spPr>
          <a:xfrm>
            <a:off x="743760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7439040" y="26496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755640" y="344160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324000" y="4437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哪面看这三个物体，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完全相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？从哪面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摆一摆，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743040" y="3429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743040" y="284004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AutoShape 6"/>
          <p:cNvSpPr/>
          <p:nvPr/>
        </p:nvSpPr>
        <p:spPr>
          <a:xfrm>
            <a:off x="1346040" y="34290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AutoShape 7"/>
          <p:cNvSpPr/>
          <p:nvPr/>
        </p:nvSpPr>
        <p:spPr>
          <a:xfrm>
            <a:off x="741240" y="224964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755640" y="3645000"/>
            <a:ext cx="57636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179280" y="1628640"/>
            <a:ext cx="2664000" cy="3240360"/>
          </a:xfrm>
          <a:prstGeom prst="rect">
            <a:avLst/>
          </a:prstGeom>
          <a:noFill/>
          <a:ln w="3816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38" name="Group 10"/>
          <p:cNvGrpSpPr/>
          <p:nvPr/>
        </p:nvGrpSpPr>
        <p:grpSpPr>
          <a:xfrm>
            <a:off x="7812000" y="2133720"/>
            <a:ext cx="576360" cy="1728720"/>
            <a:chOff x="7812000" y="2133720"/>
            <a:chExt cx="576360" cy="1728720"/>
          </a:xfrm>
        </p:grpSpPr>
        <p:sp>
          <p:nvSpPr>
            <p:cNvPr id="639" name="Rectangle 11"/>
            <p:cNvSpPr/>
            <p:nvPr/>
          </p:nvSpPr>
          <p:spPr>
            <a:xfrm rot="16200000">
              <a:off x="7812000" y="328608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Rectangle 12"/>
            <p:cNvSpPr/>
            <p:nvPr/>
          </p:nvSpPr>
          <p:spPr>
            <a:xfrm rot="16200000">
              <a:off x="7812000" y="2710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Rectangle 13"/>
            <p:cNvSpPr/>
            <p:nvPr/>
          </p:nvSpPr>
          <p:spPr>
            <a:xfrm rot="16200000">
              <a:off x="7812000" y="2133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2" name="Group 14"/>
          <p:cNvGrpSpPr/>
          <p:nvPr/>
        </p:nvGrpSpPr>
        <p:grpSpPr>
          <a:xfrm>
            <a:off x="3419640" y="3141720"/>
            <a:ext cx="1152360" cy="576360"/>
            <a:chOff x="3419640" y="3141720"/>
            <a:chExt cx="1152360" cy="576360"/>
          </a:xfrm>
        </p:grpSpPr>
        <p:sp>
          <p:nvSpPr>
            <p:cNvPr id="643" name="Rectangle 15"/>
            <p:cNvSpPr/>
            <p:nvPr/>
          </p:nvSpPr>
          <p:spPr>
            <a:xfrm>
              <a:off x="3419640" y="3141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3996000" y="31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5" name="Group 17"/>
          <p:cNvGrpSpPr/>
          <p:nvPr/>
        </p:nvGrpSpPr>
        <p:grpSpPr>
          <a:xfrm>
            <a:off x="5651640" y="2133720"/>
            <a:ext cx="1152000" cy="1726560"/>
            <a:chOff x="5651640" y="2133720"/>
            <a:chExt cx="1152000" cy="1726560"/>
          </a:xfrm>
        </p:grpSpPr>
        <p:sp>
          <p:nvSpPr>
            <p:cNvPr id="646" name="Rectangle 18"/>
            <p:cNvSpPr/>
            <p:nvPr/>
          </p:nvSpPr>
          <p:spPr>
            <a:xfrm rot="16200000">
              <a:off x="565164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Rectangle 19"/>
            <p:cNvSpPr/>
            <p:nvPr/>
          </p:nvSpPr>
          <p:spPr>
            <a:xfrm rot="16200000">
              <a:off x="5651640" y="2708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Rectangle 20"/>
            <p:cNvSpPr/>
            <p:nvPr/>
          </p:nvSpPr>
          <p:spPr>
            <a:xfrm rot="16200000">
              <a:off x="5651640" y="213372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Rectangle 21"/>
            <p:cNvSpPr/>
            <p:nvPr/>
          </p:nvSpPr>
          <p:spPr>
            <a:xfrm rot="16200000">
              <a:off x="622764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0" name="Rectangle 22"/>
          <p:cNvSpPr/>
          <p:nvPr/>
        </p:nvSpPr>
        <p:spPr>
          <a:xfrm>
            <a:off x="2846520" y="4013280"/>
            <a:ext cx="266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上面或下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565164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正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Rectangle 24"/>
          <p:cNvSpPr/>
          <p:nvPr/>
        </p:nvSpPr>
        <p:spPr>
          <a:xfrm>
            <a:off x="759636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侧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0"/>
          <p:cNvSpPr/>
          <p:nvPr/>
        </p:nvSpPr>
        <p:spPr>
          <a:xfrm>
            <a:off x="40654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AutoShape 18"/>
          <p:cNvSpPr/>
          <p:nvPr/>
        </p:nvSpPr>
        <p:spPr>
          <a:xfrm>
            <a:off x="385596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AutoShape 19"/>
          <p:cNvSpPr/>
          <p:nvPr/>
        </p:nvSpPr>
        <p:spPr>
          <a:xfrm>
            <a:off x="46432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AutoShape 21"/>
          <p:cNvSpPr/>
          <p:nvPr/>
        </p:nvSpPr>
        <p:spPr>
          <a:xfrm>
            <a:off x="445608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854064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正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侧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3492360" y="5805360"/>
            <a:ext cx="1728720" cy="576360"/>
            <a:chOff x="3492360" y="5805360"/>
            <a:chExt cx="1728720" cy="576360"/>
          </a:xfrm>
        </p:grpSpPr>
        <p:sp>
          <p:nvSpPr>
            <p:cNvPr id="660" name="Rectangle 6"/>
            <p:cNvSpPr/>
            <p:nvPr/>
          </p:nvSpPr>
          <p:spPr>
            <a:xfrm>
              <a:off x="3492360" y="5805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1" name="Rectangle 7"/>
            <p:cNvSpPr/>
            <p:nvPr/>
          </p:nvSpPr>
          <p:spPr>
            <a:xfrm>
              <a:off x="406836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2" name="Rectangle 8"/>
            <p:cNvSpPr/>
            <p:nvPr/>
          </p:nvSpPr>
          <p:spPr>
            <a:xfrm>
              <a:off x="464472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63" name="Group 9"/>
          <p:cNvGrpSpPr/>
          <p:nvPr/>
        </p:nvGrpSpPr>
        <p:grpSpPr>
          <a:xfrm>
            <a:off x="3780000" y="4508640"/>
            <a:ext cx="1152360" cy="576000"/>
            <a:chOff x="3780000" y="4508640"/>
            <a:chExt cx="1152360" cy="576000"/>
          </a:xfrm>
        </p:grpSpPr>
        <p:sp>
          <p:nvSpPr>
            <p:cNvPr id="664" name="Rectangle 10"/>
            <p:cNvSpPr/>
            <p:nvPr/>
          </p:nvSpPr>
          <p:spPr>
            <a:xfrm>
              <a:off x="3780000" y="450864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4356360" y="450864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66" name="AutoShape 12"/>
          <p:cNvSpPr/>
          <p:nvPr/>
        </p:nvSpPr>
        <p:spPr>
          <a:xfrm>
            <a:off x="1374840" y="9936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7" name="AutoShape 13"/>
          <p:cNvSpPr/>
          <p:nvPr/>
        </p:nvSpPr>
        <p:spPr>
          <a:xfrm>
            <a:off x="1187280" y="1195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AutoShape 14"/>
          <p:cNvSpPr/>
          <p:nvPr/>
        </p:nvSpPr>
        <p:spPr>
          <a:xfrm>
            <a:off x="1762200" y="11955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1560600" y="13971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0" y="47628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2987640" y="54756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6156360" y="6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3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AutoShape 23"/>
          <p:cNvSpPr/>
          <p:nvPr/>
        </p:nvSpPr>
        <p:spPr>
          <a:xfrm>
            <a:off x="658800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AutoShape 24"/>
          <p:cNvSpPr/>
          <p:nvPr/>
        </p:nvSpPr>
        <p:spPr>
          <a:xfrm>
            <a:off x="716436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AutoShape 25"/>
          <p:cNvSpPr/>
          <p:nvPr/>
        </p:nvSpPr>
        <p:spPr>
          <a:xfrm>
            <a:off x="7740720" y="13539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AutoShape 26"/>
          <p:cNvSpPr/>
          <p:nvPr/>
        </p:nvSpPr>
        <p:spPr>
          <a:xfrm>
            <a:off x="7742160" y="763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AutoShape 27"/>
          <p:cNvSpPr/>
          <p:nvPr/>
        </p:nvSpPr>
        <p:spPr>
          <a:xfrm>
            <a:off x="1305000" y="3527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8" name="AutoShape 28"/>
          <p:cNvSpPr/>
          <p:nvPr/>
        </p:nvSpPr>
        <p:spPr>
          <a:xfrm>
            <a:off x="1305000" y="293832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AutoShape 29"/>
          <p:cNvSpPr/>
          <p:nvPr/>
        </p:nvSpPr>
        <p:spPr>
          <a:xfrm>
            <a:off x="1908000" y="35272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AutoShape 30"/>
          <p:cNvSpPr/>
          <p:nvPr/>
        </p:nvSpPr>
        <p:spPr>
          <a:xfrm>
            <a:off x="1303200" y="234792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1317600" y="374328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0" y="2276640"/>
            <a:ext cx="900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2987640" y="23479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6156360" y="24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6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AutoShape 35"/>
          <p:cNvSpPr/>
          <p:nvPr/>
        </p:nvSpPr>
        <p:spPr>
          <a:xfrm flipH="1">
            <a:off x="7408080" y="32986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AutoShape 36"/>
          <p:cNvSpPr/>
          <p:nvPr/>
        </p:nvSpPr>
        <p:spPr>
          <a:xfrm flipH="1">
            <a:off x="7596360" y="3500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AutoShape 37"/>
          <p:cNvSpPr/>
          <p:nvPr/>
        </p:nvSpPr>
        <p:spPr>
          <a:xfrm flipH="1">
            <a:off x="7393680" y="26938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AutoShape 38"/>
          <p:cNvSpPr/>
          <p:nvPr/>
        </p:nvSpPr>
        <p:spPr>
          <a:xfrm flipH="1">
            <a:off x="6818400" y="32986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AutoShape 40"/>
          <p:cNvSpPr/>
          <p:nvPr/>
        </p:nvSpPr>
        <p:spPr>
          <a:xfrm>
            <a:off x="4140360" y="29955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AutoShape 41"/>
          <p:cNvSpPr/>
          <p:nvPr/>
        </p:nvSpPr>
        <p:spPr>
          <a:xfrm>
            <a:off x="3938760" y="31971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1" name="AutoShape 42"/>
          <p:cNvSpPr/>
          <p:nvPr/>
        </p:nvSpPr>
        <p:spPr>
          <a:xfrm>
            <a:off x="4716360" y="2995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AutoShape 43"/>
          <p:cNvSpPr/>
          <p:nvPr/>
        </p:nvSpPr>
        <p:spPr>
          <a:xfrm>
            <a:off x="3736800" y="3400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Rectangle 44"/>
          <p:cNvSpPr/>
          <p:nvPr/>
        </p:nvSpPr>
        <p:spPr>
          <a:xfrm>
            <a:off x="1619280" y="51577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Rectangle 47"/>
          <p:cNvSpPr/>
          <p:nvPr/>
        </p:nvSpPr>
        <p:spPr>
          <a:xfrm>
            <a:off x="2554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5" name="Rectangle 48"/>
          <p:cNvSpPr/>
          <p:nvPr/>
        </p:nvSpPr>
        <p:spPr>
          <a:xfrm>
            <a:off x="3562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Rectangle 49"/>
          <p:cNvSpPr/>
          <p:nvPr/>
        </p:nvSpPr>
        <p:spPr>
          <a:xfrm>
            <a:off x="1620720" y="636264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7" name="Rectangle 50"/>
          <p:cNvSpPr/>
          <p:nvPr/>
        </p:nvSpPr>
        <p:spPr>
          <a:xfrm>
            <a:off x="2592360" y="636264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用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小正方体按要求摆一摆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8000" y="1976040"/>
            <a:ext cx="85406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130320" y="2852640"/>
            <a:ext cx="8540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108000" y="4797360"/>
            <a:ext cx="9036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          ，从侧面看        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30320" y="3743280"/>
            <a:ext cx="8540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3" name="Group 7"/>
          <p:cNvGrpSpPr/>
          <p:nvPr/>
        </p:nvGrpSpPr>
        <p:grpSpPr>
          <a:xfrm>
            <a:off x="3490920" y="3789360"/>
            <a:ext cx="1728720" cy="576360"/>
            <a:chOff x="3490920" y="3789360"/>
            <a:chExt cx="1728720" cy="576360"/>
          </a:xfrm>
        </p:grpSpPr>
        <p:sp>
          <p:nvSpPr>
            <p:cNvPr id="704" name="Rectangle 8"/>
            <p:cNvSpPr/>
            <p:nvPr/>
          </p:nvSpPr>
          <p:spPr>
            <a:xfrm>
              <a:off x="3490920" y="3789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06692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464328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07" name="Group 11"/>
          <p:cNvGrpSpPr/>
          <p:nvPr/>
        </p:nvGrpSpPr>
        <p:grpSpPr>
          <a:xfrm>
            <a:off x="3492360" y="2924280"/>
            <a:ext cx="1152360" cy="576000"/>
            <a:chOff x="3492360" y="2924280"/>
            <a:chExt cx="1152360" cy="576000"/>
          </a:xfrm>
        </p:grpSpPr>
        <p:sp>
          <p:nvSpPr>
            <p:cNvPr id="708" name="Rectangle 12"/>
            <p:cNvSpPr/>
            <p:nvPr/>
          </p:nvSpPr>
          <p:spPr>
            <a:xfrm>
              <a:off x="3492360" y="29242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4068720" y="292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0" name="Rectangle 15"/>
          <p:cNvSpPr/>
          <p:nvPr/>
        </p:nvSpPr>
        <p:spPr>
          <a:xfrm>
            <a:off x="3490920" y="206064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11" name="Group 17"/>
          <p:cNvGrpSpPr/>
          <p:nvPr/>
        </p:nvGrpSpPr>
        <p:grpSpPr>
          <a:xfrm>
            <a:off x="7308720" y="4365720"/>
            <a:ext cx="576360" cy="1728720"/>
            <a:chOff x="7308720" y="4365720"/>
            <a:chExt cx="576360" cy="1728720"/>
          </a:xfrm>
        </p:grpSpPr>
        <p:sp>
          <p:nvSpPr>
            <p:cNvPr id="712" name="Rectangle 18"/>
            <p:cNvSpPr/>
            <p:nvPr/>
          </p:nvSpPr>
          <p:spPr>
            <a:xfrm rot="16200000">
              <a:off x="7308720" y="551808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3" name="Rectangle 19"/>
            <p:cNvSpPr/>
            <p:nvPr/>
          </p:nvSpPr>
          <p:spPr>
            <a:xfrm rot="16200000">
              <a:off x="7308720" y="4942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4" name="Rectangle 20"/>
            <p:cNvSpPr/>
            <p:nvPr/>
          </p:nvSpPr>
          <p:spPr>
            <a:xfrm rot="16200000">
              <a:off x="7308720" y="4365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15" name="Group 21"/>
          <p:cNvGrpSpPr/>
          <p:nvPr/>
        </p:nvGrpSpPr>
        <p:grpSpPr>
          <a:xfrm>
            <a:off x="3203640" y="4869000"/>
            <a:ext cx="1152360" cy="576000"/>
            <a:chOff x="3203640" y="4869000"/>
            <a:chExt cx="1152360" cy="576000"/>
          </a:xfrm>
        </p:grpSpPr>
        <p:sp>
          <p:nvSpPr>
            <p:cNvPr id="716" name="Rectangle 22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7" name="Rectangle 23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老师寄语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们要善于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角度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观察事物，了解事物，不要像摸象的盲人一样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以偏概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0:3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3:00:14Z</dcterms:modified>
  <cp:revision>52</cp:revision>
  <dc:subject>第一PPT模板网-WWW.1PPT.COM</dc:subject>
  <dc:title>第一PPT模板网-WWW.1PPT.COM</dc:title>
</cp:coreProperties>
</file>