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TYPE.WAV" ContentType="audio/x-wav"/>
  <Override PartName="/ppt/media/image15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63EF-6285-4054-ADFB-978BB1EB17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2427-5C32-47DB-8772-47BA472315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AB1-75A1-47AA-9448-4366F5F8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0FD-75A2-4588-8CC6-00C97AC1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513C7-3735-4935-BE2E-7018E9D8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35736-BD51-4ACF-B9DF-A5B455D3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5302D-D54E-4DFC-8E9A-A799B45A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1AE33-9C24-4F6A-A145-23CB270B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04B39-3C75-49C9-A26E-45960147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F2735-DD78-4034-B5D0-C89AC9F0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8A61D-9B2D-4E8A-B2AC-025075A1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3A613-E34D-486F-8828-2AF8BECA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61904-C878-4FD5-A6AE-41EA8F9A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581BD-6409-4BCE-BBDF-6E6B940B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6D3-F26F-4F1E-B4FF-E202E0BE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4DC89-C77D-43F2-B16C-E94B24A9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B4AED-2478-4D08-BCC5-5FA4726F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BEDFC-D34A-4474-925E-C8BB5A45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959CE-91D7-415C-88EB-5DEAE928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B08DC-B4BF-46BE-A4A8-071E52FF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BFCBB-C5B2-4C43-A142-1AF85AF6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B1AAE-7576-48FE-A16F-4E6F05FD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77700-4FEB-4CD8-A680-1F2B7C7A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67931-B9DB-4443-93B5-E7F1DB02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1508A-DD8B-4CB6-BA37-945F03FA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04A-A2B2-484E-B050-FA6F16F8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4C8BE-49D0-45F7-B950-F661AC3E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1E9E4-F962-41F3-B1B5-35227F83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E624D-CB27-4D10-A485-4483E4CE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13271-1683-4A21-9675-45932829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830B4-2185-435C-9771-F84A1B3A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D0E20-DCBA-4A0B-9E71-FCB40322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1F1A0-7274-40A4-8C8C-96ABBE4D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522DC-78DA-4A33-BB15-8750416A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1C61B-3E0F-427A-B129-CF976174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DC319-F3C3-4703-A30B-96B79F51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41CE-83EF-4265-AC05-993E5818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A4B3F-11B1-4BCE-B224-5C5E9840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D16EF-D010-47B1-9D16-D5325E4C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49601-9A5C-448C-A5DA-16F2DF2E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04B6F-B15D-4BE4-959A-6E45A783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7C192-374D-4103-94FC-2318846E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98E63-45D6-4F99-A95C-72EFC68C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B534E-70EE-44D0-98C3-67D3ACF1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D379C-C192-4FB8-9C14-AAE84470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F9B35-B564-447B-81A0-9BECDD27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F69FC-11B6-4303-88FB-37CA995A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0D98-5785-447F-8B95-3EB6FF20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30CF5-848F-4F88-BF7A-DDF812FC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EDD2D-13A9-4348-B4BA-4333F82D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A2D3E-C731-4F06-9716-AA44EB3C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2345C-39A5-43A3-9821-DCAB47B7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E0FEB-E19F-410D-B2A5-4FE37B4F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A1EB4-17EF-4C37-931C-F8FA1460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AC084-98AE-4927-8F29-6A8689AE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BD701-E58E-4B1A-93CA-C616823E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393AA-7655-48B8-B379-8A887026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C1069D-65DA-4BD8-83D2-58FD6701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B0A9-A6DC-429E-B2E6-2CBB4CD4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E9F4C-0320-4C99-A422-18729058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6B159-A04D-4463-8EE4-46100CF1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F3F09-16B5-4A39-B499-6ED13C79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938E2-545C-4AA4-A84D-091F09A8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92D3E-7A4F-439B-B96F-D4BDEC62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61508-41F8-452F-A921-641598F4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C5B86-9343-49A6-97E4-C534583B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1D48-84B8-41CE-8FAD-CEA27384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1DC2-2A6F-4117-B975-D6365D35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D136-76A0-42A1-8A0D-0E28AF23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F571-7131-4BA6-9B04-91A66995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D4D-64E3-4952-B38A-589D42B4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4C0A-EF94-4322-8626-ED25A38A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566B-6E6E-453E-828E-3140A50E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E6E9-F0FF-44D4-AB88-BEE7FF4A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10A5-4955-4AD9-819D-21138365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E9E8-CF4D-4525-9663-EBBB074E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FF97-8E1D-4810-801B-D0865F36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B6094-4921-43E9-B3D7-E9941BDA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4CF45-24A5-4390-AEBA-66D41DCD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0ED7C-EBE0-4D2B-BA49-22BA0573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499E1-9217-429E-A02D-D469F696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A7E-4B19-48F2-929A-9289DD43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DD72C-61C1-4805-95D3-99F71F34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1E315-B130-4ED9-B601-3553CB8F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153E3-D04B-434F-91B9-4DFC72A4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CAE5C-54E0-4C10-A250-A0D1947E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84E3-D857-4223-84FC-6A8B962B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5A757-CA14-42C0-9447-81E9BDFE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17CE-FA24-42F8-852B-E5D21E38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12C39-DAE2-4E9C-A5DB-4BF51FAD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75AC1-34DD-4849-975D-45FF6371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2A9F6-EB48-4B59-8957-1089D0CC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3E0A-459C-4890-95BC-9C5B81B4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71668-51BA-44C4-AC75-A935529C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7D47-BCB9-40C8-8752-701E3E5A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71184-94F1-4D79-A30B-3F204740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82CDF-E8AE-40DD-86AE-A1C2E87F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D00CA-339F-4A44-99D4-8852092D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0372C-23CA-42F0-94AB-7D1A424A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DD81F-8B6D-48F9-83E6-4C599635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CAA8B-275E-493D-AB6E-E0DB2B34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066EF-14B1-42E0-8EBA-46485323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01D6D-85B7-42E6-9B34-2F1AA21A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2E3D-47B0-4816-8313-290853C9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3267A-FE80-437C-9EAC-E08CEB1B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43ABF-4030-49FA-8860-004B8DE8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082E4-CE5B-4C10-BBAA-2AD906B1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7A58D-7BB7-4813-8A7E-19A92794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61277-B771-4C2B-8FD3-F528F1A5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03337-651F-482E-A76C-8A4DA6CC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E60DA-2665-41A1-B476-CB1BF223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C0717-E030-412E-B4AE-B3719F1D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C72F5-E0C6-4BE8-9657-546A0B8F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5CBC2-CAA9-4347-AD77-5BD4252D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378-743A-492C-A7D9-FB7F7E1D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F9F01-B5AA-4B23-BB43-91F262A3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1C275-1393-44D3-8340-79A19B6A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4E36C-8E0D-453A-8B4C-FB32A382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CA99E-4C8F-4301-9876-2FC25712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FA6BD-1502-4CBE-A6AC-2F6C0C44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76AAB-DEFC-4D85-B102-7A70D002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26E40-198C-49D7-8D99-5F41610F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9E9FC-97F7-47F8-8370-4C1DD155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B1F33-0843-49A4-A4DD-20DACDD2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5735B-D411-466C-B057-6D469801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335A-ACDF-4A5E-9D06-5326F6E8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55720-9858-45E8-8A63-57E7EA88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31894-6ED7-4E7E-9C9E-DDFEC884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FF584-0FA9-44A2-9E64-5060B5C9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E09C1-B956-4154-9B77-9CC7D92F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76385-18A6-4887-9A5F-DBC66DF1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258DD-4820-489C-8D7F-C86996F3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A7E97-3BF3-41FB-9CEB-3F7E6D0E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24E20-76FF-43D4-BC2F-6E54958F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6C682-8522-48F7-9704-C4479853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06F26-8FC2-445E-92BB-3C3E35C2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A97-3263-46A2-997B-CBC8FC71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2DB9D-5942-4D8F-BF74-2A48FF80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0D408-BE0E-42DB-B2A4-5E551860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B93C2-A2FF-47C1-9389-79F75500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43ABD-2AF9-446B-BAFE-D90733E4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F118E-9A11-4282-B60F-EEC16600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25BD2-4B63-4ECA-9062-DD2DBDB2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98E11-E2ED-4578-B8FE-F492A5C5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43549-A7E8-470D-9A7B-9295F7C4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020F1-82E3-42C1-B371-408DF57E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01D8B-A623-40EB-BC8E-56BF73B3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BA0-024B-4D06-9E91-0954A590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7B127-1B1A-46E0-8685-7AFBC96D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79466-51A5-4EDE-AC0E-B0C63CA0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4A167-FE77-4DAB-94BE-57BEAEDE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0C84E-F5B2-484D-B0C8-E07CCE97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0E269-90D9-459E-AAF7-98A6114B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88A2C-B3E1-42D2-B163-B86F6A71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72FF3-178C-4C63-8DDF-7882561F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9C6D3-1A00-4C30-B609-68E9A803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4234D-A559-44F2-A154-C88993D7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E140C-B1F9-4D56-BE9A-F527B51A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E5A0-8902-4E7F-AF2F-9BF37E6B5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C03C-0CB9-456D-BD87-5CEB8B182EA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7309-0158-41AD-BDD1-E0CBA14CF12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F31F-2BB1-4B59-A40B-8BCC18CA7F3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1781-9FC4-4E84-ABD2-985FE716B5D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DE2A-BC55-45BE-911E-7EB2F0369E85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3BD0-700C-46F2-BA16-3281E0C6535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9C70-9F56-4B10-802C-CF39275F530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EA22-89C9-488A-9A2F-E2DE92FEF2B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EC16-5E73-4E0A-B203-81689CDE289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73B4-F562-4828-9B81-476C3964B5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6287-DD81-42D4-BDB4-A6685E9A37BD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D82C-0ECF-4D00-AD5E-0E689C2C7DB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1188-1F51-4DF7-930A-C8846A9EB32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ED75-AD03-4DF0-BE62-92557C93C9F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A38A-1E8A-4A73-8935-21EC06E6B89C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8CB5-D107-4796-9E62-F4D3597C259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251F-C634-403E-A4D6-177EC22AE057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E32C-5E44-4088-828C-52A8B1A7C31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2A94-E2FC-44F9-AB87-5684AAC56197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B558-1682-4416-B79D-69DF89679853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38EF-B31E-4151-BA96-A718873A334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5877-7D2B-427E-A173-ED7AE1ADBEE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A801-63A4-4644-A198-589C249DE7B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0622-630F-452A-B7A9-134A9F46D5B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7.xm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" Target="slide4.xm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052"/>
          <p:cNvSpPr/>
          <p:nvPr/>
        </p:nvSpPr>
        <p:spPr>
          <a:xfrm>
            <a:off x="5715000" y="1371600"/>
            <a:ext cx="29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541" name="Picture 2053" descr="D:\董\地坛公园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2054"/>
          <p:cNvSpPr/>
          <p:nvPr/>
        </p:nvSpPr>
        <p:spPr>
          <a:xfrm>
            <a:off x="236232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3" name="Text Box 2055"/>
          <p:cNvSpPr/>
          <p:nvPr/>
        </p:nvSpPr>
        <p:spPr>
          <a:xfrm>
            <a:off x="3171600" y="121932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Times New Roman"/>
              </a:rPr>
              <a:t>故都的秋</a:t>
            </a:r>
            <a:endParaRPr b="1" lang="en-US" sz="7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44" name="Text Box 2057"/>
          <p:cNvSpPr/>
          <p:nvPr/>
        </p:nvSpPr>
        <p:spPr>
          <a:xfrm>
            <a:off x="4680360" y="25909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郁达夫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6"/>
          <p:cNvGrpSpPr/>
          <p:nvPr/>
        </p:nvGrpSpPr>
        <p:grpSpPr>
          <a:xfrm>
            <a:off x="4495680" y="0"/>
            <a:ext cx="4647960" cy="6858000"/>
            <a:chOff x="4495680" y="0"/>
            <a:chExt cx="4647960" cy="6858000"/>
          </a:xfrm>
        </p:grpSpPr>
        <p:pic>
          <p:nvPicPr>
            <p:cNvPr id="575" name="Picture 7" descr="A:\潭柘寺.jpg"/>
            <p:cNvPicPr/>
            <p:nvPr/>
          </p:nvPicPr>
          <p:blipFill>
            <a:blip r:embed="rId1"/>
            <a:stretch/>
          </p:blipFill>
          <p:spPr>
            <a:xfrm>
              <a:off x="4495680" y="0"/>
              <a:ext cx="4647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 Box 8"/>
            <p:cNvSpPr/>
            <p:nvPr/>
          </p:nvSpPr>
          <p:spPr>
            <a:xfrm>
              <a:off x="6579000" y="685800"/>
              <a:ext cx="240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潭柘寺</a:t>
              </a:r>
              <a:endParaRPr b="1" lang="en-US" sz="40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grpSp>
        <p:nvGrpSpPr>
          <p:cNvPr id="577" name="Group 10"/>
          <p:cNvGrpSpPr/>
          <p:nvPr/>
        </p:nvGrpSpPr>
        <p:grpSpPr>
          <a:xfrm>
            <a:off x="0" y="0"/>
            <a:ext cx="4495320" cy="6858000"/>
            <a:chOff x="0" y="0"/>
            <a:chExt cx="4495320" cy="6858000"/>
          </a:xfrm>
        </p:grpSpPr>
        <p:pic>
          <p:nvPicPr>
            <p:cNvPr id="578" name="Picture 11" descr="D:\董\颐和园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49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 Box 12"/>
            <p:cNvSpPr/>
            <p:nvPr/>
          </p:nvSpPr>
          <p:spPr>
            <a:xfrm>
              <a:off x="1605960" y="304920"/>
              <a:ext cx="186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西山</a:t>
              </a:r>
              <a:endParaRPr b="1" lang="en-US" sz="36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D:\董\14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3"/>
          <p:cNvSpPr/>
          <p:nvPr/>
        </p:nvSpPr>
        <p:spPr>
          <a:xfrm>
            <a:off x="1143000" y="685800"/>
            <a:ext cx="85345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破屋        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碧绿的天色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驯鸽的飞声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一丝 一丝日光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牵牛花的蓝朵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疏疏落落的秋草  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488160" y="496800"/>
            <a:ext cx="2661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秋院静观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秋花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4959000" y="4800600"/>
            <a:ext cx="69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Times New Roman"/>
              </a:rPr>
              <a:t>（清、静、悲凉）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026" descr="\\A7\d\pxl\040301000187.jpg"/>
          <p:cNvPicPr/>
          <p:nvPr/>
        </p:nvPicPr>
        <p:blipFill>
          <a:blip r:embed="rId1"/>
          <a:stretch/>
        </p:blipFill>
        <p:spPr>
          <a:xfrm>
            <a:off x="0" y="1143000"/>
            <a:ext cx="3657600" cy="48769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27" descr="\\A7\d\pxl\090500000256.jpg"/>
          <p:cNvPicPr/>
          <p:nvPr/>
        </p:nvPicPr>
        <p:blipFill>
          <a:blip r:embed="rId2"/>
          <a:stretch/>
        </p:blipFill>
        <p:spPr>
          <a:xfrm>
            <a:off x="0" y="114300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1028"/>
          <p:cNvSpPr/>
          <p:nvPr/>
        </p:nvSpPr>
        <p:spPr>
          <a:xfrm>
            <a:off x="5518440" y="990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．视觉效果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7" name="Text Box 1029"/>
          <p:cNvSpPr/>
          <p:nvPr/>
        </p:nvSpPr>
        <p:spPr>
          <a:xfrm>
            <a:off x="4010400" y="30492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故都秋的总特色：清、静、悲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8" name="Text Box 1030"/>
          <p:cNvSpPr/>
          <p:nvPr/>
        </p:nvSpPr>
        <p:spPr>
          <a:xfrm>
            <a:off x="3809880" y="160020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晨起来，泡一碗浓茶，向院子一座，你也能看得到很高很高的碧绿的天色，听得到青天下训鸽的飞声。从槐树叶底，朝东细数着一丝一丝漏下来的日光，或在破壁腰中，静对着像喇叭花似的牵牛花（朝荣）的蓝朵，自然而然地也能感觉到十分的秋意。说到了牵牛花，我以为以蓝色或白色者为佳，紫黑色次之，淡红者最下。”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9" name="Text Box 1031"/>
          <p:cNvSpPr/>
          <p:nvPr/>
        </p:nvSpPr>
        <p:spPr>
          <a:xfrm>
            <a:off x="5279760" y="533412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提问：这一段文字写了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哪些视觉上的景物？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75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C:\My Documents\ss041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3"/>
          <p:cNvSpPr/>
          <p:nvPr/>
        </p:nvSpPr>
        <p:spPr>
          <a:xfrm>
            <a:off x="915480" y="830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确：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2261880" y="882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色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2257200" y="1752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日光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231804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牵牛花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3668400" y="914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99"/>
                </a:solidFill>
                <a:latin typeface="Times New Roman"/>
              </a:rPr>
              <a:t>碧绿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3704400" y="17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漏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378108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颜色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8" name="Text Box 10">
            <a:hlinkClick r:id="rId2" action="ppaction://hlinksldjump"/>
          </p:cNvPr>
          <p:cNvSpPr/>
          <p:nvPr/>
        </p:nvSpPr>
        <p:spPr>
          <a:xfrm>
            <a:off x="2221560" y="34290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提问：评写牵牛花的颜色，是否多余？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9" name="Text Box 11"/>
          <p:cNvSpPr/>
          <p:nvPr/>
        </p:nvSpPr>
        <p:spPr>
          <a:xfrm>
            <a:off x="855000" y="4290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确：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5045400" y="4343400"/>
            <a:ext cx="50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评写颜色，突出了故都的秋的清、静、悲凉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的特点。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1" name="Line 13"/>
          <p:cNvSpPr/>
          <p:nvPr/>
        </p:nvSpPr>
        <p:spPr>
          <a:xfrm>
            <a:off x="2971800" y="1219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2" name="Line 14"/>
          <p:cNvSpPr/>
          <p:nvPr/>
        </p:nvSpPr>
        <p:spPr>
          <a:xfrm>
            <a:off x="3048120" y="19810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3" name="Line 15"/>
          <p:cNvSpPr/>
          <p:nvPr/>
        </p:nvSpPr>
        <p:spPr>
          <a:xfrm>
            <a:off x="3200400" y="2743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75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D:\董\槐树1.jpg"/>
          <p:cNvPicPr/>
          <p:nvPr/>
        </p:nvPicPr>
        <p:blipFill>
          <a:blip r:embed="rId1"/>
          <a:stretch/>
        </p:blipFill>
        <p:spPr>
          <a:xfrm>
            <a:off x="-380880" y="-2133720"/>
            <a:ext cx="9524880" cy="1310652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2133720" y="60948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碧绿的天色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一丝一丝的日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D:\董\鸽子2.jpg"/>
          <p:cNvPicPr/>
          <p:nvPr/>
        </p:nvPicPr>
        <p:blipFill>
          <a:blip r:embed="rId1"/>
          <a:stretch/>
        </p:blipFill>
        <p:spPr>
          <a:xfrm>
            <a:off x="0" y="-380880"/>
            <a:ext cx="10058400" cy="1247616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3"/>
          <p:cNvSpPr/>
          <p:nvPr/>
        </p:nvSpPr>
        <p:spPr>
          <a:xfrm>
            <a:off x="304920" y="22860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99ff"/>
                </a:solidFill>
                <a:latin typeface="Times New Roman"/>
              </a:rPr>
              <a:t>青天下驯鸽的飞声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D:\pxl\p\Image\牵牛花1.gif"/>
          <p:cNvPicPr/>
          <p:nvPr/>
        </p:nvPicPr>
        <p:blipFill>
          <a:blip r:embed="rId1"/>
          <a:stretch/>
        </p:blipFill>
        <p:spPr>
          <a:xfrm>
            <a:off x="609480" y="0"/>
            <a:ext cx="3581640" cy="31291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D:\pxl\p\Image\牵牛花2.gif"/>
          <p:cNvPicPr/>
          <p:nvPr/>
        </p:nvPicPr>
        <p:blipFill>
          <a:blip r:embed="rId2"/>
          <a:stretch/>
        </p:blipFill>
        <p:spPr>
          <a:xfrm>
            <a:off x="5029200" y="0"/>
            <a:ext cx="36576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610" name="Group 4"/>
          <p:cNvGrpSpPr/>
          <p:nvPr/>
        </p:nvGrpSpPr>
        <p:grpSpPr>
          <a:xfrm>
            <a:off x="5105520" y="3276720"/>
            <a:ext cx="3504600" cy="2971440"/>
            <a:chOff x="5105520" y="3276720"/>
            <a:chExt cx="3504600" cy="2971440"/>
          </a:xfrm>
        </p:grpSpPr>
        <p:pic>
          <p:nvPicPr>
            <p:cNvPr id="611" name="Picture 5" descr="D:\pxl\p\Image\牵牛花.jpg"/>
            <p:cNvPicPr/>
            <p:nvPr/>
          </p:nvPicPr>
          <p:blipFill>
            <a:blip r:embed="rId3"/>
            <a:stretch/>
          </p:blipFill>
          <p:spPr>
            <a:xfrm>
              <a:off x="5105520" y="3276720"/>
              <a:ext cx="3504600" cy="29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Rectangle 6"/>
            <p:cNvSpPr/>
            <p:nvPr/>
          </p:nvSpPr>
          <p:spPr>
            <a:xfrm>
              <a:off x="6774480" y="5823720"/>
              <a:ext cx="1752120" cy="339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pic>
        <p:nvPicPr>
          <p:cNvPr id="613" name="Picture 7" descr="\\A7\d\pxl\090224000001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120" y="327672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4" descr="D:\董\牵牛花3.jpg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D:\董\牵牛花2.jpg"/>
          <p:cNvPicPr/>
          <p:nvPr/>
        </p:nvPicPr>
        <p:blipFill>
          <a:blip r:embed="rId2"/>
          <a:stretch/>
        </p:blipFill>
        <p:spPr>
          <a:xfrm>
            <a:off x="-762120" y="1981080"/>
            <a:ext cx="3657600" cy="48769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D:\董\牵牛花1.jpg"/>
          <p:cNvPicPr/>
          <p:nvPr/>
        </p:nvPicPr>
        <p:blipFill>
          <a:blip r:embed="rId3"/>
          <a:stretch/>
        </p:blipFill>
        <p:spPr>
          <a:xfrm>
            <a:off x="-685800" y="0"/>
            <a:ext cx="9829800" cy="41148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5"/>
          <p:cNvSpPr/>
          <p:nvPr/>
        </p:nvSpPr>
        <p:spPr>
          <a:xfrm>
            <a:off x="1017720" y="6094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静对着喇叭似的牵牛花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Group 16"/>
          <p:cNvGrpSpPr/>
          <p:nvPr/>
        </p:nvGrpSpPr>
        <p:grpSpPr>
          <a:xfrm>
            <a:off x="0" y="0"/>
            <a:ext cx="9524880" cy="13106520"/>
            <a:chOff x="0" y="0"/>
            <a:chExt cx="9524880" cy="13106520"/>
          </a:xfrm>
        </p:grpSpPr>
        <p:pic>
          <p:nvPicPr>
            <p:cNvPr id="620" name="Picture 14" descr="D:\董\槐树1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524880" cy="131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 Box 15"/>
            <p:cNvSpPr/>
            <p:nvPr/>
          </p:nvSpPr>
          <p:spPr>
            <a:xfrm>
              <a:off x="5943600" y="5638680"/>
              <a:ext cx="281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6600"/>
                  </a:solidFill>
                  <a:latin typeface="Times New Roman"/>
                </a:rPr>
                <a:t>北国的槐树</a:t>
              </a:r>
              <a:endParaRPr b="1" lang="en-US" sz="40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D:\董\地坛公园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3"/>
          <p:cNvSpPr/>
          <p:nvPr/>
        </p:nvSpPr>
        <p:spPr>
          <a:xfrm>
            <a:off x="228600" y="45720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落蕊轻扫：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秋槐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5540760" y="533412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（清、静、悲凉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3733920" y="1295280"/>
            <a:ext cx="298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 “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细腻”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  “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清闲”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  “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落寞”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  “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落蕊” 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027" descr="D:\董\背景1.jpg"/>
          <p:cNvPicPr/>
          <p:nvPr/>
        </p:nvPicPr>
        <p:blipFill>
          <a:blip r:embed="rId1"/>
          <a:stretch/>
        </p:blipFill>
        <p:spPr>
          <a:xfrm>
            <a:off x="0" y="-379440"/>
            <a:ext cx="9144000" cy="76168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026"/>
          <p:cNvSpPr/>
          <p:nvPr/>
        </p:nvSpPr>
        <p:spPr>
          <a:xfrm>
            <a:off x="38088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郁达夫（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1896-1945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）现代作家，浙江省富阳县人，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1913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年留学日本，曾广泛涉猎外国文学，深受近代欧洲、日本各种社会思潮和文艺作品的熏陶，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1930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年曾参与组织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创造社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；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1945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年，不幸被日本宪兵暗杀。主要作品有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沉沦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、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春风沉醉的晚上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、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出奔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</a:rPr>
              <a:t>等，在不同程度上，揭露了旧社会的罪恶，向封建社会大胆挑战，有一定的积极意义，但也带有颓废情绪。其散文以游记著称，情景交触，文笔优美，自成一家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C:\My Documents\s03.jpg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" descr="D:\pxl\秋树.jpg"/>
          <p:cNvPicPr/>
          <p:nvPr/>
        </p:nvPicPr>
        <p:blipFill>
          <a:blip r:embed="rId2"/>
          <a:stretch/>
        </p:blipFill>
        <p:spPr>
          <a:xfrm>
            <a:off x="0" y="3733920"/>
            <a:ext cx="5105520" cy="3124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" descr="D:\pxl\林间.jpg"/>
          <p:cNvPicPr/>
          <p:nvPr/>
        </p:nvPicPr>
        <p:blipFill>
          <a:blip r:embed="rId3"/>
          <a:stretch/>
        </p:blipFill>
        <p:spPr>
          <a:xfrm>
            <a:off x="0" y="0"/>
            <a:ext cx="5105520" cy="37339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5"/>
          <p:cNvSpPr/>
          <p:nvPr/>
        </p:nvSpPr>
        <p:spPr>
          <a:xfrm>
            <a:off x="5823360" y="3049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二．触觉效果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5257800" y="9144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北国的槐树，也是一种能使人联想起秋来的点缀。像花而又不是花的那一种落蕊，早晨起来，会铺得满地。脚踏上去，声音也没有，气味也没有，只能感觉出一点点极微细极柔软的触觉。”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5558040" y="3473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描写景物：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5558040" y="4038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人的感受：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7230600" y="3505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落蕊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7330680" y="4038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极微细极柔软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5838480" y="502920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写触觉也突出了北国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之秋的清、静、悲凉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75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3" descr="D:\董\西山虫唱.jpg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6"/>
          <p:cNvSpPr/>
          <p:nvPr/>
        </p:nvSpPr>
        <p:spPr>
          <a:xfrm>
            <a:off x="457200" y="304920"/>
            <a:ext cx="565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秋蝉残鸣：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3702960" y="1828800"/>
            <a:ext cx="1521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ccff"/>
                </a:solidFill>
                <a:latin typeface="Times New Roman"/>
              </a:rPr>
              <a:t>衰弱”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ccff"/>
                </a:solidFill>
                <a:latin typeface="Times New Roman"/>
              </a:rPr>
              <a:t>残声”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ccff"/>
                </a:solidFill>
                <a:latin typeface="Times New Roman"/>
              </a:rPr>
              <a:t>啼唱”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39" name="Text Box 8"/>
          <p:cNvSpPr/>
          <p:nvPr/>
        </p:nvSpPr>
        <p:spPr>
          <a:xfrm>
            <a:off x="4022640" y="367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5007240" y="525780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（清、静、悲凉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457200" y="3581280"/>
            <a:ext cx="8458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北国：无论什么地方都听得见啼唱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南国：非要到郊外或山上去才听得到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1251360" y="5810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三．听觉效果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595800" y="3048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</a:rPr>
              <a:t>训鸽声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738360" y="53341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</a:rPr>
              <a:t>秋蝉的残声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5" name="Text Box 5">
            <a:hlinkClick r:id="" action="ppaction://hlinkshowjump?jump=lastslide"/>
          </p:cNvPr>
          <p:cNvSpPr/>
          <p:nvPr/>
        </p:nvSpPr>
        <p:spPr>
          <a:xfrm>
            <a:off x="2645640" y="601992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以声音衬托出北国之秋的清、静、悲凉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105520" y="91440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“ 早晨起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泡一碗浓茶，向院子一坐：你也能看得到很高很高的碧绿的天色，听得到青天下驯鸽的飞声。”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5226120" y="3276720"/>
            <a:ext cx="391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２．“秋蝉的衰弱的残声，更是北国的特产；因为北平处处全长着树，屋子又低，所以无论在什么地方，都听得见它们的啼唱。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8" name="Text Box 8"/>
          <p:cNvSpPr/>
          <p:nvPr/>
        </p:nvSpPr>
        <p:spPr>
          <a:xfrm>
            <a:off x="3018960" y="312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青天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3247560" y="541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衰弱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50" name="Line 10"/>
          <p:cNvSpPr/>
          <p:nvPr/>
        </p:nvSpPr>
        <p:spPr>
          <a:xfrm>
            <a:off x="1828800" y="3352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51" name="Line 11"/>
          <p:cNvSpPr/>
          <p:nvPr/>
        </p:nvSpPr>
        <p:spPr>
          <a:xfrm>
            <a:off x="2438280" y="56386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grpSp>
        <p:nvGrpSpPr>
          <p:cNvPr id="652" name="Group 12"/>
          <p:cNvGrpSpPr/>
          <p:nvPr/>
        </p:nvGrpSpPr>
        <p:grpSpPr>
          <a:xfrm>
            <a:off x="0" y="1295280"/>
            <a:ext cx="5029200" cy="1600200"/>
            <a:chOff x="0" y="1295280"/>
            <a:chExt cx="5029200" cy="1600200"/>
          </a:xfrm>
        </p:grpSpPr>
        <p:pic>
          <p:nvPicPr>
            <p:cNvPr id="653" name="Picture 13" descr="D:\pxl\p\Image\家鸽.bmp"/>
            <p:cNvPicPr/>
            <p:nvPr/>
          </p:nvPicPr>
          <p:blipFill>
            <a:blip r:embed="rId1"/>
            <a:stretch/>
          </p:blipFill>
          <p:spPr>
            <a:xfrm>
              <a:off x="0" y="1295280"/>
              <a:ext cx="1005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14" descr="D:\pxl\p\Image\家鸽.bmp"/>
            <p:cNvPicPr/>
            <p:nvPr/>
          </p:nvPicPr>
          <p:blipFill>
            <a:blip r:embed="rId2"/>
            <a:stretch/>
          </p:blipFill>
          <p:spPr>
            <a:xfrm>
              <a:off x="1005840" y="1295280"/>
              <a:ext cx="1005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15" descr="D:\pxl\p\Image\家鸽.bmp"/>
            <p:cNvPicPr/>
            <p:nvPr/>
          </p:nvPicPr>
          <p:blipFill>
            <a:blip r:embed="rId3"/>
            <a:stretch/>
          </p:blipFill>
          <p:spPr>
            <a:xfrm>
              <a:off x="2011680" y="1295280"/>
              <a:ext cx="1005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16" descr="D:\pxl\p\Image\家鸽.bmp"/>
            <p:cNvPicPr/>
            <p:nvPr/>
          </p:nvPicPr>
          <p:blipFill>
            <a:blip r:embed="rId4"/>
            <a:stretch/>
          </p:blipFill>
          <p:spPr>
            <a:xfrm>
              <a:off x="3017520" y="1295280"/>
              <a:ext cx="1005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" descr="D:\pxl\p\Image\家鸽.bmp"/>
            <p:cNvPicPr/>
            <p:nvPr/>
          </p:nvPicPr>
          <p:blipFill>
            <a:blip r:embed="rId5"/>
            <a:stretch/>
          </p:blipFill>
          <p:spPr>
            <a:xfrm>
              <a:off x="4023360" y="1295280"/>
              <a:ext cx="100584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8" name="Group 18"/>
          <p:cNvGrpSpPr/>
          <p:nvPr/>
        </p:nvGrpSpPr>
        <p:grpSpPr>
          <a:xfrm>
            <a:off x="76320" y="3657600"/>
            <a:ext cx="4876560" cy="1600200"/>
            <a:chOff x="76320" y="3657600"/>
            <a:chExt cx="4876560" cy="1600200"/>
          </a:xfrm>
        </p:grpSpPr>
        <p:pic>
          <p:nvPicPr>
            <p:cNvPr id="659" name="Picture 19" descr="D:\pxl\p\Image\蝉.jpg"/>
            <p:cNvPicPr/>
            <p:nvPr/>
          </p:nvPicPr>
          <p:blipFill>
            <a:blip r:embed="rId6"/>
            <a:stretch/>
          </p:blipFill>
          <p:spPr>
            <a:xfrm>
              <a:off x="76320" y="3657600"/>
              <a:ext cx="19047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20" descr="D:\pxl\p\Image\蝉.jpg"/>
            <p:cNvPicPr/>
            <p:nvPr/>
          </p:nvPicPr>
          <p:blipFill>
            <a:blip r:embed="rId7"/>
            <a:stretch/>
          </p:blipFill>
          <p:spPr>
            <a:xfrm>
              <a:off x="3048120" y="3657600"/>
              <a:ext cx="190476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3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75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75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" descr="D:\董\四合院11.jpg"/>
          <p:cNvPicPr/>
          <p:nvPr/>
        </p:nvPicPr>
        <p:blipFill>
          <a:blip r:embed="rId1"/>
          <a:stretch/>
        </p:blipFill>
        <p:spPr>
          <a:xfrm>
            <a:off x="228600" y="-2590920"/>
            <a:ext cx="9190080" cy="1257300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3"/>
          <p:cNvSpPr/>
          <p:nvPr/>
        </p:nvSpPr>
        <p:spPr>
          <a:xfrm>
            <a:off x="685800" y="3142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Times New Roman"/>
              </a:rPr>
              <a:t>4 </a:t>
            </a:r>
            <a:r>
              <a:rPr b="0" lang="zh-CN" sz="5400" spc="-1" strike="noStrike">
                <a:solidFill>
                  <a:srgbClr val="0066ff"/>
                </a:solidFill>
                <a:latin typeface="Times New Roman"/>
              </a:rPr>
              <a:t>秋雨闲人：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3962520" y="1523880"/>
            <a:ext cx="5181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灰沉沉的天底下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一阵冷风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息列索落的雨声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都市闲人着装举止、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神情声调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5769360" y="502920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清、静、悲凉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D:\董\果树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6116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3"/>
          <p:cNvSpPr/>
          <p:nvPr/>
        </p:nvSpPr>
        <p:spPr>
          <a:xfrm>
            <a:off x="1741680" y="279360"/>
            <a:ext cx="261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Times New Roman"/>
              </a:rPr>
              <a:t>5 </a:t>
            </a:r>
            <a:r>
              <a:rPr b="0" lang="zh-CN" sz="4800" spc="-1" strike="noStrike">
                <a:solidFill>
                  <a:srgbClr val="00cc99"/>
                </a:solidFill>
                <a:latin typeface="Times New Roman"/>
              </a:rPr>
              <a:t>胜日秋果：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5416560" y="1284120"/>
            <a:ext cx="2527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Times New Roman"/>
              </a:rPr>
              <a:t>淡绿淡黄的颜色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Times New Roman"/>
              </a:rPr>
              <a:t>成熟至八九分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Times New Roman"/>
              </a:rPr>
              <a:t>清秋佳日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026" descr="D:\董\秋韵.jpg"/>
          <p:cNvPicPr/>
          <p:nvPr/>
        </p:nvPicPr>
        <p:blipFill>
          <a:blip r:embed="rId1"/>
          <a:stretch/>
        </p:blipFill>
        <p:spPr>
          <a:xfrm>
            <a:off x="-380880" y="108000"/>
            <a:ext cx="9524880" cy="675000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027"/>
          <p:cNvSpPr/>
          <p:nvPr/>
        </p:nvSpPr>
        <p:spPr>
          <a:xfrm>
            <a:off x="609480" y="11494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丰富多彩的故都之秋</a:t>
            </a:r>
            <a:endParaRPr b="1" lang="en-US" sz="5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71" name="Group 15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672" name="Picture 16" descr="D:\董\北京3.jpg"/>
              <p:cNvPicPr/>
              <p:nvPr/>
            </p:nvPicPr>
            <p:blipFill>
              <a:blip r:embed="rId1"/>
              <a:stretch/>
            </p:blipFill>
            <p:spPr>
              <a:xfrm>
                <a:off x="4648320" y="0"/>
                <a:ext cx="4495680" cy="685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3" name="Group 17"/>
              <p:cNvGrpSpPr/>
              <p:nvPr/>
            </p:nvGrpSpPr>
            <p:grpSpPr>
              <a:xfrm>
                <a:off x="0" y="0"/>
                <a:ext cx="4647960" cy="6858000"/>
                <a:chOff x="0" y="0"/>
                <a:chExt cx="4647960" cy="6858000"/>
              </a:xfrm>
            </p:grpSpPr>
            <p:pic>
              <p:nvPicPr>
                <p:cNvPr id="674" name="Picture 18" descr="D:\董\故宫.jp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4647960" cy="685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5" name="Text Box 19"/>
                <p:cNvSpPr/>
                <p:nvPr/>
              </p:nvSpPr>
              <p:spPr>
                <a:xfrm>
                  <a:off x="408240" y="396720"/>
                  <a:ext cx="729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000000"/>
                      </a:solidFill>
                      <a:latin typeface="Times New Roman"/>
                    </a:rPr>
                    <a:t>故宫</a:t>
                  </a:r>
                  <a:endParaRPr b="1" lang="en-US" sz="36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6" name="Text Box 20"/>
            <p:cNvSpPr/>
            <p:nvPr/>
          </p:nvSpPr>
          <p:spPr>
            <a:xfrm>
              <a:off x="5549040" y="45720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Times New Roman"/>
                </a:rPr>
                <a:t>北海公园</a:t>
              </a:r>
              <a:endParaRPr b="1" lang="en-US" sz="36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3" descr="D:\董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2"/>
          <p:cNvSpPr/>
          <p:nvPr/>
        </p:nvSpPr>
        <p:spPr>
          <a:xfrm>
            <a:off x="304920" y="1447920"/>
            <a:ext cx="8839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思考题：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故都的秋景可谓色彩丰富，作者为什么只赞美清、静、悲凉的故都之秋呢？试从主客观原因加以评析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D:\董\背景1.jpg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620568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3"/>
          <p:cNvSpPr/>
          <p:nvPr/>
        </p:nvSpPr>
        <p:spPr>
          <a:xfrm>
            <a:off x="1081080" y="685800"/>
            <a:ext cx="39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隶书"/>
              </a:rPr>
              <a:t>读</a:t>
            </a:r>
            <a:r>
              <a:rPr b="0" lang="en-US" sz="3600" spc="-1" strike="noStrike">
                <a:solidFill>
                  <a:srgbClr val="0000ff"/>
                </a:solidFill>
                <a:latin typeface="隶书"/>
              </a:rPr>
              <a:t>12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</a:rPr>
              <a:t>节，找出本段的中心句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0" y="1600200"/>
            <a:ext cx="86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议论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  <a:ea typeface="宋体"/>
              </a:rPr>
              <a:t>：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足见有感觉的动物，有情趣的人类对于秋，总是一样的能特别起深沉、幽严厉、萧索的感触来的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0" y="327672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点拨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从喻理的角度，进一步赞颂自然之秋、北国之秋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D:\董\背景1.jpg"/>
          <p:cNvPicPr/>
          <p:nvPr/>
        </p:nvPicPr>
        <p:blipFill>
          <a:blip r:embed="rId1"/>
          <a:stretch/>
        </p:blipFill>
        <p:spPr>
          <a:xfrm>
            <a:off x="0" y="-379440"/>
            <a:ext cx="9144000" cy="723744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3"/>
          <p:cNvSpPr/>
          <p:nvPr/>
        </p:nvSpPr>
        <p:spPr>
          <a:xfrm>
            <a:off x="0" y="10875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隶书"/>
              </a:rPr>
              <a:t>思考题：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隶书"/>
              </a:rPr>
              <a:t>   </a:t>
            </a:r>
            <a:r>
              <a:rPr b="0" lang="en-US" sz="3600" spc="-1" strike="noStrike">
                <a:solidFill>
                  <a:srgbClr val="0000ff"/>
                </a:solidFill>
                <a:latin typeface="隶书"/>
              </a:rPr>
              <a:t>5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</a:rPr>
              <a:t>、文章的结尾再次提到北国的秋和南国的秋，为何呢？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1600200" y="32004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</a:rPr>
              <a:t>南国的秋味比不上北国的秋味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6" name="AutoShape 5"/>
          <p:cNvSpPr/>
          <p:nvPr/>
        </p:nvSpPr>
        <p:spPr>
          <a:xfrm>
            <a:off x="380880" y="3352680"/>
            <a:ext cx="1119240" cy="1095480"/>
          </a:xfrm>
          <a:custGeom>
            <a:avLst/>
            <a:gdLst>
              <a:gd name="textAreaLeft" fmla="*/ 644040 w 1119240"/>
              <a:gd name="textAreaRight" fmla="*/ 944640 w 1119240"/>
              <a:gd name="textAreaTop" fmla="*/ 147600 h 1095480"/>
              <a:gd name="textAreaBottom" fmla="*/ 469080 h 1095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7" name="Text Box 6"/>
          <p:cNvSpPr/>
          <p:nvPr/>
        </p:nvSpPr>
        <p:spPr>
          <a:xfrm>
            <a:off x="0" y="4816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三、再次表达了对北国之秋的眷恋、向往之情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8" name="Text Box 7"/>
          <p:cNvSpPr/>
          <p:nvPr/>
        </p:nvSpPr>
        <p:spPr>
          <a:xfrm>
            <a:off x="1676520" y="4054320"/>
            <a:ext cx="67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</a:rPr>
              <a:t>直抒对北国之秋的无比眷恋之情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149720" cy="54864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A:\112103.jpg"/>
          <p:cNvPicPr/>
          <p:nvPr/>
        </p:nvPicPr>
        <p:blipFill>
          <a:blip r:embed="rId2"/>
          <a:stretch/>
        </p:blipFill>
        <p:spPr>
          <a:xfrm>
            <a:off x="4917960" y="762120"/>
            <a:ext cx="3845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D:\董\背景17.jp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3"/>
          <p:cNvSpPr/>
          <p:nvPr/>
        </p:nvSpPr>
        <p:spPr>
          <a:xfrm>
            <a:off x="3200400" y="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故都的秋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828800" y="1752480"/>
            <a:ext cx="4952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秋园静观品秋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槐树落蕊知秋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秋蝉残鸣报秋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秋雨淋人感秋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果树秋天赞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2" name="AutoShape 5"/>
          <p:cNvSpPr/>
          <p:nvPr/>
        </p:nvSpPr>
        <p:spPr>
          <a:xfrm>
            <a:off x="1447920" y="1981080"/>
            <a:ext cx="304560" cy="2590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483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685800" y="2057400"/>
            <a:ext cx="7016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83bc3"/>
                </a:solidFill>
                <a:latin typeface="Times New Roman"/>
              </a:rPr>
              <a:t>清静悲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1676520" y="106668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记叙、描写：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5" name="Text Box 8"/>
          <p:cNvSpPr/>
          <p:nvPr/>
        </p:nvSpPr>
        <p:spPr>
          <a:xfrm>
            <a:off x="1447920" y="4724280"/>
            <a:ext cx="63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议论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：“足见有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感触来的。”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6" name="AutoShape 9"/>
          <p:cNvSpPr/>
          <p:nvPr/>
        </p:nvSpPr>
        <p:spPr>
          <a:xfrm>
            <a:off x="5638680" y="2133720"/>
            <a:ext cx="381240" cy="2438280"/>
          </a:xfrm>
          <a:custGeom>
            <a:avLst/>
            <a:gdLst>
              <a:gd name="textAreaLeft" fmla="*/ 0 w 381240"/>
              <a:gd name="textAreaRight" fmla="*/ 137520 w 3812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483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7" name="Text Box 10"/>
          <p:cNvSpPr/>
          <p:nvPr/>
        </p:nvSpPr>
        <p:spPr>
          <a:xfrm>
            <a:off x="6172200" y="1905120"/>
            <a:ext cx="8380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83bc3"/>
                </a:solidFill>
                <a:latin typeface="Times New Roman"/>
              </a:rPr>
              <a:t>眷恋向往之</a:t>
            </a:r>
            <a:r>
              <a:rPr b="0" lang="zh-CN" sz="3200" spc="-1" strike="noStrike">
                <a:solidFill>
                  <a:srgbClr val="483bc3"/>
                </a:solidFill>
                <a:latin typeface="Times New Roman"/>
              </a:rPr>
              <a:t>情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8" name="Text Box 11"/>
          <p:cNvSpPr/>
          <p:nvPr/>
        </p:nvSpPr>
        <p:spPr>
          <a:xfrm>
            <a:off x="3110040" y="52214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</a:rPr>
              <a:t>（形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9" name="Text Box 12"/>
          <p:cNvSpPr/>
          <p:nvPr/>
        </p:nvSpPr>
        <p:spPr>
          <a:xfrm>
            <a:off x="5945040" y="5105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（神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5456880" y="501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郁达夫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板书设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Object 3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76154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2" descr="C:\My Documents\s03.jpg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3" descr="D:\pxl\秋树.jpg"/>
          <p:cNvPicPr/>
          <p:nvPr/>
        </p:nvPicPr>
        <p:blipFill>
          <a:blip r:embed="rId2"/>
          <a:stretch/>
        </p:blipFill>
        <p:spPr>
          <a:xfrm>
            <a:off x="0" y="3733920"/>
            <a:ext cx="5105520" cy="31240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4" descr="D:\pxl\林间.jpg"/>
          <p:cNvPicPr/>
          <p:nvPr/>
        </p:nvPicPr>
        <p:blipFill>
          <a:blip r:embed="rId3"/>
          <a:stretch/>
        </p:blipFill>
        <p:spPr>
          <a:xfrm>
            <a:off x="0" y="0"/>
            <a:ext cx="5105520" cy="373392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5"/>
          <p:cNvSpPr/>
          <p:nvPr/>
        </p:nvSpPr>
        <p:spPr>
          <a:xfrm>
            <a:off x="5823360" y="3049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二．触觉效果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07" name="Text Box 6"/>
          <p:cNvSpPr/>
          <p:nvPr/>
        </p:nvSpPr>
        <p:spPr>
          <a:xfrm>
            <a:off x="5257800" y="9144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北国的槐树，也是一种能使人联想起秋来的点缀。像花而又不是花的那一种落蕊，早晨起来，会铺得满地。脚踏上去，声音也没有，气味也没有，只能感觉出一点点极微细极柔软的触觉。”</a:t>
            </a:r>
            <a:endParaRPr b="1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08" name="Text Box 7"/>
          <p:cNvSpPr/>
          <p:nvPr/>
        </p:nvSpPr>
        <p:spPr>
          <a:xfrm>
            <a:off x="5558040" y="3473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描写景物：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09" name="Text Box 8"/>
          <p:cNvSpPr/>
          <p:nvPr/>
        </p:nvSpPr>
        <p:spPr>
          <a:xfrm>
            <a:off x="5558040" y="4038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人的感受：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0" name="Text Box 9"/>
          <p:cNvSpPr/>
          <p:nvPr/>
        </p:nvSpPr>
        <p:spPr>
          <a:xfrm>
            <a:off x="7230600" y="3505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落蕊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1" name="Text Box 10"/>
          <p:cNvSpPr/>
          <p:nvPr/>
        </p:nvSpPr>
        <p:spPr>
          <a:xfrm>
            <a:off x="7330680" y="4038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极微细极柔软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2" name="Text Box 11"/>
          <p:cNvSpPr/>
          <p:nvPr/>
        </p:nvSpPr>
        <p:spPr>
          <a:xfrm>
            <a:off x="5680800" y="4510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南国之秋景物：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3" name="Text Box 12"/>
          <p:cNvSpPr/>
          <p:nvPr/>
        </p:nvSpPr>
        <p:spPr>
          <a:xfrm>
            <a:off x="7840080" y="4510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落叶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4" name="Text Box 13"/>
          <p:cNvSpPr/>
          <p:nvPr/>
        </p:nvSpPr>
        <p:spPr>
          <a:xfrm>
            <a:off x="5558040" y="4952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人的感受：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5" name="Text Box 14"/>
          <p:cNvSpPr/>
          <p:nvPr/>
        </p:nvSpPr>
        <p:spPr>
          <a:xfrm>
            <a:off x="7290000" y="49528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有声音，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有气味</a:t>
            </a:r>
            <a:endParaRPr b="1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6" name="Text Box 15"/>
          <p:cNvSpPr/>
          <p:nvPr/>
        </p:nvSpPr>
        <p:spPr>
          <a:xfrm>
            <a:off x="5883120" y="579132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写触觉也突出了北国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之秋的清、静、悲凉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1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pic>
          <p:nvPicPr>
            <p:cNvPr id="71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0" y="228600"/>
            <a:ext cx="8839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隶书"/>
              </a:rPr>
              <a:t>时代背景</a:t>
            </a:r>
            <a:r>
              <a:rPr b="0" lang="en-US" sz="4000" spc="-1" strike="noStrike">
                <a:solidFill>
                  <a:srgbClr val="0066ff"/>
                </a:solidFill>
                <a:latin typeface="隶书"/>
              </a:rPr>
              <a:t>: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  <a:ea typeface="宋体"/>
              </a:rPr>
              <a:t> 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从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1921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年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9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月至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1933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年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月，郁达夫曾用相当大的精力参加左翼文艺活动进行创作。由于国民党白色恐怖的威胁等原因，郁达夫从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1933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年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4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月由上海迁居杭州，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1936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年离杭州赴福州，在杭州居住了近三年。在这段时间里他思想苦闷，创作枯竭，过的是一种闲散安逸的生活。并花了许多时间到处游山玩水，在一定程度上也是为了排遣现实带给他的苦闷和离群索居的寂寞。在游山玩水的过程中，写了许多游记。 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隶书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1934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年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7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月，郁达夫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不远千里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从杭州经青岛去北平，再次饱尝了故都的秋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味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，并写下了优美的散文──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《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故都的秋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》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。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</a:rPr>
              <a:t> 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7" descr="D:\董\背景1.jpg"/>
          <p:cNvPicPr/>
          <p:nvPr/>
        </p:nvPicPr>
        <p:blipFill>
          <a:blip r:embed="rId1"/>
          <a:stretch/>
        </p:blipFill>
        <p:spPr>
          <a:xfrm>
            <a:off x="0" y="-136440"/>
            <a:ext cx="9753480" cy="69944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2"/>
          <p:cNvSpPr/>
          <p:nvPr/>
        </p:nvSpPr>
        <p:spPr>
          <a:xfrm>
            <a:off x="457200" y="0"/>
            <a:ext cx="89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落霞与孤鹜齐飞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，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秋水共长天一色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王勃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滕王阁序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501480" y="10666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无边落木萧萧下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，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不尽长江滚滚来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杜甫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登高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457200" y="2209680"/>
            <a:ext cx="923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停车坐爱枫林晚，霜叶红于二月花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杜牧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山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533520" y="3505320"/>
            <a:ext cx="87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浔阳江头夜送客，枫叶荻花秋瑟瑟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白居易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琵琶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533520" y="46483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宋体"/>
              </a:rPr>
              <a:t>看万山红遍，层林尽染，漫江碧透，白舸争流，鹰击长空，鱼翔浅底，万类霜天竞自由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。   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毛泽东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沁园春长沙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6"/>
          <p:cNvSpPr/>
          <p:nvPr/>
        </p:nvSpPr>
        <p:spPr>
          <a:xfrm>
            <a:off x="0" y="2286000"/>
            <a:ext cx="914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</a:rPr>
              <a:t>思考题：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</a:rPr>
              <a:t>   </a:t>
            </a:r>
            <a:r>
              <a:rPr b="1" lang="en-US" sz="4400" spc="-1" strike="noStrike">
                <a:solidFill>
                  <a:srgbClr val="0000ff"/>
                </a:solidFill>
                <a:latin typeface="隶书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</a:rPr>
              <a:t>作者主要从哪个方面写故都的秋？请用一字概括。（声、形、色、味</a:t>
            </a:r>
            <a:r>
              <a:rPr b="1" lang="en-US" sz="4400" spc="-1" strike="noStrike">
                <a:solidFill>
                  <a:srgbClr val="0000ff"/>
                </a:solidFill>
                <a:latin typeface="隶书"/>
              </a:rPr>
              <a:t>? 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</a:rPr>
              <a:t>）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228600" y="6858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一、朗读课文，整体把握课文内容</a:t>
            </a:r>
            <a:endParaRPr b="1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441360" y="375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2514600" y="3733920"/>
            <a:ext cx="4952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990720" y="525780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1" name="Text Box 13"/>
          <p:cNvSpPr/>
          <p:nvPr/>
        </p:nvSpPr>
        <p:spPr>
          <a:xfrm>
            <a:off x="685800" y="24382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026"/>
          <p:cNvSpPr/>
          <p:nvPr/>
        </p:nvSpPr>
        <p:spPr>
          <a:xfrm>
            <a:off x="228600" y="9144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3366ff"/>
                </a:solidFill>
                <a:latin typeface="隶书"/>
              </a:rPr>
              <a:t>.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</a:rPr>
              <a:t>读第</a:t>
            </a:r>
            <a:r>
              <a:rPr b="1" lang="en-US" sz="3600" spc="-1" strike="noStrike">
                <a:solidFill>
                  <a:srgbClr val="3366ff"/>
                </a:solidFill>
                <a:latin typeface="隶书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</a:rPr>
              <a:t>、</a:t>
            </a:r>
            <a:r>
              <a:rPr b="1" lang="en-US" sz="3600" spc="-1" strike="noStrike">
                <a:solidFill>
                  <a:srgbClr val="3366ff"/>
                </a:solidFill>
                <a:latin typeface="隶书"/>
              </a:rPr>
              <a:t>2</a:t>
            </a:r>
            <a:r>
              <a:rPr b="1" lang="zh-CN" sz="3600" spc="-1" strike="noStrike">
                <a:solidFill>
                  <a:srgbClr val="3366ff"/>
                </a:solidFill>
                <a:latin typeface="隶书"/>
              </a:rPr>
              <a:t>自然段，作者分别哪些字来概括北国之秋和南国之秋的特征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3" name="Text Box 1027"/>
          <p:cNvSpPr/>
          <p:nvPr/>
        </p:nvSpPr>
        <p:spPr>
          <a:xfrm>
            <a:off x="1219320" y="251460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北国之秋：清、静、悲凉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南国之秋：慢、润、淡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4" name="AutoShape 1028"/>
          <p:cNvSpPr/>
          <p:nvPr/>
        </p:nvSpPr>
        <p:spPr>
          <a:xfrm flipV="1">
            <a:off x="380880" y="2590200"/>
            <a:ext cx="762120" cy="1143000"/>
          </a:xfrm>
          <a:custGeom>
            <a:avLst/>
            <a:gdLst>
              <a:gd name="textAreaLeft" fmla="*/ 438480 w 762120"/>
              <a:gd name="textAreaRight" fmla="*/ 643320 w 762120"/>
              <a:gd name="textAreaTop" fmla="*/ 154080 h 1143000"/>
              <a:gd name="textAreaBottom" fmla="*/ 4892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5" name="Text Box 1029"/>
          <p:cNvSpPr/>
          <p:nvPr/>
        </p:nvSpPr>
        <p:spPr>
          <a:xfrm>
            <a:off x="380880" y="4648320"/>
            <a:ext cx="803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3bc3"/>
                </a:solidFill>
                <a:latin typeface="Times New Roman"/>
              </a:rPr>
              <a:t>一、作者运用对比的手法来表现对故都之秋的依恋之情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12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D:\董\背景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2"/>
          <p:cNvSpPr/>
          <p:nvPr/>
        </p:nvSpPr>
        <p:spPr>
          <a:xfrm>
            <a:off x="-685800" y="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隶书"/>
              </a:rPr>
              <a:t>故都的秋在哪里呢？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228600" y="990720"/>
            <a:ext cx="9144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</a:rPr>
              <a:t>思考题：</a:t>
            </a:r>
            <a:endParaRPr b="1" lang="en-US" sz="4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3bc3"/>
                </a:solidFill>
                <a:latin typeface="隶书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</a:rPr>
              <a:t>作者分别从不同的角度为我们描绘了五幅故都的秋景图，请同学们结合自己的想象力分别给以介绍</a:t>
            </a:r>
            <a:r>
              <a:rPr b="1" lang="en-US" sz="3600" spc="-1" strike="noStrike">
                <a:solidFill>
                  <a:srgbClr val="ffff00"/>
                </a:solidFill>
                <a:latin typeface="隶书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</a:rPr>
              <a:t>并赏析五幅秋景图</a:t>
            </a:r>
            <a:r>
              <a:rPr b="1" lang="en-US" sz="3600" spc="-1" strike="noStrike">
                <a:solidFill>
                  <a:srgbClr val="ffff00"/>
                </a:solidFill>
                <a:latin typeface="隶书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</a:rPr>
              <a:t>感觉或色彩</a:t>
            </a:r>
            <a:r>
              <a:rPr b="1" lang="en-US" sz="3600" spc="-1" strike="noStrike">
                <a:solidFill>
                  <a:srgbClr val="ffff00"/>
                </a:solidFill>
                <a:latin typeface="隶书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</a:rPr>
              <a:t>。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8" descr="D:\董\复件 天坛公园.jpg"/>
          <p:cNvPicPr/>
          <p:nvPr/>
        </p:nvPicPr>
        <p:blipFill>
          <a:blip r:embed="rId1"/>
          <a:stretch/>
        </p:blipFill>
        <p:spPr>
          <a:xfrm>
            <a:off x="0" y="0"/>
            <a:ext cx="4800600" cy="681516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9"/>
          <p:cNvSpPr/>
          <p:nvPr/>
        </p:nvSpPr>
        <p:spPr>
          <a:xfrm>
            <a:off x="2590920" y="304920"/>
            <a:ext cx="16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先农坛</a:t>
            </a:r>
            <a:endParaRPr b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572" name="Picture 10" descr="A:\玉渊潭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11"/>
          <p:cNvSpPr/>
          <p:nvPr/>
        </p:nvSpPr>
        <p:spPr>
          <a:xfrm>
            <a:off x="6629400" y="533520"/>
            <a:ext cx="22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玉渊潭</a:t>
            </a:r>
            <a:endParaRPr b="1" lang="en-US" sz="4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12:27:34Z</dcterms:created>
  <dc:creator>etower</dc:creator>
  <dc:description/>
  <dc:language>en-US</dc:language>
  <cp:lastModifiedBy>a</cp:lastModifiedBy>
  <dcterms:modified xsi:type="dcterms:W3CDTF">2015-02-10T02:00:31Z</dcterms:modified>
  <cp:revision>79</cp:revision>
  <dc:subject/>
  <dc:title>没有幻灯片标题</dc:title>
</cp:coreProperties>
</file>