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C84-E7AB-4D0F-8CBE-78C94720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8C2-B048-45FD-9E66-9BE244EC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8141F-5B15-43D6-90CB-50FE9DF3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8103C-8AF2-4770-B9E4-8E71B681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469AB-106F-4506-B342-25FDF85A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B7AD9-B17B-471A-8BE1-B8FFA71E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4AAB0-A54E-403B-8155-7393E144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02E7A-452A-4322-9B2A-FBA17552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971A5-B6A4-4CF2-A6B4-F6FEF857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55A49-8B48-4534-98F2-76631C344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163BF-AF2B-43C2-B3EA-B19A4CD7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CBFD3-75B7-4DA6-A336-3D863B48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624-D12B-4483-89B0-45A1AAE8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B3565-D467-4A73-856A-0E884CB7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E4F2D-0D4C-4FC2-9B63-B55A46BE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F8724-5508-40E4-8905-BDB60823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1EBDB-2330-4BDA-B5C6-CD5B1EFF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11CBD-CFAF-44A2-900B-236D1456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AB03F-1642-4B2A-97C6-F4A43D6D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13193-7D9B-4800-8046-051DD2C3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71DCA-5EF5-451D-90C6-9C425DF9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9599A-AEB9-464B-908F-3A7F2868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F24A6-6EF1-4E23-89AC-B054F646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485-32F8-43DF-8909-D9DEF122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402ED-FC64-48CC-BDE9-308F8ED2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82C81-3DB2-4587-96FE-85BDB61F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F7CD7-498B-483C-B1C9-94CAA50A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C3F98-F06D-45CE-A873-9C90FC74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59201-26E1-425D-A0C2-CBBCBAF3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8BF7E-DE92-4430-8C2C-5C64A242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40872-23BA-478A-A4B6-A496F4A7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BE36C-9400-4254-B94A-B16CB433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375EA-2A23-48EF-B920-8F1509AF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842BF-0603-4CD3-9FF2-E6A5F74C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AAFD-9CF6-4DDD-A8D6-AE405A7D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784FB-C0C8-495E-9919-D4A676B7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13CB6-D0FB-4523-88E5-01EDD82E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ADB80-FBCA-455B-BD70-FB829BEB7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CEE01-0CE8-43AD-972B-00D4AB4D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12D2C-22E7-4346-8754-5444BF25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7F347-348B-454C-A453-C4365FF3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B2DAF-4FF4-4C1B-A7C4-BC29D296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83DF4-4119-4DF6-AF0B-902764CE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E9AF1-C064-4048-A9E4-083C3E0D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94A56C-CD68-4965-A1F8-99C1E490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FCCB-5EDE-40BF-A807-1573EFAC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4B5AF-4745-4F38-8DEF-1EC4B4C7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F4FA8-30E8-44CD-9A51-5EA1E2B6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986814-2FC2-4D7C-9E1A-485E89A4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DDDAC-1F15-4055-8B94-0B95D630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3F96C-3D41-4907-9116-99891E84F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FF30A-A910-419B-A79B-B2AD1D62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714EA-7D22-41BB-A6DB-0525DB52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E233F-D70B-4A4F-931F-2519D1DE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8C5F9C-6B46-45EF-8F70-3C670860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66897-2F01-4152-A6F9-544E401C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BC47-4024-4E34-8529-866138DC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ED8AB-5F30-4688-94F3-F493D813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B980F-1955-44BB-ACA6-60E54D0B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6F7B4-0F81-482E-86A4-F33D199D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48451-5071-4239-A0A8-1823F257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97831-6550-45DB-AC8D-4178C587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B18B4-5E03-44C7-A45D-CB9E5376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07357-1F27-427D-8963-9AD8B177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843B0-3052-48D4-9446-0BD93E218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7296FD-318B-4A80-A634-78D6B126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57BBC-0918-4A19-B42A-5EE1EE53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E7E9-86A3-4574-B582-7D8E69FF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E2F51-C22D-4FFA-A584-BC3B106A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0D2014-A276-4A95-9FD5-3785DAA4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2A333-5F38-4986-A295-289E5F1E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567E1D-0ABB-4544-8AB2-48CF1562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6723F-9892-414C-AF90-65AC6E7F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9A937C-79F4-428B-8CF3-A979D117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DC31F3-5A49-47E2-BE26-55C9326B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FE600A-C8AF-447C-8121-365BAD48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86827-028E-4D1E-9663-7E793535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2E56-75CD-41B3-BB26-EFB0249E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72B6-8EE3-4912-9F58-4B7B9DE7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F08C8-5521-4357-BE68-C98AB170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6963-5843-4B6E-BC43-A88423F5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7E6A-2FD9-41FB-98E4-84ED2B28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0D648-6B84-42C5-9A95-3068634C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8A09-4469-41DD-B1D1-16E7746E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EE39-4138-42F0-87D8-0D6A057C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2FF0-7C4B-4A57-961E-550126F0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2AD06-768B-4B9F-BBE5-9CFE08B0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F8142-67D3-487D-8F17-AC673C1E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13E84-F0C3-4D23-9B51-1D6D65DD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626E9-6A0D-449F-9087-22E0BEAE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B5ABE-8E7E-4487-BBDD-2556F659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1F27-96D2-4749-B43B-DE91F1DC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BD33F-CE01-4727-824B-9CAA7BA7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3E62A-98C7-49F8-82AE-B935F1F6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C2F3B-6709-42D4-9D8C-50AEB5A4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DE25F-FA6C-4602-8B41-3007586A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E7C1F-0B3C-48FC-ADC1-A17C10D8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97C7-64A3-4208-8764-BB244249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C8A17-0111-4641-8D64-87D2FA4F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8203D-E29D-4A8E-B94E-AC8AFEBA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85BF8-714C-4F1E-B5A6-4355B5D2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CB42E-5EC2-4FEC-81AF-59423CFF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AC9-F294-4330-BD39-A586BE27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B513E-2124-4CA9-855D-C3761280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5ACEB-0987-4F9E-99B2-BFFB93A7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6F387-7CFD-40E1-83F0-3EC5B652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CE739-4FBB-47B9-9A1C-C71C5C05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82FC9-0B34-4714-A29C-434C9974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2EBB6-BB52-421D-A3E8-CCD5E7A5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D1A39-248E-49C0-BD11-ED8B3360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32603-EF55-4972-A8A1-53D44360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3623C-84C2-4223-9B05-49D5F90E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D5A47-C7E3-4E11-8304-6437A14C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F8D-EF1E-49B7-8170-A04B7E9D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783F7-A92F-4572-8926-EBF5DC99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866F2-B8FF-446C-A668-6835F89F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7F491-8A63-4E14-9473-A8E9C613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D4A8D-27FD-473E-BE36-5F5AE409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72FDE-7BFA-4339-82EB-AED8F18A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AD8DD-4E0E-4242-9BB0-A6EA1280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47140-B2C2-4A82-B2DB-8FDE5588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0C280-9519-46AE-B79D-E6485665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2A384-A916-4F02-A96C-E6686705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2EDA-8FA7-43F8-B9E4-45944FA0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06A5-30D8-422B-AF74-479B7267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A021C-B47D-4480-A4E1-A3370826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E17ED-708E-4302-9104-CA0ADFA9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AEA34-DCB1-4013-BA39-C2CA855F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7432D-EB4C-485A-8723-A8A26872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90507-0CEF-4A62-A624-249AD308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A09D8-E3BC-4AB6-BA8C-4379ABC0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0CC21-3AEC-4DEE-B3BB-7D86B50E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75BD3-FF6F-451A-B80E-01D38387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7ED4D-DBBA-4375-8A6F-D175F40D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0D8E4-8476-4E0C-94CF-0EE8AC36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9D9A-A836-4BA6-A511-5E7D8634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5B0F7-7CDE-4057-B04B-283F7149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25891-657C-4C26-8C69-B0554D67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E5333-504F-4287-B004-8B5FEB87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3FC69-4A52-439B-A998-1D0E77F0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75AF4-776F-48D4-9993-25824ED0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0F275-C891-4B69-89C6-4BEBCF73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4A04A-179B-4923-928B-D1952559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CD34C-6E89-4630-8D9A-E61F3EC5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0698C-F24F-43A0-9950-4E02C61B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0F1C2-D3D6-4EE0-9749-ADB80A0B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92F-FCA4-483F-8565-2751DDA7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290B5-8C16-4368-BE46-512AEAC8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A17FD-2311-4BA4-9A7F-C4E15CEE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13A15-D523-4347-AF71-0A1DAC82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69E57-2953-4AC1-8CDF-7ACC0E3C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A75B5-6308-4007-A847-208FA971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39F90-06E2-4793-B587-E023E6E5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5E8E0-71F9-4C93-A9EF-336E04E4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C52E6-441F-4546-89CA-18C33D73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7DFB7-EE78-476F-B4CB-7ED1C7CD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3DEEC-80A6-4A8D-BAF9-3906121E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D2F-1A10-4496-AF33-88A7F328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5E177-36EA-4BC3-B843-6B83F609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F8935-ACA3-4B6B-A67D-7FD2C7D8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28B57-830D-45D4-AD65-3D3447EE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B2301-F2C3-4D54-9BD9-33285477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E6BAC-E780-45B2-9C5A-C29C2236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74A34-6013-40E9-B3CB-38A7AEAF4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8B761-D0A1-465D-AB9B-EB4B0637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D3CE4-E75D-4107-A34E-D8AB8D4B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EC454-A52A-4487-A895-C464382C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DC28F-2370-4056-A085-48D95395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DA09-0274-4180-85CD-8F566582A270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5F92-4C8B-45C6-B187-300546DF9510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A605-ED63-4D64-B170-12ACEADD293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7C27-6BEB-4A08-8F59-7A7AB0818AB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EDDD-EE59-4FED-9F79-4C0449BF34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C351-E6D7-4A5C-AC4A-80A182F751F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300E-7954-48D9-BECE-A012DEFA0B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609E-405D-41CF-B98E-6D7AFB40876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92BC-4851-4478-A541-3E5DFFAB3E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DA25-4D68-4BC8-BDBB-06E89FE91BF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97AA-5509-4B2E-8F62-27A7903774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98AD-6AC3-4575-A9EC-44C628B7D3B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BCBD-C056-4E86-81AA-A4143C51EC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57AE-E044-4AE2-940C-AEC92F7D02F8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20FF-945E-4B9E-9FFC-9E0CEB46FC5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8104-B250-4425-8996-A0EB9D9ECD0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1557-7DCE-4B59-AF15-F24A9A876F7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9D46-FCE0-4069-8163-E3C382937F6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D35A-0FB6-4B4C-B715-6D2D59BFC42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190C-E839-4B72-84DB-AF9C6DF299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2682-408D-43BB-B97E-350EF25FF96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1275-CB87-4AA5-A9F0-6FB4CC6C4D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E687-566D-49AE-AB44-1C954A0A699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ED0B-6F21-4176-9313-C625307A5C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97B1-FC69-461D-939F-59ABC0EBCFD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B37A-C885-489A-99BD-409A2FCBE91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2640" y="759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  <a:ea typeface="宋体"/>
              </a:rPr>
              <a:t>THANKSGIVING FALL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2590560" y="914400"/>
            <a:ext cx="33526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宋体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56390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ITLE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05120" y="1522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6:44:39Z</dcterms:created>
  <dc:creator>微软中国</dc:creator>
  <dc:description/>
  <dc:language>en-US</dc:language>
  <cp:lastModifiedBy>a</cp:lastModifiedBy>
  <dcterms:modified xsi:type="dcterms:W3CDTF">2015-03-17T05:39:21Z</dcterms:modified>
  <cp:revision>3</cp:revision>
  <dc:subject/>
  <dc:title>THANKSGIVING FALL</dc:title>
</cp:coreProperties>
</file>