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A2177-8F2E-4A51-8EB1-C8488D09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50829-5C4E-4C4D-89E3-13F1721E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8CE51-773C-4888-A336-FADF762B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B9042-2303-4CAE-93A6-C2B7CA34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6DB3A-002F-458D-8721-40E82500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F80AD-DE18-4A25-AE08-ABA6338A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58859-7A9B-4642-904E-8156C4AC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4317E-F570-4518-817F-93DC0C2F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CAEC4-20A9-4526-9CBF-912560A5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7D68A-00F9-4CC4-8672-D99FFC84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8C1E6-F144-48D8-9CEF-5DDAA02C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9A693-05D2-40C2-B02D-42D876E9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F2087-F1B7-44A7-9673-179F84A4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DBD1B-FADF-4868-BC1E-F1F664B5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363C4-822E-43DD-81ED-0366280F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B999C-BF00-4195-8351-7A23CB8C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9D21C-F36D-4C31-B9C7-9B9FE8E0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F3649-6E09-4116-9C8E-DA7DD203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7206F-E321-40A9-A12F-3B5328F2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9B1C8-1534-4C4C-96DE-2538F7D7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E57E4-1447-484D-94D3-177FA5C2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EFA19-8A0A-4247-B4F8-03FA5E38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B30A3-E798-4E47-9B8F-BC6AE2A3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DAFD8-88F2-48B9-B20C-8C24338C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A9EEB-56AB-47FC-9251-97D7A31E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9A671-AC6F-4D64-BFAB-EBD770A3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ABCE3-A326-4733-87C0-D98CE263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4C326-DFB9-4753-968E-ECC1FA8E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D32F7-D6E6-46BE-B407-97D508BA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FF5FC-19F8-4232-A45E-83F8E539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87A-2AE3-4428-AE94-72B98006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0C403-21F5-4DDD-9AE4-CE78B632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54EE8-0E71-49D6-83D0-7873907D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88F07-5775-4677-8774-5E8D6EC8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BD6FA-AB80-4F85-B317-B3E3AAAF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E732D-AA57-421A-9B92-DDCEFB16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F5427-3A7F-4C80-83C9-78B23219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1ECFB-7C05-4D12-9B02-3CF467BB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3B13B-EB9C-422F-9B92-0C66AF99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51235-BDCE-4C12-91DA-C8E72D2D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D5643-7D13-4D9E-AFC7-A5DAA45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C39-EC97-41A8-A192-0930E3E1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2A2FD-F37E-4BBF-B773-71DC5494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CFFE2-CC19-451D-91C6-0A68E4BD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B547B-C8A7-46C1-BB54-19199208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16F71-5CC2-4D14-B917-DC4EFAC7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057D7-9E84-44CD-8924-313B2EDB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617B1-4DE8-4E4D-AE2C-516AE476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3FDA3-15D1-463A-BE61-8990E10C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AC49A-7694-4736-AA9D-7BE2C19D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46997-C388-439E-A567-BA6016F6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A9780-041C-44B2-B8A7-049AB8F5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30C-E699-4FEB-A0E4-BD4C7DD8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A5E35-8B85-4C78-9651-FAB89AAE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0AA8E-21D1-4FD3-99B2-019EED8C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E3EF3-AA7B-45E3-B8BE-DC0586C1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8BDC4-C755-4CF3-9855-9E5EC0B4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6DF81-B404-45A4-8619-85314BA6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E0591-FC78-4952-8577-F3D725E7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C0B05-8628-4820-B80A-E9A60F7B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96B75-A711-4BA1-9D17-4FAB2364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818E0-5F89-425F-B86C-B5DC4817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BE14C-33D8-4FDB-AD69-4709693E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041-11E8-4AC3-AA9E-A297C5D6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A8040-302A-4C3C-9284-4269B612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2307A-0811-4226-818C-AEC7DBA9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B3CFE-F3F4-475B-AA36-7EA6460A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46558-A9CA-400C-9D28-9183782F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F5D1C-C19D-4111-BA8E-1A861C84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37929-3743-472F-8090-DF1E1C5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3C9AA-6ABF-405E-98D0-B73AAA90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30D69-A4CC-4CDD-801F-09E3E769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C1E5F-1171-4DAF-BAF2-6FE4BC68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5EC-C9B1-4E51-9C70-6B2F533B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16D-5761-469E-B63A-7AF07B4E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0DF-2B47-4822-B9BE-7EA6DED2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251-BEEC-4C88-92F8-61C7D726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42B-1BFE-4323-9E05-138A4CAF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6B7-30A9-4737-AE76-DE28CDAB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DEF-B807-4334-B8A5-5C6DBDC4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834-6D81-4277-8006-1D9F9FA2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CC53-BC85-484B-BC63-0CC50E31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CB6A-D030-41B0-8973-7A15F4C3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AEC7-EE3A-468D-BDC0-8C31201D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073D-8509-41DD-AEEB-056F4BF2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9ED5-AC65-435A-B193-BF44520E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85B5-2745-44C2-ABFC-14658649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E0AE-3612-4B1F-95AF-02DF5F13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B2A3-03EC-4CB0-AD11-D2F32486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810B-0DC2-4580-91EA-848AC85F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03C8-DE58-4182-86E1-7D828629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6758-B059-4637-BA66-4777FDCA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E13F-3BB7-4029-8A91-A17F1BE8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7BC90-BB46-46CB-801E-787AA5AE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4FC1-90C6-4958-9B72-D4253C43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3129-F685-484A-8029-67D46498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F15C-CB8B-4E15-AD80-21A3DAB2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83A5-5EC0-4B6D-A01B-50980988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426B-0875-4F9E-917F-F340CDFE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321E-4722-46F1-9DFF-C4619112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B5BE-6B7B-480E-9C42-F0AD84A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BABA-80EF-4210-93AD-C35EC54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0F821-704B-40B6-A8D8-087F08E0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D4563-3E3C-450E-965C-AB3035C6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E1E0-532A-4234-9B96-BD7BA600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6D56-11A1-4175-9F3D-13C66108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8DF88-4F8B-4C15-B600-A90CBAC8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5F37-3237-4266-8606-64549989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04CA3-2E99-48DF-B563-31FBEF71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3C567-AC08-4C1A-9D13-096A0E97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54146-D0F1-4B38-A688-23728957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2E43D-DFEE-4BDE-93F8-DB0A2151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72618-CC5E-47FB-B4FC-81940392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C5CD8-18C2-40E0-B47E-A4B988CA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CD721-CD8F-4A0E-B11A-6C7A988F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5E42F-DFFE-4716-83D9-CE379CCC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BBFA1-F0C9-4A3D-841B-BDD3F3E0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2AB98-8966-479D-ADE2-BB7B182D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C518-5317-422F-93AB-E8B9D333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45970-2ECD-4FF6-861A-D798DCC9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F4FEA-162F-4CCF-95B5-81F7C618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17F30-F238-4D1B-B2E5-5C5544E7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6E65-038F-4C2F-95F6-F3332C9B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9DA45-7925-4613-9D8C-FFE39398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E2F5E-9363-4C9D-9D1A-72653F7A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94B5C-910E-496E-9E8B-B907909C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B6624-365E-438D-9CB7-0ED78F62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4C0EA-A7DB-4630-8195-B79354FA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3FC19-8B46-4A9F-AEB4-B47E47F1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A4861-EEB4-44A3-B5FB-58617F78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A01DA-AF9E-4447-BF74-6E651EF6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76720-1937-43A0-A091-E89CFA47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0A9FB-2673-41C6-9EE3-623E46BC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E5D55-C101-439E-A54F-1C649A05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30DE1-3997-4D98-B98E-D59B8F17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72E5D-6B06-4297-A39C-A302B633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754E8-39AD-49E6-B65F-3E482121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6E196-DA0C-4B17-B6E6-1BB7C71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743E8-9302-4A67-BE90-634114A2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31339-E155-4897-8E51-310E0AD9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10450-50D9-498D-83FE-72C9A82D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FEE08-871F-4D8B-B60A-92B443B6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1D17E-4699-442A-A517-382E03F3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FEAAF-152C-4F85-8A76-E844B2CA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CBDC-963B-4709-BF9C-B3A37E6072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BA93-7B37-41BF-95FD-EC045C7430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5F2D-C86C-44A6-8813-1E99F73C55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6691-782D-465A-9798-3BA4EA8D11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638D-EA66-4906-95C6-9F4412683EC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1651-D937-41A8-BBD6-3E009EC318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7A27-EB9D-4D88-8DB4-6CD0B36FAD8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7276-43E2-4AFA-87E2-91842EE5B1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2ADB-88B8-41E9-94EB-C5CD88EEE3C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D471-4CE0-4779-BB4B-B68B4FA5D4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E896-19E1-4D72-8E8C-94F28CB5DA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AD05-245B-428F-B744-2742688955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0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C1FB-C754-4AC2-A90D-5666406410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FAAD-35F6-43EE-926F-A1914B7531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FFA5-0681-4AFE-A29E-7F4849C64B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E35E-263A-4488-AA7E-3D607F10C6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F287-D758-469B-801A-D8D5193470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74D1-BF68-4707-BD83-FDB8B09F05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0F26-8609-441F-93B4-0F79A4F79F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3F04-B00F-4752-A859-876DEE5095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9CAC-81A0-4FBC-A124-B64D1540E7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44BE-8CF6-4182-8B6C-0233EC44B6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466D-F099-479D-8D81-C4B1B63677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DAF3-012D-414C-97D6-C6A8E36E0F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1187280" y="479736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汉仪大宋简"/>
                <a:ea typeface="汉仪大宋简"/>
              </a:rPr>
              <a:t>老师，您辛苦了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4"/>
          <p:cNvSpPr/>
          <p:nvPr/>
        </p:nvSpPr>
        <p:spPr>
          <a:xfrm>
            <a:off x="2916360" y="119700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"/>
          <p:cNvSpPr/>
          <p:nvPr/>
        </p:nvSpPr>
        <p:spPr>
          <a:xfrm>
            <a:off x="1187280" y="479736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汉仪大宋简"/>
                <a:ea typeface="汉仪大宋简"/>
              </a:rPr>
              <a:t>谢谢观看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5:36:29Z</dcterms:created>
  <dc:creator>admin</dc:creator>
  <dc:description/>
  <dc:language>en-US</dc:language>
  <cp:lastModifiedBy>a</cp:lastModifiedBy>
  <dcterms:modified xsi:type="dcterms:W3CDTF">2015-03-17T05:40:57Z</dcterms:modified>
  <cp:revision>6</cp:revision>
  <dc:subject/>
  <dc:title>幻灯片 1</dc:title>
</cp:coreProperties>
</file>