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dt" idx="3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ftr" idx="3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 type="sldNum" idx="4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B420-96FB-48B0-80BA-5C82DC7C7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FD20-B407-48D3-A2D2-64D700A4DF9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317520" y="-12600"/>
            <a:ext cx="6224400" cy="467028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247680" y="4882680"/>
            <a:ext cx="6432480" cy="376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AA181-6CAE-4C90-96E3-87FFA049A8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44E29-B733-4085-825E-CD8D149F7E4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C18895-F91F-4AC0-B653-BDE025A0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DE0897-0F34-4ACA-A56D-2C03FBD1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749D80-EC94-4493-A993-65E2513F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307FF7-6F14-48B7-918C-7581B033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E06177-B0A1-4096-8328-2FF48A04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E7EF2C-386D-4CAF-972D-C91130E5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784E55-9CCF-4F03-A0C4-F6848BDC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CFEA36-63B4-456E-8212-A39572E51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46688D-95EE-4A84-A923-7098EDEFC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2C18E8-4395-4510-AAA7-F5CBA6E3D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40311-E463-4017-B827-01F5DB12221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3FF379-0D0E-41B6-8EED-C7F59B38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253A42-1DE2-4E81-8FAB-C7147DDF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9927FC-7DD4-44DD-83DB-00B67D50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EFE540-AE7F-4E19-A74F-1ED60F1D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49F235-C628-4287-AC8E-42FC020D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9463D2-61C6-44D7-B6B7-FF758B73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BEBE55-471D-4296-B2FC-2945A2BB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8D4890-3749-4411-A9EF-B2A36DA1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13B651-97AD-4CB7-91F6-4F10D7D0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1095FD-8F26-49D7-9CC1-91C342C93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66B0B-AE8A-40EF-80BE-E4CA541F39F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8297C9-B2B1-42FC-81AB-F74AFF88A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D69D03-A842-4E7C-9254-D94446E5E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F6CC3A-CCD8-47FA-ACB5-E55B7686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B5E101-9629-42BD-8C30-098FE646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9CEDA2-3795-4712-BA77-D2029957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9095F9-52ED-4BA3-A1C8-65280931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3E2C43-271C-4E0F-865D-3A160F7F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446013-D3F3-4EB0-8063-E6BBBB6E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CB5381-4AE5-4384-A3AE-6EF2B1EB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5DF616-5814-4CC8-81A8-07D557B4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6B153-BEBE-444D-9DB6-ECAD193B0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F8EEA8-A192-4AD7-A0B6-4B8A374B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42F8C2-1CDE-44F6-BF36-DD65C04A5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F3A670-2642-41FD-8065-0FD4C68C9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AC4870D-1C11-46C4-8317-2277EAEC1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DE832F4-3AD9-471E-81FF-98C84E57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F20D43E-94DE-40A4-B72A-51ED5BD2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AEC37A-7872-4236-BF3C-050DD89F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ECF4147-85B9-4B80-9EAD-12D28C5E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E2AA295-5386-4164-BF00-89803C68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528B3D6-E9BE-4EC8-A86E-C1DF2879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47196-E501-43BF-ADBD-5CCF1E5E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CC59DC1-AC6F-4930-9AA6-8A438E5D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4D947FC-2D32-4929-A331-71A56C42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15887A8-4861-4AF9-A0C8-BCF1F565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60824E9-CE0C-4F47-9B03-23B0B8952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46441F6-4C5E-4D72-AF90-74F56BC5B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506971-1C3D-4EE9-A7A2-F20DED8D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BAA032-6ED5-4D54-A0AC-C58AA69C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57BC55-0A80-428A-AE0F-E0914E15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F2B895-27BE-42BC-BFCE-8E6F8D45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AA6FF2-0FDC-441D-A4DB-1B36C6B8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7CF9F-C2E5-4FFF-BDF9-40CDB08D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C6C7AE-8952-465E-90C7-42ED7E7A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1AB1F2-7B96-4A4A-911F-02F7F5D5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ED3DDC-0961-4E08-83D3-5BB08923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DE1E8B-00DA-42C8-BEDC-EFD1558D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D0A2D8-5B26-461F-868E-9BAC00E6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A50614-0F68-4C0C-B3B6-58FE6BC83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72C3FC-39C2-4AFA-9014-BB726CF2D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F7004F0-53A6-4ECB-9CA7-56AB05ED4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DB1888C-B507-401F-A5E9-B38A58B7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85E66FF-9EDD-49C5-A875-0C7760BD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22A63-20D9-4A9B-9EEB-75B4BCA7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EF6F462-B7B1-4B1A-B2FA-3B1CBE95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8450EAB-F2E6-40AB-9C0F-59123526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FEA7F27-7EBC-456C-B3B6-D88338C3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9A17F33-DE11-47CA-8682-4873F10E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63BF017-F5B2-4C90-AAAC-10DC0F9E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B80862A-1A5C-4A4F-903C-943157B9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BF908E0-F971-43F7-B7FE-5475B19F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0895432-644D-4C8E-A966-9E3044D07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4AE7317-7491-4941-88C0-58B0AC981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86F3C-0A8A-4436-8EF9-4143F992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AA8A5-DBD1-448F-8E6C-6A186A3E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FB9B7-B3B0-41F3-A348-E685787F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882EA-9406-4FFF-8550-87F7985D6A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0974DE-A3E3-41BB-AA0F-D0E7443A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CD74C-02C2-4FB8-85EC-2A20DD34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1DE02C-2963-4782-9972-CFA7D05E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3F7FF4-C33B-45E7-9C21-BB4A29367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46B8A-0ECA-43E3-996D-941753969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22159-A05A-4063-88E2-55D3FFDBFEE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70D6EF-A35A-4913-9F49-B28FF7F82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F38D5D-6D1D-4B5E-86F0-81456FCA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5167F9-901C-4169-A786-2827B554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BA629-5D76-4469-8077-DB60A7F3F0C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8EC459-EB33-4B12-816B-02D15052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F0804C-D099-44C0-A20C-45159A24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51F24F-F9A8-4AD5-8214-8F089BA7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FF5FC8-6E04-48F2-BFC6-EF55028F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6639EA-897B-4CAA-B482-2AB9073C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681BAD-45F0-480C-861C-CF1BC3D1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44A6A7-CF0D-4090-AEA0-417C772B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558C7B-725A-42FC-90D8-9FC8317A4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ED7304-6D39-485D-873F-FE8EC141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F8F925-79B6-49A1-AF72-A3C154A1D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4C9C8-7E54-4910-A4C3-A476A81C9D5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AF42C7-27B8-465C-A0D9-D51DB74F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81609D-7B0F-4467-AE07-80D8BFD0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E61A23-4F2E-4010-BCDC-58E81A22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83D192-1FF7-43FB-BE17-D71CD5E4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51EEA0-6DC8-4482-BDEE-90BFA428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05D83F-DE72-49C0-9AB8-23FDF767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295886-EBB5-4090-957C-3EB1412F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AC40FF-BA7E-47EB-9ADF-6818FB0C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7D3A85-2A27-486A-B2A1-7BB9716C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532D00-E9CC-4738-B3F7-E9AB67FCF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DCFD2-61F5-4207-A437-F496C1280F9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0F34DA-F90E-4DB9-83C3-95FEB1222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B33983-17CF-492E-974F-7073DA15E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B5780E-F404-471F-9B27-4431E2D9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9AB2C9-C6A6-438F-82AD-E2658782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BEA61F-692C-4A09-A524-0CE4B519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ACBA07-528E-4681-AA2D-FE78F345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D93541-8B15-447D-9EEC-70EE078C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6AFB46-F806-4017-A721-D40792FE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9F030D-8E5F-4DDD-ABC4-0C86F86D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A648F1-7975-4BAF-967F-FB05B3BD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D17D3-A3B9-47A4-8EF4-50DEA4A8073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35B0FB-F877-454B-AB28-5F6FC3E8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C5FB64-47B4-4082-B4ED-148C406DF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141306-983B-42D2-BC0B-D9E7F9167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2570E2-89D7-443C-ABC1-3C1934883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4217C4-0541-42D6-B058-B755D402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DB9C5E-E071-4374-9EFB-81DCFE93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204543-8F30-4A5D-B65F-EA7169F2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42D725-545F-4233-A789-75FBBD36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EAFED9-0386-4456-9C51-4AFD5E19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77F1E0-8464-42FB-AC9B-50E77DFE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59338-B48E-466F-8671-2F0325134D6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2EEA89-1369-4470-BA3D-A7879023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12FFD0-CFEA-409B-9B93-485B1E22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850F4A-DDBC-43DA-ADC1-497BF10C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93E4C2-021F-4BFE-A173-C26BA58EA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CDD095-4F65-471D-B54B-15ED1730C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D2417F-5B05-4359-9A21-731C7C629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51FFDC-1ED5-40FE-B7D6-D38587BD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1037DF-AD91-4211-A500-FE997C34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E51C66-243E-4079-B8E2-BA82EFA3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ED816D-7170-4C0F-811B-C7F62250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9843F-6A1C-44B0-85BE-1A61F9B9938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4623D8-D559-4BF6-AA73-628403AB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EB5996-9C0E-4F4B-9173-66AF7AF3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E9B940-FBAB-4E2C-95EF-9087A23F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535804-478B-4CBA-A1BD-C2B0E59B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4B7805-4A8A-4C6C-9D50-741E2BEE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2B3477-CE94-4A75-A540-EBBC47809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B25E63-615D-47B0-9A6F-5C8AA3C07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955357-C740-49B2-B209-13665A6D0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56D461-34EE-48ED-AD00-BDB85967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36F110-3982-472A-8BB6-33363D6B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5" descr="4"/>
          <p:cNvPicPr/>
          <p:nvPr/>
        </p:nvPicPr>
        <p:blipFill>
          <a:blip r:embed="rId2"/>
          <a:srcRect l="0" t="0" r="0" b="6641"/>
          <a:stretch/>
        </p:blipFill>
        <p:spPr>
          <a:xfrm>
            <a:off x="0" y="0"/>
            <a:ext cx="9144000" cy="895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45acd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03C5B13-5C5A-43F0-AD6A-9A4AA0B4D144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468360" y="3207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37"/>
          <p:cNvSpPr/>
          <p:nvPr/>
        </p:nvSpPr>
        <p:spPr>
          <a:xfrm>
            <a:off x="0" y="901800"/>
            <a:ext cx="9144000" cy="0"/>
          </a:xfrm>
          <a:prstGeom prst="line">
            <a:avLst/>
          </a:prstGeom>
          <a:ln w="316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284292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0978-950C-45E5-8A89-FD0C3475DCB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D57E-4517-491E-899A-9F38A67C8A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0661-6CDC-4C6C-B15B-83104E7E340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830F-E542-419D-8113-5B4BFC8F8D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1F5C-4574-4CBA-A817-BA674BEDDDB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97F7-16C1-4D98-A612-1EEE1B4406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57AC-F1E0-48C3-9D30-170652FB3E1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19C5-2A93-4AB3-B869-7F711AC041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351B-FD9E-4209-84CD-FAF847E5009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69C6-8893-4FEF-BEB5-BDC99EF2FC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2B52-C788-461B-AEF1-C5F074F44E62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5822-1069-4044-A375-DF38FD1735E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3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7286760" y="3207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2" descr="2"/>
          <p:cNvPicPr/>
          <p:nvPr/>
        </p:nvPicPr>
        <p:blipFill>
          <a:blip r:embed="rId3"/>
          <a:stretch/>
        </p:blipFill>
        <p:spPr>
          <a:xfrm>
            <a:off x="-36360" y="3495600"/>
            <a:ext cx="9180360" cy="3362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4" descr="3"/>
          <p:cNvPicPr/>
          <p:nvPr/>
        </p:nvPicPr>
        <p:blipFill>
          <a:blip r:embed="rId4"/>
          <a:stretch/>
        </p:blipFill>
        <p:spPr>
          <a:xfrm>
            <a:off x="0" y="0"/>
            <a:ext cx="7485120" cy="4957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45acd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284292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42F7-78AC-4580-816B-B7D01832296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77BE-C4B8-42C4-A7B6-993E129056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CBB2-7D55-41F9-9A24-068791305A6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8834-7D82-44CD-8457-50CDCE384E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8DEA-3892-43BD-99F3-DD3F2B27424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77E2-5562-436C-8831-47D7269E7B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E8F3-50FE-446E-B97F-7B80B410271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F0C0-5CA5-4405-9301-C201943CDD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8BC2-CF0F-4662-B310-0F8D196BD84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4D4C-815E-495A-A155-9AB37A83AB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7C40-6526-4EAA-A43F-9B56885FF2B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752D-D5A2-4FEC-A1F7-7F67CBF811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3274920" y="517320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3276360" y="4094280"/>
            <a:ext cx="53989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C7838D64-6E60-4106-AF50-4C5328EE19A3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84292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B420605D-178E-4D29-A295-602D26263674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5" descr="2"/>
          <p:cNvPicPr/>
          <p:nvPr/>
        </p:nvPicPr>
        <p:blipFill>
          <a:blip r:embed="rId2"/>
          <a:stretch/>
        </p:blipFill>
        <p:spPr>
          <a:xfrm>
            <a:off x="-36360" y="3495600"/>
            <a:ext cx="9180360" cy="33624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6" descr="3"/>
          <p:cNvPicPr/>
          <p:nvPr/>
        </p:nvPicPr>
        <p:blipFill>
          <a:blip r:embed="rId3"/>
          <a:stretch/>
        </p:blipFill>
        <p:spPr>
          <a:xfrm>
            <a:off x="0" y="0"/>
            <a:ext cx="7485120" cy="495792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3"/>
          <p:cNvSpPr/>
          <p:nvPr/>
        </p:nvSpPr>
        <p:spPr>
          <a:xfrm>
            <a:off x="468360" y="4094280"/>
            <a:ext cx="820728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感谢观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添加您的公司信息（联系方式及落款）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9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a</cp:lastModifiedBy>
  <dcterms:modified xsi:type="dcterms:W3CDTF">2015-02-10T11:26:12Z</dcterms:modified>
  <cp:revision>151</cp:revision>
  <dc:subject/>
  <dc:title>PowerPoint Template</dc:title>
</cp:coreProperties>
</file>