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B94-61AE-418F-97A6-B46D9B11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30F-4EC1-4237-8B04-C051E985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6AA37D-6AE6-4130-96D8-B3BD6FB7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417B9A-9AE2-4C6D-8857-9C8BDF70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359E77-77A1-4D06-A157-A902FA0B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BA9350-C367-4C1D-92C1-E075FA76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61B612-96D5-4E4F-AB0D-6E13AC34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559F4A-F413-4DD1-BF28-D5CDDF99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63627A-FE3E-4756-894C-B544C229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CF5FC2-B014-453D-B941-6669F4B7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545FCA-73CC-4B70-A773-EFEAA46B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58F91A-4F39-427E-B0BD-029AA7DF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8AD-E27E-4F76-89C9-CAAEEDC0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000AA3-A21C-405E-960B-7B016ED6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A0CBCF-E8F0-4ADB-8032-3A437610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8E7979-40DC-493F-B657-4EA54D39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1AD98B-70E6-47B9-94C0-BD9E5F3D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0E77AB-9D09-40BC-8C0B-2ECDB55C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A970C0-F8BD-4D67-8443-482F8AF6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EBC0C5-FF56-4CD4-B3AB-2E8371BC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DA18F8-55D3-4EC2-8113-9EF47235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2F6B6E-89D2-4FF1-8F55-2E4612AD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F171E8-70A5-4186-AD5B-A43613E9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585-0861-42F1-B9E6-DD11E496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EE524D-530B-4609-BA40-6B4B64CC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E48640-91C8-480D-9BD7-C1301926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0FC3AC-B762-40E4-8933-12F8C7C9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CE8516-52F4-4B39-9548-8728EA9A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904B23-91C7-463B-A0BF-3AC551D4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D3478F-D00E-4852-B869-90B87B0D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4ED99B-FE7D-4248-A454-A4EB7869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2D98DD-1C47-4907-A8E7-85920A65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6FAEC3-6E9C-49D7-B68A-A7673D10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E681B3-5805-49F1-8FCC-8600BAA4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AB2C-908E-46DE-902D-409B7C30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436CD7-BC92-40E1-83E2-D9357FFD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4247CB-6A1D-4D88-ABF2-1474487F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2F4D82-76B4-4BAB-BA07-0612718B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6A2C3C-E2DA-4973-A37E-B548E166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BD3595-7427-478D-9F0F-5FE50A41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7F09B6-39CA-468F-906E-B3469EF9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10C7FB-5C93-4261-8732-D6D963DA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8BB717-574C-4FAC-B70B-82DA6917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5F33AC-E39F-4EA7-8D2D-EAA4731F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73574F-DB35-4E8B-A9AF-CF4CFAC2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0E89-1DAC-464F-A091-941E0321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9D9512-CF3A-4B73-AF81-3449926E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96C4B2-1360-4604-AFD7-0D171E6C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7326FE-3598-40A2-BCE1-A64793DD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DA1A95-5A2A-4AC1-9576-718D299C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A17524-A88E-4791-BDFE-6E8BC556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BD2AB8-DB6B-449C-8809-B389E16B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DB8236-4738-4FDB-B016-B7EE04C6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FE7A81-C0A0-4A7F-9B23-E7BA0469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7F111C-A41B-4A2D-A4FB-DCAEEA97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09A5A6-3DB2-451A-B3CF-1F60F5C9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CA8E-33A6-4290-9A89-E04DFBB2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C5EA7A-6153-4168-8896-04607F22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061803-7F11-4848-98B7-F603771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576F56-78D5-496C-8F7C-D7F2A08A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8CBEDB-8CE2-46C5-9264-F12F8AE8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77EDCB-B9EA-4A3E-B98B-8361900F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6D3E08-0326-4A96-AF18-6C9E291A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EED3EE-64A2-4E95-8D7E-560BEA52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37B90F-AEF9-4907-92BA-01EA70DA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85A52E-BD74-4705-A8EC-FECB4734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090BFA-02A8-4C9D-98BD-55939862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682E-6362-4211-82DD-421EE4BA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DC1D9E-2E44-4AF3-B3BD-FBA8AA56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23F6C1-D4C3-4852-95C0-BA104247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FF0214-3367-4153-BC72-0DF0B2D0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D8727B-51BA-4FC6-927D-223C223E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C6118B-A96D-4949-ADC9-69197F3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C9D454-BB69-4A3E-89DC-3ACDDCF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3101B8-B1A9-4E67-8098-8D16D236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3E0336-B098-439C-B479-21658142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F48AFE-819A-465A-995A-3131762F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3DE7-2195-4A30-89C5-31A075FA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247D-AD4A-4B6E-934F-4DFAE92B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FCEC-BEAD-46B2-B5A9-927F4D95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BEA-67CD-4FCA-8F2B-E06A8B6A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9575-2AD6-4B9A-8A6A-963608EB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DB1A-207B-4BE7-848D-716C6425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9497-92B3-42A7-9A7A-3B56393E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E8D7-7AF3-43B0-87AB-F7C607A3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19CD-09A6-48A3-8933-AF1ACB11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A7D4D-F33A-441A-8F68-10C2682747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62132-015F-4A39-AF5F-B0DC3605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72CDF-6DF9-4038-90CC-C2C1E231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BE9D0-13E5-4987-92D7-E0C8D749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71AA1-C68A-4005-885F-AEDB4EAE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9F5-482D-4BE1-9E03-324DA871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94071-3CD8-476E-9B90-26A0884E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E62CD-C641-4CD6-B891-BF7521BC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00FCB-1CB9-4371-B485-76E71AA4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2FCB9-8884-4E3D-88CC-748B9E32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9B827-0716-4EDE-871F-5805094E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4053E-F24F-4ACC-A0E9-D23D9DE6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20536-441F-454E-A14A-F819346496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32E05-49E2-41B5-B4E3-082C10E5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85239-5B77-43B9-8CDD-9DE3D264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524D6-49B5-48D3-BD1C-CDCAE20C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A4C-AFC6-48C2-A2CC-E12BF40A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A3A77-2C41-4D1B-8DBD-A8A74268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2131F-F887-4105-958D-A8ACCCA8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9464D-7CDB-4BE4-B61E-A8393F15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B56FC-70D0-4882-9E41-1CA0B505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B8AF6-78DC-481B-B3CC-1C2C23B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C2F4E5-A009-4679-A6FB-B43E07A9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410CA-7AD9-49C7-826D-21F7D6BE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C85EA-3031-4B30-BA0D-9043C9AC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EEE49-55E0-43FA-BDDA-00CEFD35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394E0-F1C7-4D87-8B85-03A9E931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FEF-8E33-472F-AADB-CEFF550E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BDAEAF-31B5-4FBC-87CA-B28F87F9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F7DE7-83D3-4C96-BAA4-EC322196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662FE-FBB4-4451-8656-1168A906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6AEDF-912C-4AC9-B3A2-5EADB33F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2F555-2F55-4560-9E4C-E5DDD7CD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A1A4B-97DB-4881-957E-F1752EF1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EC7DF-67FD-4A8F-A3FD-37A088B5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093BC-C057-4759-B1BA-1EB7E2E0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824BA-D07C-4B85-BFDA-983360E8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A967D-29A5-4BF6-91CF-44BEAD95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C39-51FF-467A-B3D6-551EDF9D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F2D19-F2B5-4345-A32F-3CF8CDD6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FCE34-BC1E-4D25-902A-C71D2F56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009C8-FA3A-47F0-BA18-B9596038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5E213-C1AA-4CC3-8EF4-742674C6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0E97F-4125-43AE-83B3-4830417C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ACEA7-C09D-48AC-AEF4-0F9F84E0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B0FDD-D03A-42E4-AE40-01D03BBC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FC7A8-70C0-4350-BBB6-6C01AFA5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1D1C4-7CD3-4E0F-AF7C-A043142C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0951F1-EA40-4D0F-9F21-B90923DA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214-4A6A-4FB6-959F-B029BCBC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5E1CFB-0DA8-4C51-9D83-6EBB5F73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B229E-C8C6-44CF-9C58-DC591593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AE6DF-8FDC-465A-8858-9D819854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65F3F-BF23-416E-8F2F-DEFDDA55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C772B-390D-4205-953D-407E7C58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18942-DE92-4428-8FE9-3F990FEC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B4EA4A-D66F-48F1-8089-F1A2F83C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D21315-143E-4C7A-8121-F102BA17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6DD5B-29EE-48C8-8178-3B14A0A0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1553F-E40F-41CF-B155-AC6DABBF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1D3-FB9C-47AF-BAEF-8B021F55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6FFDC-28F6-4900-B8D0-3D72D919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B58423-427D-4091-A13D-90DCAEAB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38E80-0F82-45C4-88F5-C1C26CFD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CE924-C167-40E3-A3F4-ED0BA686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668B1-27B5-48F7-BCAC-293A6034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68F24C-6DE4-4D03-BF7B-E87CEA65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31F330-29EB-4E33-A6E2-C8C3CEBF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A884B5-4E66-49A0-8B6C-96C38D3D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C89A70-8655-4318-8FD4-7BDAF901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5A3F5E-FEC6-4759-8BE2-F134061E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581-918A-451E-9597-CF81BDF6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DC8D04-0E7E-4F80-9077-D27F112E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C03B7B-1DE1-48E2-BDCA-BD758B86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E2B272-7D13-41A9-8719-774A47D4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3300C0-C958-4B7C-BADD-832EA34E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578C12-0186-416B-94F6-333C6B67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60FC75-BBC7-43D6-99AA-A18A6D28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819259-5083-40FE-9A82-2DADEB2F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A61438-F923-45F9-9B9C-A0FF82AE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C376BF-B209-432F-BC22-447DE488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864B1F-72D0-4A1F-AACB-30C3686B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4"/>
          <p:cNvSpPr/>
          <p:nvPr/>
        </p:nvSpPr>
        <p:spPr>
          <a:xfrm>
            <a:off x="457200" y="533520"/>
            <a:ext cx="8396280" cy="761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3b7e7"/>
              </a:gs>
              <a:gs pos="50000">
                <a:srgbClr val="cde2f5"/>
              </a:gs>
              <a:gs pos="100000">
                <a:srgbClr val="83b7e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609480" y="600120"/>
            <a:ext cx="8175600" cy="628560"/>
          </a:xfrm>
          <a:prstGeom prst="rect">
            <a:avLst/>
          </a:prstGeom>
          <a:gradFill rotWithShape="0">
            <a:gsLst>
              <a:gs pos="0">
                <a:srgbClr val="83b7e7"/>
              </a:gs>
              <a:gs pos="50000">
                <a:srgbClr val="ffffff"/>
              </a:gs>
              <a:gs pos="100000">
                <a:srgbClr val="83b7e7"/>
              </a:gs>
            </a:gsLst>
            <a:lin ang="27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43" descr="guilde"/>
          <p:cNvPicPr/>
          <p:nvPr/>
        </p:nvPicPr>
        <p:blipFill>
          <a:blip r:embed="rId3"/>
          <a:stretch/>
        </p:blipFill>
        <p:spPr>
          <a:xfrm>
            <a:off x="0" y="0"/>
            <a:ext cx="2514600" cy="17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649D-B4E0-4A96-9FF9-FB3EC14993A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40"/>
          <p:cNvSpPr/>
          <p:nvPr/>
        </p:nvSpPr>
        <p:spPr>
          <a:xfrm rot="524400">
            <a:off x="609120" y="914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A9AA-8780-4845-81DD-808A95C62BA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C97D-C445-47DB-AB7E-83B61AC699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8678-FC5C-490E-A695-0F19D331362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31DF-2D77-4EC8-952B-89C0B8FB51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5B36-A01C-4F15-96F5-B47DC9F1301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AAB7-107D-4B1D-B539-9508988191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7E0D-85B9-42E4-9585-20D02AB6015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2CFB-8616-45D6-873F-3FDC64428F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6DE3-8E79-44E1-BB05-32410567089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8CC2-B4FF-489A-9705-02A54D94AF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9D5D-0958-44A1-A0D6-7CC906B16E7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2AA1-2B25-4C90-A2C9-639FEEA12B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0"/>
          <p:cNvSpPr/>
          <p:nvPr/>
        </p:nvSpPr>
        <p:spPr>
          <a:xfrm rot="21021000">
            <a:off x="5638680" y="3200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6629400" y="63244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7200" y="64004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4648320" y="64004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6359-B4C1-47F1-9103-0D127EB2F43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19FB-7DFE-4196-9C4D-991550CD8E0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C48A-A012-4D0F-BF8B-D7C59842DA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78D3-694E-45BF-AD53-765CC88A395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B3C7-7E20-481C-AD2E-CD61697C46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F1A5-4C40-4955-834D-50830221345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A6E6-B5E3-4EDD-8F41-0846A852E0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46E7-E57C-4853-BDFE-836E6B8919A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DCA1-1F1C-41D5-B5EA-3EAD6B33E0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75E2-BF5B-422E-AA6C-3BDDA2F3C2E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677D-6A02-4CBC-B88B-6195559082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54F3-AC41-4A34-B1C7-7DABB6BC6A8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C102-077C-4C7F-8C3E-9976CB43A1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580" name="Group 117"/>
          <p:cNvGrpSpPr/>
          <p:nvPr/>
        </p:nvGrpSpPr>
        <p:grpSpPr>
          <a:xfrm>
            <a:off x="1905120" y="2971800"/>
            <a:ext cx="5309640" cy="609480"/>
            <a:chOff x="1905120" y="2971800"/>
            <a:chExt cx="5309640" cy="609480"/>
          </a:xfrm>
        </p:grpSpPr>
        <p:grpSp>
          <p:nvGrpSpPr>
            <p:cNvPr id="581" name="Group 118"/>
            <p:cNvGrpSpPr/>
            <p:nvPr/>
          </p:nvGrpSpPr>
          <p:grpSpPr>
            <a:xfrm>
              <a:off x="1905120" y="2971800"/>
              <a:ext cx="609480" cy="609480"/>
              <a:chOff x="1905120" y="2971800"/>
              <a:chExt cx="609480" cy="609480"/>
            </a:xfrm>
          </p:grpSpPr>
          <p:sp>
            <p:nvSpPr>
              <p:cNvPr id="582" name="Oval 119"/>
              <p:cNvSpPr/>
              <p:nvPr/>
            </p:nvSpPr>
            <p:spPr>
              <a:xfrm>
                <a:off x="1905120" y="2971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f7ad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Oval 120"/>
              <p:cNvSpPr/>
              <p:nvPr/>
            </p:nvSpPr>
            <p:spPr>
              <a:xfrm>
                <a:off x="1905120" y="2971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Oval 121"/>
              <p:cNvSpPr/>
              <p:nvPr/>
            </p:nvSpPr>
            <p:spPr>
              <a:xfrm>
                <a:off x="1944720" y="3011400"/>
                <a:ext cx="52956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279"/>
                  </a:gs>
                  <a:gs pos="50000">
                    <a:srgbClr val="2f7adf"/>
                  </a:gs>
                  <a:gs pos="100000">
                    <a:srgbClr val="19427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Oval 122"/>
              <p:cNvSpPr/>
              <p:nvPr/>
            </p:nvSpPr>
            <p:spPr>
              <a:xfrm>
                <a:off x="1984320" y="30510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e4e8e"/>
                  </a:gs>
                  <a:gs pos="100000">
                    <a:srgbClr val="2f7ad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Oval 123"/>
              <p:cNvSpPr/>
              <p:nvPr/>
            </p:nvSpPr>
            <p:spPr>
              <a:xfrm>
                <a:off x="1973160" y="30384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Oval 124"/>
              <p:cNvSpPr/>
              <p:nvPr/>
            </p:nvSpPr>
            <p:spPr>
              <a:xfrm>
                <a:off x="1981080" y="30463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Oval 125"/>
              <p:cNvSpPr/>
              <p:nvPr/>
            </p:nvSpPr>
            <p:spPr>
              <a:xfrm>
                <a:off x="1987560" y="30495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Oval 126"/>
              <p:cNvSpPr/>
              <p:nvPr/>
            </p:nvSpPr>
            <p:spPr>
              <a:xfrm>
                <a:off x="1992240" y="30528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Oval 127"/>
              <p:cNvSpPr/>
              <p:nvPr/>
            </p:nvSpPr>
            <p:spPr>
              <a:xfrm>
                <a:off x="2016000" y="30654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1" name="Line 128"/>
            <p:cNvSpPr/>
            <p:nvPr/>
          </p:nvSpPr>
          <p:spPr>
            <a:xfrm>
              <a:off x="2414520" y="353376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Text Box 129"/>
            <p:cNvSpPr/>
            <p:nvPr/>
          </p:nvSpPr>
          <p:spPr>
            <a:xfrm>
              <a:off x="2643120" y="30002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Text Box 130"/>
            <p:cNvSpPr/>
            <p:nvPr/>
          </p:nvSpPr>
          <p:spPr>
            <a:xfrm>
              <a:off x="2035440" y="305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31"/>
          <p:cNvGrpSpPr/>
          <p:nvPr/>
        </p:nvGrpSpPr>
        <p:grpSpPr>
          <a:xfrm>
            <a:off x="1947960" y="4800600"/>
            <a:ext cx="5290560" cy="609480"/>
            <a:chOff x="1947960" y="4800600"/>
            <a:chExt cx="5290560" cy="609480"/>
          </a:xfrm>
        </p:grpSpPr>
        <p:grpSp>
          <p:nvGrpSpPr>
            <p:cNvPr id="595" name="Group 132"/>
            <p:cNvGrpSpPr/>
            <p:nvPr/>
          </p:nvGrpSpPr>
          <p:grpSpPr>
            <a:xfrm>
              <a:off x="1947960" y="4800600"/>
              <a:ext cx="609480" cy="609480"/>
              <a:chOff x="1947960" y="4800600"/>
              <a:chExt cx="609480" cy="609480"/>
            </a:xfrm>
          </p:grpSpPr>
          <p:sp>
            <p:nvSpPr>
              <p:cNvPr id="596" name="Oval 133"/>
              <p:cNvSpPr/>
              <p:nvPr/>
            </p:nvSpPr>
            <p:spPr>
              <a:xfrm>
                <a:off x="1947960" y="48006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f7ad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Oval 134"/>
              <p:cNvSpPr/>
              <p:nvPr/>
            </p:nvSpPr>
            <p:spPr>
              <a:xfrm>
                <a:off x="1947960" y="48006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Oval 135"/>
              <p:cNvSpPr/>
              <p:nvPr/>
            </p:nvSpPr>
            <p:spPr>
              <a:xfrm>
                <a:off x="1987560" y="4840200"/>
                <a:ext cx="52956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279"/>
                  </a:gs>
                  <a:gs pos="50000">
                    <a:srgbClr val="2f7adf"/>
                  </a:gs>
                  <a:gs pos="100000">
                    <a:srgbClr val="19427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Oval 136"/>
              <p:cNvSpPr/>
              <p:nvPr/>
            </p:nvSpPr>
            <p:spPr>
              <a:xfrm>
                <a:off x="2027160" y="48798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e4e8e"/>
                  </a:gs>
                  <a:gs pos="100000">
                    <a:srgbClr val="2f7ad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Oval 137"/>
              <p:cNvSpPr/>
              <p:nvPr/>
            </p:nvSpPr>
            <p:spPr>
              <a:xfrm>
                <a:off x="2016000" y="48672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Oval 138"/>
              <p:cNvSpPr/>
              <p:nvPr/>
            </p:nvSpPr>
            <p:spPr>
              <a:xfrm>
                <a:off x="2023920" y="48751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Oval 139"/>
              <p:cNvSpPr/>
              <p:nvPr/>
            </p:nvSpPr>
            <p:spPr>
              <a:xfrm>
                <a:off x="2030400" y="48783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Oval 140"/>
              <p:cNvSpPr/>
              <p:nvPr/>
            </p:nvSpPr>
            <p:spPr>
              <a:xfrm>
                <a:off x="2035080" y="48816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Oval 141"/>
              <p:cNvSpPr/>
              <p:nvPr/>
            </p:nvSpPr>
            <p:spPr>
              <a:xfrm>
                <a:off x="2058840" y="48942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" name="Line 142"/>
            <p:cNvSpPr/>
            <p:nvPr/>
          </p:nvSpPr>
          <p:spPr>
            <a:xfrm>
              <a:off x="2438280" y="5368680"/>
              <a:ext cx="4800240" cy="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43"/>
            <p:cNvSpPr/>
            <p:nvPr/>
          </p:nvSpPr>
          <p:spPr>
            <a:xfrm>
              <a:off x="2666880" y="483516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44"/>
            <p:cNvSpPr/>
            <p:nvPr/>
          </p:nvSpPr>
          <p:spPr>
            <a:xfrm>
              <a:off x="2087640" y="4868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8" name="Group 145"/>
          <p:cNvGrpSpPr/>
          <p:nvPr/>
        </p:nvGrpSpPr>
        <p:grpSpPr>
          <a:xfrm>
            <a:off x="1905120" y="2114640"/>
            <a:ext cx="5333400" cy="628560"/>
            <a:chOff x="1905120" y="2114640"/>
            <a:chExt cx="5333400" cy="628560"/>
          </a:xfrm>
        </p:grpSpPr>
        <p:sp>
          <p:nvSpPr>
            <p:cNvPr id="609" name="Line 146"/>
            <p:cNvSpPr/>
            <p:nvPr/>
          </p:nvSpPr>
          <p:spPr>
            <a:xfrm>
              <a:off x="2438280" y="2647800"/>
              <a:ext cx="4800240" cy="18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Text Box 147"/>
            <p:cNvSpPr/>
            <p:nvPr/>
          </p:nvSpPr>
          <p:spPr>
            <a:xfrm>
              <a:off x="2666880" y="21146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48"/>
            <p:cNvGrpSpPr/>
            <p:nvPr/>
          </p:nvGrpSpPr>
          <p:grpSpPr>
            <a:xfrm>
              <a:off x="1905120" y="2133720"/>
              <a:ext cx="609480" cy="609480"/>
              <a:chOff x="1905120" y="2133720"/>
              <a:chExt cx="609480" cy="609480"/>
            </a:xfrm>
          </p:grpSpPr>
          <p:grpSp>
            <p:nvGrpSpPr>
              <p:cNvPr id="612" name="Group 149"/>
              <p:cNvGrpSpPr/>
              <p:nvPr/>
            </p:nvGrpSpPr>
            <p:grpSpPr>
              <a:xfrm>
                <a:off x="1905120" y="2133720"/>
                <a:ext cx="609480" cy="609480"/>
                <a:chOff x="1905120" y="2133720"/>
                <a:chExt cx="609480" cy="609480"/>
              </a:xfrm>
            </p:grpSpPr>
            <p:sp>
              <p:nvSpPr>
                <p:cNvPr id="613" name="Text Box 150"/>
                <p:cNvSpPr/>
                <p:nvPr/>
              </p:nvSpPr>
              <p:spPr>
                <a:xfrm>
                  <a:off x="2030760" y="22096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Oval 151"/>
                <p:cNvSpPr/>
                <p:nvPr/>
              </p:nvSpPr>
              <p:spPr>
                <a:xfrm>
                  <a:off x="1905120" y="21337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4026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Oval 152"/>
                <p:cNvSpPr/>
                <p:nvPr/>
              </p:nvSpPr>
              <p:spPr>
                <a:xfrm>
                  <a:off x="1905120" y="21337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Oval 153"/>
                <p:cNvSpPr/>
                <p:nvPr/>
              </p:nvSpPr>
              <p:spPr>
                <a:xfrm>
                  <a:off x="1933560" y="21430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2c6c"/>
                    </a:gs>
                    <a:gs pos="50000">
                      <a:srgbClr val="8a52c8"/>
                    </a:gs>
                    <a:gs pos="100000">
                      <a:srgbClr val="4b2c6c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Oval 154"/>
                <p:cNvSpPr/>
                <p:nvPr/>
              </p:nvSpPr>
              <p:spPr>
                <a:xfrm>
                  <a:off x="1943280" y="217188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347f"/>
                    </a:gs>
                    <a:gs pos="100000">
                      <a:srgbClr val="8a52c8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Oval 155"/>
                <p:cNvSpPr/>
                <p:nvPr/>
              </p:nvSpPr>
              <p:spPr>
                <a:xfrm>
                  <a:off x="1962360" y="219060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156"/>
                <p:cNvSpPr/>
                <p:nvPr/>
              </p:nvSpPr>
              <p:spPr>
                <a:xfrm>
                  <a:off x="1981440" y="220824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157"/>
                <p:cNvSpPr/>
                <p:nvPr/>
              </p:nvSpPr>
              <p:spPr>
                <a:xfrm>
                  <a:off x="1987560" y="221148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158"/>
                <p:cNvSpPr/>
                <p:nvPr/>
              </p:nvSpPr>
              <p:spPr>
                <a:xfrm>
                  <a:off x="1992600" y="221472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Oval 159"/>
                <p:cNvSpPr/>
                <p:nvPr/>
              </p:nvSpPr>
              <p:spPr>
                <a:xfrm>
                  <a:off x="2016360" y="222732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Text Box 160"/>
              <p:cNvSpPr/>
              <p:nvPr/>
            </p:nvSpPr>
            <p:spPr>
              <a:xfrm>
                <a:off x="2030400" y="2209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4" name="Group 161"/>
          <p:cNvGrpSpPr/>
          <p:nvPr/>
        </p:nvGrpSpPr>
        <p:grpSpPr>
          <a:xfrm>
            <a:off x="1905120" y="3921120"/>
            <a:ext cx="5333400" cy="631800"/>
            <a:chOff x="1905120" y="3921120"/>
            <a:chExt cx="5333400" cy="631800"/>
          </a:xfrm>
        </p:grpSpPr>
        <p:sp>
          <p:nvSpPr>
            <p:cNvPr id="625" name="Line 162"/>
            <p:cNvSpPr/>
            <p:nvPr/>
          </p:nvSpPr>
          <p:spPr>
            <a:xfrm>
              <a:off x="2438280" y="445464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163"/>
            <p:cNvSpPr/>
            <p:nvPr/>
          </p:nvSpPr>
          <p:spPr>
            <a:xfrm>
              <a:off x="2666880" y="392112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" name="Group 164"/>
            <p:cNvGrpSpPr/>
            <p:nvPr/>
          </p:nvGrpSpPr>
          <p:grpSpPr>
            <a:xfrm>
              <a:off x="1905120" y="3943440"/>
              <a:ext cx="609480" cy="609480"/>
              <a:chOff x="1905120" y="3943440"/>
              <a:chExt cx="609480" cy="609480"/>
            </a:xfrm>
          </p:grpSpPr>
          <p:grpSp>
            <p:nvGrpSpPr>
              <p:cNvPr id="628" name="Group 165"/>
              <p:cNvGrpSpPr/>
              <p:nvPr/>
            </p:nvGrpSpPr>
            <p:grpSpPr>
              <a:xfrm>
                <a:off x="1905120" y="3943440"/>
                <a:ext cx="609480" cy="609480"/>
                <a:chOff x="1905120" y="3943440"/>
                <a:chExt cx="609480" cy="609480"/>
              </a:xfrm>
            </p:grpSpPr>
            <p:sp>
              <p:nvSpPr>
                <p:cNvPr id="629" name="Text Box 166"/>
                <p:cNvSpPr/>
                <p:nvPr/>
              </p:nvSpPr>
              <p:spPr>
                <a:xfrm>
                  <a:off x="2030760" y="40194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Oval 167"/>
                <p:cNvSpPr/>
                <p:nvPr/>
              </p:nvSpPr>
              <p:spPr>
                <a:xfrm>
                  <a:off x="1905120" y="39434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4026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Oval 168"/>
                <p:cNvSpPr/>
                <p:nvPr/>
              </p:nvSpPr>
              <p:spPr>
                <a:xfrm>
                  <a:off x="1905120" y="39434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Oval 169"/>
                <p:cNvSpPr/>
                <p:nvPr/>
              </p:nvSpPr>
              <p:spPr>
                <a:xfrm>
                  <a:off x="1933560" y="395280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2c6c"/>
                    </a:gs>
                    <a:gs pos="50000">
                      <a:srgbClr val="8a52c8"/>
                    </a:gs>
                    <a:gs pos="100000">
                      <a:srgbClr val="4b2c6c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Oval 170"/>
                <p:cNvSpPr/>
                <p:nvPr/>
              </p:nvSpPr>
              <p:spPr>
                <a:xfrm>
                  <a:off x="1943280" y="398160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347f"/>
                    </a:gs>
                    <a:gs pos="100000">
                      <a:srgbClr val="8a52c8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Oval 171"/>
                <p:cNvSpPr/>
                <p:nvPr/>
              </p:nvSpPr>
              <p:spPr>
                <a:xfrm>
                  <a:off x="1962360" y="400032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Oval 172"/>
                <p:cNvSpPr/>
                <p:nvPr/>
              </p:nvSpPr>
              <p:spPr>
                <a:xfrm>
                  <a:off x="1981440" y="401796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Oval 173"/>
                <p:cNvSpPr/>
                <p:nvPr/>
              </p:nvSpPr>
              <p:spPr>
                <a:xfrm>
                  <a:off x="1987560" y="402120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Oval 174"/>
                <p:cNvSpPr/>
                <p:nvPr/>
              </p:nvSpPr>
              <p:spPr>
                <a:xfrm>
                  <a:off x="1992600" y="402444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Oval 175"/>
                <p:cNvSpPr/>
                <p:nvPr/>
              </p:nvSpPr>
              <p:spPr>
                <a:xfrm>
                  <a:off x="2016360" y="403704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Text Box 176"/>
              <p:cNvSpPr/>
              <p:nvPr/>
            </p:nvSpPr>
            <p:spPr>
              <a:xfrm>
                <a:off x="2030400" y="4019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83b7e7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83b7e7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83b7e7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83b7e7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643" name="Group 3"/>
          <p:cNvGrpSpPr/>
          <p:nvPr/>
        </p:nvGrpSpPr>
        <p:grpSpPr>
          <a:xfrm>
            <a:off x="1752480" y="1809720"/>
            <a:ext cx="5562720" cy="1306440"/>
            <a:chOff x="1752480" y="1809720"/>
            <a:chExt cx="5562720" cy="1306440"/>
          </a:xfrm>
        </p:grpSpPr>
        <p:sp>
          <p:nvSpPr>
            <p:cNvPr id="644" name="AutoShape 4"/>
            <p:cNvSpPr/>
            <p:nvPr/>
          </p:nvSpPr>
          <p:spPr>
            <a:xfrm>
              <a:off x="1752480" y="18097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AutoShape 5"/>
            <p:cNvSpPr/>
            <p:nvPr/>
          </p:nvSpPr>
          <p:spPr>
            <a:xfrm>
              <a:off x="1874880" y="19303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6" name="Freeform 6"/>
            <p:cNvGrpSpPr/>
            <p:nvPr/>
          </p:nvGrpSpPr>
          <p:grpSpPr>
            <a:xfrm>
              <a:off x="1938240" y="2000160"/>
              <a:ext cx="530280" cy="530280"/>
              <a:chOff x="1938240" y="2000160"/>
              <a:chExt cx="530280" cy="530280"/>
            </a:xfrm>
          </p:grpSpPr>
          <p:pic>
            <p:nvPicPr>
              <p:cNvPr id="647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00880"/>
                <a:ext cx="523080" cy="52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1941120" y="2000160"/>
                <a:ext cx="52740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9" name="Text Box 7"/>
            <p:cNvSpPr/>
            <p:nvPr/>
          </p:nvSpPr>
          <p:spPr>
            <a:xfrm>
              <a:off x="1972080" y="22222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Text Box 8"/>
            <p:cNvSpPr/>
            <p:nvPr/>
          </p:nvSpPr>
          <p:spPr>
            <a:xfrm>
              <a:off x="3092400" y="2011320"/>
              <a:ext cx="4089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9"/>
          <p:cNvGrpSpPr/>
          <p:nvPr/>
        </p:nvGrpSpPr>
        <p:grpSpPr>
          <a:xfrm>
            <a:off x="1752480" y="3252960"/>
            <a:ext cx="5562720" cy="1306440"/>
            <a:chOff x="1752480" y="3252960"/>
            <a:chExt cx="5562720" cy="1306440"/>
          </a:xfrm>
        </p:grpSpPr>
        <p:sp>
          <p:nvSpPr>
            <p:cNvPr id="652" name="AutoShape 10"/>
            <p:cNvSpPr/>
            <p:nvPr/>
          </p:nvSpPr>
          <p:spPr>
            <a:xfrm>
              <a:off x="1752480" y="325296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utoShape 11"/>
            <p:cNvSpPr/>
            <p:nvPr/>
          </p:nvSpPr>
          <p:spPr>
            <a:xfrm>
              <a:off x="1874880" y="337356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2"/>
            <p:cNvSpPr/>
            <p:nvPr/>
          </p:nvSpPr>
          <p:spPr>
            <a:xfrm>
              <a:off x="1941480" y="344196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13"/>
            <p:cNvSpPr/>
            <p:nvPr/>
          </p:nvSpPr>
          <p:spPr>
            <a:xfrm>
              <a:off x="1972080" y="36673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6" name="Group 15"/>
          <p:cNvGrpSpPr/>
          <p:nvPr/>
        </p:nvGrpSpPr>
        <p:grpSpPr>
          <a:xfrm>
            <a:off x="1752480" y="4713120"/>
            <a:ext cx="5562720" cy="1306440"/>
            <a:chOff x="1752480" y="4713120"/>
            <a:chExt cx="5562720" cy="1306440"/>
          </a:xfrm>
        </p:grpSpPr>
        <p:sp>
          <p:nvSpPr>
            <p:cNvPr id="657" name="AutoShape 16"/>
            <p:cNvSpPr/>
            <p:nvPr/>
          </p:nvSpPr>
          <p:spPr>
            <a:xfrm>
              <a:off x="1752480" y="4713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AutoShape 17"/>
            <p:cNvSpPr/>
            <p:nvPr/>
          </p:nvSpPr>
          <p:spPr>
            <a:xfrm>
              <a:off x="1874880" y="4833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18"/>
            <p:cNvSpPr/>
            <p:nvPr/>
          </p:nvSpPr>
          <p:spPr>
            <a:xfrm>
              <a:off x="1941480" y="4902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Text Box 19"/>
            <p:cNvSpPr/>
            <p:nvPr/>
          </p:nvSpPr>
          <p:spPr>
            <a:xfrm>
              <a:off x="1972080" y="5126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662" name="Group 3"/>
          <p:cNvGrpSpPr/>
          <p:nvPr/>
        </p:nvGrpSpPr>
        <p:grpSpPr>
          <a:xfrm>
            <a:off x="838080" y="1676520"/>
            <a:ext cx="7383960" cy="4421160"/>
            <a:chOff x="838080" y="1676520"/>
            <a:chExt cx="7383960" cy="4421160"/>
          </a:xfrm>
        </p:grpSpPr>
        <p:grpSp>
          <p:nvGrpSpPr>
            <p:cNvPr id="663" name="Group 4"/>
            <p:cNvGrpSpPr/>
            <p:nvPr/>
          </p:nvGrpSpPr>
          <p:grpSpPr>
            <a:xfrm>
              <a:off x="2362320" y="1676520"/>
              <a:ext cx="4419000" cy="4376160"/>
              <a:chOff x="2362320" y="1676520"/>
              <a:chExt cx="4419000" cy="4376160"/>
            </a:xfrm>
          </p:grpSpPr>
          <p:sp>
            <p:nvSpPr>
              <p:cNvPr id="664" name="Puzzle3"/>
              <p:cNvSpPr/>
              <p:nvPr/>
            </p:nvSpPr>
            <p:spPr>
              <a:xfrm>
                <a:off x="4514400" y="167652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Puzzle2"/>
              <p:cNvSpPr/>
              <p:nvPr/>
            </p:nvSpPr>
            <p:spPr>
              <a:xfrm>
                <a:off x="4008960" y="337068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Puzzle4"/>
              <p:cNvSpPr/>
              <p:nvPr/>
            </p:nvSpPr>
            <p:spPr>
              <a:xfrm>
                <a:off x="2937960" y="334440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Puzzle1"/>
              <p:cNvSpPr/>
              <p:nvPr/>
            </p:nvSpPr>
            <p:spPr>
              <a:xfrm>
                <a:off x="2362320" y="237996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8739"/>
                  </a:gs>
                  <a:gs pos="100000">
                    <a:srgbClr val="663e1a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8" name="Text Box 9"/>
            <p:cNvSpPr/>
            <p:nvPr/>
          </p:nvSpPr>
          <p:spPr>
            <a:xfrm>
              <a:off x="6477840" y="40528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0"/>
            <p:cNvSpPr/>
            <p:nvPr/>
          </p:nvSpPr>
          <p:spPr>
            <a:xfrm>
              <a:off x="838080" y="34434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Text Box 11"/>
            <p:cNvSpPr/>
            <p:nvPr/>
          </p:nvSpPr>
          <p:spPr>
            <a:xfrm>
              <a:off x="2590920" y="17524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Text Box 12"/>
            <p:cNvSpPr/>
            <p:nvPr/>
          </p:nvSpPr>
          <p:spPr>
            <a:xfrm>
              <a:off x="4267080" y="57294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67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67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67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68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69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695" name="Group 33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696" name="AutoShape 3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3b7e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AutoShape 4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3b7e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AutoShape 5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83b7e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utoShape 6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83b7e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AutoShape 7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3b7e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AutoShape 8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83b7e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9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Text Box 10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12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Text Box 13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16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17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Oval 19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22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23"/>
            <p:cNvSpPr/>
            <p:nvPr/>
          </p:nvSpPr>
          <p:spPr>
            <a:xfrm>
              <a:off x="354960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a52c8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24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Oval 25"/>
            <p:cNvSpPr/>
            <p:nvPr/>
          </p:nvSpPr>
          <p:spPr>
            <a:xfrm>
              <a:off x="365292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8347f"/>
                </a:gs>
                <a:gs pos="100000">
                  <a:srgbClr val="8a52c8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26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0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721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Oval 29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5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7:12:02Z</dcterms:created>
  <dc:creator>keke</dc:creator>
  <dc:description/>
  <dc:language>en-US</dc:language>
  <cp:lastModifiedBy>a</cp:lastModifiedBy>
  <dcterms:modified xsi:type="dcterms:W3CDTF">2015-02-10T11:28:09Z</dcterms:modified>
  <cp:revision>3</cp:revision>
  <dc:subject/>
  <dc:title>站长素材 SC.CHINAZ.COM</dc:title>
</cp:coreProperties>
</file>