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wmf" ContentType="image/x-wmf"/>
  <Override PartName="/ppt/media/image13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1F0-9AF4-4B1B-B7D6-994D6AA8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6233-950B-4860-9893-8067A2E6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31B53-E104-498D-A9D5-5DBCA02D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14368-CD8F-459C-B36F-0862351A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0B542-A493-420E-81B8-FA367DFF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95DF5-8FE3-46D1-B43A-2407D0AD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565AE-DFF6-466B-8B7D-3954C287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88A96-C755-4951-9111-0AFBC7E0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F0638-EF42-48EC-989D-27030978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808C3-8F96-4732-BC97-C6183D6C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1113B-6D37-4A65-97C7-67B3BD6A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90B8D-2DAE-4C7C-97E2-C28E8742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F08-9B05-4AFD-8D15-6FAF2070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55150-6E5B-4D28-9ECE-28108618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3EB4B-C53C-4D5D-84F1-A62904EA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F1DC9-8B60-4EA8-A765-050AF2F3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816A9-3D2E-4D5E-B174-C4439FA5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76C77-4640-4F50-80F0-16C48A5F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BA3BB-0E3F-48DA-A035-CE62819B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A9054-EA6F-42FE-A99B-00D276F5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2090C-4795-4D37-90A8-B338E6BC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85AEB-2E29-425E-8ADB-162AA525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34989-F279-4B7A-8DD9-5E5CA10B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65B7-121F-4947-821E-8927EC89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2EBB8-B9B3-4079-91B3-CD273B84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CE5B0-DE0F-4B50-8574-5FEBB3C2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1D5B6-05F6-4825-99E4-E9896AD2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D584C-BF67-4190-A219-1948E0EA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4F367-360C-463A-8603-1396050C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6557F-AB84-4165-BA5D-FF2505A1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A4803-3498-47B7-BF7F-D304E8B9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253F5-11F2-49AF-A920-54E8C422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A749A-4F39-455C-AA23-85773370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F5E49-56F8-4CE9-90FE-7D32425C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B361-132B-4B6F-ACD7-86E95D26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2E92A-BC87-444E-80F7-10815823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996C7-5AC5-45C0-AD33-A163AFA3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81082-2A3D-47D5-A17D-F4B34DA0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06F37-2827-49B3-AA18-17889295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8EAF3-347F-418B-912B-2BA37D9B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317FE-3946-429B-B70F-4DDCD997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A4202-28B4-4E51-8575-857CF30C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B709A-4118-410B-A670-98DD1918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CC663-5A30-46EB-A59D-0B746EE6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B18EF-40EB-418B-A7EC-09780ED0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8D47-9FC9-46A5-A161-4F1AD9CE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DCC0C-60FD-456A-82C7-0F84D328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A4A3D-9B6E-40F6-88BA-92627C95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5A3A4-1611-4D7A-8BD0-4C831825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3D71C-2439-49FB-BEFB-1B25BDA8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2450D-A10A-4C7D-BD35-0B355A26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FCC152-5578-4CA2-8ABF-5A55F3AB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3B30D0-E56F-4825-9528-59B55064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72695-EFA1-41AE-898C-E1181F17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FD3690-AEF6-4108-88D3-FB47E7F1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842C8-ACA9-4AF4-8938-159AF013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23F8-26CD-4FB9-9D0C-E76FEF43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9D41D3-C834-4A73-8B84-8B0F6108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B9521-C2E5-4958-A986-7B741B21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75D89-174F-474C-8370-C2790D8D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B6043-D05E-41FA-8DBD-28F965A4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CBB0C-8F0C-4CC9-A665-06B513C2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7B7DD-9EE6-407B-A8C5-B52138F1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81485-EC55-4EB5-9C88-ACD03104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EB505A-EBC8-451C-B7C4-E69F9E7E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53A53D-8D20-4F97-B4E7-898EF29F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CCF4E-8E86-47DD-88E7-B1ABBD3C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A80E-9DA0-4829-A719-6A1429F0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C66846-B611-4C8B-ABA7-3D12E554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9C27C-72AB-4E0C-8F68-EDB6EC19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6A8732-A075-450C-A4F1-BAE112E6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268FEF-CA23-4BD4-894D-8DAFF999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37CC8-2D19-459D-AD60-921BCA73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16AC0B-303D-41F1-A804-916E8F03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62EEE6-717D-4DD0-8A7C-5FC09E9F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B9C65-85BB-45C5-A82B-EA45AA1F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42CA6E-9212-4995-8020-B83694CC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8F88-483F-407D-8DA5-3122C110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F554-1D30-4022-B6F8-E936DDDA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93D5-A0E9-4039-9535-A4F42B9A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1100-8A0B-48F6-8FA9-D6A8A096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20FB-3B5E-470D-9BDE-882C375E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F7F3-472D-4E3F-9173-A50ABE39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F22C-BF9F-4FD7-A4AB-4465E311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0F53-F550-45CA-BB6F-FEE64F27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50B2-576E-4088-9A71-16A90753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9F671-1463-40D9-9C23-D316F51F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0936E-6A40-4CD0-A782-811D98B8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83979-7BD6-491A-B34C-3694B1DD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65F5A-538A-4422-9A5F-AE8430C9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5ED02-FE1C-4FE9-9F7A-31A75F57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E96-F1A4-4939-9098-B2146BE6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DBDEA-1EB2-4D0F-A1D3-2B7E15E8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A3132-C1FE-472C-A1CC-A07A89B9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717C0-988D-439F-AF56-A4C9B5E3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94FDF-5989-471D-84FD-74D3C33D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A7399-6CB7-48FF-9EEA-565BE3B0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7A938-09D4-4BD8-84CF-66CD419D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744AD-5217-4910-ABD8-5E7440C1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68B87-ACEB-4E9E-8881-4F437344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F1B12-DE6A-45A0-84F7-D5559733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545E1-BBD9-43E4-B7E2-628F1767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EC6-DAB9-422A-A614-52058CB2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99D71-A26F-4C43-9DAC-36073E7B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93C5B-1F18-43B6-A6D8-4ACD627D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78DE6-736E-4AC3-8C1E-C206FC95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7FB4D-E32D-4F47-8B41-2CABA390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4EC20-0C0C-4FDD-8242-2BB9879F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FDE48-134E-4BCE-A836-E1D522A9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2570D-9CEF-400E-ACCB-8695A8A7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48816-F164-4A2D-9438-3C0A4E36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3AC37-B4C6-4E03-AFA0-0D51907C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0BD84-A694-4A4A-A36A-5654AD6B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DA6-24DE-4643-AC1D-349183F5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7D135-F566-4AA7-BE66-08BA6350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D0407-4A1B-4999-8F5A-D012CD71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F3830-4EFA-49FD-940A-6A59EB1B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82F4A-E364-4FAF-BB4B-E89A81A2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66BBB-2A07-4F30-BF62-52C40F35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EBB3C-2D46-4E03-BF3F-ACC1F00F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E5037-18FB-4007-AC6B-B46083E2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DF773-A8B4-47B7-B7F4-39BE71E7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4D217-A071-4A9F-A18D-F88FD0E1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519C6-A051-4E8F-9378-BD7C809B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6C6-9B83-42FB-860B-86953DA9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D7BF9-4C85-489B-B50E-3575B2E4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E87D7-334F-46A6-8D5F-DED2A5F3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4A817-9A0F-46B1-990A-46396348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708B9-55C0-46DE-AA10-7A14AA3C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BB1B7-9690-4772-80FC-5F83393D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3248D-079D-4FE9-9A34-C9239206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858F0-7233-497B-B13C-31E807FA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D04E1-87EE-4060-8BDE-A2DF9AC2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EE401-E7F6-4C36-808C-7E68E2CC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40E58-C84B-4498-92D3-8E6D171C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CDC-13F4-4228-9A8C-A695B7F6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6739B-FA89-494B-8BBB-59C989F0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7B1A5-B462-470A-9648-BFDBA0C3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4AE52-A26C-4130-BC00-7F8E21EC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9783F-2339-4BBB-A013-6F240098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DDD9E-7800-41AA-ACD8-AA8FDAFE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7D7AF-83F5-4E0F-B70D-BA46EEDE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8AA20-C3F8-455E-A443-43CFDBE1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3EA6D-EAC1-4493-8306-D5EF5D4E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366BC-F26B-4658-AA1D-5C3B0410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E7A8A-E41C-47E0-A305-C3F86DD7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C604-AA40-4A09-8C13-98D6EC2E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4B2C2-C82C-4875-B38F-EAFFC130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54596-CE1D-4304-92FA-E61A6582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BA195-F76B-47F6-ADD0-8180EAF2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3675E-1CAC-4776-8D01-A8924C34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A1882-46F7-4EB2-92BF-E8568F1B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FC1C8-0431-4479-8190-B8F659DE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8F369-B8D6-4C5C-AA09-69B63AC6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5F92E-7816-4438-99D3-5342951A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F33D6-9116-4B87-8052-AC5CA275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245E1-1B46-41C4-AB2E-C13C002D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007-F355-4299-8DF6-38AE0DAD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B33BC-AC74-4557-BB2E-CEA477E4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34383-F9E7-4B57-A60A-095D5C87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A8A8C-C362-40DA-8478-C2802FF0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68E14-0E2E-432F-A0EE-05A9E7E4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24946-1DDB-4A92-89CC-DFB8A798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485D5-10E1-4AC7-958A-FB8A6730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9B9DD-841B-457F-B0DF-83FB5A54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42C53-35C7-47B8-9EA1-1D3FFA50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CA74B-6EF4-44F7-A91C-A3FB657E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9FF15-A0B2-4299-B5FD-0E4D0A17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写实模板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2A79-36B6-48E7-8D2C-B4F4ACEAA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26B1-B49C-44CC-A386-66B0E5B25D7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5D63-7A22-4205-AB8B-BDAF6F47C6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AFD0-506C-4DCC-A765-AA4F78D7E9D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CE85-4287-4A62-B71E-04660395BB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9575-5111-4E14-87A1-D59DBF2B89B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50F1-28BE-4564-8067-0CAFCA9D05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18CB-7CEB-4E01-A2E2-E0832B76E6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80A4-608F-4F36-B9CD-8B08BFE306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9A61-0B5D-42AD-AC34-2BC3B76B87F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9664-C236-49F6-AFFA-9D83605FBD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C018-E8A3-433F-BAD0-3E9C6D4139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A639-4798-4FFD-AA52-BC1C5A49F6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网站首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D862-21EB-4EFD-8EBE-CD5F696BE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4C7D-32B9-4866-B528-D0F5BE36CF9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9CE4-DB16-4AF6-B51C-D547599196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B751-11F3-4EC3-9894-C7DED14D04C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F239-5B3E-43F7-B568-9D90A3CB48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34C5-B247-40AC-9A46-E69FFAA9F4E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D872-076A-41E4-8666-F910DA8BE1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0D60-F08E-4C4C-90DE-FB6B13AA68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7864-7FDE-4DF8-AD05-E4DDEA1CC3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BDED-4FBC-49CC-9FA4-290E6BE4EE5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1605-CB06-4992-92F0-FE3DA7ADA1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47AC-FB80-4530-AC37-5F1C9ACEE77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1A30-DBF5-43A5-A51A-81BED0B1E3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9.wmf"/><Relationship Id="rId9" Type="http://schemas.openxmlformats.org/officeDocument/2006/relationships/image" Target="../media/image10.jpe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8" descr="large_6991e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13"/>
          <p:cNvGrpSpPr/>
          <p:nvPr/>
        </p:nvGrpSpPr>
        <p:grpSpPr>
          <a:xfrm>
            <a:off x="1905120" y="990720"/>
            <a:ext cx="5715000" cy="748800"/>
            <a:chOff x="1905120" y="990720"/>
            <a:chExt cx="5715000" cy="748800"/>
          </a:xfrm>
        </p:grpSpPr>
        <p:sp>
          <p:nvSpPr>
            <p:cNvPr id="578" name="Text Box 11"/>
            <p:cNvSpPr/>
            <p:nvPr/>
          </p:nvSpPr>
          <p:spPr>
            <a:xfrm>
              <a:off x="1905120" y="990720"/>
              <a:ext cx="1600200" cy="3682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准备好了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2"/>
            <p:cNvSpPr/>
            <p:nvPr/>
          </p:nvSpPr>
          <p:spPr>
            <a:xfrm>
              <a:off x="3505320" y="1371240"/>
              <a:ext cx="411480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即将为您开启海航旅业大客户服务之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54"/>
          <p:cNvGrpSpPr/>
          <p:nvPr/>
        </p:nvGrpSpPr>
        <p:grpSpPr>
          <a:xfrm>
            <a:off x="1734120" y="957600"/>
            <a:ext cx="5756400" cy="5399280"/>
            <a:chOff x="1734120" y="957600"/>
            <a:chExt cx="5756400" cy="5399280"/>
          </a:xfrm>
        </p:grpSpPr>
        <p:sp>
          <p:nvSpPr>
            <p:cNvPr id="639" name="Freeform 53"/>
            <p:cNvSpPr/>
            <p:nvPr/>
          </p:nvSpPr>
          <p:spPr>
            <a:xfrm rot="20805000">
              <a:off x="4781160" y="2822040"/>
              <a:ext cx="1194480" cy="3443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516ae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1"/>
            <p:cNvSpPr/>
            <p:nvPr/>
          </p:nvSpPr>
          <p:spPr>
            <a:xfrm rot="14128200">
              <a:off x="4939200" y="703800"/>
              <a:ext cx="1194840" cy="344340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43010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2"/>
            <p:cNvSpPr/>
            <p:nvPr/>
          </p:nvSpPr>
          <p:spPr>
            <a:xfrm rot="14922600">
              <a:off x="5072040" y="902160"/>
              <a:ext cx="1194840" cy="344340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6cd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"/>
            <p:cNvSpPr/>
            <p:nvPr/>
          </p:nvSpPr>
          <p:spPr>
            <a:xfrm rot="5461200">
              <a:off x="2952720" y="2291040"/>
              <a:ext cx="1194480" cy="344340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4992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4"/>
            <p:cNvSpPr/>
            <p:nvPr/>
          </p:nvSpPr>
          <p:spPr>
            <a:xfrm>
              <a:off x="4575600" y="2888280"/>
              <a:ext cx="1194480" cy="3443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5ddf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5"/>
            <p:cNvSpPr/>
            <p:nvPr/>
          </p:nvSpPr>
          <p:spPr>
            <a:xfrm rot="6256200">
              <a:off x="2952360" y="2094840"/>
              <a:ext cx="1194840" cy="344340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2eae8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5" name="Group 46"/>
            <p:cNvGrpSpPr/>
            <p:nvPr/>
          </p:nvGrpSpPr>
          <p:grpSpPr>
            <a:xfrm>
              <a:off x="3960000" y="2859120"/>
              <a:ext cx="1390680" cy="1390680"/>
              <a:chOff x="3960000" y="2859120"/>
              <a:chExt cx="1390680" cy="1390680"/>
            </a:xfrm>
          </p:grpSpPr>
          <p:sp>
            <p:nvSpPr>
              <p:cNvPr id="646" name="Oval 47"/>
              <p:cNvSpPr/>
              <p:nvPr/>
            </p:nvSpPr>
            <p:spPr>
              <a:xfrm>
                <a:off x="3960000" y="2859120"/>
                <a:ext cx="1390680" cy="139068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6e1e1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8"/>
              <p:cNvSpPr/>
              <p:nvPr/>
            </p:nvSpPr>
            <p:spPr>
              <a:xfrm>
                <a:off x="4118760" y="2882160"/>
                <a:ext cx="1072800" cy="524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1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Text Box 49"/>
            <p:cNvSpPr/>
            <p:nvPr/>
          </p:nvSpPr>
          <p:spPr>
            <a:xfrm>
              <a:off x="4259160" y="3285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海航旅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50"/>
            <p:cNvSpPr/>
            <p:nvPr/>
          </p:nvSpPr>
          <p:spPr>
            <a:xfrm>
              <a:off x="2748960" y="30430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航空旅游专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51"/>
            <p:cNvSpPr/>
            <p:nvPr/>
          </p:nvSpPr>
          <p:spPr>
            <a:xfrm>
              <a:off x="5746320" y="21834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定制旅游专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52"/>
            <p:cNvSpPr/>
            <p:nvPr/>
          </p:nvSpPr>
          <p:spPr>
            <a:xfrm>
              <a:off x="2958120" y="489744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顶级旅游产品设计者及供应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310348130_314998afc7"/>
          <p:cNvPicPr/>
          <p:nvPr/>
        </p:nvPicPr>
        <p:blipFill>
          <a:blip r:embed="rId1"/>
          <a:stretch/>
        </p:blipFill>
        <p:spPr>
          <a:xfrm>
            <a:off x="2133720" y="1828800"/>
            <a:ext cx="4998960" cy="386568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5"/>
          <p:cNvSpPr/>
          <p:nvPr/>
        </p:nvSpPr>
        <p:spPr>
          <a:xfrm>
            <a:off x="3048120" y="281952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核心优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较为完善的旅游产业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533520" y="1523880"/>
            <a:ext cx="3276360" cy="368280"/>
          </a:xfrm>
          <a:prstGeom prst="rect">
            <a:avLst/>
          </a:prstGeom>
          <a:solidFill>
            <a:srgbClr val="666699"/>
          </a:solidFill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中国只此一家，我们更懂旅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533520" y="1905120"/>
            <a:ext cx="4724280" cy="368280"/>
          </a:xfrm>
          <a:prstGeom prst="rect">
            <a:avLst/>
          </a:pr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我们具备较为完善的旅游产业链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全面覆盖旅游“食宿行游购娱”六大要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 28"/>
          <p:cNvGrpSpPr/>
          <p:nvPr/>
        </p:nvGrpSpPr>
        <p:grpSpPr>
          <a:xfrm>
            <a:off x="3951360" y="1752480"/>
            <a:ext cx="4731840" cy="4800600"/>
            <a:chOff x="3951360" y="1752480"/>
            <a:chExt cx="4731840" cy="4800600"/>
          </a:xfrm>
        </p:grpSpPr>
        <p:sp>
          <p:nvSpPr>
            <p:cNvPr id="657" name="Freeform 9"/>
            <p:cNvSpPr/>
            <p:nvPr/>
          </p:nvSpPr>
          <p:spPr>
            <a:xfrm>
              <a:off x="5581440" y="4221000"/>
              <a:ext cx="1382760" cy="233208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faacc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"/>
            <p:cNvSpPr/>
            <p:nvPr/>
          </p:nvSpPr>
          <p:spPr>
            <a:xfrm rot="574800">
              <a:off x="4044600" y="2857680"/>
              <a:ext cx="2517840" cy="13334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aae5fa"/>
                </a:gs>
              </a:gsLst>
              <a:lin ang="21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 rot="21118800">
              <a:off x="4038480" y="4152600"/>
              <a:ext cx="2533680" cy="133488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e9cae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15"/>
            <p:cNvSpPr/>
            <p:nvPr/>
          </p:nvSpPr>
          <p:spPr>
            <a:xfrm>
              <a:off x="4599720" y="3063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航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18"/>
            <p:cNvSpPr/>
            <p:nvPr/>
          </p:nvSpPr>
          <p:spPr>
            <a:xfrm>
              <a:off x="4601160" y="4862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传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"/>
            <p:cNvSpPr/>
            <p:nvPr/>
          </p:nvSpPr>
          <p:spPr>
            <a:xfrm>
              <a:off x="5563800" y="1752480"/>
              <a:ext cx="1451160" cy="241164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0"/>
            <p:cNvSpPr/>
            <p:nvPr/>
          </p:nvSpPr>
          <p:spPr>
            <a:xfrm rot="521400">
              <a:off x="6041520" y="4230360"/>
              <a:ext cx="2419200" cy="12463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d4be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1"/>
            <p:cNvSpPr/>
            <p:nvPr/>
          </p:nvSpPr>
          <p:spPr>
            <a:xfrm rot="21130800">
              <a:off x="6117840" y="2927160"/>
              <a:ext cx="2487600" cy="1314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eeaa"/>
                </a:gs>
                <a:gs pos="100000">
                  <a:srgbClr val="ffcc00"/>
                </a:gs>
              </a:gsLst>
              <a:lin ang="193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Group 12"/>
            <p:cNvGrpSpPr/>
            <p:nvPr/>
          </p:nvGrpSpPr>
          <p:grpSpPr>
            <a:xfrm>
              <a:off x="5609880" y="3392640"/>
              <a:ext cx="1319400" cy="1309680"/>
              <a:chOff x="5609880" y="3392640"/>
              <a:chExt cx="1319400" cy="1309680"/>
            </a:xfrm>
          </p:grpSpPr>
          <p:sp>
            <p:nvSpPr>
              <p:cNvPr id="666" name="Oval 13"/>
              <p:cNvSpPr/>
              <p:nvPr/>
            </p:nvSpPr>
            <p:spPr>
              <a:xfrm>
                <a:off x="5609880" y="3392640"/>
                <a:ext cx="1319400" cy="130968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c0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91658" dir="338234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4"/>
              <p:cNvSpPr/>
              <p:nvPr/>
            </p:nvSpPr>
            <p:spPr>
              <a:xfrm>
                <a:off x="5760720" y="3414240"/>
                <a:ext cx="1017720" cy="494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00">
                      <a:alpha val="1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Text Box 16"/>
            <p:cNvSpPr/>
            <p:nvPr/>
          </p:nvSpPr>
          <p:spPr>
            <a:xfrm>
              <a:off x="6050880" y="2305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旅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17"/>
            <p:cNvSpPr/>
            <p:nvPr/>
          </p:nvSpPr>
          <p:spPr>
            <a:xfrm>
              <a:off x="7435080" y="3063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酒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19"/>
            <p:cNvSpPr/>
            <p:nvPr/>
          </p:nvSpPr>
          <p:spPr>
            <a:xfrm>
              <a:off x="7435080" y="4862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租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20"/>
            <p:cNvSpPr/>
            <p:nvPr/>
          </p:nvSpPr>
          <p:spPr>
            <a:xfrm>
              <a:off x="5982480" y="56228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景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21"/>
            <p:cNvSpPr/>
            <p:nvPr/>
          </p:nvSpPr>
          <p:spPr>
            <a:xfrm>
              <a:off x="5714640" y="37339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海航旅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4" descr="310348130_314998afc7"/>
          <p:cNvPicPr/>
          <p:nvPr/>
        </p:nvPicPr>
        <p:blipFill>
          <a:blip r:embed="rId1"/>
          <a:stretch/>
        </p:blipFill>
        <p:spPr>
          <a:xfrm>
            <a:off x="2133720" y="1828800"/>
            <a:ext cx="4998960" cy="386568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7"/>
          <p:cNvSpPr/>
          <p:nvPr/>
        </p:nvSpPr>
        <p:spPr>
          <a:xfrm>
            <a:off x="3048120" y="281952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核心优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航空旅游定制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4"/>
          <p:cNvSpPr/>
          <p:nvPr/>
        </p:nvSpPr>
        <p:spPr>
          <a:xfrm>
            <a:off x="1752480" y="1447920"/>
            <a:ext cx="426744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长距离旅行专家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·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提供完整旅行解决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21"/>
          <p:cNvGrpSpPr/>
          <p:nvPr/>
        </p:nvGrpSpPr>
        <p:grpSpPr>
          <a:xfrm>
            <a:off x="1752480" y="2133720"/>
            <a:ext cx="7086600" cy="965160"/>
            <a:chOff x="1752480" y="2133720"/>
            <a:chExt cx="7086600" cy="965160"/>
          </a:xfrm>
        </p:grpSpPr>
        <p:sp>
          <p:nvSpPr>
            <p:cNvPr id="677" name="Rectangle 6"/>
            <p:cNvSpPr/>
            <p:nvPr/>
          </p:nvSpPr>
          <p:spPr>
            <a:xfrm>
              <a:off x="1752480" y="2730600"/>
              <a:ext cx="708660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大新华航空、海南航空、香港航空、山西航空、陕西长安航空、天津航空、云南祥鹏航空、重庆西部航空、金鹿航空、金鹿公务航空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7"/>
            <p:cNvSpPr/>
            <p:nvPr/>
          </p:nvSpPr>
          <p:spPr>
            <a:xfrm>
              <a:off x="1752480" y="2133720"/>
              <a:ext cx="89496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航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22"/>
          <p:cNvGrpSpPr/>
          <p:nvPr/>
        </p:nvGrpSpPr>
        <p:grpSpPr>
          <a:xfrm>
            <a:off x="1752480" y="3657600"/>
            <a:ext cx="7086600" cy="827640"/>
            <a:chOff x="1752480" y="3657600"/>
            <a:chExt cx="7086600" cy="827640"/>
          </a:xfrm>
        </p:grpSpPr>
        <p:sp>
          <p:nvSpPr>
            <p:cNvPr id="680" name="Text Box 8"/>
            <p:cNvSpPr/>
            <p:nvPr/>
          </p:nvSpPr>
          <p:spPr>
            <a:xfrm>
              <a:off x="1752480" y="3657600"/>
              <a:ext cx="89496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酒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9"/>
            <p:cNvSpPr/>
            <p:nvPr/>
          </p:nvSpPr>
          <p:spPr>
            <a:xfrm>
              <a:off x="1752480" y="4116960"/>
              <a:ext cx="708660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海航酒店集团、吉林省旅游集团旗下各酒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33"/>
          <p:cNvGrpSpPr/>
          <p:nvPr/>
        </p:nvGrpSpPr>
        <p:grpSpPr>
          <a:xfrm>
            <a:off x="1752480" y="4952880"/>
            <a:ext cx="7086600" cy="767520"/>
            <a:chOff x="1752480" y="4952880"/>
            <a:chExt cx="7086600" cy="767520"/>
          </a:xfrm>
        </p:grpSpPr>
        <p:sp>
          <p:nvSpPr>
            <p:cNvPr id="683" name="Text Box 10"/>
            <p:cNvSpPr/>
            <p:nvPr/>
          </p:nvSpPr>
          <p:spPr>
            <a:xfrm>
              <a:off x="1752480" y="4952880"/>
              <a:ext cx="91440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旅行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1"/>
            <p:cNvSpPr/>
            <p:nvPr/>
          </p:nvSpPr>
          <p:spPr>
            <a:xfrm>
              <a:off x="1752480" y="5352120"/>
              <a:ext cx="708660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幸运国旅、吉林省旅游集团旗下各旅行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Group 24"/>
          <p:cNvGrpSpPr/>
          <p:nvPr/>
        </p:nvGrpSpPr>
        <p:grpSpPr>
          <a:xfrm>
            <a:off x="6562800" y="1571040"/>
            <a:ext cx="1836720" cy="1092240"/>
            <a:chOff x="6562800" y="1571040"/>
            <a:chExt cx="1836720" cy="1092240"/>
          </a:xfrm>
        </p:grpSpPr>
        <p:sp>
          <p:nvSpPr>
            <p:cNvPr id="686" name="Text Box 25"/>
            <p:cNvSpPr/>
            <p:nvPr/>
          </p:nvSpPr>
          <p:spPr>
            <a:xfrm rot="1404000">
              <a:off x="6566760" y="191772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200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余架飞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26"/>
            <p:cNvSpPr/>
            <p:nvPr/>
          </p:nvSpPr>
          <p:spPr>
            <a:xfrm rot="1403400">
              <a:off x="6592680" y="1901160"/>
              <a:ext cx="1624680" cy="40428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Group 34"/>
          <p:cNvGrpSpPr/>
          <p:nvPr/>
        </p:nvGrpSpPr>
        <p:grpSpPr>
          <a:xfrm>
            <a:off x="6558120" y="3319200"/>
            <a:ext cx="2187720" cy="1244160"/>
            <a:chOff x="6558120" y="3319200"/>
            <a:chExt cx="2187720" cy="1244160"/>
          </a:xfrm>
        </p:grpSpPr>
        <p:sp>
          <p:nvSpPr>
            <p:cNvPr id="689" name="Text Box 28"/>
            <p:cNvSpPr/>
            <p:nvPr/>
          </p:nvSpPr>
          <p:spPr>
            <a:xfrm rot="1404000">
              <a:off x="6546240" y="3741840"/>
              <a:ext cx="221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近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50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家星级酒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29"/>
            <p:cNvSpPr/>
            <p:nvPr/>
          </p:nvSpPr>
          <p:spPr>
            <a:xfrm rot="1403400">
              <a:off x="6575040" y="3717720"/>
              <a:ext cx="1952640" cy="4032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30"/>
          <p:cNvGrpSpPr/>
          <p:nvPr/>
        </p:nvGrpSpPr>
        <p:grpSpPr>
          <a:xfrm>
            <a:off x="6562800" y="4542840"/>
            <a:ext cx="1836720" cy="1092240"/>
            <a:chOff x="6562800" y="4542840"/>
            <a:chExt cx="1836720" cy="1092240"/>
          </a:xfrm>
        </p:grpSpPr>
        <p:sp>
          <p:nvSpPr>
            <p:cNvPr id="692" name="Text Box 31"/>
            <p:cNvSpPr/>
            <p:nvPr/>
          </p:nvSpPr>
          <p:spPr>
            <a:xfrm rot="1404000">
              <a:off x="6566760" y="488952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20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余家分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32"/>
            <p:cNvSpPr/>
            <p:nvPr/>
          </p:nvSpPr>
          <p:spPr>
            <a:xfrm rot="1403400">
              <a:off x="6592680" y="4872960"/>
              <a:ext cx="1624680" cy="40428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6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6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6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4"/>
          <p:cNvSpPr/>
          <p:nvPr/>
        </p:nvSpPr>
        <p:spPr>
          <a:xfrm>
            <a:off x="1752480" y="1447920"/>
            <a:ext cx="327672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行业翘楚</a:t>
            </a: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星光灿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Group 14"/>
          <p:cNvGrpSpPr/>
          <p:nvPr/>
        </p:nvGrpSpPr>
        <p:grpSpPr>
          <a:xfrm>
            <a:off x="1752480" y="2895480"/>
            <a:ext cx="5604840" cy="386280"/>
            <a:chOff x="1752480" y="2895480"/>
            <a:chExt cx="5604840" cy="386280"/>
          </a:xfrm>
        </p:grpSpPr>
        <p:sp>
          <p:nvSpPr>
            <p:cNvPr id="696" name="Rectangle 11"/>
            <p:cNvSpPr/>
            <p:nvPr/>
          </p:nvSpPr>
          <p:spPr>
            <a:xfrm>
              <a:off x="4142520" y="2913480"/>
              <a:ext cx="321480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亚洲第一公务机公司，占据中国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70%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市场份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12"/>
            <p:cNvSpPr/>
            <p:nvPr/>
          </p:nvSpPr>
          <p:spPr>
            <a:xfrm>
              <a:off x="1752480" y="2895480"/>
              <a:ext cx="160020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金鹿公务航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15"/>
          <p:cNvGrpSpPr/>
          <p:nvPr/>
        </p:nvGrpSpPr>
        <p:grpSpPr>
          <a:xfrm>
            <a:off x="1752480" y="3657600"/>
            <a:ext cx="3996000" cy="386280"/>
            <a:chOff x="1752480" y="3657600"/>
            <a:chExt cx="3996000" cy="386280"/>
          </a:xfrm>
        </p:grpSpPr>
        <p:sp>
          <p:nvSpPr>
            <p:cNvPr id="699" name="Rectangle 16"/>
            <p:cNvSpPr/>
            <p:nvPr/>
          </p:nvSpPr>
          <p:spPr>
            <a:xfrm>
              <a:off x="3921840" y="3675600"/>
              <a:ext cx="182664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中国最大专业旅游包机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17"/>
            <p:cNvSpPr/>
            <p:nvPr/>
          </p:nvSpPr>
          <p:spPr>
            <a:xfrm>
              <a:off x="1752480" y="3657600"/>
              <a:ext cx="160020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金鹿航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22"/>
          <p:cNvGrpSpPr/>
          <p:nvPr/>
        </p:nvGrpSpPr>
        <p:grpSpPr>
          <a:xfrm>
            <a:off x="1752480" y="4419720"/>
            <a:ext cx="5276160" cy="386280"/>
            <a:chOff x="1752480" y="4419720"/>
            <a:chExt cx="5276160" cy="386280"/>
          </a:xfrm>
        </p:grpSpPr>
        <p:sp>
          <p:nvSpPr>
            <p:cNvPr id="702" name="Rectangle 23"/>
            <p:cNvSpPr/>
            <p:nvPr/>
          </p:nvSpPr>
          <p:spPr>
            <a:xfrm>
              <a:off x="4241880" y="4437720"/>
              <a:ext cx="278676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五星金钻奖之全球最具影响力品牌酒店集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24"/>
            <p:cNvSpPr/>
            <p:nvPr/>
          </p:nvSpPr>
          <p:spPr>
            <a:xfrm>
              <a:off x="1752480" y="4419720"/>
              <a:ext cx="160020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海航酒店集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25"/>
          <p:cNvGrpSpPr/>
          <p:nvPr/>
        </p:nvGrpSpPr>
        <p:grpSpPr>
          <a:xfrm>
            <a:off x="1752480" y="5181480"/>
            <a:ext cx="5584680" cy="386280"/>
            <a:chOff x="1752480" y="5181480"/>
            <a:chExt cx="5584680" cy="386280"/>
          </a:xfrm>
        </p:grpSpPr>
        <p:sp>
          <p:nvSpPr>
            <p:cNvPr id="705" name="Rectangle 26"/>
            <p:cNvSpPr/>
            <p:nvPr/>
          </p:nvSpPr>
          <p:spPr>
            <a:xfrm>
              <a:off x="4187880" y="5199480"/>
              <a:ext cx="314928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布局全国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20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余个重点商务旅游城市，辐射全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27"/>
            <p:cNvSpPr/>
            <p:nvPr/>
          </p:nvSpPr>
          <p:spPr>
            <a:xfrm>
              <a:off x="1752480" y="5181480"/>
              <a:ext cx="160020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幸运国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29"/>
          <p:cNvGrpSpPr/>
          <p:nvPr/>
        </p:nvGrpSpPr>
        <p:grpSpPr>
          <a:xfrm>
            <a:off x="1752480" y="2133720"/>
            <a:ext cx="5444640" cy="386280"/>
            <a:chOff x="1752480" y="2133720"/>
            <a:chExt cx="5444640" cy="386280"/>
          </a:xfrm>
        </p:grpSpPr>
        <p:sp>
          <p:nvSpPr>
            <p:cNvPr id="708" name="Rectangle 30"/>
            <p:cNvSpPr/>
            <p:nvPr/>
          </p:nvSpPr>
          <p:spPr>
            <a:xfrm>
              <a:off x="3724560" y="2151720"/>
              <a:ext cx="347256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Skytrax /GT awards-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中国最佳航空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31"/>
            <p:cNvSpPr/>
            <p:nvPr/>
          </p:nvSpPr>
          <p:spPr>
            <a:xfrm>
              <a:off x="1752480" y="2133720"/>
              <a:ext cx="160020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海南航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Rectangle 32"/>
          <p:cNvSpPr/>
          <p:nvPr/>
        </p:nvSpPr>
        <p:spPr>
          <a:xfrm>
            <a:off x="2897280" y="571428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…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Group 10"/>
          <p:cNvGrpSpPr/>
          <p:nvPr/>
        </p:nvGrpSpPr>
        <p:grpSpPr>
          <a:xfrm>
            <a:off x="1143000" y="1600200"/>
            <a:ext cx="6934320" cy="1328040"/>
            <a:chOff x="1143000" y="1600200"/>
            <a:chExt cx="6934320" cy="1328040"/>
          </a:xfrm>
        </p:grpSpPr>
        <p:sp>
          <p:nvSpPr>
            <p:cNvPr id="712" name="Text Box 5"/>
            <p:cNvSpPr/>
            <p:nvPr/>
          </p:nvSpPr>
          <p:spPr>
            <a:xfrm>
              <a:off x="1143000" y="2285640"/>
              <a:ext cx="693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12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10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日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CCTV           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以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《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民航与旅游相融合 两大产业实现共赢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》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为题对海航旅业集团“航旅结合” 模式进行特别报道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3" name="Picture 8" descr="%e6%96%b0%e9%97%bb%e8%81%94%e6%92%ad"/>
            <p:cNvPicPr/>
            <p:nvPr/>
          </p:nvPicPr>
          <p:blipFill>
            <a:blip r:embed="rId1"/>
            <a:stretch/>
          </p:blipFill>
          <p:spPr>
            <a:xfrm>
              <a:off x="4267080" y="1600200"/>
              <a:ext cx="1206720" cy="106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4" name="Picture 11" descr="CCTV新闻联播标题20070111"/>
          <p:cNvPicPr/>
          <p:nvPr/>
        </p:nvPicPr>
        <p:blipFill>
          <a:blip r:embed="rId2"/>
          <a:stretch/>
        </p:blipFill>
        <p:spPr>
          <a:xfrm>
            <a:off x="4038480" y="3276720"/>
            <a:ext cx="381024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4"/>
          <p:cNvSpPr/>
          <p:nvPr/>
        </p:nvSpPr>
        <p:spPr>
          <a:xfrm>
            <a:off x="3352680" y="2819520"/>
            <a:ext cx="228600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合作范例，与您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Group 24"/>
          <p:cNvGrpSpPr/>
          <p:nvPr/>
        </p:nvGrpSpPr>
        <p:grpSpPr>
          <a:xfrm>
            <a:off x="1752480" y="3288600"/>
            <a:ext cx="6933960" cy="737280"/>
            <a:chOff x="1752480" y="3288600"/>
            <a:chExt cx="6933960" cy="737280"/>
          </a:xfrm>
        </p:grpSpPr>
        <p:sp>
          <p:nvSpPr>
            <p:cNvPr id="717" name="Rectangle 11"/>
            <p:cNvSpPr/>
            <p:nvPr/>
          </p:nvSpPr>
          <p:spPr>
            <a:xfrm>
              <a:off x="1752480" y="3288600"/>
              <a:ext cx="2286000" cy="36828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定制的会奖旅游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12"/>
            <p:cNvSpPr/>
            <p:nvPr/>
          </p:nvSpPr>
          <p:spPr>
            <a:xfrm>
              <a:off x="1752480" y="3657600"/>
              <a:ext cx="693396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信用卡积分兑换旅游产品，我们根据银行对积分兑换金额、旅游目的地、质量保证、活动主题等的要求，以全年方案的形式为该行全国分行提供灵活的产品定制服务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8"/>
          <p:cNvGrpSpPr/>
          <p:nvPr/>
        </p:nvGrpSpPr>
        <p:grpSpPr>
          <a:xfrm>
            <a:off x="1752480" y="4812480"/>
            <a:ext cx="6933960" cy="1154520"/>
            <a:chOff x="1752480" y="4812480"/>
            <a:chExt cx="6933960" cy="1154520"/>
          </a:xfrm>
        </p:grpSpPr>
        <p:sp>
          <p:nvSpPr>
            <p:cNvPr id="720" name="Rectangle 29"/>
            <p:cNvSpPr/>
            <p:nvPr/>
          </p:nvSpPr>
          <p:spPr>
            <a:xfrm>
              <a:off x="1752480" y="4812480"/>
              <a:ext cx="2311200" cy="36828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整合信息化差旅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30"/>
            <p:cNvSpPr/>
            <p:nvPr/>
          </p:nvSpPr>
          <p:spPr>
            <a:xfrm>
              <a:off x="1752480" y="5181480"/>
              <a:ext cx="6933960" cy="78552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客户只需安排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1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名对接人员即可完成在全球任何时空的会议安排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通过嵌入企业的信息化平台，为企业员工差旅提供全年的机票预定、酒店预定，并提供相关统计报告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31"/>
          <p:cNvGrpSpPr/>
          <p:nvPr/>
        </p:nvGrpSpPr>
        <p:grpSpPr>
          <a:xfrm>
            <a:off x="1219320" y="1371600"/>
            <a:ext cx="3047760" cy="368280"/>
            <a:chOff x="1219320" y="1371600"/>
            <a:chExt cx="3047760" cy="368280"/>
          </a:xfrm>
        </p:grpSpPr>
        <p:sp>
          <p:nvSpPr>
            <p:cNvPr id="723" name="Text Box 32"/>
            <p:cNvSpPr/>
            <p:nvPr/>
          </p:nvSpPr>
          <p:spPr>
            <a:xfrm>
              <a:off x="1219320" y="1371600"/>
              <a:ext cx="1143000" cy="368280"/>
            </a:xfrm>
            <a:prstGeom prst="rect">
              <a:avLst/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808080"/>
                  </a:solidFill>
                  <a:latin typeface="Arial"/>
                  <a:ea typeface="华文细黑"/>
                </a:rPr>
                <a:t>客户概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33"/>
            <p:cNvSpPr/>
            <p:nvPr/>
          </p:nvSpPr>
          <p:spPr>
            <a:xfrm>
              <a:off x="2362320" y="1371600"/>
              <a:ext cx="1904760" cy="3682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国内某知名银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 Box 34"/>
          <p:cNvSpPr/>
          <p:nvPr/>
        </p:nvSpPr>
        <p:spPr>
          <a:xfrm>
            <a:off x="1752480" y="2057400"/>
            <a:ext cx="6934320" cy="368280"/>
          </a:xfrm>
          <a:prstGeom prst="rect">
            <a:avLst/>
          </a:pr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海航旅业自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就开始为该银行提供专业的整合“会奖旅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差旅”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6"/>
          <p:cNvSpPr/>
          <p:nvPr/>
        </p:nvSpPr>
        <p:spPr>
          <a:xfrm>
            <a:off x="1219320" y="3276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13"/>
          <p:cNvGrpSpPr/>
          <p:nvPr/>
        </p:nvGrpSpPr>
        <p:grpSpPr>
          <a:xfrm>
            <a:off x="1143000" y="1371600"/>
            <a:ext cx="5334120" cy="368280"/>
            <a:chOff x="1143000" y="1371600"/>
            <a:chExt cx="5334120" cy="368280"/>
          </a:xfrm>
        </p:grpSpPr>
        <p:sp>
          <p:nvSpPr>
            <p:cNvPr id="728" name="Text Box 11"/>
            <p:cNvSpPr/>
            <p:nvPr/>
          </p:nvSpPr>
          <p:spPr>
            <a:xfrm>
              <a:off x="1143000" y="1371600"/>
              <a:ext cx="1879560" cy="368280"/>
            </a:xfrm>
            <a:prstGeom prst="rect">
              <a:avLst/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808080"/>
                  </a:solidFill>
                  <a:latin typeface="Arial"/>
                  <a:ea typeface="华文细黑"/>
                </a:rPr>
                <a:t>客户收益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12"/>
            <p:cNvSpPr/>
            <p:nvPr/>
          </p:nvSpPr>
          <p:spPr>
            <a:xfrm>
              <a:off x="2743200" y="1371600"/>
              <a:ext cx="3733920" cy="3682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收益提升与成本节省间的巨大反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19"/>
          <p:cNvGrpSpPr/>
          <p:nvPr/>
        </p:nvGrpSpPr>
        <p:grpSpPr>
          <a:xfrm>
            <a:off x="1676520" y="1992960"/>
            <a:ext cx="6858000" cy="737640"/>
            <a:chOff x="1676520" y="1992960"/>
            <a:chExt cx="6858000" cy="737640"/>
          </a:xfrm>
        </p:grpSpPr>
        <p:sp>
          <p:nvSpPr>
            <p:cNvPr id="731" name="Rectangle 15"/>
            <p:cNvSpPr/>
            <p:nvPr/>
          </p:nvSpPr>
          <p:spPr>
            <a:xfrm>
              <a:off x="1676520" y="1992960"/>
              <a:ext cx="2286000" cy="36828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循环性消费收益提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16"/>
            <p:cNvSpPr/>
            <p:nvPr/>
          </p:nvSpPr>
          <p:spPr>
            <a:xfrm>
              <a:off x="1676520" y="2362320"/>
              <a:ext cx="685800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显著刺激信用卡消费，截至目前，旅游服务已接待该行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信用卡用户逾万人次，并对该行吸引新用户、增强用户忠诚度起到积极作用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20"/>
          <p:cNvGrpSpPr/>
          <p:nvPr/>
        </p:nvGrpSpPr>
        <p:grpSpPr>
          <a:xfrm>
            <a:off x="1676520" y="3212280"/>
            <a:ext cx="6858000" cy="1724040"/>
            <a:chOff x="1676520" y="3212280"/>
            <a:chExt cx="6858000" cy="1724040"/>
          </a:xfrm>
        </p:grpSpPr>
        <p:sp>
          <p:nvSpPr>
            <p:cNvPr id="734" name="Rectangle 17"/>
            <p:cNvSpPr/>
            <p:nvPr/>
          </p:nvSpPr>
          <p:spPr>
            <a:xfrm>
              <a:off x="1676520" y="3212280"/>
              <a:ext cx="2286000" cy="36828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会议差旅管理降成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76520" y="3581280"/>
              <a:ext cx="6858000" cy="135504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挥海航旅业航空、酒店等资源优势为客户切实降低成本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通过年度的会议采购，截至目前共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保障该行全国性大中型会议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次；信息化预订平台已为该行员工提供机票、酒店预订逾万人次，极大便捷了出行审批环节，同时保证出差员工的安全性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以同比分析，差旅成本节省比例超过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0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%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在客户与海航旅业双方团队的努力下，这个数字还在提升中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4"/>
          <p:cNvSpPr/>
          <p:nvPr/>
        </p:nvSpPr>
        <p:spPr>
          <a:xfrm>
            <a:off x="3520080" y="2895480"/>
            <a:ext cx="223056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也许您正满怀同样的期待 </a:t>
            </a: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…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1219320" y="2286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8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月，海航旅业集团旗下金鹿航空包机保障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非诚勿扰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剧组赴日本札幌进行拍摄，为观众记录下北海道最美的秋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3" descr="cb9b96514172ce908d543049"/>
          <p:cNvPicPr/>
          <p:nvPr/>
        </p:nvPicPr>
        <p:blipFill>
          <a:blip r:embed="rId1"/>
          <a:stretch/>
        </p:blipFill>
        <p:spPr>
          <a:xfrm>
            <a:off x="533520" y="3124080"/>
            <a:ext cx="3276360" cy="18576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4" descr="金鹿航空－A319-４"/>
          <p:cNvPicPr/>
          <p:nvPr/>
        </p:nvPicPr>
        <p:blipFill>
          <a:blip r:embed="rId2"/>
          <a:stretch/>
        </p:blipFill>
        <p:spPr>
          <a:xfrm>
            <a:off x="3276720" y="4419720"/>
            <a:ext cx="5340240" cy="1939680"/>
          </a:xfrm>
          <a:prstGeom prst="rect">
            <a:avLst/>
          </a:prstGeom>
          <a:ln w="0">
            <a:noFill/>
          </a:ln>
        </p:spPr>
      </p:pic>
      <p:grpSp>
        <p:nvGrpSpPr>
          <p:cNvPr id="739" name="Group 5"/>
          <p:cNvGrpSpPr/>
          <p:nvPr/>
        </p:nvGrpSpPr>
        <p:grpSpPr>
          <a:xfrm>
            <a:off x="1295280" y="1600200"/>
            <a:ext cx="3722040" cy="368280"/>
            <a:chOff x="1295280" y="1600200"/>
            <a:chExt cx="3722040" cy="368280"/>
          </a:xfrm>
        </p:grpSpPr>
        <p:sp>
          <p:nvSpPr>
            <p:cNvPr id="740" name="Text Box 6"/>
            <p:cNvSpPr/>
            <p:nvPr/>
          </p:nvSpPr>
          <p:spPr>
            <a:xfrm>
              <a:off x="1295280" y="1600200"/>
              <a:ext cx="205740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冯小刚的诚意之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7"/>
            <p:cNvSpPr/>
            <p:nvPr/>
          </p:nvSpPr>
          <p:spPr>
            <a:xfrm>
              <a:off x="3739320" y="1600200"/>
              <a:ext cx="127800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更是您的明智之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41134"/>
          <p:cNvPicPr/>
          <p:nvPr/>
        </p:nvPicPr>
        <p:blipFill>
          <a:blip r:embed="rId1"/>
          <a:stretch/>
        </p:blipFill>
        <p:spPr>
          <a:xfrm>
            <a:off x="3886200" y="3809880"/>
            <a:ext cx="4038480" cy="256716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3"/>
          <p:cNvSpPr/>
          <p:nvPr/>
        </p:nvSpPr>
        <p:spPr>
          <a:xfrm>
            <a:off x="1143000" y="1295280"/>
            <a:ext cx="617220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秦奋和矜持美女见面的那个酒店，许多人都看着眼熟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没错，那就是著名的新国宾馆，海航麾下的一个高级下榻之处。钱包不是特别干瘪的人去趟海口，回来总爱显摆‘新国宾馆可真是不错’，可见受欢迎程度。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摘自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新华航空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4" descr="large_9212o177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grpSp>
        <p:nvGrpSpPr>
          <p:cNvPr id="745" name="Group 8"/>
          <p:cNvGrpSpPr/>
          <p:nvPr/>
        </p:nvGrpSpPr>
        <p:grpSpPr>
          <a:xfrm>
            <a:off x="2133720" y="3352680"/>
            <a:ext cx="990360" cy="368280"/>
            <a:chOff x="2133720" y="3352680"/>
            <a:chExt cx="990360" cy="368280"/>
          </a:xfrm>
        </p:grpSpPr>
        <p:sp>
          <p:nvSpPr>
            <p:cNvPr id="746" name="Text Box 5"/>
            <p:cNvSpPr/>
            <p:nvPr/>
          </p:nvSpPr>
          <p:spPr>
            <a:xfrm>
              <a:off x="2590920" y="3352680"/>
              <a:ext cx="533160" cy="368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6"/>
            <p:cNvSpPr/>
            <p:nvPr/>
          </p:nvSpPr>
          <p:spPr>
            <a:xfrm>
              <a:off x="2133720" y="3352680"/>
              <a:ext cx="457200" cy="36828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808080"/>
                  </a:solidFill>
                  <a:latin typeface="Arial"/>
                  <a:ea typeface="华文细黑"/>
                </a:rPr>
                <a:t>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46"/>
          <p:cNvGrpSpPr/>
          <p:nvPr/>
        </p:nvGrpSpPr>
        <p:grpSpPr>
          <a:xfrm>
            <a:off x="457200" y="1752480"/>
            <a:ext cx="4000680" cy="2454480"/>
            <a:chOff x="457200" y="1752480"/>
            <a:chExt cx="4000680" cy="2454480"/>
          </a:xfrm>
        </p:grpSpPr>
        <p:pic>
          <p:nvPicPr>
            <p:cNvPr id="582" name="Picture 6" descr="狗看书"/>
            <p:cNvPicPr/>
            <p:nvPr/>
          </p:nvPicPr>
          <p:blipFill>
            <a:blip r:embed="rId1"/>
            <a:stretch/>
          </p:blipFill>
          <p:spPr>
            <a:xfrm>
              <a:off x="457200" y="2438280"/>
              <a:ext cx="2384280" cy="176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3" name="Group 13"/>
            <p:cNvGrpSpPr/>
            <p:nvPr/>
          </p:nvGrpSpPr>
          <p:grpSpPr>
            <a:xfrm>
              <a:off x="2362320" y="1752480"/>
              <a:ext cx="2095560" cy="1441440"/>
              <a:chOff x="2362320" y="1752480"/>
              <a:chExt cx="2095560" cy="1441440"/>
            </a:xfrm>
          </p:grpSpPr>
          <p:graphicFrame>
            <p:nvGraphicFramePr>
              <p:cNvPr id="584" name="Object 10"/>
              <p:cNvGraphicFramePr/>
              <p:nvPr/>
            </p:nvGraphicFramePr>
            <p:xfrm>
              <a:off x="2362320" y="1752480"/>
              <a:ext cx="2095560" cy="1441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85" name="Object 10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362320" y="1752480"/>
                        <a:ext cx="2095560" cy="144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6" name="Text Box 11"/>
              <p:cNvSpPr/>
              <p:nvPr/>
            </p:nvSpPr>
            <p:spPr>
              <a:xfrm>
                <a:off x="2707200" y="2143440"/>
                <a:ext cx="1400040" cy="83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子曾经曰过：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       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要读万卷书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       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更要行万里路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7" name="Group 39"/>
          <p:cNvGrpSpPr/>
          <p:nvPr/>
        </p:nvGrpSpPr>
        <p:grpSpPr>
          <a:xfrm>
            <a:off x="4343400" y="1295280"/>
            <a:ext cx="4114800" cy="2631960"/>
            <a:chOff x="4343400" y="1295280"/>
            <a:chExt cx="4114800" cy="2631960"/>
          </a:xfrm>
        </p:grpSpPr>
        <p:pic>
          <p:nvPicPr>
            <p:cNvPr id="588" name="Picture 26" descr="流浪歌手-熊"/>
            <p:cNvPicPr/>
            <p:nvPr/>
          </p:nvPicPr>
          <p:blipFill>
            <a:blip r:embed="rId4"/>
            <a:stretch/>
          </p:blipFill>
          <p:spPr>
            <a:xfrm>
              <a:off x="5715000" y="2209680"/>
              <a:ext cx="2743200" cy="171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9" name="Group 27"/>
            <p:cNvGrpSpPr/>
            <p:nvPr/>
          </p:nvGrpSpPr>
          <p:grpSpPr>
            <a:xfrm>
              <a:off x="4343400" y="1295280"/>
              <a:ext cx="3320640" cy="1288800"/>
              <a:chOff x="4343400" y="1295280"/>
              <a:chExt cx="3320640" cy="1288800"/>
            </a:xfrm>
          </p:grpSpPr>
          <p:pic>
            <p:nvPicPr>
              <p:cNvPr id="590" name="Picture 28" descr="cloud"/>
              <p:cNvPicPr/>
              <p:nvPr/>
            </p:nvPicPr>
            <p:blipFill>
              <a:blip r:embed="rId5"/>
              <a:stretch/>
            </p:blipFill>
            <p:spPr>
              <a:xfrm>
                <a:off x="4343400" y="1295280"/>
                <a:ext cx="2957760" cy="12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Text Box 29"/>
              <p:cNvSpPr/>
              <p:nvPr/>
            </p:nvSpPr>
            <p:spPr>
              <a:xfrm>
                <a:off x="4654440" y="1591560"/>
                <a:ext cx="3009600" cy="83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放声高歌：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没有什么能够阻挡，我对旅行的向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…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2" name="Group 52"/>
          <p:cNvGrpSpPr/>
          <p:nvPr/>
        </p:nvGrpSpPr>
        <p:grpSpPr>
          <a:xfrm>
            <a:off x="1905120" y="3276720"/>
            <a:ext cx="3087720" cy="2965320"/>
            <a:chOff x="1905120" y="3276720"/>
            <a:chExt cx="3087720" cy="2965320"/>
          </a:xfrm>
        </p:grpSpPr>
        <p:pic>
          <p:nvPicPr>
            <p:cNvPr id="593" name="Picture 31" descr="113e3bfb6a5c8c3ea9d31160"/>
            <p:cNvPicPr/>
            <p:nvPr/>
          </p:nvPicPr>
          <p:blipFill>
            <a:blip r:embed="rId6"/>
            <a:stretch/>
          </p:blipFill>
          <p:spPr>
            <a:xfrm>
              <a:off x="1905120" y="4343400"/>
              <a:ext cx="2590560" cy="1898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4" name="Group 32"/>
            <p:cNvGrpSpPr/>
            <p:nvPr/>
          </p:nvGrpSpPr>
          <p:grpSpPr>
            <a:xfrm>
              <a:off x="3048120" y="3276720"/>
              <a:ext cx="1944720" cy="1184040"/>
              <a:chOff x="3048120" y="3276720"/>
              <a:chExt cx="1944720" cy="1184040"/>
            </a:xfrm>
          </p:grpSpPr>
          <p:graphicFrame>
            <p:nvGraphicFramePr>
              <p:cNvPr id="595" name="Object 33"/>
              <p:cNvGraphicFramePr/>
              <p:nvPr/>
            </p:nvGraphicFramePr>
            <p:xfrm>
              <a:off x="3048120" y="3276720"/>
              <a:ext cx="1944720" cy="11840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96" name="Object 33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048120" y="3276720"/>
                        <a:ext cx="1944720" cy="11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97" name="Text Box 34"/>
              <p:cNvSpPr/>
              <p:nvPr/>
            </p:nvSpPr>
            <p:spPr>
              <a:xfrm>
                <a:off x="3257280" y="3673800"/>
                <a:ext cx="157680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公司集体出游：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“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我们都爱大自然！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”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8" name="Group 53"/>
          <p:cNvGrpSpPr/>
          <p:nvPr/>
        </p:nvGrpSpPr>
        <p:grpSpPr>
          <a:xfrm>
            <a:off x="4724280" y="4038480"/>
            <a:ext cx="3581640" cy="2430720"/>
            <a:chOff x="4724280" y="4038480"/>
            <a:chExt cx="3581640" cy="2430720"/>
          </a:xfrm>
        </p:grpSpPr>
        <p:pic>
          <p:nvPicPr>
            <p:cNvPr id="599" name="Picture 50" descr="0000431637"/>
            <p:cNvPicPr/>
            <p:nvPr/>
          </p:nvPicPr>
          <p:blipFill>
            <a:blip r:embed="rId9"/>
            <a:stretch/>
          </p:blipFill>
          <p:spPr>
            <a:xfrm>
              <a:off x="5562720" y="4952880"/>
              <a:ext cx="2743200" cy="1516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00" name="Object 42"/>
            <p:cNvGraphicFramePr/>
            <p:nvPr/>
          </p:nvGraphicFramePr>
          <p:xfrm>
            <a:off x="4724280" y="4038480"/>
            <a:ext cx="1905120" cy="12049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01" name="Object 42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724280" y="4038480"/>
                      <a:ext cx="1905120" cy="12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2" name="Text Box 43"/>
            <p:cNvSpPr/>
            <p:nvPr/>
          </p:nvSpPr>
          <p:spPr>
            <a:xfrm>
              <a:off x="5029200" y="434340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会奖旅游，回报客户，人人喜爱，偷着乐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5"/>
          <p:cNvSpPr/>
          <p:nvPr/>
        </p:nvSpPr>
        <p:spPr>
          <a:xfrm>
            <a:off x="3580920" y="2895480"/>
            <a:ext cx="195624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却面临着同样的烦恼 </a:t>
            </a: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…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4" descr="992644_20936856"/>
          <p:cNvPicPr/>
          <p:nvPr/>
        </p:nvPicPr>
        <p:blipFill>
          <a:blip r:embed="rId1"/>
          <a:stretch/>
        </p:blipFill>
        <p:spPr>
          <a:xfrm>
            <a:off x="1676520" y="1447920"/>
            <a:ext cx="7289640" cy="509256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5"/>
          <p:cNvSpPr/>
          <p:nvPr/>
        </p:nvSpPr>
        <p:spPr>
          <a:xfrm>
            <a:off x="7164360" y="5181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特产采购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2805840" y="30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机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5091840" y="30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住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7377840" y="30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餐饮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1"/>
          <p:cNvSpPr/>
          <p:nvPr/>
        </p:nvSpPr>
        <p:spPr>
          <a:xfrm>
            <a:off x="2668680" y="5181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地面交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2"/>
          <p:cNvSpPr/>
          <p:nvPr/>
        </p:nvSpPr>
        <p:spPr>
          <a:xfrm>
            <a:off x="4954680" y="5181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景点门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24"/>
          <p:cNvGrpSpPr/>
          <p:nvPr/>
        </p:nvGrpSpPr>
        <p:grpSpPr>
          <a:xfrm>
            <a:off x="295560" y="641520"/>
            <a:ext cx="2662920" cy="1955160"/>
            <a:chOff x="295560" y="641520"/>
            <a:chExt cx="2662920" cy="1955160"/>
          </a:xfrm>
        </p:grpSpPr>
        <p:sp>
          <p:nvSpPr>
            <p:cNvPr id="612" name="Text Box 22"/>
            <p:cNvSpPr/>
            <p:nvPr/>
          </p:nvSpPr>
          <p:spPr>
            <a:xfrm rot="20024400">
              <a:off x="389520" y="1142640"/>
              <a:ext cx="2487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在家千日好，出门万事难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23"/>
            <p:cNvSpPr/>
            <p:nvPr/>
          </p:nvSpPr>
          <p:spPr>
            <a:xfrm rot="20023800">
              <a:off x="383400" y="1241640"/>
              <a:ext cx="2210040" cy="91296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6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2"/>
          <p:cNvSpPr/>
          <p:nvPr/>
        </p:nvSpPr>
        <p:spPr>
          <a:xfrm>
            <a:off x="2286000" y="2819520"/>
            <a:ext cx="480060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海航旅业</a:t>
            </a: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——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为机构及个人提供定制旅游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37" descr="大新华快运-图片-乘务形象3"/>
          <p:cNvPicPr/>
          <p:nvPr/>
        </p:nvPicPr>
        <p:blipFill>
          <a:blip r:embed="rId1"/>
          <a:stretch/>
        </p:blipFill>
        <p:spPr>
          <a:xfrm>
            <a:off x="4419720" y="3886200"/>
            <a:ext cx="3809880" cy="2543040"/>
          </a:xfrm>
          <a:prstGeom prst="rect">
            <a:avLst/>
          </a:prstGeom>
          <a:ln w="0">
            <a:noFill/>
          </a:ln>
        </p:spPr>
      </p:pic>
      <p:grpSp>
        <p:nvGrpSpPr>
          <p:cNvPr id="616" name="Group 45"/>
          <p:cNvGrpSpPr/>
          <p:nvPr/>
        </p:nvGrpSpPr>
        <p:grpSpPr>
          <a:xfrm>
            <a:off x="914400" y="1600200"/>
            <a:ext cx="4097520" cy="386280"/>
            <a:chOff x="914400" y="1600200"/>
            <a:chExt cx="4097520" cy="386280"/>
          </a:xfrm>
        </p:grpSpPr>
        <p:sp>
          <p:nvSpPr>
            <p:cNvPr id="617" name="Rectangle 43"/>
            <p:cNvSpPr/>
            <p:nvPr/>
          </p:nvSpPr>
          <p:spPr>
            <a:xfrm>
              <a:off x="3734280" y="1618200"/>
              <a:ext cx="127764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奖励旅游、福利旅游、招待旅游、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拓展培训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44"/>
            <p:cNvSpPr/>
            <p:nvPr/>
          </p:nvSpPr>
          <p:spPr>
            <a:xfrm>
              <a:off x="914400" y="1600200"/>
              <a:ext cx="116604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旅游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54"/>
          <p:cNvGrpSpPr/>
          <p:nvPr/>
        </p:nvGrpSpPr>
        <p:grpSpPr>
          <a:xfrm>
            <a:off x="914400" y="2362320"/>
            <a:ext cx="5826240" cy="386280"/>
            <a:chOff x="914400" y="2362320"/>
            <a:chExt cx="5826240" cy="386280"/>
          </a:xfrm>
        </p:grpSpPr>
        <p:sp>
          <p:nvSpPr>
            <p:cNvPr id="620" name="Rectangle 47"/>
            <p:cNvSpPr/>
            <p:nvPr/>
          </p:nvSpPr>
          <p:spPr>
            <a:xfrm>
              <a:off x="2057400" y="2380320"/>
              <a:ext cx="468324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研讨会、年终会、展览会、联合推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48"/>
            <p:cNvSpPr/>
            <p:nvPr/>
          </p:nvSpPr>
          <p:spPr>
            <a:xfrm>
              <a:off x="914400" y="2362320"/>
              <a:ext cx="114300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会展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49"/>
          <p:cNvGrpSpPr/>
          <p:nvPr/>
        </p:nvGrpSpPr>
        <p:grpSpPr>
          <a:xfrm>
            <a:off x="914400" y="3124080"/>
            <a:ext cx="5866920" cy="386640"/>
            <a:chOff x="914400" y="3124080"/>
            <a:chExt cx="5866920" cy="386640"/>
          </a:xfrm>
        </p:grpSpPr>
        <p:sp>
          <p:nvSpPr>
            <p:cNvPr id="623" name="Rectangle 50"/>
            <p:cNvSpPr/>
            <p:nvPr/>
          </p:nvSpPr>
          <p:spPr>
            <a:xfrm>
              <a:off x="2001240" y="3142440"/>
              <a:ext cx="478008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机票预定、酒店预定、租车服务、差旅管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51"/>
            <p:cNvSpPr/>
            <p:nvPr/>
          </p:nvSpPr>
          <p:spPr>
            <a:xfrm>
              <a:off x="914400" y="3124080"/>
              <a:ext cx="116424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差旅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13"/>
          <p:cNvGrpSpPr/>
          <p:nvPr/>
        </p:nvGrpSpPr>
        <p:grpSpPr>
          <a:xfrm>
            <a:off x="2133720" y="1535760"/>
            <a:ext cx="4876560" cy="750240"/>
            <a:chOff x="2133720" y="1535760"/>
            <a:chExt cx="4876560" cy="750240"/>
          </a:xfrm>
        </p:grpSpPr>
        <p:sp>
          <p:nvSpPr>
            <p:cNvPr id="626" name="Rectangle 4"/>
            <p:cNvSpPr/>
            <p:nvPr/>
          </p:nvSpPr>
          <p:spPr>
            <a:xfrm>
              <a:off x="2948400" y="1535760"/>
              <a:ext cx="409320" cy="36828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便捷的一站式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12"/>
            <p:cNvSpPr/>
            <p:nvPr/>
          </p:nvSpPr>
          <p:spPr>
            <a:xfrm>
              <a:off x="2133720" y="1917720"/>
              <a:ext cx="487656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可提供多类型服务，满足您的一站式采购需求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14"/>
          <p:cNvGrpSpPr/>
          <p:nvPr/>
        </p:nvGrpSpPr>
        <p:grpSpPr>
          <a:xfrm>
            <a:off x="2133720" y="2678760"/>
            <a:ext cx="4876560" cy="750240"/>
            <a:chOff x="2133720" y="2678760"/>
            <a:chExt cx="4876560" cy="750240"/>
          </a:xfrm>
        </p:grpSpPr>
        <p:sp>
          <p:nvSpPr>
            <p:cNvPr id="629" name="Rectangle 15"/>
            <p:cNvSpPr/>
            <p:nvPr/>
          </p:nvSpPr>
          <p:spPr>
            <a:xfrm>
              <a:off x="2513880" y="2678760"/>
              <a:ext cx="1278000" cy="36828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由的定制化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16"/>
            <p:cNvSpPr/>
            <p:nvPr/>
          </p:nvSpPr>
          <p:spPr>
            <a:xfrm>
              <a:off x="2133720" y="3060720"/>
              <a:ext cx="487656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为您量身定制高品质个性化的旅游产品及服务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20"/>
          <p:cNvGrpSpPr/>
          <p:nvPr/>
        </p:nvGrpSpPr>
        <p:grpSpPr>
          <a:xfrm>
            <a:off x="2133720" y="3821760"/>
            <a:ext cx="4876560" cy="750240"/>
            <a:chOff x="2133720" y="3821760"/>
            <a:chExt cx="4876560" cy="750240"/>
          </a:xfrm>
        </p:grpSpPr>
        <p:sp>
          <p:nvSpPr>
            <p:cNvPr id="632" name="Rectangle 18"/>
            <p:cNvSpPr/>
            <p:nvPr/>
          </p:nvSpPr>
          <p:spPr>
            <a:xfrm>
              <a:off x="2513520" y="3821760"/>
              <a:ext cx="1278000" cy="36828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贴心的品质化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2133720" y="4203720"/>
              <a:ext cx="487656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组团、地接、监督等各个环节，全程服务保障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24"/>
          <p:cNvGrpSpPr/>
          <p:nvPr/>
        </p:nvGrpSpPr>
        <p:grpSpPr>
          <a:xfrm>
            <a:off x="2133720" y="4964760"/>
            <a:ext cx="4876560" cy="750240"/>
            <a:chOff x="2133720" y="4964760"/>
            <a:chExt cx="4876560" cy="750240"/>
          </a:xfrm>
        </p:grpSpPr>
        <p:sp>
          <p:nvSpPr>
            <p:cNvPr id="635" name="Rectangle 22"/>
            <p:cNvSpPr/>
            <p:nvPr/>
          </p:nvSpPr>
          <p:spPr>
            <a:xfrm>
              <a:off x="2513520" y="4964760"/>
              <a:ext cx="1278000" cy="36828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科学的信息化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23"/>
            <p:cNvSpPr/>
            <p:nvPr/>
          </p:nvSpPr>
          <p:spPr>
            <a:xfrm>
              <a:off x="2133720" y="5346720"/>
              <a:ext cx="487656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整合内外资源，为您提供安全稳定高效的平台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4"/>
          <p:cNvSpPr/>
          <p:nvPr/>
        </p:nvSpPr>
        <p:spPr>
          <a:xfrm>
            <a:off x="3200400" y="2819520"/>
            <a:ext cx="274320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海航旅业</a:t>
            </a: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——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术业有专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2-10T02:10:19Z</dcterms:modified>
  <cp:revision>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