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9.gif" ContentType="image/gif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01A-7E69-44CF-B692-90A5778B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704-0E70-4972-A6F9-B817EEBB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839B0-5EC4-48CD-B015-8ED959C7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2F634-61EC-41C8-BB28-A90A912F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D12A0-7829-43C4-A1D4-CF8FBBA7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25874-115D-4AD0-B2BF-3E0AB2B7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53D2D-0839-4386-B132-1398BACD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9324D-30AA-4092-AE8D-81EC4CD4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E567B-F2E9-439A-BC68-E8E36A28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0275D-90CF-4DDA-9E18-B7FCC394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F96DE-3963-429A-8314-D6B81CF1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3DF06-7C91-4011-9592-B36A18E4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BA3-762F-436A-83CD-326B9873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8811E-54E8-4A46-BFD2-245094EB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E8222-F8BA-419E-9593-4961AF9F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080EE-4A00-42F1-9744-88354202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1DD01-C6A8-493C-9FF0-7F8E6B59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AE353-7CB6-4900-96C5-390383BD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60F60-C4AF-4BA9-B19D-1758A553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FCCD2-6EFD-46C8-B0D6-9C89CDB3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D78CE-83C5-40BB-AF6A-C921A565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971AF-B886-49F6-BA9F-1E72EFEA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87D20-C7E8-4DA7-BC55-B075C3D1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694-65D7-430D-8DBD-83C70D88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F59BD-F8F0-4DEF-99EE-E801FDBF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BAEB5-8C7E-4EE0-BC3D-0A5EADFD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7D839-F553-400B-BE7F-EBE44F0D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1EEE5-4211-4816-971C-948639B2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082C0-AE58-4DC5-B657-4D0DEA66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B0F42-8FA3-411A-A41B-FF9D643E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2C2DF-3D6C-4EDF-90B7-E25395A3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EF07B-30BE-46F2-BE29-D0C6F654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44DAA-CD1D-4EA6-8BFC-8E3A3624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6A815-48CD-4A92-A72C-A6D5CB7B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0038-CF2B-4782-8974-9A57B204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8AE53-8C63-4390-88F5-6A58B6C2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FC365-7830-45B2-9BC2-01957947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A43C7-8036-4561-B528-BA7865F4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0C247-B02C-499A-9CDA-952BA88B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E7B48-93DA-4BE5-B7D6-E37C4E6E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55535-BEB8-4458-BB02-9D8C2B43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6F537-6EDF-4759-B61E-E8B06CF7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5BBEE-5A38-4B28-B544-72B14F7C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D6038-F538-4864-A421-6C3DABC1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AB720-D39B-4919-86E4-901D5763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4B49-EA9A-4A48-BD5B-A6D835DD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3D191-76F7-42C4-8EEB-05E5A08D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7A445-D6E6-48B9-B093-58464C4E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1D865-E96F-4B12-BED1-666FE627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CFD7E-6035-408E-8B4F-CCD66F9D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62AA3-A616-4611-B6A6-A75A6C2E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E12EE-F3F4-4A01-A75F-54D2BDFC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083B8-1EBC-4FC6-9F9D-3FE04D05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F1A3A-4CA6-45B3-B632-4DA39AF3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81CBA-C148-44D9-B1A1-19600CEF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3625E-A1F8-4CC7-B61D-5D59955C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55B2-B1A4-4B01-A8A2-39A66859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58F5E-DAFE-4A47-A563-B5337F09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783A4-721A-4911-90A7-8A41AA63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BF1A0-D0CB-48EE-B8A2-FDDFFF2F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F42DD-35EE-4F14-BF35-023793F7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C68B1-4B25-401F-BEAF-6A3C3681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17329-1B17-4867-86D6-C1D33969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CAA27-937A-47C7-B7BD-A7D90080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6366-8D2A-4538-9D24-B2F03A26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BAC2-7175-4EE2-AA90-4285CEF6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9388-4B36-4A5A-B31B-D73C7136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397B-7995-405B-8331-21A07945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6B8-6DDA-4501-83BB-7B13C6A7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00D6-A3E0-4E52-A3E9-369937E3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68F4-C112-4F08-B733-5E1394BA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00D7-6B5B-4705-A864-B904C941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AA2E-AB7F-4CF6-AF00-D06DAE0C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0A6E-0772-4E05-B3A8-CA4EB471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5AF03-DC9E-49FA-BA29-A1AB51C8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9FE15-5F99-46EE-8B4C-AA0C3862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9A887-3041-41F4-A290-C0631678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085AD-DD1C-4402-8296-171D9ECB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E64C-5ECA-44D4-84B6-F373BA8E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E29-B136-44D6-AC5C-E0C28A64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3E7A6-511B-4C3A-B626-B00E0772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3A88-9E90-45E6-B984-5DA8F514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B7DD-C8B5-4C93-900D-2090BEFD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0BA96-9D79-4504-984D-962C5D35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9E8E-6719-4548-9F33-9421CCD6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BFB23-5AE4-46DB-866B-95591F33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95B11-8B64-4B3F-BE5D-223D6A75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AE7B5-75FA-482F-973F-24945980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CFCA8-73EC-410C-B369-944F6115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216C2-6AE3-4154-B2A6-906F9C57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155-D549-40D1-A320-F374EA3F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74AF1-1B3F-4B47-9457-7BB45CA5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4373-5FF5-4066-97C4-F9E4126A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2A4E0-AFD2-4B47-A50D-1C358485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C6FC9-E5DD-4A5C-8445-FFB8BC05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C95AE-F108-4741-B967-A9D14D67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D5F1C-4304-4B9C-BAF6-4E9A3090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653C-E6C0-44CB-9581-EAAFC045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E73FE-C708-49A0-9F82-B83BD557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C53EC-931A-47D5-9ADE-9A583283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A21FC-AB95-4EA0-818B-ADEC748F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FD6-A8FB-46D7-9484-FA16396B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E94A0-AF30-4E24-A203-2DBCA512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B6F19-D376-4C08-95F2-04A9C233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BC6E7-5B82-41F2-93C7-8DC12C11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A842A-E0E5-4F72-95C9-AEFA5FAD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6F412-4301-4974-AB8B-98E9907E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E7262-23DB-42DB-9FEF-5A1273F3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6BE55-272B-481A-8CA7-FBC87BFF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0374F-7B08-42E5-B19B-9149D427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D9CBA-0730-46BD-BF97-380ED0D7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69471-7592-4A02-B30F-1F1D684B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325-1295-4B79-9757-B699A903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FD25A-DBD0-4568-9982-AE665DFC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D25E3-CBA5-4ADC-B47C-8B5C9911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2DD70-138D-467B-8872-2B45D402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9EC3D-8FD0-4181-9251-532C0884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E001C-627D-4CA5-BF6A-B5FCF9E5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3694C-907A-40EF-903F-C2F6E645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9A254-DD58-4BD8-8AFB-D5161767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F5B7A-D31A-4D6B-85FF-0F07086C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CDE72-A43B-44F6-A4DA-BA76E343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DEEB9-14F0-49E6-893F-C33D83B1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B4B-D9CE-4E89-AFDA-C8FBDD3B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28496-88D9-4D67-9DEE-92D52189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3DEA6-0099-4669-82CF-3767AACD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F5E8C-470A-4499-970D-FADF267A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2B44C-20A7-438E-91DA-3C226B50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AE5CC-89D8-484D-96E7-0F73FC4C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77837-AF2B-407F-8368-E72A50FC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1920F-A763-4101-93F9-04C6F426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ACE64-C174-4256-A072-0B47CE51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96A03-C3AA-410D-8D3C-921A2F7F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CB873-3CCF-4E14-986D-97AAAE3E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749-2B0F-4A8B-B9D0-1E49B5D9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A4B53-A328-484D-B104-9E17BAEE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51C7B-12BD-48F7-97DD-D746FA79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78EB7-0C3E-4982-9FBD-DBE03AEF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C9D16-80C8-4C14-8DD4-1C0D3984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2EF0F-67E2-41D7-9891-FDEBCA51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04B14-739B-499A-B848-3AAE4F0B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7BBCC-CB5D-414A-BE8F-D78935A5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5153C-5B75-41E1-A55A-116C3E0C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E20D0-AFF1-4387-83D3-5F536C09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809F2-21C9-40CC-85AE-BD6D884B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C68-A32A-4001-9AEC-D77B8F5B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DA92E-B090-4227-9629-6338F726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44E02-F2C2-46D6-A3AB-BED49981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4C9C5-E32E-4F54-AC06-414A2A20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1590A-2C89-4434-A8AD-933EB31E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905D8-A635-4305-8B1A-8185DBB2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B9AD1-90D0-4F9D-939A-5F97B487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51CCF-1433-4857-B8E5-E9122E25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DA76F-8636-4315-8CC4-7AA4AEFC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99F06-81A0-4891-A9F1-FE4D75F9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A0344-C062-466F-B2E7-947CCECE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9777-6330-47EE-8649-90568D36B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3637-8A97-4F09-8BCE-91ECFF81C5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DB04-66E7-47C6-90C3-60D657099D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0853-E847-4D31-B06F-94404D5BE4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AA05-B938-4FFA-9C08-520146E897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9921-DE49-4171-9C83-E3FF2CCBB6F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ED12-6F93-47F4-B5EE-F2BA4B9A5F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F039-78F2-4F94-886F-F5D637145BC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24A8-C25D-4613-9694-8FBDFCA5BF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A2AA-796C-4B8B-B9D8-62C61F0BE2F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6A7E-F068-48DC-89DF-32A21DCA46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2EC8-CB50-45F1-A82B-4CD94E2612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95D4-A4E6-44F8-9AD9-E1DCD69655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E81B-7DAE-42E9-9F0D-9A1E76488C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7B4F-3E5F-46E1-917D-026A3EB089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D48D-1F5F-4FA3-9686-D126C4ED44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C1B6-930D-4880-B5D0-2AA31F9AEF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E846-2C8D-429C-87E4-238A875B18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6074-6ADA-4C97-B453-233371DEA4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1844-B4E6-4265-941F-84700C91FC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BA3C-1DDB-4E62-A944-FA19A37F51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2449-E182-4A3A-9190-994AF06894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4309-BC78-49FF-99E7-5255371F7A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23E8-4C7E-472F-B7FF-D65CBD414A1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E3B2-70F8-4FA6-ADF4-B0980D5BFA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5" descr="9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6"/>
          <p:cNvSpPr/>
          <p:nvPr/>
        </p:nvSpPr>
        <p:spPr>
          <a:xfrm>
            <a:off x="2340000" y="55080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华文细黑"/>
              </a:rPr>
              <a:t>给予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5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7"/>
          <p:cNvSpPr/>
          <p:nvPr/>
        </p:nvSpPr>
        <p:spPr>
          <a:xfrm>
            <a:off x="395280" y="765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让我们用爱心做水，用善良做土，用同情和仁慈做阳光，精心地栽培给予树，让它在我们的心田里永远垂着绿茵，开着芬芳的花，结着丰硕的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U397P1T1D8440730F21DT20051130014300"/>
          <p:cNvPicPr/>
          <p:nvPr/>
        </p:nvPicPr>
        <p:blipFill>
          <a:blip r:embed="rId1"/>
          <a:stretch/>
        </p:blipFill>
        <p:spPr>
          <a:xfrm>
            <a:off x="250920" y="333360"/>
            <a:ext cx="3960720" cy="26226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news2006052315"/>
          <p:cNvPicPr/>
          <p:nvPr/>
        </p:nvPicPr>
        <p:blipFill>
          <a:blip r:embed="rId2"/>
          <a:stretch/>
        </p:blipFill>
        <p:spPr>
          <a:xfrm>
            <a:off x="6084720" y="2060640"/>
            <a:ext cx="2903760" cy="2178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" descr="news2006052319"/>
          <p:cNvPicPr/>
          <p:nvPr/>
        </p:nvPicPr>
        <p:blipFill>
          <a:blip r:embed="rId3"/>
          <a:stretch/>
        </p:blipFill>
        <p:spPr>
          <a:xfrm>
            <a:off x="3780000" y="189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greenpeace-global-forest-rescu-2"/>
          <p:cNvPicPr/>
          <p:nvPr/>
        </p:nvPicPr>
        <p:blipFill>
          <a:blip r:embed="rId4"/>
          <a:stretch/>
        </p:blipFill>
        <p:spPr>
          <a:xfrm>
            <a:off x="324000" y="3213000"/>
            <a:ext cx="4392360" cy="28702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supermarket-sampling-1"/>
          <p:cNvPicPr/>
          <p:nvPr/>
        </p:nvPicPr>
        <p:blipFill>
          <a:blip r:embed="rId5"/>
          <a:stretch/>
        </p:blipFill>
        <p:spPr>
          <a:xfrm>
            <a:off x="4859280" y="4221000"/>
            <a:ext cx="352908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200505241906215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只攒了一百美元，却要由五个孩子来分享，他们怎么可能买到很多很好的礼物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0" y="263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攒了一百美元，要分给五个孩子，他们可能买不到很多很好的礼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200505151735415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2005052218034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5"/>
          <p:cNvSpPr/>
          <p:nvPr/>
        </p:nvSpPr>
        <p:spPr>
          <a:xfrm>
            <a:off x="1258920" y="1557360"/>
            <a:ext cx="69897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圣诞   宽裕   试探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甜蜜   猜测   拥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200505251538196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5"/>
          <p:cNvSpPr/>
          <p:nvPr/>
        </p:nvSpPr>
        <p:spPr>
          <a:xfrm>
            <a:off x="1042920" y="170028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透过塑料口袋，我发现，她只买了一些棒棒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种五十美分一大把的棒棒糖！我有些生气：她到底用这二十美元做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200509131831135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6"/>
          <p:cNvSpPr/>
          <p:nvPr/>
        </p:nvSpPr>
        <p:spPr>
          <a:xfrm>
            <a:off x="138420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167148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0" y="148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金吉娅说话的声音很低，显然在为没能给我们买到像样的礼物而难过。“我的钱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够买这些棒棒糖了。可是妈妈，我们有这么多人，已经能得到许多礼物了，而那个小女孩却什么都没有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216000" y="1268280"/>
            <a:ext cx="86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20040203165944(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611280" y="1341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紧紧地拥抱着金吉娅。这个圣诞节，她不但送给我们棒棒糖，还送给我们善良、仁爱、同情和体贴，以及一个陌生女孩如愿以偿的笑脸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tp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2"/>
          <p:cNvSpPr/>
          <p:nvPr/>
        </p:nvSpPr>
        <p:spPr>
          <a:xfrm>
            <a:off x="216000" y="1268280"/>
            <a:ext cx="86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4" descr="20040203165944(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15"/>
          <p:cNvSpPr/>
          <p:nvPr/>
        </p:nvSpPr>
        <p:spPr>
          <a:xfrm>
            <a:off x="611280" y="1341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紧紧地拥抱着金吉娅。这个圣诞节，她不但送给我们棒棒糖，还送给我们善良、仁爱、同情和体贴，以及一个陌生女孩如愿以偿的笑脸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7:08:14Z</dcterms:created>
  <dc:creator>第一PPT模板网-WWW.1PPT.COM</dc:creator>
  <dc:description>第一PPT模板网-WWW.1PPT.COM
</dc:description>
  <dc:language>en-US</dc:language>
  <cp:lastModifiedBy>a</cp:lastModifiedBy>
  <dcterms:modified xsi:type="dcterms:W3CDTF">2015-02-09T01:57:08Z</dcterms:modified>
  <cp:revision>14</cp:revision>
  <dc:subject/>
  <dc:title>第一PPT模板网-WWW.1PPT.COM</dc:title>
</cp:coreProperties>
</file>