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F0B-3E08-4851-ADC9-C045DC17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380-7D41-4ED4-9439-C5E05A4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73E79-5F7D-4F0A-A585-A22ED543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B4EC8-EE05-4F07-87A2-9EDC8CB1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0AC9-FC9E-499C-B304-C8ADB1F1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D094B-E1F9-4BF9-8908-E2F3313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D2D69-1F2D-408A-A4AA-8730F2B8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176A7-7338-4C9A-AF8E-F688EF7D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11DDD-7ED2-4E78-91CA-B04021A5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10DB-908D-4644-8E46-346C62B4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A9558-AADA-453F-8D76-E5784BFA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05786-4500-481D-B31F-C80159CA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D49-BF5B-45B0-A881-40110E87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1E484-C6B5-4CA5-90FF-66D627A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4FD77-BDB4-49C0-8201-C1B9F5C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78FEA-1552-42A6-9424-A144EE16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26C42-FB7A-4661-979A-2933EFED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1E5B5-2985-42E5-ACC5-005768E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A7F93-C050-4611-B274-A6024C1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60E46-6F69-4CCE-B146-4DFAA84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36D23-BA4A-4F75-962D-784A8BF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F61B4-F9C7-4F6C-A891-C3033AEE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4F710-6331-4986-8E0C-555815D2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DD-D143-4C26-BDA6-E3CF342F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6DD31-422B-43E9-9A76-02DFFDE5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32BA2-32BF-495D-B974-1627099D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77564-6E14-4897-9CBA-63810C5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F2F3-65BC-422E-B7E5-DF3FEB8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729FF-5FD5-4507-8D39-02C8578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7CF5-8C1F-4DAB-953F-EC14B4D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B4C3F-BD9D-4D8D-A05A-3FF931C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7630-AFBF-408E-984D-17EAE06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1566-2CCB-4ED6-A2F8-96876B1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F54F-1778-4E01-9436-82C36D7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072-9473-4721-B037-51F01FBB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0177F-CF91-4AA6-BD5F-2BAC563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0B88A-A09E-4B7D-A218-934AB878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0378-01A7-4C3F-9750-E10AE76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D529B-5305-48E7-A756-8A9D428B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E3A69-32F1-4023-9818-382CF97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34F5B-474E-4518-9063-63DD8C40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A7940-380F-46FD-B7F1-D230432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308AB-534F-41A5-939C-0782DBA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F253C-5A22-4881-8B1F-5EAEAB8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5B9C0-951B-4658-9B44-C4FD958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E38-D709-4BD3-A5B8-BD08324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B4F20-EC66-4E56-90D4-9304496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BBCFF-5FA9-4056-8461-0BF6A19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B2A0-DCA1-4CCE-841E-00A95D48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2A0F-A418-412B-A405-F76FD6E5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F0482-31A4-42ED-BDCE-D97A50A6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052DD-8AEC-4300-9320-D5EAC6CD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77E1B-6266-4845-B8A7-E9FD49CF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F47BC-FE06-48A4-A8AA-2669EEA9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2B8CE-9A47-4128-A517-76F32906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33025-2F1B-4DC4-9591-567C5A6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7579-A7ED-426E-B448-2104EBBA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363B5-51CF-4169-AD91-13F93EB7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027C3-141A-4E82-917B-6DF210A1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25A17-6DC1-412F-B0CA-6E57703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4B2D8-1BB2-4F58-908F-A3CE2F0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B0512-6404-45F5-8BB5-F326C7E4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4FF46-22AB-4C67-A625-D4821EB7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8A19B-450F-455D-B5FD-77B0487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DC70E-3414-40BC-B763-C3C652CF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C3A8C-FB84-4FE1-8579-27CC9FC9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37A08-1174-4331-9EC2-47B5DF3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9D70-9613-41C8-81D5-10AB5A57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86C7F-40E7-40A3-B13F-230185D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F4960-60B3-4AAE-BB5C-494F4FB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D58A-6213-4B8E-881D-96ED55AA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D5A3B-E6AC-4A19-82D7-A43D090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5283D-DDE4-46EA-BE50-77E2E5D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96175-CA8A-4DE7-9B6B-03DFFF1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240F6-2933-434A-B6EF-9EFF821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45F0A-68C9-4F07-9162-2EF08605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38A98-FDD1-48E3-8E32-7E8039EB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4D334-D8A4-495B-91FB-FF87849C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EF8-6A0E-45BC-BB75-DB2FD1FB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B2466-4AF4-4CF9-8725-99BFBA6E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E1856-719D-424E-8326-238CE28A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569B7-918A-48BC-B487-0C016514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00773-47AF-4C8E-AEA4-AF5F5DC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0AC54-8951-4DBF-9E3A-7C1EAFC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28869-DCA6-479E-927A-2F5385B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1DCDF-BB90-4842-8B5D-08C6B35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DA280-382E-4BB3-AAA9-8F668E5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CE37A-A942-4B37-9FBC-F1EEA31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C3C74-0718-462B-9C3F-3A1A9060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4BB7-6662-4BE8-9B74-16A0B7D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B86C1-0D13-4A91-9635-F9A150F7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724-E2D0-4AF7-BF3D-32B70F0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2AE-4545-42F3-BECF-A8D37FE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BA3A-31EF-4B8B-A3A1-D4F8839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DA5F-2428-4CF2-A8EE-3456EE29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E51D-65A8-4294-85F4-4BA4CA9E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2BA3-7AD8-4253-A729-71785DB4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FEC8-633B-4AC0-A327-D0AE0450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3908-ECE3-4C12-A6CF-0CD45D40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3787-C7C9-4549-A527-C0005B91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7A58-54D9-442B-A966-BBF431F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DDEF-09A2-43C0-96EE-FB208082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E2D1-8A75-4958-80E0-05F20D22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2E5-7CF5-410F-B14B-208B6589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D8385-D6CF-4D6F-9631-F458AF08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2F45-B2A3-431C-AD5E-ACF807D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B210-70CA-49F5-A7C4-7BBB9283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5DC9-5180-48B8-9CF5-8D07138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D51A-176E-4784-BA56-0ADEC28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2044-5D13-45B6-9C9C-6053D803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4702-0BA5-4452-8225-872D0748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FF6D-246E-43AF-9C23-5C2B21F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64B7-527C-437E-A0AF-BF5069D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7323-3EC3-4B36-983D-0E59DD1F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D3D-F5F8-4CA6-9F69-5C006A8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2960-8C4F-4DD9-BD6D-214991D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6CB3-C079-4CE9-9DA5-EBB85123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846A-2F38-4F9C-A4BE-0A62E95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A0FF-4246-40CC-B99E-64BCBA4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C900-4524-4AB1-8986-A6EDA480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26C3-A228-4B62-80A2-85AE344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88A7-8D4E-4CC0-85D9-ABE4F6C8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2AA2-9406-47DD-A61B-E6E2A351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3008-EEB6-4B7A-AD95-C911BB3A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F14E-DA99-4728-8A96-D6461B80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916-0EFB-4569-9DF4-D501CEA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A8FA-44A5-423E-ABC5-06C6E71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8B694-1E53-4EEA-AED5-C34F2E54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509B-16C0-43C6-A8B0-C6D3611C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5DD7-84C7-4649-A55C-44F713A5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FD21-C283-47AD-8D44-64BC52A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478D-DB60-484B-A779-10529F1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52B33-6FA8-45AD-91D1-ADB745E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0EA7-005F-44F1-A55F-464FEA1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4CB9-5A5E-4070-9F21-29DCFBB3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814C-624F-429F-9A23-E8EF6459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15F-9A17-4EBA-AD29-D77EFF6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3788-B5ED-496D-8A5B-B2B47DB1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9D20C-E561-40E0-8617-B448C9DE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0C5C-FD9C-4C77-B9A2-7DA4A52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1E76-627F-49D8-8170-722FE27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198A-0B23-45E3-9FBC-8DD0C8B4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C9D20-40DC-4254-BEE7-DB7A352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C124-3D35-4E4B-8194-D83BF8B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AA90-37EE-4F05-840A-86FEB3C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90E3-C176-4CDC-B47E-697B908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56EE-4809-4C62-B6F9-FEE74AE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AA-79DC-4D67-B8A6-7CC6C36A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09312-E816-48C3-8949-E1328B87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0CEBD-C517-4270-8862-FFD2ABA9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D282-76E2-4152-80C8-C4B80AC1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35A3-FB6A-4ECE-9CC6-5FFF7073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01D4-9CC5-4BB6-A120-1B7653A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455A-3B5B-4446-B028-D521F4E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B4DFF-3E7C-467E-85FF-D1592E2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0EE7-4522-4ADF-A95D-2A18B70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DA05-171E-496D-9EF3-2C7CD7B3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4E6C-19FD-4EB2-9047-7A88B940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405-993B-455E-AD60-8835846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61C4-3473-44DA-AAC3-8EE01A8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24A2B-0EA9-4190-9101-427FEA2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01654-EB6F-4A6D-9328-9B049AAB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FDB86-18EC-4FCB-B624-0B71B15D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5D31-B9A7-48B1-B5EE-9AFECB9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1849-824D-4FAE-BAFE-C7F3CE3F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B742-2956-41C3-A9BB-6EEFBA7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3E0D-976B-4B99-AFBA-F020C213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EA207-5DD8-4A92-8925-EB74F79E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DA23-52EE-47AF-9419-140B359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47E-E438-40D4-9E80-74A9B11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FC048-D6D8-4ACA-9BD5-BF424C3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DDD4-7CBE-4845-9EF8-9DD6457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C544-D68E-4215-8B69-9950293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F555F-06BC-466B-859F-B0C5D9B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3C282-C759-4E1D-887E-9C2FAD5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8E4A-C6A7-41EC-99CF-66237076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A529-65DC-4AF4-B8E8-A0FF8DBC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E645D-4BF0-4468-B71B-09FC51A2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6BF18-A498-478D-B50D-6A7864E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8F11-1A99-4784-88E5-800FF1D7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257A-FFBC-4A81-9145-716D3C94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B5F7-A4A7-4B5C-ACE2-2843B309D2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8893-7638-4E42-B48C-F21792752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FE5-91FE-49F1-A0C0-361FEBECFE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2EA-D9AD-4443-9643-3AEE4CC55B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59C-1650-48ED-8163-CFB8DEC8BD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765-C4D1-4FE3-A161-C35F0F5469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DD2-6220-46C9-8EC3-0724F0183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E61-DB0D-46D9-8B60-6BC97C53C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EFB-AF06-4EE1-94FB-71286C83F3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903-98A8-47EC-B91E-D284A025F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7FF-1D99-4664-A79B-F2C471FB7F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A4C6-A5DC-4EBF-AD9D-D6E2750117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238-50FA-4A96-942F-74D6AB55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98F-12A8-4318-8385-7231F1E33E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7121-7628-4861-A96C-036BACCBE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25F1-F331-437D-97D3-73BA2135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AE5-FFEA-4996-9548-022A3BC765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D8E-B89F-4B0A-9399-FAD00854B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DC8-9A86-46EC-B56B-1081D16397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BF3-EF4A-47E3-AE7F-0C133DECF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1C5-8765-4F94-93EB-E3C7940C15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F22C-5DB5-4E0B-9379-CA3FC3F21B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98E4-8A3E-4481-982B-B0E1BFA155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02C-1E26-4CB5-B508-EDDAFAD99D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4C5B-1CAC-4E43-89E0-30FF4E0D4F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0507-D82B-450F-BA61-AB1A5BC349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14.xml"/><Relationship Id="rId22" Type="http://schemas.openxmlformats.org/officeDocument/2006/relationships/slide" Target="slide24.xml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BJ2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WordArt 5"/>
          <p:cNvSpPr txBox="1"/>
          <p:nvPr/>
        </p:nvSpPr>
        <p:spPr>
          <a:xfrm>
            <a:off x="1332000" y="1341360"/>
            <a:ext cx="70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solidFill>
                  <a:srgbClr val="008000"/>
                </a:solidFill>
                <a:latin typeface="隶书"/>
              </a:rPr>
              <a:t>火车的故事</a:t>
            </a:r>
            <a:endParaRPr b="1" i="1" lang="en-US" sz="7200" spc="1" strike="noStrike">
              <a:ln w="0">
                <a:noFill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79280" y="189000"/>
            <a:ext cx="5977080" cy="70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义务教育课程标准实验教科书小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032000" y="544500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教学设计：王晓君           课件制作：王晓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3" descr="AG00370_"/>
          <p:cNvPicPr/>
          <p:nvPr/>
        </p:nvPicPr>
        <p:blipFill>
          <a:blip r:embed="rId2"/>
          <a:stretch/>
        </p:blipFill>
        <p:spPr>
          <a:xfrm>
            <a:off x="762120" y="5013360"/>
            <a:ext cx="1722240" cy="10796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4"/>
          <p:cNvSpPr/>
          <p:nvPr/>
        </p:nvSpPr>
        <p:spPr>
          <a:xfrm>
            <a:off x="4336920" y="609300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温州市实验小学 “课时锦囊”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4548600" y="4076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这真是一个了不起的创举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这天晚上，小明梦见自己成了一名火车司机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33cc33"/>
                </a:solidFill>
                <a:latin typeface="Arial"/>
              </a:rPr>
              <a:t>郊  列  弄  查  速断  提  修  建  世界  创  梦  名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395280" y="333360"/>
            <a:ext cx="8748720" cy="18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明查了好几本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原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节一节的车厢是由机车带动的。最早的机车是蒸汽机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把内燃机装到火车上，制成了内燃机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后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又发明了电力火车、磁悬 浮火车。这样的火车速度快，污染小，真称得上是“绿色环保型”火车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8028000" y="1628640"/>
            <a:ext cx="90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1682280" y="1989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6153120" y="36450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í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5796000" y="443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4281480" y="5229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4"/>
          <p:cNvSpPr/>
          <p:nvPr/>
        </p:nvSpPr>
        <p:spPr>
          <a:xfrm>
            <a:off x="6012000" y="2421000"/>
            <a:ext cx="90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5364000" y="278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395280" y="333360"/>
            <a:ext cx="8748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明查了好几本书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原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节一节的车厢是由机车带动的。最早的机车是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蒸汽机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来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把内燃机装到火车上，制成了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内燃机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后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又发明了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电力火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磁悬 浮火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这样的火车速度快，污染小，真称得上是“绿色环保型”火车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8028000" y="1628640"/>
            <a:ext cx="90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682280" y="1989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153120" y="36450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í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5796000" y="443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4281480" y="522936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6012000" y="2421000"/>
            <a:ext cx="90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9"/>
          <p:cNvSpPr/>
          <p:nvPr/>
        </p:nvSpPr>
        <p:spPr>
          <a:xfrm>
            <a:off x="1476360" y="5445000"/>
            <a:ext cx="2448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1979640" y="299736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1"/>
          <p:cNvSpPr/>
          <p:nvPr/>
        </p:nvSpPr>
        <p:spPr>
          <a:xfrm>
            <a:off x="5580000" y="371628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2"/>
          <p:cNvSpPr/>
          <p:nvPr/>
        </p:nvSpPr>
        <p:spPr>
          <a:xfrm>
            <a:off x="6659640" y="4508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3"/>
          <p:cNvSpPr/>
          <p:nvPr/>
        </p:nvSpPr>
        <p:spPr>
          <a:xfrm>
            <a:off x="4067280" y="4508640"/>
            <a:ext cx="20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4"/>
          <p:cNvSpPr/>
          <p:nvPr/>
        </p:nvSpPr>
        <p:spPr>
          <a:xfrm>
            <a:off x="468360" y="544500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5435640" y="278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4"/>
          <p:cNvSpPr/>
          <p:nvPr/>
        </p:nvSpPr>
        <p:spPr>
          <a:xfrm>
            <a:off x="755640" y="1341360"/>
            <a:ext cx="7920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爸爸告诉小明，我国的火车不断提速。现在从北京到上海，可以夕发朝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4356000" y="33577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ī        zhāo  zhì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4"/>
          <p:cNvSpPr/>
          <p:nvPr/>
        </p:nvSpPr>
        <p:spPr>
          <a:xfrm>
            <a:off x="611280" y="692280"/>
            <a:ext cx="806436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爸爸讲，我国正在修建世界上海拔最高的铁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藏铁路。等铁路修成了，火车就可以开到“世界屋脊”上了。这真是一个了不起的创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392436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7590240" y="1773360"/>
            <a:ext cx="15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"/>
          <p:cNvSpPr/>
          <p:nvPr/>
        </p:nvSpPr>
        <p:spPr>
          <a:xfrm>
            <a:off x="611280" y="692280"/>
            <a:ext cx="806436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爸爸讲，我国正在修建世界上海拔最高的铁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藏铁路。等铁路修成了，火车就可以开到“世界屋脊”上了。这真是一个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了不起的创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392436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7590240" y="1773360"/>
            <a:ext cx="15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611280" y="260280"/>
            <a:ext cx="806436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天晚上，小明梦见自己成了一名火车司机，架着新型的高速火车，在祖国的大地上飞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青藏铁路"/>
          <p:cNvPicPr/>
          <p:nvPr/>
        </p:nvPicPr>
        <p:blipFill>
          <a:blip r:embed="rId1"/>
          <a:stretch/>
        </p:blipFill>
        <p:spPr>
          <a:xfrm>
            <a:off x="4140360" y="3479760"/>
            <a:ext cx="3887640" cy="293364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5"/>
          <p:cNvSpPr/>
          <p:nvPr/>
        </p:nvSpPr>
        <p:spPr>
          <a:xfrm>
            <a:off x="822600" y="21337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4"/>
          <p:cNvSpPr/>
          <p:nvPr/>
        </p:nvSpPr>
        <p:spPr>
          <a:xfrm>
            <a:off x="1042920" y="981000"/>
            <a:ext cx="7489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  快速  提高  提醒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想  做梦  查看  查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创  创新  修改  修理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4"/>
          <p:cNvSpPr/>
          <p:nvPr/>
        </p:nvSpPr>
        <p:spPr>
          <a:xfrm>
            <a:off x="755640" y="0"/>
            <a:ext cx="784872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郊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游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一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列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弄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明白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查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  不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断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提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速 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修建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世界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举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梦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见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一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755640" y="2852640"/>
            <a:ext cx="78487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驰而过  鼓励  海拔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7" action="ppaction://hlinksldjump"/>
              </a:rPr>
              <a:t>蒸汽机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8" action="ppaction://hlinksldjump"/>
              </a:rPr>
              <a:t>内燃机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9" action="ppaction://hlinksldjump"/>
              </a:rPr>
              <a:t>电力火车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0" action="ppaction://hlinksldjump"/>
              </a:rPr>
              <a:t>磁 悬 浮火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1" action="ppaction://hlinksldjump"/>
              </a:rPr>
              <a:t>污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新型  夕发朝至  世界屋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藏铁路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2" action="ppaction://hlinksldjump"/>
              </a:rPr>
              <a:t>绿色环保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1209240" y="2781360"/>
            <a:ext cx="58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í                 gǔ  lì             bá    zhē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611280" y="364500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èi  rán                                              cí   xuán 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611280" y="443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ū  rán         xíng     xī    zhāo  zhì                     jǐ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730080" y="530064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                                 xí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250920" y="260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蒸汽机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它烧煤炭，从上面的烟囱冒出浓浓的黑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1042920" y="907920"/>
            <a:ext cx="7489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内燃机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它烧汽油、柴油或煤气，没有太多烟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4"/>
          <p:cNvSpPr/>
          <p:nvPr/>
        </p:nvSpPr>
        <p:spPr>
          <a:xfrm>
            <a:off x="250920" y="476280"/>
            <a:ext cx="8642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电力机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电力机车的车顶上有电线。它行驶时，下面靠两根铁轨，上面靠电线提供能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5" descr="电车"/>
          <p:cNvPicPr/>
          <p:nvPr/>
        </p:nvPicPr>
        <p:blipFill>
          <a:blip r:embed="rId1"/>
          <a:stretch/>
        </p:blipFill>
        <p:spPr>
          <a:xfrm>
            <a:off x="2340000" y="3789360"/>
            <a:ext cx="3960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4"/>
          <p:cNvSpPr/>
          <p:nvPr/>
        </p:nvSpPr>
        <p:spPr>
          <a:xfrm>
            <a:off x="250920" y="189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磁悬浮火车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今世界上最先进的火车，速度快，接近普通飞机。这种火车只有中间一根铁轨，最特别的是：它是浮在轨道上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5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8137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4"/>
          <p:cNvSpPr/>
          <p:nvPr/>
        </p:nvSpPr>
        <p:spPr>
          <a:xfrm>
            <a:off x="900000" y="1413000"/>
            <a:ext cx="74170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这样的火车速度快，污染小，真称得上是“绿色环保型”火车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4"/>
          <p:cNvSpPr txBox="1"/>
          <p:nvPr/>
        </p:nvSpPr>
        <p:spPr>
          <a:xfrm>
            <a:off x="1835280" y="1484280"/>
            <a:ext cx="5400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我的梦？</a:t>
            </a:r>
            <a:endParaRPr b="1" i="1" lang="en-US" sz="9600" spc="1" strike="noStrike">
              <a:ln w="9360">
                <a:solidFill>
                  <a:srgbClr val="ff00ff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小明和爸爸去郊游。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他们看到一列火车飞驰而过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8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爸爸鼓励他自己弄明白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小明查了好几本书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54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爸爸告诉小明，我国的火车不断提速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4800" spc="-1" strike="noStrike" u="sng">
                <a:solidFill>
                  <a:srgbClr val="cc0066"/>
                </a:solidFill>
                <a:uFillTx/>
                <a:latin typeface="Arial"/>
                <a:hlinkClick r:id="rId1" action="ppaction://hlinksldjump"/>
              </a:rPr>
              <a:t>听爸爸讲，我国正在修建世界上海拔最高的铁路</a:t>
            </a:r>
            <a:r>
              <a:rPr b="0" lang="en-US" sz="48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——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青藏铁路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6:01:18Z</dcterms:created>
  <dc:creator>jh</dc:creator>
  <dc:description/>
  <dc:language>en-US</dc:language>
  <cp:lastModifiedBy>a</cp:lastModifiedBy>
  <dcterms:modified xsi:type="dcterms:W3CDTF">2015-03-17T06:12:43Z</dcterms:modified>
  <cp:revision>29</cp:revision>
  <dc:subject/>
  <dc:title>幻灯片 1</dc:title>
</cp:coreProperties>
</file>