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A43-5875-4784-B125-B82069C6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24F-C100-47DD-95A9-7BB2FA69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A95DD-18DE-4BAE-B832-AB6BCD64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A9465-5F3D-4DA0-AA66-33515059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3E437-0641-49C5-9988-12BFC50A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17A47-09A1-4544-B282-228839C5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DD5B9-5459-4828-B3CA-DAFE979E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D8F75-B1BE-4A8C-8A55-4B51D07A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41A2E-4F1A-45F6-AB27-0A42891A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059F9-FC31-4368-BD4C-824D7EF5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9880D-EA49-4CD2-99FF-E082EDA6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EE6FA-4D74-4934-A3E4-35A9A30F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CE4-32DC-43EE-AEE1-B07ED744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C665D-E992-4E0F-91B3-F56FF193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BF912-2FEF-4297-914C-C3BA4A1E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548B2-C2BD-4038-AE7D-69DA78B9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A360A-9D9A-464F-8FB2-AC60D0A8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D2A81-59CF-495B-AD24-21B7BD2A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B6E8E-EADB-4C18-AA70-C257413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F8D2C-045C-48A8-85BD-C48223F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3BE43-9319-4E4B-8AEE-DEFF61D9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36B84-6BAC-442D-8574-2B705B7E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4DECC-D54B-4584-944E-29A02FA4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3AF-C02C-4777-929D-CCB34905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A4598-3FA2-4626-BD5D-F310E40E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38AD7-3D36-49FF-AE11-7047AFCF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ECDEB-088D-4AE4-A0B5-23247B79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E8754-B749-4100-920F-19E3FDD7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32A63-7BF0-47F5-9F6E-212F2AF1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0B3EA-816E-4BB3-BD01-466C4DE8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3CAE6-7B88-4560-9A7B-22A60DC2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16D15-6E11-4261-9C94-07171481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CE6EC-1231-4070-9CA6-EC6D7396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41971-85A7-4095-939C-38CEC765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2F0F-7F7D-4C4D-9462-4DDA6EFC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A69F5-B2A1-469C-9CB5-18FD7DF6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0EA9F-BDCE-4015-8579-53C8BF58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DB2A5-AC13-49C8-9B7F-1964EBCE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2AB56-2099-4A55-9466-7E03E102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27AFB-4097-4269-B76B-2D406CA2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EEA3C-AB2F-4F68-A6A6-1B81F2A6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8A210-0C60-4265-A46F-5F6619E7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895A4-C6EE-468E-8BCD-CBC660C9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B6B7B-99B3-40A5-AFD1-C9F183E9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A1514-DEA0-4311-9A42-B080FB0F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6020-F241-4B4D-9D76-6E26BAC7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36CB3-B9FA-4A9C-B298-9870A153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272F5-8E41-4B36-8E57-A908222A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0A873-BB3F-4773-9E8B-787DCCB5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86500-2BE4-40DC-921E-CCAE941C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72ED1-1E7E-4B41-A86E-15A83080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CC5B1-B180-49EC-965D-87C17293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293CC-6A84-44C6-880B-21552BC0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F2B6B-F37A-47C1-8653-2A93B739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D8843-8CB7-42C9-9DF4-2943779D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1D55A-1F7D-4776-9736-C90403CF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FC42-E4DD-4477-85B0-AEE1F8E0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156AA-0D19-4336-ADD5-C0B11F53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D456A-0A06-44E9-B95F-7C695CE0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D861C-8145-4EFE-A5BE-8190E68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1FF9D-C1A8-4B76-A61C-2868E2AA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12104-3CD1-4FCE-87F2-EC03530C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F0AE5-C99E-4EA2-BA49-D7BE4668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AF43E-6CB0-4216-8B4E-1BE3CABD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C9C8-A822-4297-8BAC-10311B1E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A2F0-249E-41A2-9523-F3D17CBE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1E0A-D976-4919-B00E-247F55A5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D3D7-7A41-41B6-8207-93E4AC48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3A6-9690-41F3-A19D-01293BB5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5DB-579F-47D0-93F2-F24E9F42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7A8D-44E4-477F-962B-61D6F317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3320-0C13-4C64-A280-7CCA7164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50EC-85A4-49C2-A3AE-98615AF7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D9BA-57D8-4407-8E70-971DA944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2D22-33EE-4D35-95BD-10A5AF06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AA17-FF4E-4801-94C7-7BD82202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5E4F-7F7D-489A-8964-CB507F89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94D05-70B6-4E43-B206-5C86F462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922E-F2C1-4A83-9CD1-E9778EFC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07E-BECC-4A5B-9271-77293A2F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9CFB3-80D8-4D40-9925-F075FE5A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FEA0-96D8-4426-B802-0B62C894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3C8E-9CB7-427E-A671-9B43A41F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1E0A-1CC3-47F8-954C-DB4DA9E4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E670-1004-48E1-963F-4020FE10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F5C70-812C-4318-A13D-0DFE1D2C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BDE7-D02E-4CFE-AD60-B15C61A6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95BC-0E77-458C-987E-04C75CDC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300B-A364-4FDE-BD10-FD2D98FD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66745-A544-4A8C-BB7C-A6C4EF15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834-1019-4D0F-A96D-EA4F65ED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6A047-CAF3-4598-A9D7-E445FFBA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394B-8C80-493C-97FB-9648284E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EA035-4C0B-4E77-AEF4-5E655423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C2520-63C8-40ED-A4A2-40138A0B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0506-438B-438B-9460-F6B7BDE8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1DBD-A110-4FDE-B4F1-9A5F7AB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A1B52-BE0C-416A-934D-E4459100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CC7D4-15C9-46AC-86DF-1AA4FF50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5EC35-BDC2-4286-99C5-9568F84A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47BE-FD44-415D-9AFF-42448DFB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FD0-4B09-4515-8797-E5C64D5C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0DD44-9559-446F-933D-1552DAA2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486B6-EE1B-4764-B378-1B737BD1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C982E-7D54-4D08-A3AC-94BAB9CC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99BF1-C11C-45C7-B7AA-197A0395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E6E2A-2908-4554-A887-476DA417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BB79-7AB4-4392-BABD-F2DE98CB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AB37C-0A3E-431C-BAB8-EDCEFB13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9B175-54C8-4606-82D5-96C0FA52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579E0-EC9A-4CBE-9625-A35DAED5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2CF7-B388-42FD-AA4E-F384961C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B31-0857-4B62-8D6E-CAB5B6C7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0AD0B-CCC3-4182-AF65-FE46707C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D87FD-4B09-4A4F-9A9D-A571DBA2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90380-F1E8-46A5-961E-0FCF002A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CDB2B-767E-458E-83D6-A375F1D2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5B472-B991-4C0F-8F3C-5574AF13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25641-0172-4612-BDE4-4393889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8C34-5B75-4010-92A2-550189C6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C5B5D-4189-48C6-B6F9-5D3B6DC9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44B65-0841-4F7B-97B1-86CC193A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360C4-71D0-4B99-9410-6791727D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000-5F01-4D06-96CF-BB40AC30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B4100-B293-4331-A896-0F64D481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CFDFF-8075-49B2-9B2F-A389BEE9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47783-0C35-40A6-B1B8-EC1EF204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27A36-109F-48E2-9F52-781B7DCD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16EE5-2A28-46F8-82AE-8C6D7F0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0F47E-DD4B-4848-8128-A4C44453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AEDB0-AF30-45D9-A123-1B77EA02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16C86-2C39-4596-9FC5-C9FF1E1A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26AAC-7C33-48EC-A800-65434B55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2180B-8A44-4C10-8D0C-239A800D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C75-AB16-48D3-9E87-4E99F813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1456-176C-4239-801F-36F5A13A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8D34C-3713-47AC-8E89-10324F6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A2E6-94ED-44EB-A622-384BD7AE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6DDB9-F9C3-47CB-9721-04749F7B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88C28-4F6F-441D-92BF-8F1417AB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26307-38BF-4E72-A411-D96818EE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D404D-66A3-4E3C-A550-0F35FC16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BA862-326A-44A6-BCD7-A9853CF0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5B884-4C71-4FC3-A0B2-FAFCF4D1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A8CFE-331C-4E34-9EB8-EFC352FA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9C1-943E-412A-9217-38652C93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50B7C-FAA1-4319-8DB3-5D67195E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7ED99-1EB5-4B56-924E-A291422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0FD87-C719-4E01-8104-17D9DE98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0A8E0-2144-421A-A763-D86AC4F9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F4DF7-785D-4C04-806A-7F848ED0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967AB-2226-4995-8F99-7C24B3B3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7B93E-3C01-43E4-BF21-FAC703D7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3CDEE-FBF9-4CD7-B8B0-53B48E7D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9B5D7-D961-452E-BCAB-D639CB5E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63416-A334-4348-90ED-9BA4FA08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D58-ED87-479C-865F-19DC9592C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C011-A542-415C-B935-40BE849D3C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CC8-F0B1-46D3-85A0-BCD9522834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E0E7-92E4-4E0D-BB94-B277F2A908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A54D-7C71-484C-BD86-CE9FC3548E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5B68-DCBC-4740-97A0-46B02C0A18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E842-521B-4482-9BF0-3B1518DAC7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2190-83A2-41EF-BE29-1A23465DD6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05A4-0357-450A-8006-A3C2A0CF52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F06B-434B-418D-B9E3-B9E2FD275B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7073-0239-4B6D-A18C-44D00B4127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5632-5DA5-4C14-ABC4-2E27E01080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592B-3CA7-4843-B9A0-6FBF510939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D260-8031-4130-807D-7013957AAE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DA26-62AC-41EA-BEA3-1A8FC96D0E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B9B1-31F3-46C9-8DE0-9ADD3BA9C8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F356-6D58-4655-B01F-CA49A07BDC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ECE8-4C2A-4940-883C-52A7342DBB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9D31-AF16-4DD8-97EC-2B95999DA6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4465-BB2B-47EF-88F6-E1B8F24647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14CC-5941-4E29-8AE9-9325B5889F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6096-0E6F-41D9-90F5-750383F92F0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FE41-A9E8-47E6-94F8-FB9BF660F7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C5D2-0254-4D05-A60F-FDF7D6E0F9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0E0D-4390-4FFA-B512-CEE10EC998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Frame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"/>
          <p:cNvSpPr/>
          <p:nvPr/>
        </p:nvSpPr>
        <p:spPr>
          <a:xfrm>
            <a:off x="755640" y="90792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大自然的花，万紫千红，争奇斗妍。同学们，当你漫步花园，尽情享受着春之兰，夏之荷，秋之菊，冬之梅赐给你的绚丽、芬芳时，你可曾想过：这些花为什么这样红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Frame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"/>
          <p:cNvSpPr/>
          <p:nvPr/>
        </p:nvSpPr>
        <p:spPr>
          <a:xfrm>
            <a:off x="826920" y="928800"/>
            <a:ext cx="727416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理清文章结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了解本文的说明顺序：逻辑顺序和时间顺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培养学生探索大自然奥秘的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1" descr="Frame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9308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8000"/>
                </a:solidFill>
                <a:latin typeface="Times New Roman"/>
                <a:ea typeface="隶书"/>
              </a:rPr>
              <a:t>说明文有关知识回顾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24000" y="2637000"/>
            <a:ext cx="8640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、说明文是以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方正姚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为主要表达方式的一种文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、按说明对象和说明目的的划分，说明文可分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方正姚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明文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方正姚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明文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姚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3924360" y="2565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说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3635280" y="4724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事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6588000" y="47242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事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-2057400" y="228240"/>
            <a:ext cx="118872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物说明：介绍事物的形状、构造、                        特点、功能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事理说明：解释事物含义、原理、关系、     演变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说明方法：下定义、分类别、举例子、作比较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打比方、列数字、画图表、作引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空间顺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时间顺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说明顺序   逻辑顺序：概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体，整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现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质，原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果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特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途，主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要</a:t>
            </a:r>
            <a:br>
              <a:rPr sz="28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7" name="AutoShape 3"/>
          <p:cNvSpPr/>
          <p:nvPr/>
        </p:nvSpPr>
        <p:spPr>
          <a:xfrm>
            <a:off x="2590920" y="10666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2556000" y="112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2700360" y="1066680"/>
            <a:ext cx="71280" cy="1498680"/>
          </a:xfrm>
          <a:custGeom>
            <a:avLst/>
            <a:gdLst>
              <a:gd name="textAreaLeft" fmla="*/ 45720 w 71280"/>
              <a:gd name="textAreaRight" fmla="*/ 71640 w 71280"/>
              <a:gd name="textAreaTop" fmla="*/ 38880 h 1498680"/>
              <a:gd name="textAreaBottom" fmla="*/ 1459800 h 14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89"/>
                </a:lnTo>
                <a:cubicBezTo>
                  <a:pt x="10800" y="10289"/>
                  <a:pt x="5400" y="11189"/>
                  <a:pt x="0" y="11189"/>
                </a:cubicBezTo>
                <a:cubicBezTo>
                  <a:pt x="5400" y="11189"/>
                  <a:pt x="10800" y="12089"/>
                  <a:pt x="10800" y="129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971800" y="3733920"/>
            <a:ext cx="114480" cy="1882800"/>
          </a:xfrm>
          <a:custGeom>
            <a:avLst/>
            <a:gdLst>
              <a:gd name="textAreaLeft" fmla="*/ 73080 w 114480"/>
              <a:gd name="textAreaRight" fmla="*/ 114840 w 114480"/>
              <a:gd name="textAreaTop" fmla="*/ 48960 h 1882800"/>
              <a:gd name="textAreaBottom" fmla="*/ 183384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4876920" y="4572000"/>
            <a:ext cx="114120" cy="990720"/>
          </a:xfrm>
          <a:custGeom>
            <a:avLst/>
            <a:gdLst>
              <a:gd name="textAreaLeft" fmla="*/ 73080 w 114120"/>
              <a:gd name="textAreaRight" fmla="*/ 114480 w 1141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990720" y="728640"/>
            <a:ext cx="576000" cy="5400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380880" y="2286000"/>
            <a:ext cx="1447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0"/>
          <p:cNvSpPr/>
          <p:nvPr/>
        </p:nvSpPr>
        <p:spPr>
          <a:xfrm>
            <a:off x="3203640" y="278136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3203640" y="2997360"/>
            <a:ext cx="73080" cy="57600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1692360" y="1557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 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8915400" cy="47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体裁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说明文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文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题目中的“红”的含义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用词语回答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划分文章段落，理清结构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2843280" y="1916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事理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1042920" y="350028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五彩缤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0" y="333360"/>
            <a:ext cx="47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学指导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1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4067280" y="620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读课文完成下列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6156360" y="134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799308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段）总：赞叹红花的鲜艳美丽、并提出“花   儿为什么这样红”的问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—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段）分：分别从六个不同角度说明花儿为什么这样红的原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、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段）总：概括花红的原因 、总结全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684360" y="551664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疑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总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--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疑（分说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结（总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559640" cy="404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速读文章第二部分，看看文章从哪些方面说明花红的原 因的？并给第二部分分层次。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250920" y="333360"/>
            <a:ext cx="41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学指导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Line 11"/>
          <p:cNvSpPr/>
          <p:nvPr/>
        </p:nvSpPr>
        <p:spPr>
          <a:xfrm>
            <a:off x="1752480" y="2971800"/>
            <a:ext cx="8654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0" y="-352440"/>
            <a:ext cx="9144000" cy="72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提出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花儿为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么这样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2971800" y="304920"/>
            <a:ext cx="230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一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-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部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048120" y="3860640"/>
            <a:ext cx="244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-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部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15"/>
          <p:cNvSpPr/>
          <p:nvPr/>
        </p:nvSpPr>
        <p:spPr>
          <a:xfrm>
            <a:off x="2666880" y="304920"/>
            <a:ext cx="576360" cy="5400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29200" y="0"/>
            <a:ext cx="4356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花儿的物质基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花青素和胡萝卜素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物理学原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光波的反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生理上的需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热效应的大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7"/>
          <p:cNvSpPr/>
          <p:nvPr/>
        </p:nvSpPr>
        <p:spPr>
          <a:xfrm>
            <a:off x="4788000" y="3500280"/>
            <a:ext cx="288720" cy="2808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8"/>
          <p:cNvSpPr/>
          <p:nvPr/>
        </p:nvSpPr>
        <p:spPr>
          <a:xfrm>
            <a:off x="4643280" y="0"/>
            <a:ext cx="433440" cy="3068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9920 h 3068640"/>
              <a:gd name="textAreaBottom" fmla="*/ 2988720 h 306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4932360" y="3573360"/>
            <a:ext cx="42116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生物进化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以绿色为起点向两端发展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自然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昆虫的作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人工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加快进程，增添新品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77770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认真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—6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段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7—1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段看看分别采用了怎样的说明顺序？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分钟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4960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*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逻辑顺序（横向说明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*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时间顺序（纵向说明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395280" y="33336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学指导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3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2"/>
          <p:cNvSpPr/>
          <p:nvPr/>
        </p:nvSpPr>
        <p:spPr>
          <a:xfrm>
            <a:off x="324000" y="692280"/>
            <a:ext cx="856908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黑体"/>
                <a:ea typeface="黑体"/>
              </a:rPr>
              <a:t>本文语言准确严密，你能从文中试举几例来分析吗</a:t>
            </a:r>
            <a:r>
              <a:rPr b="1" lang="en-US" sz="4800" spc="-1" strike="noStrike">
                <a:solidFill>
                  <a:srgbClr val="808000"/>
                </a:solidFill>
                <a:latin typeface="黑体"/>
                <a:ea typeface="黑体"/>
              </a:rPr>
              <a:t>?</a:t>
            </a:r>
            <a:r>
              <a:rPr b="0" lang="en-US" sz="4000" spc="-1" strike="noStrike">
                <a:solidFill>
                  <a:srgbClr val="808000"/>
                </a:solidFill>
                <a:latin typeface="黑体"/>
                <a:ea typeface="黑体"/>
              </a:rPr>
              <a:t> (3</a:t>
            </a:r>
            <a:r>
              <a:rPr b="0" lang="zh-CN" sz="4000" spc="-1" strike="noStrike">
                <a:solidFill>
                  <a:srgbClr val="808000"/>
                </a:solidFill>
                <a:latin typeface="黑体"/>
                <a:ea typeface="黑体"/>
              </a:rPr>
              <a:t>分钟</a:t>
            </a:r>
            <a:r>
              <a:rPr b="0" lang="en-US" sz="4000" spc="-1" strike="noStrike">
                <a:solidFill>
                  <a:srgbClr val="808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只要学生能分析一点即可。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684360" y="692280"/>
            <a:ext cx="45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学指导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4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380880" y="870120"/>
            <a:ext cx="8382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黑体"/>
              </a:rPr>
              <a:t> </a:t>
            </a:r>
            <a:r>
              <a:rPr b="0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如第四段说明白花细胞液里花青素含量的变化会引起花色由白变红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有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限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白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表示不是所有的白花都会引起花色的变色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特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修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例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表示添色木芙蓉是极个别的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般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修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表示特殊情况除外等等。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026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15640" y="1699920"/>
            <a:ext cx="6985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学指导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5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：</a:t>
            </a:r>
            <a:br>
              <a:rPr sz="6600"/>
            </a:b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</a:t>
            </a:r>
            <a:br>
              <a:rPr sz="4400"/>
            </a:b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本文中应用了哪些说明方法？互说互评，判断不了的举手问老师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900000" y="692280"/>
            <a:ext cx="7488360" cy="25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考考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姚体"/>
              </a:rPr>
              <a:t>文章题目原是一句歌词，作者借来作为标题，而且贯穿全篇，引起每一层说明，这样写有什么好处？</a:t>
            </a:r>
            <a:br>
              <a:rPr sz="4800"/>
            </a:b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826920" y="1052640"/>
            <a:ext cx="75614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是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通俗形象，又吸引人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二是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借代花的各种各样的颜色，含隽有味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三是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结构上串联全篇，使结构严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395280" y="549360"/>
            <a:ext cx="8443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学习本文了解了许多养花知识之后，引导学生选择两三种自己喜爱的花，亲自栽培，定时观察，注意花的点滴变化，并坚持写观察笔记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WordArt 4"/>
          <p:cNvSpPr txBox="1"/>
          <p:nvPr/>
        </p:nvSpPr>
        <p:spPr>
          <a:xfrm>
            <a:off x="684360" y="0"/>
            <a:ext cx="230328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外拓展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WordArt 5"/>
          <p:cNvSpPr txBox="1"/>
          <p:nvPr/>
        </p:nvSpPr>
        <p:spPr>
          <a:xfrm>
            <a:off x="971640" y="90792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素材积累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755640" y="256536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古诗词中有许多写 “花”的诗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积累几句吗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4"/>
          <p:cNvSpPr/>
          <p:nvPr/>
        </p:nvSpPr>
        <p:spPr>
          <a:xfrm>
            <a:off x="1692360" y="1197000"/>
            <a:ext cx="446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539640" y="1052640"/>
            <a:ext cx="81360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</a:rPr>
              <a:t>颜色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性格急躁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居室浅蓝（冷静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性格内向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居室浅绿（开阔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性格孤僻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居室粉红（振作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多疑高傲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居室黄橙（谦虚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性格自卑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居室红色（自信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性格抑郁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居室蓝色（稳定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WordArt 7"/>
          <p:cNvSpPr txBox="1"/>
          <p:nvPr/>
        </p:nvSpPr>
        <p:spPr>
          <a:xfrm>
            <a:off x="395280" y="0"/>
            <a:ext cx="252108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知道吗？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红花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红花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红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红花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红花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7" descr="红花15"/>
          <p:cNvPicPr/>
          <p:nvPr/>
        </p:nvPicPr>
        <p:blipFill>
          <a:blip r:embed="rId1"/>
          <a:stretch/>
        </p:blipFill>
        <p:spPr>
          <a:xfrm>
            <a:off x="-304920" y="0"/>
            <a:ext cx="10944360" cy="9099720"/>
          </a:xfrm>
          <a:prstGeom prst="rect">
            <a:avLst/>
          </a:prstGeom>
          <a:ln w="0">
            <a:noFill/>
          </a:ln>
        </p:spPr>
      </p:pic>
      <p:sp>
        <p:nvSpPr>
          <p:cNvPr id="542" name="WordArt 8"/>
          <p:cNvSpPr txBox="1"/>
          <p:nvPr/>
        </p:nvSpPr>
        <p:spPr>
          <a:xfrm>
            <a:off x="1066680" y="914400"/>
            <a:ext cx="7772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花儿为什么这样红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9" descr="Frame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1908000" y="1773360"/>
            <a:ext cx="431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611280" y="1484280"/>
            <a:ext cx="8064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作者贾祖璋是我国老一辈生物学家和著名的科普作家。他博览群书，从事科普创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年，写了许多把丰富的科学知识和文学知识融为一体的科普作品。写本文时，他已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7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岁高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211640" y="836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贾祖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755640" y="836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2:52:42Z</dcterms:created>
  <dc:creator>your name</dc:creator>
  <dc:description/>
  <dc:language>en-US</dc:language>
  <cp:lastModifiedBy>a</cp:lastModifiedBy>
  <dcterms:modified xsi:type="dcterms:W3CDTF">2015-02-10T11:15:51Z</dcterms:modified>
  <cp:revision>121</cp:revision>
  <dc:subject/>
  <dc:title>PowerPoint 演示文稿</dc:title>
</cp:coreProperties>
</file>