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625-B071-4B19-A99C-0AB1D810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7467-F195-4ABB-A5D9-90622C37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70FF0-927E-4C85-AB91-6E2239AD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9DC38-4A7B-40ED-B1B4-B0A5A89E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20E2E-4521-491E-A113-DFEF5F3B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BDA39-179C-4CC9-A897-34E80BB7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C7DEF-11E4-486B-9D2D-DB6E9ED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5607B-0E51-4B1A-86D7-5087FAF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EC56E-6CE4-4E1B-A7B4-46ABECC0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0D717-6512-4D59-BFE5-45B878E4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91776-6402-4BFE-A98A-F717BB87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28FEB-3011-400C-A5B8-F049D8F5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1CA-0B65-4BFB-9CD0-14607051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4534C-3B6D-4687-95C5-92553924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9EB9F-2926-4AAD-BC0D-C0110043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8D256-E7C6-4C22-BAB1-A8425371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AD233-E0AE-4E9B-BF81-798FB9D2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98D83-90D5-462F-8162-B6F7EBCE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F9DF6-E93F-4E66-B72B-34949E68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4EF89-925E-485B-BCC9-456BA2BD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305F0-92C0-4008-B128-60A1F7CD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2866D-395A-4D99-8F99-9B8F5110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EBCC0-4444-42D5-A956-6CA8CCC2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F19-24D2-4777-817A-B7EB147A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94885-4702-44D8-9601-B0F56A16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8F727-CA0A-4990-BCD2-C2A70357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A24B3-11B7-4B7D-BBB7-B2474EE1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DD488-45EA-442F-9540-4F39E8B4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65277-3E57-4095-8A87-BFFF29BE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E9268-B76C-4FA6-9EA0-B879754F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99462-C05E-464F-ABF3-9F05C6AC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6AEB7-7F19-4531-9C9F-21165272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8CBD3-7BF6-425E-B586-3A371385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24A1A-B3AB-4B7F-9F98-8B8A1C95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1619-8511-476F-A19D-67449C8D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83F75-5D30-4C61-98BD-02BB568B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A0068-D468-4C7C-904D-3A903592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3ED26-35CF-455C-842C-B209A590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8AEA9-2E9D-421A-BD47-29CA7724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80816-761B-4D1A-B97E-4F4ADF7F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BBDF7-53E3-428F-838D-F239CFED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2B155-130B-4F2E-859B-1080756C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1548B-02D1-4ECB-BC02-F11A443D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4E6A1-4D90-425A-BAD2-607A5045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4A981-93C4-4BB1-A67D-172B648C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04DE-8007-486E-9F72-946C3B69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D2067-25E8-4A67-97AD-EC6EF0A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BA67D-E609-4FC9-B2F4-11461F28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59797-4CB3-488C-B08B-58D48347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C118C-A519-4A48-A512-09635590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7A1F1-CD7F-49FE-8C2B-7D8E3884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4AD49-5303-40CE-82E3-E7A016B6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29E43-93F4-4235-B2ED-CC27A71F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30F8D-4F94-4EF5-B337-36DD729D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5B37D-B37C-411A-8FDE-487817DE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02FE5-BAB4-440D-BBCB-076DA71D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6D9E-1FAB-47D3-B15D-DBCC1762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081BD-574E-4040-9196-B228AC8D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3EC78-100F-4022-9433-FAF5790F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C369D-E6FB-415C-BAD3-7E6B4F86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DAB1F-D01F-4B1A-BAD9-CF214224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AC8D1-F53C-43DC-A374-2095012D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8A186-306F-4DD4-B16B-221EAF90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3B6A3-71D7-43EC-8C6B-25BADA18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BC41-06F4-4BE5-AF31-8DFE05AC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E183-2099-4863-93D6-1E53504D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9EB7-2CFC-4711-BA5E-DC8110E9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B223-E026-4D26-892A-8E985251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C84-AD24-420E-A303-7F978871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6C32-1BA5-4098-946C-E57D2722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80F2-BA4E-4986-B43D-3DFCFFA0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B982-01E1-472D-97CB-3E780614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044C-5484-496F-9B2E-9486E07E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2E08-7BD1-4F04-941F-A2D0E5FB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CB9D-A302-4137-8685-E9D2B87B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CE31B-5FBD-4471-8232-47CEE5DA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CF96-130D-48C2-A004-D9A0C488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58D0C-D955-45A4-BC60-12E802CA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0627-4BCF-4AFE-80D8-FFF55C79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E32-E08F-433B-B2FF-BEF5E39F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309ED-9823-4479-9212-7956E67A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13F5-3A93-4BDB-BB17-599E5E04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445A3-15C8-4BFA-AA8F-A3B89EE8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88FA-B1F9-4F9E-AEAC-8C6AE917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53B3-A50A-4B51-8775-4FED8910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EF2FC-FB92-4675-B571-FC01347D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DF912-DD49-4E41-9E45-65705A1E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6AFD-8099-4FF6-A6EE-4B985D60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1CA97-F438-4D77-9A62-5AD65A2F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86E6D-13EF-4677-B9C7-7E6DDC13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BB4-B62C-412F-AA9D-972A1488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2F7C8-76D3-4611-A9B1-0EA327B0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93FA8-A879-460A-83E8-6F7BCE61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F4C19-33E7-4757-8C23-A419BFB1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0B4FF-C5C0-445B-A71D-2104EB3A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46F97-0C0F-4ACB-B964-ABA56C8F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2010A-6546-4D09-9696-BAC5C062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D332-AC51-49B8-AD62-E08A5FF5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6E696-861C-4DC9-8B94-BE7813CD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C44DD-1278-4ADA-A7DA-CC3C473A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41D18-FAA6-4496-9072-EE5D4360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F66-4D7C-46AA-AEE9-B8031732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5D647-8E81-4955-825E-D181198B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5F257-F22F-4ADB-912B-BEAC9313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7CF8D-3A8D-44AB-9C08-627134A9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3A196-29F3-4505-BCEC-A51AD1EE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C2332-F4A3-478B-8F26-71CA5A29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B8F66-30BD-4CA5-93DC-9ACDAC7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2E894-41F2-4BF8-8291-42AC9A69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99515-DCCF-4221-A49C-BCAE7FD6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D2C2-6343-4C13-85F6-2FC392CC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ADCE0-D7FB-44F7-B0EF-731A55A2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722-8A32-472B-BDDC-6F5E689F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B4232-351E-4240-9220-B8B68C3F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14CD0-5FC3-4133-854D-75E6DA63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AF58D-C348-46B4-A73D-3B1C30EA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A298F-0B0C-4718-B94B-16766554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6022B-C8BE-432C-B7DC-C2C473FE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44412-9EDF-4400-8E37-8D1B98F1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968AA-8C29-4AA0-ACE9-0C7C3A40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0D6F5-84A6-4C6A-93CB-0335F805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6383F-D8D6-4EBD-B824-D4C563F4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ADF12-D46F-44E1-B6DE-BFD59D13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59F-9D15-4541-86D7-D818E68C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35936-5C02-4849-88DD-D60ED74E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D61A9-3FF6-4344-A7BC-29C49EFF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E3308-DE60-4C1E-8EBC-A8A1F3D2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2BAA7-B595-4A6A-A06A-E1334BC3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5EA1-F2FB-47DB-8E9D-09732923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0A9C9-FB51-4613-8D7D-F429B9B2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19B31-075D-4BD6-BA33-59BA7A97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49119-41B2-4230-B5AB-0790869C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50B8B-E8D3-4416-923C-97B7F837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9AE94-ED19-46A8-AD0E-40A4204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CCB-6DAB-4522-9F41-D8E49D9A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9A94-387B-424F-92CB-CB7FF51C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5DFFD-D684-42A4-9ABA-426A0A19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88C7C-DB3D-412B-BF32-6B2A536C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2DAF1-ED1D-42DD-916B-CD3567D2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AA0D8-78B6-46E0-B300-55145FDD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7DD88-A03E-4080-B098-4011D9E5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013D4-35BC-4DC1-8B16-3E1EDB04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5FA91-0530-4D99-AAF6-E21F821A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8734C-986B-47D6-81BE-B4BCED05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9C7E5-6464-4C61-A982-E7B51D7D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EEF-C55A-4328-AC47-337440D2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3DDB6-DF1B-4800-B4FA-7D090C4C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DA61F-3DC1-461A-96F1-EEEDFAC8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59ADC-7C51-4D06-9604-179E6808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B5D7D-F8AF-486B-A174-AACEB630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5341F-3820-4FCC-A89A-616B23C5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E3831-5DE9-45C2-869C-1559E795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D1263-FF6F-4701-A4BF-7D29B0C5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D0D0D-1CFF-4E43-A57D-2F305F0B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0A89A-1C0B-4B9F-8C1D-A38C4BC8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1415B-C512-4B46-9F3B-61473F26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E91F-B0DC-4EA7-A7C3-D6706CD0A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6C9F-4896-4098-8E5E-2DB6542F06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2328-E325-46AD-9789-AD0E9B9371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807B-9EE8-497D-A99F-ACA148C012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033E-B102-4CB4-949C-30F1D1B09F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0509-D841-4D12-BE3D-3FB63D13EC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99E6-20DC-499E-8C1B-58193A8624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9ED8-B2E1-4E87-B7F4-FD6A0320E3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54B2-3639-492F-AB33-6920CBD64C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3133-0CB0-4069-8C27-20C8D70CDA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1954-8B3F-4669-877E-8CC3DC30A7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9860-C80A-4B3E-B602-7B51A913FC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3E8A-B14D-4442-8153-8660AFF795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581B-F6EC-4A45-B6BF-AB4C411A9A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6A82-6B36-4DCA-B308-48C816C474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F781-3438-4C69-87E6-E176A34156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FE54-EABB-4AEB-97E2-42F75BC9BD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4DC3-78DC-49BF-8A11-BEE09F5F86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D5E0-60BF-435F-A7D1-073E831F09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7B68-C0D4-4EAC-B739-A8FAE87075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52DF-037E-40BB-BC16-89601E8595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CAAD-B465-4A7A-B3AD-EB27299399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F6EE-2375-4E0A-B8B9-04EE45CD88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BC02-AEAC-43B2-A126-B5F734E36B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6809-1F14-4BAB-8427-11B540D356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6" descr="黄果树照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WordArt 4"/>
          <p:cNvSpPr txBox="1"/>
          <p:nvPr/>
        </p:nvSpPr>
        <p:spPr>
          <a:xfrm>
            <a:off x="1600200" y="2514600"/>
            <a:ext cx="6172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53966" dir="18900000" blurRad="0" rotWithShape="0">
                    <a:srgbClr val="ffffff">
                      <a:alpha val="50000"/>
                    </a:srgbClr>
                  </a:outerShdw>
                </a:effectLst>
                <a:latin typeface="黑体"/>
              </a:rPr>
              <a:t>黄果树瀑布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53966" dir="18900000" blurRad="0" rotWithShape="0">
                  <a:srgbClr val="ffffff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6" name="WordArt 9"/>
          <p:cNvSpPr txBox="1"/>
          <p:nvPr/>
        </p:nvSpPr>
        <p:spPr>
          <a:xfrm>
            <a:off x="1295280" y="685800"/>
            <a:ext cx="6553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18900000" blurRad="0" rotWithShape="0">
                    <a:srgbClr val="ffffff">
                      <a:alpha val="50000"/>
                    </a:srgbClr>
                  </a:outerShdw>
                </a:effectLst>
                <a:latin typeface="宋体"/>
              </a:rPr>
              <a:t>义务教育课程标准实验教科书（苏教版）语文   五年级上册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18900000" blurRad="0" rotWithShape="0">
                  <a:srgbClr val="ffff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就像是微风拂过树梢，渐近渐响，最后像潮水般涌过来，盖过了人喧马嘶，天地间只存下一片喧嚣的水声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152280" y="2057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那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哗哗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的水声便成了千万架织布机的大合奏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瀑布从岩壁上直泻下来，如雷声轰鸣，山回谷应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聆听着訇然作响的瀑布声</a:t>
            </a:r>
            <a:r>
              <a:rPr b="1" lang="en-US" sz="3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22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7686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6"/>
          <p:cNvSpPr/>
          <p:nvPr/>
        </p:nvSpPr>
        <p:spPr>
          <a:xfrm>
            <a:off x="1676520" y="223056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ubu.mpg" descr=""/>
          <p:cNvPicPr/>
          <p:nvPr/>
        </p:nvPicPr>
        <p:blipFill>
          <a:blip r:embed="rId14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54384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609120" y="20574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_______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来到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瀑布脚下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古代著名旅行家徐霞客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年前就对黄果树瀑布有过描述，也是中国历史上对黄果树瀑布进行详尽记载的第一人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828800" y="3276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914400" y="32767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练飞空，       飞沫反涌，如烟雾腾空，势甚雄厉。     盖余所见瀑布，高峻数倍者有之，而从无此阔而大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4572000" y="3276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6781680" y="3763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8:44:47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