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93F-6CFA-4D78-8C1A-DC819900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B13-9552-40D6-BFBF-0201E59A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486D4-DF5B-4B44-8E9F-90BD22EC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F38CC-AE3D-460A-9300-547F1689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CEE31-B47B-4657-B463-42B04B63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C1507-C8D6-4C6E-B3AD-C480179B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B6942-EBDD-4443-8A91-A96113F2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3744B-5F25-44F7-B57D-6FAE4F36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F053A-B6C8-43EF-989E-BC02DEF9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19471-011C-45F6-9CCE-61ABD6A0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4F3DA-50FD-478C-B05E-44FD6441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22D49-A1D3-4B04-A61B-CBED372E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D00-7AA2-4B4B-AF6C-6A1D7B31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6FDBC-4E16-4AA6-B26B-D4D8FF17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59695-2219-4CE3-9507-8EF73BDC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A620C-3C28-45B4-871D-239FF04C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12752-CC19-4B2E-BCCA-B8BE1F0C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CAD13-61A5-49D7-AD44-4F394330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51EA3-42E9-459F-9E9B-8D6E7188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9A38C-18D5-49D4-8A53-AF25DBF4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B36F5-88ED-4EA9-8A35-9AD9865F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81C86-8EBA-4F8C-8683-4385A0ED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FED3F-6727-41A4-846C-6419625D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458-20CA-48DB-A4A3-E58C75B4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F456C-2343-4690-8117-863293B7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F480E-F718-49E2-A081-6D31CF37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069EE-94F4-4106-8E4A-960B6076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32385-35E3-43EF-BD5F-629637BA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6256B-3D05-4E32-A881-B0CC8899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8E4FA-FE13-4181-8E15-3C89AD1A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A9FAD-8A2E-424F-8230-67DE78D9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3F9E6-A0A0-4175-B97F-EC81D7F7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A1D56-3952-4ED5-A39F-9D66C787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DFC76-05B6-4CC2-ADDF-55210EB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D9AA-73F5-403C-836B-2FB4203A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D5CE5-EE5B-4406-836E-FC8E2755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AF4FD-D758-441D-80AA-6867CCE7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64589-DE71-46EB-ABD8-00B653E4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A3EDD-65FB-45B5-9E9C-8395CBD4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B69DF-CDA7-4111-AC83-9F547496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6DB60-EEA7-4F05-A32B-1CD73148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6C897-3D80-456A-B925-0AC5B926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1F8A6-5FE6-4861-9DBE-F9D3173D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C1161-103A-4ACE-85FF-E6C3B7D5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940B4-A128-46F2-B7A2-1ACE15F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4B43-27D3-44B2-8189-D671459B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E7297-E080-46F5-AF34-51776C5C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9BE22-FA30-460D-8D8A-7F868044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57A03-F339-4083-B826-753A1CE4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82449-32FC-4949-8E78-954ABF19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E0CB0-0C60-4BAE-84A4-EBEFD610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7EBEF-7C79-4A48-B769-1501596E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59AB6-F6AB-4DC5-A350-B2B34144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EB5C6-0861-42D4-A777-5FC60113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F5FD6-C1BE-4EFB-B52B-6CDF61F9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FC60F-7F4B-43B9-BA6B-2391A842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9997-1529-47A7-9CA0-5BAC4109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F6AE4-1739-4303-A165-1D5734E0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46E21-C435-45F7-B019-7A9C4A21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24C1B-3411-4BC6-87CA-45A3BE2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FDEEF-4695-419E-91A1-016E4FF1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4C6EF-2F88-4F8D-95C8-29EF0F85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05A74-816D-4CD3-BC30-D100C644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7DE48-6A87-4AF0-B6C0-B89ECF99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26F1-AA5F-4064-91AB-30E31A1C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D6DD-77C9-4AC6-B629-B28C8309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B878-EE95-4F51-99EE-6A02F33E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B03D-FB3E-4A77-BE2A-1D2575F7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1E3-3A91-400C-A057-42C323F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285C-1AB6-4968-9990-0759E125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90D1-8B75-4A65-B22B-ADEF909D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D588-A8DE-4AB9-9312-060CCCB6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7F2F-7240-4D57-B311-AE96771E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116E-E2B8-4DAE-B9F6-791E85DA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9D9BB-06E9-4542-B872-13D0CB12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E71D-47C0-4255-BFAA-F32DA541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8241-80BB-4F20-89AE-776A7B3D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0752-F900-4E8C-8A73-5C74B035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044D-354E-4E4B-9B4B-5A39916D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82E-E25A-45CC-BDD7-F4F1C11C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7FB49-4F7E-4BA2-89B9-0033637C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4E53-EC54-466E-8D97-E7ADD6E9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16BC-FBA3-44B8-A9DB-63DB1385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119C-8B84-47E9-B96E-2EB65E0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F4CDD-54DB-497D-80E8-C577F4C5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185C-2D27-46F6-9D54-ED7F408F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B6BF-3E35-4A09-817A-AD9DC9C9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F63AA-AA01-420A-A0C4-71E3D857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79625-8D34-4057-845B-D8D8F578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16349-A5A2-49ED-BC50-70FA845F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04E-68C1-4E22-AA97-D6A0D3D2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CE45D-0D1F-444C-93DA-889BA888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6BFAB-0D10-404E-907A-5F5F4526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A512-6B22-4CD7-A7A8-902EFF26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DD68-3E4D-4AB7-8AA7-2652F349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7431-33BE-4792-93FF-775A8CDF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90023-300A-43B7-94EC-717A9635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C066-83D5-46E0-ACBC-4E214ECC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4B72-30EF-4F64-89C8-C39468CA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0382-D4E4-434A-BB36-7B94413A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A46FA-F93E-4936-AD86-E5B43438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D39-1772-476D-9858-4E6A9DC9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BD259-A2E5-400D-B0E4-9B1DEF53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9A421-D832-4B1A-BADA-8A7FCC57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F21BA-76F4-40CB-9E5B-5F6AC694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E449F-0D04-43B8-B780-2A24436D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2EAF-C32F-4A31-BB87-D5D5A1BF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8AC80-5D64-47EF-95E3-EA3AD61C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CACC6-7441-487F-BA43-157FECBD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4C526-6189-4A89-811B-41A27C66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7C6AC-9AD6-4BC2-875C-257E18F5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5BEE6-E723-4C81-89FA-635B3696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040-43A2-4A7F-B38B-1C73D91A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8B74-E45F-40B9-A6E9-8719AF8A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60863-D571-4DAD-83BD-D81687BD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9D163-F86E-4744-B533-A608BCCA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92A02-C513-4651-B9A5-F3AFABFF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2A31E-74D5-4806-BCB4-4167AFC6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DC23F-414C-498D-9A32-FBCDC576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CAD99-F006-4FE4-A109-E7839703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BE93-3729-48A0-827F-60E1678A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4344E-78B6-49F3-94D3-3C905EF1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A9184-E079-4821-8ACD-1F0BAFA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CE8-75BD-4160-9BE8-57E4811D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3D0E9-E4E8-4D47-9A6B-F4DED407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918BA-4EC8-400A-A3FE-D395CC0F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631B9-0BDC-4389-B669-1953A33A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711F6-24E6-43A6-8B9F-306F3A61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8F700-62BD-4F00-8164-012B299E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17116-83B6-4515-A98F-2FAC8224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A0454-F279-4040-A191-5E242D93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0E0EA-BA3A-4C08-9C19-133BBC02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40A2A-A170-4209-81A4-2519042A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64725-762D-463A-96D6-276CFA76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3DD-95B9-42A5-8B70-0662C97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FAB90-B93A-4395-A6F6-34C67E4A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6091A-5093-4BD5-BC3E-CD19E11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E5836-D5DA-4A0E-ABE7-F0243676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69E6A-14CC-4A68-A564-1A5CF947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0897B-FEEE-4E7A-A398-B67F23E4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41F39-7DC7-476B-89D9-5BEF4CF0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D23E1-C87D-4DBE-A249-86881DE9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E8EAF-86E0-45B6-B48E-5588E941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AE8E7-0FFD-4703-B7AC-87F3EDBA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8F332-0E4C-43E3-93EB-A6BF42A9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11C-97E2-43B5-BC02-10CFF39E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513CD-018A-43BC-A629-8CD39FF1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1DFB9-A483-41B0-833A-A8111730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E7E49-8982-485C-8256-C96FD80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2B322-AD8B-4415-89F6-3E5A224A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B5A92-0767-41E6-A1D9-1F3BA6D7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44332-0414-4AD2-B18F-FF11C4CF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C74BC-3B70-4A8C-90AD-7FDB6959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3326E-2ED5-473E-AE84-7915DBD4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DEEB2-6FEB-49AF-A279-B397FBF4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B2C31-1473-49D1-99F8-31D3EEF4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77F7-A436-4084-9737-10EF46E57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B0A6-3E46-4849-B419-42BCBFDEE9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613E-692A-419F-A1FE-A6CDA873D1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7458-715E-425E-AF77-06FB54E0A9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6885-5DD8-4197-BA9E-18A551FAE5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0AA0-5201-40DE-A02D-BB1F61C1A2E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47BD-4956-4AA8-B08F-D7C6B05092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DCB7-09A7-423D-BEEE-DDD6A8DF01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1E2B-2CF4-4734-8A69-C8390DBB0B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9288-B529-4030-B3BC-0BB36FEBECA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D1E8-5AA4-4F61-963B-5B307174BF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3EB3-5911-46A3-9BE5-D724EEA6C3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FC04-0505-46CA-9F35-4532B059A1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245C-6D01-4E66-A50C-01F08EB583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ABE1-B561-47BC-BA0D-B2BDA83AF6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B51D-49F2-47A7-940F-52958F05F4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C00E-2B0F-4DAD-8FC6-0347E1DD36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DCE9-5A1F-4AAA-9DCB-88FB423CE1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F13C-CFEF-4C83-8392-5037140C0A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B1D7-324A-4710-ACF0-8064197BAA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51BF-3998-448F-B8D8-6AECEC543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CB5E-6C24-4328-96F1-2DF9059D55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5D9C-2F05-4977-BF78-81FE881588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1581-A425-4B91-85D1-EA66A6B832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1457-2AED-4C5B-B2E6-89F9773DB1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image" Target="../media/image2.pn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5"/>
          <p:cNvSpPr txBox="1"/>
          <p:nvPr/>
        </p:nvSpPr>
        <p:spPr>
          <a:xfrm>
            <a:off x="1763640" y="2421000"/>
            <a:ext cx="568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好汉查理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7"/>
          <p:cNvSpPr/>
          <p:nvPr/>
        </p:nvSpPr>
        <p:spPr>
          <a:xfrm>
            <a:off x="2176560" y="2060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35" name="Picture 7" descr="小学语文(记叙文）01"/>
          <p:cNvPicPr/>
          <p:nvPr/>
        </p:nvPicPr>
        <p:blipFill>
          <a:blip r:embed="rId13"/>
          <a:stretch/>
        </p:blipFill>
        <p:spPr>
          <a:xfrm>
            <a:off x="9907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9" descr=""/>
          <p:cNvPicPr/>
          <p:nvPr/>
        </p:nvPicPr>
        <p:blipFill>
          <a:blip r:embed="rId14"/>
          <a:stretch/>
        </p:blipFill>
        <p:spPr>
          <a:xfrm>
            <a:off x="2176560" y="1816200"/>
            <a:ext cx="5062320" cy="37465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0"/>
          <p:cNvSpPr/>
          <p:nvPr/>
        </p:nvSpPr>
        <p:spPr>
          <a:xfrm>
            <a:off x="3794040" y="56530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好 汉 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0" descr="小学语文(记叙文）02"/>
          <p:cNvPicPr/>
          <p:nvPr/>
        </p:nvPicPr>
        <p:blipFill>
          <a:blip r:embed="rId1"/>
          <a:stretch/>
        </p:blipFill>
        <p:spPr>
          <a:xfrm>
            <a:off x="9907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13"/>
          <p:cNvSpPr/>
          <p:nvPr/>
        </p:nvSpPr>
        <p:spPr>
          <a:xfrm>
            <a:off x="4322880" y="2362320"/>
            <a:ext cx="12031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自由朗读课文。要求：读正确，读流利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4123440" y="3352680"/>
            <a:ext cx="1423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讨论交流：课文讲述了一个什么故事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026" descr="小学语文(记叙文）03"/>
          <p:cNvPicPr/>
          <p:nvPr/>
        </p:nvPicPr>
        <p:blipFill>
          <a:blip r:embed="rId1"/>
          <a:stretch/>
        </p:blipFill>
        <p:spPr>
          <a:xfrm>
            <a:off x="663480" y="10396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1027"/>
          <p:cNvSpPr/>
          <p:nvPr/>
        </p:nvSpPr>
        <p:spPr>
          <a:xfrm>
            <a:off x="3985560" y="1998720"/>
            <a:ext cx="12427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  <a:ea typeface="楷体_GB2312"/>
              </a:rPr>
              <a:t>默读课文，边读边画出不理解的内容。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3" name="Text Box 1028"/>
          <p:cNvSpPr/>
          <p:nvPr/>
        </p:nvSpPr>
        <p:spPr>
          <a:xfrm>
            <a:off x="1066680" y="3065400"/>
            <a:ext cx="7543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查理有哪些变化？你找到了哪些句子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8" descr="小学语文(记叙文）03"/>
          <p:cNvPicPr/>
          <p:nvPr/>
        </p:nvPicPr>
        <p:blipFill>
          <a:blip r:embed="rId1"/>
          <a:stretch/>
        </p:blipFill>
        <p:spPr>
          <a:xfrm>
            <a:off x="663480" y="10396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24"/>
          <p:cNvSpPr/>
          <p:nvPr/>
        </p:nvSpPr>
        <p:spPr>
          <a:xfrm>
            <a:off x="1143000" y="1752480"/>
            <a:ext cx="7543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不，好汉查理从来不随便拿别人的东西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谢谢！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查理显得彬彬有礼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当然可以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查理虽然调皮，但说话是算数的。整整一个暑假，他每天都陪杰西在草地上玩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杰西，我会做个好汉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663480" y="10396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1066680" y="2031840"/>
            <a:ext cx="67820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查理为什么会有这么大的变化呢？你　  觉得查理的变化和哪些人有关呢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1143000" y="3675240"/>
            <a:ext cx="7543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你对故事中的这些人物有什么看法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5213520" y="2209680"/>
            <a:ext cx="5680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宋体"/>
                <a:ea typeface="楷体_GB2312"/>
              </a:rPr>
              <a:t>自由组合，分角色感情朗读。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50" name="Picture 19" descr="小学语文(记叙文）05"/>
          <p:cNvPicPr/>
          <p:nvPr/>
        </p:nvPicPr>
        <p:blipFill>
          <a:blip r:embed="rId1"/>
          <a:stretch/>
        </p:blipFill>
        <p:spPr>
          <a:xfrm>
            <a:off x="663480" y="1028880"/>
            <a:ext cx="2079720" cy="5713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0" descr="r05"/>
          <p:cNvPicPr/>
          <p:nvPr/>
        </p:nvPicPr>
        <p:blipFill>
          <a:blip r:embed="rId2"/>
          <a:stretch/>
        </p:blipFill>
        <p:spPr>
          <a:xfrm>
            <a:off x="1523880" y="2289240"/>
            <a:ext cx="2097360" cy="35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3"/>
          <p:cNvSpPr/>
          <p:nvPr/>
        </p:nvSpPr>
        <p:spPr>
          <a:xfrm>
            <a:off x="1523880" y="1981080"/>
            <a:ext cx="6210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完了这个故事，你有什么感想？ 　  先说一说，再写一写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53" name="Picture 6" descr="小学语文(记叙文）06"/>
          <p:cNvPicPr/>
          <p:nvPr/>
        </p:nvPicPr>
        <p:blipFill>
          <a:blip r:embed="rId1"/>
          <a:stretch/>
        </p:blipFill>
        <p:spPr>
          <a:xfrm>
            <a:off x="9907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7"/>
          <p:cNvSpPr/>
          <p:nvPr/>
        </p:nvSpPr>
        <p:spPr>
          <a:xfrm>
            <a:off x="1523880" y="3556080"/>
            <a:ext cx="6324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镇上的人后来会怎么评价查理呢？　  请你发挥想象，写出人们对查理的　  评价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pic>
          <p:nvPicPr>
            <p:cNvPr id="55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07:33:16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09T02:39:53Z</dcterms:modified>
  <cp:revision>146</cp:revision>
  <dc:subject/>
  <dc:title>第一PPT模板网-WWW.1PPT.COM</dc:title>
</cp:coreProperties>
</file>