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3C3-E3C1-4DD2-9851-99BA57A0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ADE-4E24-4926-984F-890CEB5F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A8ED9-892B-47DB-84F8-70D8280A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549C9-3A1C-4C3B-B258-9C90F2E9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9AC74-B7DF-4DD1-A7D6-E80DB0DE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F268D-4846-4833-A4BF-5B183F81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C9E8D-F580-4C1B-8EF4-72723531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1E940-27BC-4756-8F3D-5B0AA768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EFDCD-140B-4614-BE90-3F2BA098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ACA7C-C709-41D2-9802-0625FDA2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6532F-A33E-4E9A-80C1-F1040132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AAD0E-E2AE-4295-88AB-7396FE97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BB7-A5CD-43D5-A6D0-DC688A33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E982A-B44A-43AE-ABDC-6B92F1A0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1EE27-4457-4DF8-A961-10DCCAEE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A6925-8AF8-452E-81E7-AFF751FC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FED22-F2BF-4D16-B27D-DF2509FC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F9616-EC20-4798-83B4-3BE9BA80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D4FF9-D8C5-4AE7-A63B-EE79C760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45B20-3D18-45DC-93AA-5520276E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827B4-9E2A-4C89-98F9-D7F39BA3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7D585-E286-4523-82CB-58F815D3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20036-56A6-4C1B-B4F8-CCB25139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83F-FE8E-4463-8CE8-C79B2196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88BCE-A30B-4104-9A35-D5A5E57C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BE21C-710E-4C78-9DFA-B7857CB3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4612B-B632-4E08-AFC2-239FB347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2B034-C5DC-42E4-821A-BEE594BF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B97AC-32DC-4EB3-A153-F11D9AAA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C094A-8460-4411-B6A4-B36A280C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9D003-3FE7-4542-A5ED-D8DC8FFD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D0323-661C-4576-9379-89F01075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46E82-6D62-4223-B9BA-4F53AB1D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E8270-8572-4BF6-9A3D-5A8A5AA9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55C6-766E-4DF7-9844-1B3C9FD0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E38FB-D5DF-4B93-B87A-B7C27851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EFFDB-649E-4AF7-B68E-1087B1CE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47046-5267-490E-877E-CA2D0BC0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989BD-293E-4C59-AA46-9A110B3F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39FD5-C113-4C0B-8164-846A13E5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60CE4-718A-4A1D-9E9F-C5634BC4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01B8E-3BC8-4A43-9F85-87160FD1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48130-CA7D-42B8-A76F-BB4BA753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1949C-F80E-48EC-A849-2292261E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98F13-B175-436B-B251-FAF6BB08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C985-2D77-43C5-AA94-29BDA379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239BB-FC6A-4EB2-AACC-4CF439FD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6C0DA-EFB7-4489-92DB-14DB4798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7BCAB-43CB-4D2A-9189-8DC48925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7788E-4983-4D91-94CB-E6F124EF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F57B4-9634-44AE-9878-895E2149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0C65F-01F2-46A0-BEC8-5813263C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4E820-3606-49FF-BA4B-5F517745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B7ADB-625F-4426-9675-F1BC81AA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ED48E-2B8D-4594-9EC9-AE2AF55D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01C15-25F8-49D1-B758-ED735421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4C0D-F737-4A34-882B-1952B279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B8A5A-3913-4C22-B5D5-AB44BDA6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1D8CB-F23E-4D45-B52C-001ED3CC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94F16-A902-432A-8470-375D2EE7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5CED2-0764-4841-8731-14DF90D3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8F40D-6D63-4A92-B7A8-74D2433B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F7BC5-0FF1-4DD7-AB5F-83DDF181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AA519-3E84-4EEF-B6B5-6472B1C7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154D-762B-4218-97CD-43A87C58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21F5-AE66-4129-8047-32C373C2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E730-538C-49FC-9115-EC132A1C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5970-600C-4539-9E3A-F930280C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926-CE04-4BAF-9F86-5832BE51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0ACE-3886-45AA-8B9F-1267552F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BAEB-66B9-4DF7-9AD8-C8B190C3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CC5C-B950-4105-9C70-0BC3E33C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0457-4DB4-40B8-9A9D-2678BC3B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A469-66A6-40FA-8D49-5E400DD2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37B15-CD56-448B-B771-6393422C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DF4C-188D-4026-A6B1-969775D8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B9087-2258-43B7-99CF-D6A8A736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175C-30E3-463B-BCC2-C2A0EED6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6442A-164E-405D-AE24-991191D0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43A-7336-40A1-86B5-744483CC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80066-D30B-4D78-9B1E-35D90B93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870B2-6B81-4520-9B12-51533955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1D0BE-2FAB-495A-8575-DB0A6A76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43EF2-4A8D-4A17-B595-CAF19701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2D178-1FBD-448C-9FDE-B13D4211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8BD18-976F-4ADD-9949-FFE130C3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A209B-AC7B-4AE1-9241-9F6C0B22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5C681-CA27-4DB4-86AF-A145FDED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F7EE5-3F08-4378-9F50-91A5136E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65B0D-1860-48AD-8ED6-B0E0D52A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954-1265-430A-926B-79DB8B98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A18F1-2A6C-4AC7-A345-EECEE843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751BB-F600-4DFE-9D40-9C161B63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9A0E3-EA42-47EA-B69D-29C300CA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AB538-0691-4309-93DA-139E9157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EA885-F92E-491A-9D8D-8759F84C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E0691-80BA-48D8-B45A-5F4C9CA6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3D074-C3FC-4C7F-AB54-73058AD4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5E441-8AE7-4706-9F02-C2C1506E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D90DC-D304-45CB-9660-FD804534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AEC7F-8627-4D7E-9BF0-4295D639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460-4433-490D-83A5-1325F7D0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404F6-045F-4833-9823-E52C3B1D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FDF69-E292-4D16-ACBE-C78EB49C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FC488-06C2-49B4-998D-8CE1373B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88ED3-DAA9-4E46-875B-09B9F9A0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8853D-6348-45E0-89EC-83C2CA43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4AC93-18C2-4525-B949-8CBA667F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D3A1E-886A-49DD-B2B6-F7C396C8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71262-FBB3-4B1D-AB30-2D3CA806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95B11-E9D8-4D87-BA66-421B9EAD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12EBB-E5A0-4640-9EBB-42AC0909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2DC-CD0B-4275-B401-C5C8A0B3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C7773-B935-4FF8-A7E4-E3748042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ADE3F-FF67-4245-AD2B-1004C355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8A112-7AC3-4B28-8BFF-5C8B8202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A0AEA-AA45-445B-85E0-9A5A813B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39FC3-05CB-41E6-8515-8D74F3E5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35A74-D087-4563-BE48-C6FEFB53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E00F6-06C0-4AA2-A60F-B18C667A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18A36-7BB9-49BC-B878-EC155A30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3A5CB-ABD9-4AE7-BB6C-92E47283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946E2-27ED-4720-A80E-7A664DC2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1AC-B29B-41E0-8801-E6E1E18D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C8946-673D-4E5E-B112-0F345978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B385E-8BCA-4248-AEDD-F15F5905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18AD6-7928-46AA-9128-74565E69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76EC3-9A68-4B3B-8E50-3DF3FAD8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62415-FE93-40D1-AA83-1703E0E6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B0769-CE6B-41F4-9CD5-2B3B22DF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65460-7DB2-43EE-BFB8-4C6AC99E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BD6E1-705D-4057-93FD-FD5B1CC9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8F4C6-CE6B-48F5-A4C7-52A55A67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BE64B-7FFC-4579-9BBB-2DF07C3A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FF6-0B8C-4903-9B04-39335793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0B356-B393-4A80-B3FF-A3A5E915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D29D9-8429-4088-B096-2532CCA2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06448-455F-4439-9B53-551102CB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17726-5A61-46DE-AB87-A8D09D32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D219C-90FE-4030-8FAD-B583D298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D0BC1-E8B7-41A2-9C66-6AB95775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C3729-35E8-4DD1-8AFA-D495FBB6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D0B8B-EFCA-4A4F-AB8D-BB410D83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0758E-BD88-4417-9102-D1A5A9C2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FA395-00D3-48F1-8E6D-78BBD328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008-D809-4FAD-B398-D9361D42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5210F-CFB3-42F1-B974-917E04FD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71BF8-D0BA-46D2-B234-9A90A123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FEE10-516F-4423-B063-6BABBA28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C3812-7C0E-4EFE-83DB-1A49CCC8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56764-0ECA-4587-8E02-3F1759F7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B8B86-DF2D-47EB-9FF0-AC5FDEE0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85AC8-D9D5-494B-AD9A-4281AB08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32E86-31A1-4ACE-AA10-227D4457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97BDE-2F6C-4E37-B2A1-1AAB4510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5497A-4EDB-41B0-AEB7-98C1BB3D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DBFB-75FD-4F32-B278-5597C99F8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2760-2529-40B8-AB6B-0B1CCBD4C8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847D-88AA-4853-B237-AF5304AB92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A736-8126-411E-89C2-28C3C55DCB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224A-7619-41C5-B559-AF7F7D44A4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15C3-63B9-406D-85D8-A8099C2F65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C395-CBAD-4B11-9172-D024CEC5FE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EB08-78E1-4350-B273-2C5DB71C5A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FDE0-F633-4536-AD9D-7527CF22A7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C447-942D-4D19-B1FE-E43CAA43EC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C54A-AC60-4CCE-AC34-48DC9FF6B0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8D6F-45CE-4D21-8782-233756D86A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CDC1-BA75-4F48-BEBA-8D3942A5FC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C5C5-3072-4551-B95E-5CE87D35912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E059-37ED-4EEB-924A-C8901806CA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DBD6-2D48-4813-A954-24F465A765C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BF4B-14FD-4A23-98AE-9548D21502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5406-5C04-4414-899C-A6FB159905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E56A-C8AD-44B2-BC7B-0BA8671389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1D03-CA06-453C-A616-D53B1C8CC59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FAFC-58C1-4E88-AC9D-C7669EFFD6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2237-72B2-4E30-A2EE-C2F91EC66D7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AF9E-5CD4-4527-A664-07955470D9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D049-0FDD-4AB6-8A66-B9591FB430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B51F-CAE0-4466-92CD-B69B933A9C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9"/>
          <p:cNvSpPr/>
          <p:nvPr/>
        </p:nvSpPr>
        <p:spPr>
          <a:xfrm>
            <a:off x="1403280" y="134136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画家和牧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179280" y="1124640"/>
            <a:ext cx="8964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1762560" y="692280"/>
            <a:ext cx="53676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画图画时，我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语文课上，我们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感冒了，妈妈很着急，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179280" y="1124640"/>
            <a:ext cx="8964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6" descr="斗牛图 拷贝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575280" y="-200160"/>
            <a:ext cx="7135920" cy="67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得太像了，画得太像了，这真是绝妙之作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活了，画活了，只有神笔才能画出这样的画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5" descr="斗牛图 拷贝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3" descr="1380e225a71d476e34a80fd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2"/>
          <p:cNvSpPr/>
          <p:nvPr/>
        </p:nvSpPr>
        <p:spPr>
          <a:xfrm>
            <a:off x="3202200" y="2276640"/>
            <a:ext cx="343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唐朝有一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著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画家叫戴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7" descr="1380e225a71d476e34a80fd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4"/>
          <p:cNvSpPr/>
          <p:nvPr/>
        </p:nvSpPr>
        <p:spPr>
          <a:xfrm>
            <a:off x="1782360" y="1700280"/>
            <a:ext cx="541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画错啦，画错啦！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5" descr="未命名1"/>
          <p:cNvPicPr/>
          <p:nvPr/>
        </p:nvPicPr>
        <p:blipFill>
          <a:blip r:embed="rId2"/>
          <a:stretch/>
        </p:blipFill>
        <p:spPr>
          <a:xfrm>
            <a:off x="6084720" y="3444840"/>
            <a:ext cx="9676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4" descr="1380e225a71d476e34a80fd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5"/>
          <p:cNvSpPr/>
          <p:nvPr/>
        </p:nvSpPr>
        <p:spPr>
          <a:xfrm>
            <a:off x="2189160" y="476280"/>
            <a:ext cx="489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和蔼地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愿意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1380e225a71d476e34a80fd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3"/>
          <p:cNvSpPr/>
          <p:nvPr/>
        </p:nvSpPr>
        <p:spPr>
          <a:xfrm>
            <a:off x="2189160" y="476280"/>
            <a:ext cx="489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愿意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1380e225a71d476e34a80fd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3"/>
          <p:cNvSpPr/>
          <p:nvPr/>
        </p:nvSpPr>
        <p:spPr>
          <a:xfrm>
            <a:off x="2189160" y="476280"/>
            <a:ext cx="489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11"/>
          <p:cNvSpPr/>
          <p:nvPr/>
        </p:nvSpPr>
        <p:spPr>
          <a:xfrm>
            <a:off x="2384280" y="105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11" descr="1380e225a71d476e34a80fd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4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1306440" y="189000"/>
            <a:ext cx="176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ō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3492360" y="333360"/>
            <a:ext cx="2448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cán k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惭 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1258920" y="508464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ǎi      j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蝇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蔼     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1258920" y="3573360"/>
            <a:ext cx="61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ɡòu     qiào        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1258920" y="177336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ò  mǒ   pī     ɡǒ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2" descr="1380e225a71d476e34a80fd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3"/>
          <p:cNvSpPr/>
          <p:nvPr/>
        </p:nvSpPr>
        <p:spPr>
          <a:xfrm>
            <a:off x="2189160" y="476280"/>
            <a:ext cx="489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2468520" y="3716280"/>
            <a:ext cx="465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戴嵩听了，感到非常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愧。他连连拱手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谢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指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2" descr="1380e225a71d476e34a80fd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2189160" y="476280"/>
            <a:ext cx="489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2468520" y="3716280"/>
            <a:ext cx="465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戴嵩听了，感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非常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连连拱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谢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指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0" descr="无标题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2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1332000" y="62064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3995640" y="620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惭 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1403280" y="4292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蔼   牛蝇     价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1403280" y="3068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购买   翘起来   驱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1332000" y="17733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墨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7714800" y="6165720"/>
            <a:ext cx="31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8244000" y="616572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4"/>
          <p:cNvSpPr/>
          <p:nvPr/>
        </p:nvSpPr>
        <p:spPr>
          <a:xfrm>
            <a:off x="8775360" y="6170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2313360" y="7650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2443320" y="3789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4923360" y="3429000"/>
            <a:ext cx="164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带雨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带水彩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4996440" y="333360"/>
            <a:ext cx="16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戴帽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戴红领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8"/>
          <p:cNvSpPr/>
          <p:nvPr/>
        </p:nvSpPr>
        <p:spPr>
          <a:xfrm flipV="1">
            <a:off x="3708360" y="83808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3708360" y="1557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0"/>
          <p:cNvSpPr/>
          <p:nvPr/>
        </p:nvSpPr>
        <p:spPr>
          <a:xfrm flipV="1">
            <a:off x="3780000" y="386208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1"/>
          <p:cNvSpPr/>
          <p:nvPr/>
        </p:nvSpPr>
        <p:spPr>
          <a:xfrm>
            <a:off x="3780000" y="4581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7983360" y="6026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" descr="田字格"/>
          <p:cNvPicPr/>
          <p:nvPr/>
        </p:nvPicPr>
        <p:blipFill>
          <a:blip r:embed="rId1"/>
          <a:stretch/>
        </p:blipFill>
        <p:spPr>
          <a:xfrm>
            <a:off x="179280" y="1125360"/>
            <a:ext cx="4248360" cy="40323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" descr="田字格"/>
          <p:cNvPicPr/>
          <p:nvPr/>
        </p:nvPicPr>
        <p:blipFill>
          <a:blip r:embed="rId2"/>
          <a:stretch/>
        </p:blipFill>
        <p:spPr>
          <a:xfrm>
            <a:off x="4716360" y="1125360"/>
            <a:ext cx="4248360" cy="403236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4"/>
          <p:cNvSpPr/>
          <p:nvPr/>
        </p:nvSpPr>
        <p:spPr>
          <a:xfrm>
            <a:off x="1029240" y="836640"/>
            <a:ext cx="22914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700" spc="-1" strike="noStrike">
                <a:solidFill>
                  <a:srgbClr val="000000"/>
                </a:solidFill>
                <a:latin typeface="Arial"/>
                <a:ea typeface="楷体_GB2312"/>
              </a:rPr>
              <a:t>价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93240" y="765000"/>
            <a:ext cx="22914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700" spc="-1" strike="noStrike">
                <a:solidFill>
                  <a:srgbClr val="000000"/>
                </a:solidFill>
                <a:latin typeface="Arial"/>
                <a:ea typeface="楷体_GB2312"/>
              </a:rPr>
              <a:t>钱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7911720" y="6099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8" descr="1380e225a71d476e34a80fd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2"/>
          <p:cNvSpPr/>
          <p:nvPr/>
        </p:nvSpPr>
        <p:spPr>
          <a:xfrm>
            <a:off x="3202200" y="2276640"/>
            <a:ext cx="343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唐朝有一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著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画家叫戴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4"/>
          <p:cNvSpPr/>
          <p:nvPr/>
        </p:nvSpPr>
        <p:spPr>
          <a:xfrm>
            <a:off x="3016080" y="1051560"/>
            <a:ext cx="3137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浓墨涂抹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轻笔细描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1966680" y="1051560"/>
            <a:ext cx="52768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4" descr="1194454313_1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2"/>
          <p:cNvSpPr/>
          <p:nvPr/>
        </p:nvSpPr>
        <p:spPr>
          <a:xfrm>
            <a:off x="684360" y="69120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859280" y="69228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轻笔细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4:00:26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6:12:24Z</dcterms:modified>
  <cp:revision>202</cp:revision>
  <dc:subject>第一PPT模板网-WWW.1PPT.COM</dc:subject>
  <dc:title>第一PPT模板网-WWW.1PPT.COM</dc:title>
</cp:coreProperties>
</file>