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E61-2D59-4C97-976E-F3C37DF1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F48-8BB9-4600-B9BE-176E6499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938-31D5-43D8-8BEE-EFD76193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51A-3B77-4E03-BDFB-AA660F82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9B9F-EFD6-46CD-8866-4DD87DD7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C727-EE17-4388-916E-9DDD49F7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0F1F-E80C-4496-AD04-55FA1AE0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2B7B-2F39-41F7-8696-6963365E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284C-D107-44DC-8906-B92289B5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6ED5-8D7F-42A6-828B-7D9665E4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F718-156C-4C2D-B4E2-524B8648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418-46EA-4746-8F32-8FEE3570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13FF-A628-4962-9704-F7E64FFB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2ED7-5C6A-4F8E-8348-9F5187F8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A131-5AA2-4C59-8DCF-A902E59C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6120-9213-4C98-A462-F04FC159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F634-89D9-45D6-AF23-969D242A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32B-E7AD-4BCA-8D43-AEAECD48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BF4-FDC5-42E6-BA34-80ACC639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899-D763-443A-9401-D72D71BE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C8A-09B7-4918-BA87-362EED3C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5C2-B31F-42AC-A96C-4A5925A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028-E31A-4D66-A133-B24E3E34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CB1-7100-4D1D-B9AB-34147ACF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0B99-644F-4398-B506-5B32DA82C4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138D-63FC-43D2-A221-D1FDE2B0E0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2610-0609-4987-8ABB-25F8D7A745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00:50:03Z</dcterms:created>
  <dc:creator>www.pptbz.com</dc:creator>
  <dc:description/>
  <cp:keywords/>
  <dc:language>en-US</dc:language>
  <cp:lastModifiedBy>a</cp:lastModifiedBy>
  <dcterms:modified xsi:type="dcterms:W3CDTF">2015-02-10T11:29:3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