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projctor.wav" ContentType="audio/x-wav"/>
  <Override PartName="/ppt/media/image6.jpeg" ContentType="image/jpeg"/>
  <Override PartName="/ppt/media/image27.jpeg" ContentType="image/jpeg"/>
  <Override PartName="/ppt/media/chimes.wav" ContentType="audio/x-wav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7.png" ContentType="image/png"/>
  <Override PartName="/ppt/media/image1.jpeg" ContentType="image/jpeg"/>
  <Override PartName="/ppt/media/image3.gif" ContentType="image/gif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22.png" ContentType="image/png"/>
  <Override PartName="/ppt/media/image21.jpeg" ContentType="image/jpeg"/>
  <Override PartName="/ppt/media/image17.gif" ContentType="image/gif"/>
  <Override PartName="/ppt/media/image16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FE3-D263-4CE1-A20E-2FEDC8AF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5F1-23E5-4889-9FBC-66BDAAA9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93A4A-2984-48A3-9ED6-07490453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CF62B-0DB2-4FDC-B95F-A60A8739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E0348-40DD-4F35-B35B-CFCB5551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C2BE4-800D-44BE-AB2B-BE1F44A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45997-F314-41AC-9809-C7BBF85C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69178-D57F-481F-8F6A-189200E7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710E3-C2F8-4627-A6EE-68314CA7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5D851-A9CC-4075-B3EE-FDA48397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823E5-54E9-45DB-A1D9-17A7177B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DB475-330B-4136-8A6E-8DFD33CF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D5A-367A-4052-AFDD-E0524D72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ACAB8-6EB2-4840-BC27-771125DF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1FF7D-C26D-43DA-907F-BCD942F6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9282B-B155-47CF-A977-6BAC8355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43DB3-AD95-49F5-8E44-DD3D5FC8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003DF-F908-4151-A1F8-213DE17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12A8F-F07B-4B91-921A-93DB36E6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6C540-E92F-4347-82F9-A472F08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13697-A953-4D06-B618-082E3A3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43771-6CBB-45BE-B14B-D97F874D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26168-74D9-4332-B7A0-67824893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EBB-A9F8-47FE-8092-26202197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8A70A-D719-45BB-8F51-31C023B2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73A90-1A4C-4436-B3F3-3AF7C255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7DAAF-C0AD-4CEB-AB4B-9AC2C3AA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D1268-270B-4486-BA62-06895C38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12CFC-66B3-43F0-82C8-1DCCC217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F6923-082D-4265-B687-6930A437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D3B54-BA07-44C2-A5F5-62B19EED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6F02B-C8BF-478C-92FE-93DC3709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C3C2C-30EC-47EA-A81F-073A8E40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BC098-89EC-47D1-8441-2E91B4BF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12B1-99AE-4B83-907A-C83F1EC7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C4877-C06F-47AE-A03D-59DA1442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DF829-1D4D-4B65-8A69-806A95D1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B0671-1E37-43E6-8980-0E07AC66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49973-FC6B-47CB-8EEB-C466DA47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C5F63-586C-495A-897C-AC63AEEF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5A1F2-2C9A-47C2-8A03-6A5EB670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51F81-71B2-4569-8406-9956040B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E36E3-7AD0-4DCA-B741-E09A1896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D25FD-373A-4A04-BD27-674A6738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C8672-4191-4901-BD8D-B347B43A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D95-B0BB-4484-A675-FCB0CE03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113FA-D561-48D6-BEEB-3447CAA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44993-17BE-4966-BED7-35749E11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2B405-3914-4C2A-8F05-96815D28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0C157-5F3C-43D9-BA24-C3C50A34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67EF2-003E-4BF8-B8A5-7BA6F918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29AC4-F71F-46E6-9219-17F39E3F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69F65-C713-4FA7-8488-5712F481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BAFEE-FD8D-4D21-A36E-66AF3AAF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F0BA5-A08B-4718-8E35-79780422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C2729-3D07-4C4A-99EF-18B5A56F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1FC-BF74-4A1E-B031-B176A2D5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A45EB-0E40-4900-A7E0-05164D2D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28D39-8D87-4F2E-9961-E7DCD77F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E17ED-1595-45E8-881D-E5381B32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AC105-BA81-425D-B655-8BC34CC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AFD52-B011-4BC1-84C1-847C5727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23531-A327-44DD-BCCF-1AB73A6E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6DA8E-86ED-4C65-9474-56A86893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D68E-CDF2-41FD-BF9A-6882C78A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3936-0EF7-4B96-97A6-24DC6E3C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1DD8-EDF9-453A-9DA9-4867B1DE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1909-42D9-4246-8AE4-4071466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ACA-554F-4F93-9E83-EC6B9E3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1060-6F8F-4AE6-867B-D2968CC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8439-0771-418E-B61A-E1A481B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1043-0EF6-47D8-8224-FDCC9B9F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2ED8-A058-4B19-A6EA-8347DB7D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769-2031-4CEB-A01E-E65F8FFF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11E2-2894-4BA3-9F0D-C8C26EF6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6422-8D5A-4566-BCC7-C71A08E2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1385-40EC-4DC1-8324-810CD788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65F0-41AA-495D-B164-07DC641A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2F70-2E40-418A-9C7E-8B60DD9E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2BE-8607-406E-A21D-5CCA45EB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E7F4-C7E6-4B9E-ADDC-CFB6E39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16CB-F9DA-4EB7-8F76-E7563E33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72B0-56DF-41D6-B89A-A499647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8039-151A-4B44-966E-82BC4CD6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D384-09D2-4199-924E-9DC22C23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EF21-7573-495B-8F47-CF1AF2C5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EAFC9-3BAD-4EFE-B7BD-482D7FE4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F2E30-9249-46D1-BC02-07D07FF3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CDA17-7444-470B-B0E6-40B38C7F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3A8DD-71D9-4B59-A54B-51CAE24E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58C-9380-4DE7-A140-29E70E06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59077-A04C-458A-99BF-A7B60E8C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8181-FEE3-4CB3-9422-238ECDD2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7519-B1D5-4FA7-BEE5-0CDC057D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59A0F-B3FC-4488-AB5E-B0703FA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BEB9-0CD8-4915-9E4F-C5D67BFA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7849-852B-47D0-9136-09AA3D80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5F8D7-D9E0-43F6-8D28-D8BE7551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30BE-77A5-4554-9A49-6061CE5E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65F1-2834-4B0A-99D5-D88FF806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B3593-A229-4934-90F6-620999F5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962-9A4A-4BBD-90BC-5259EE2D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F1E3-DB83-45A2-9FD2-6157F462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FF1CC-5098-4540-8CF0-3588653E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3973-5C31-4F7E-8319-20DA8984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697C-348D-4BF5-A80D-D91D9EE5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73BCE-2AEA-478A-8AFA-4AFC10EC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8D6B8-1FCC-4932-9DBE-25536C78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5001A-3976-45B7-B213-E3EB8DF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305B-48A9-4D43-AAC3-162019E9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AB6A-AD57-480F-A022-409F3FD8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4DF9-E1F4-49D8-9123-B1EE3C82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32F-826B-4896-B4F3-644742F9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0FB9B-B2EA-42DF-BC82-F4C5D16E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7F87-5AEF-40A9-B76C-9F7CF4EF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A3F9-C904-4AB1-8378-E5DE5EAE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231CF-8994-4A46-96ED-8FB17D21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922A-065E-4F82-991F-62A5420D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AF905-3953-48BC-B426-C82E5DE6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C91EF-53EF-4818-A64A-77F205A8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0A91-9E23-45FF-9A39-920EFB6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FFA2-114C-44BB-9842-3034069C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81298-A890-4059-B7F2-EA76ADF6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9EC-456D-4D20-A500-8F2C776D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C8F22-7AEF-409E-B6FF-EFA9B8D2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738B3-97AE-4366-A1D8-C1FFFBA0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F790-8B12-4A80-A92D-4CC50253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FFEA5-BA94-40F2-8FC9-DC84E8D3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01B93-EF1C-426C-82AC-F1DC919C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8791C-276D-42C4-A925-43F97F34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7CD55-12B9-42E7-8DFC-A145701B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50BB2-596A-496A-AA37-948E2EE1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65E46-59B0-443C-9519-568400A9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625A0-7BBE-4309-9C78-43498B9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DF3-377F-45FC-8A6F-4EBCB01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A5BED-5EB7-4843-998F-1FD61D3D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B8D8E-E15A-4866-9C15-14C329C7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BA01-8F85-40A3-B943-D51C48D6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0CEAA-960F-4430-88A7-8DC8AE36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CABE3-8687-48E8-AF76-9B131BD8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92417-428B-4C97-AB71-D4F358CF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B7C0-4DE6-43CC-A4AF-30D6A891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4BCA8-2ED4-4372-B446-734DFB5B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E0D57-C0A0-45E5-B8E2-D8187F9C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A2774-E76E-4B74-88AC-ADFE4C7C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B58-22F7-4148-B2F9-A3DE7A4F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5CE7B-9E44-4F3E-B8E8-C9DCA750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21560-8A17-4C81-AF99-34DA11D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4A94A-E0E1-4663-8866-A2181430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5632-9A11-4880-98C4-B0525D1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DF9B-3A45-463D-9D2E-42FE0539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9FA6A-3035-4999-95CE-74077200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96B37-3CC4-43B2-98A8-E15DF66D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756D7-A0E9-42D1-9E06-1918C41C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2611F-31CE-4302-97AB-A7582916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E11D7-A4B4-451B-ABDC-54FFFDB7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85D3-FFDD-4D75-BBD8-A2E121118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D050-B0E0-4E11-8040-F522FD4B85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16A1-78BB-44E6-9A4C-7241C74CF0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9ECB-4B2B-4FF3-9D38-8F6070C878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56E7-46F1-4F63-9EC4-DDAAD8CB88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347A-108A-4373-A050-C3D2A25E9F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590C-D104-423A-BCBD-CA6CA5FC7C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91DA-8779-4E0C-92A1-7A0103DEFC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BA6F-248A-415B-8D4A-FD323A8822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7854-B22F-459F-A4ED-8621BFD28E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FED0-9E84-477B-A0A6-BD00BB4006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8B44-5022-414C-B042-FDF4A60D01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926-A5E0-4F51-B6F1-E8E9F99901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7676-8465-4AD1-8C6B-7E84DE5B02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E899-F196-420E-8345-36679D65C4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EEE9-19A7-4496-B1D0-6D37FCEABC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DC78-A777-4E3B-B93B-9A96640333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11BA-6745-43A9-B1CA-F6B15C3DEE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9EE3-B1E4-4172-BD43-594821481F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B51A-5B04-4F42-9443-27701AC2D1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FB6D-5B64-4DA6-B550-A2B0D4F004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F506-A625-4508-9BCA-3A56708766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BCF6-98CF-4FF3-B4F7-9C18FEDA81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D0F1-703B-4398-B4FD-D48FD3AA43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3F31-60D8-49D1-A1AF-3259E51E1E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image" Target="../media/image8.gif"/><Relationship Id="rId5" Type="http://schemas.openxmlformats.org/officeDocument/2006/relationships/slide" Target="slide7.xml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8.gif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3" descr="TN_kuang216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蛋糕3"/>
          <p:cNvPicPr/>
          <p:nvPr/>
        </p:nvPicPr>
        <p:blipFill>
          <a:blip r:embed="rId17"/>
          <a:stretch/>
        </p:blipFill>
        <p:spPr>
          <a:xfrm>
            <a:off x="4876920" y="4114800"/>
            <a:ext cx="2324160" cy="1981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星01"/>
          <p:cNvPicPr/>
          <p:nvPr/>
        </p:nvPicPr>
        <p:blipFill>
          <a:blip r:embed="rId18"/>
          <a:stretch/>
        </p:blipFill>
        <p:spPr>
          <a:xfrm>
            <a:off x="6019920" y="-609480"/>
            <a:ext cx="3684600" cy="3962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星01"/>
          <p:cNvPicPr/>
          <p:nvPr/>
        </p:nvPicPr>
        <p:blipFill>
          <a:blip r:embed="rId19"/>
          <a:stretch/>
        </p:blipFill>
        <p:spPr>
          <a:xfrm>
            <a:off x="-762120" y="1447920"/>
            <a:ext cx="2676600" cy="4429080"/>
          </a:xfrm>
          <a:prstGeom prst="rect">
            <a:avLst/>
          </a:prstGeom>
          <a:ln w="0">
            <a:noFill/>
          </a:ln>
        </p:spPr>
      </p:pic>
      <p:sp>
        <p:nvSpPr>
          <p:cNvPr id="538" name="WordArt 9"/>
          <p:cNvSpPr txBox="1"/>
          <p:nvPr/>
        </p:nvSpPr>
        <p:spPr>
          <a:xfrm>
            <a:off x="2484360" y="1916280"/>
            <a:ext cx="381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欢庆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5-0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珠江新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WordArt 3"/>
          <p:cNvSpPr txBox="1"/>
          <p:nvPr/>
        </p:nvSpPr>
        <p:spPr>
          <a:xfrm>
            <a:off x="4114800" y="403848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新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591" name="WordArt 4"/>
          <p:cNvSpPr txBox="1"/>
          <p:nvPr/>
        </p:nvSpPr>
        <p:spPr>
          <a:xfrm>
            <a:off x="5257800" y="239076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面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592" name="WordArt 5"/>
          <p:cNvSpPr txBox="1"/>
          <p:nvPr/>
        </p:nvSpPr>
        <p:spPr>
          <a:xfrm>
            <a:off x="6400800" y="373392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貌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593" name="WordArt 6"/>
          <p:cNvSpPr txBox="1"/>
          <p:nvPr/>
        </p:nvSpPr>
        <p:spPr>
          <a:xfrm>
            <a:off x="2895480" y="290988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国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594" name="WordArt 7"/>
          <p:cNvSpPr txBox="1"/>
          <p:nvPr/>
        </p:nvSpPr>
        <p:spPr>
          <a:xfrm>
            <a:off x="1447920" y="388620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祖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pic>
        <p:nvPicPr>
          <p:cNvPr id="595" name="音乐15.WAV" descr=""/>
          <p:cNvPicPr/>
          <p:nvPr/>
        </p:nvPicPr>
        <p:blipFill>
          <a:blip r:embed="rId2"/>
          <a:stretch/>
        </p:blipFill>
        <p:spPr>
          <a:xfrm>
            <a:off x="9144000" y="7086600"/>
            <a:ext cx="360" cy="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12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pic>
          <p:nvPicPr>
            <p:cNvPr id="597" name="Picture 13" descr="世界贸易中心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WordArt 14"/>
            <p:cNvSpPr txBox="1"/>
            <p:nvPr/>
          </p:nvSpPr>
          <p:spPr>
            <a:xfrm>
              <a:off x="365400" y="811800"/>
              <a:ext cx="2907720" cy="50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华文行楷"/>
                </a:rPr>
                <a:t>世界贸易中心</a:t>
              </a:r>
              <a:endPara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7"/>
          <p:cNvGrpSpPr/>
          <p:nvPr/>
        </p:nvGrpSpPr>
        <p:grpSpPr>
          <a:xfrm>
            <a:off x="0" y="0"/>
            <a:ext cx="9144000" cy="6985080"/>
            <a:chOff x="0" y="0"/>
            <a:chExt cx="9144000" cy="6985080"/>
          </a:xfrm>
        </p:grpSpPr>
        <p:pic>
          <p:nvPicPr>
            <p:cNvPr id="600" name="Picture 8" descr="解放大桥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9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WordArt 9"/>
            <p:cNvSpPr txBox="1"/>
            <p:nvPr/>
          </p:nvSpPr>
          <p:spPr>
            <a:xfrm>
              <a:off x="5867280" y="736560"/>
              <a:ext cx="243864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华文行楷"/>
                </a:rPr>
                <a:t>解放大桥</a:t>
              </a:r>
              <a:endParaRPr b="0" lang="en-US" sz="4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3" name="Picture 5" descr="花园酒店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WordArt 6"/>
            <p:cNvSpPr txBox="1"/>
            <p:nvPr/>
          </p:nvSpPr>
          <p:spPr>
            <a:xfrm>
              <a:off x="1843560" y="5125320"/>
              <a:ext cx="23594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华文行楷"/>
                </a:rPr>
                <a:t>花园酒店</a:t>
              </a:r>
              <a:endPara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GIF-378"/>
          <p:cNvPicPr/>
          <p:nvPr/>
        </p:nvPicPr>
        <p:blipFill>
          <a:blip r:embed="rId2"/>
          <a:stretch/>
        </p:blipFill>
        <p:spPr>
          <a:xfrm>
            <a:off x="1371600" y="2209680"/>
            <a:ext cx="696960" cy="628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GIF-378"/>
          <p:cNvPicPr/>
          <p:nvPr/>
        </p:nvPicPr>
        <p:blipFill>
          <a:blip r:embed="rId3"/>
          <a:stretch/>
        </p:blipFill>
        <p:spPr>
          <a:xfrm>
            <a:off x="1371600" y="2895480"/>
            <a:ext cx="696960" cy="628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GIF-378"/>
          <p:cNvPicPr/>
          <p:nvPr/>
        </p:nvPicPr>
        <p:blipFill>
          <a:blip r:embed="rId4"/>
          <a:stretch/>
        </p:blipFill>
        <p:spPr>
          <a:xfrm>
            <a:off x="1371600" y="373392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" descr="GIF-378"/>
          <p:cNvPicPr/>
          <p:nvPr/>
        </p:nvPicPr>
        <p:blipFill>
          <a:blip r:embed="rId5"/>
          <a:stretch/>
        </p:blipFill>
        <p:spPr>
          <a:xfrm>
            <a:off x="1371600" y="4495680"/>
            <a:ext cx="696960" cy="62892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13"/>
          <p:cNvGrpSpPr/>
          <p:nvPr/>
        </p:nvGrpSpPr>
        <p:grpSpPr>
          <a:xfrm>
            <a:off x="2567880" y="1295280"/>
            <a:ext cx="4007880" cy="4574520"/>
            <a:chOff x="2567880" y="1295280"/>
            <a:chExt cx="4007880" cy="4574520"/>
          </a:xfrm>
        </p:grpSpPr>
        <p:sp>
          <p:nvSpPr>
            <p:cNvPr id="610" name="WordArt 3"/>
            <p:cNvSpPr txBox="1"/>
            <p:nvPr/>
          </p:nvSpPr>
          <p:spPr>
            <a:xfrm>
              <a:off x="3733920" y="1295280"/>
              <a:ext cx="18288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我能行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611" name="Text Box 7"/>
            <p:cNvSpPr/>
            <p:nvPr/>
          </p:nvSpPr>
          <p:spPr>
            <a:xfrm>
              <a:off x="2981160" y="213372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把这首诗有感情地朗诵给爸爸妈妈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8"/>
            <p:cNvSpPr/>
            <p:nvPr/>
          </p:nvSpPr>
          <p:spPr>
            <a:xfrm>
              <a:off x="3316680" y="28954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给课文画一幅插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9"/>
            <p:cNvSpPr/>
            <p:nvPr/>
          </p:nvSpPr>
          <p:spPr>
            <a:xfrm>
              <a:off x="3854880" y="373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给课文找一首相配的歌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11"/>
            <p:cNvSpPr/>
            <p:nvPr/>
          </p:nvSpPr>
          <p:spPr>
            <a:xfrm>
              <a:off x="2567880" y="4572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给课文编个舞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12"/>
            <p:cNvSpPr/>
            <p:nvPr/>
          </p:nvSpPr>
          <p:spPr>
            <a:xfrm>
              <a:off x="3898800" y="5410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（任选一两项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14"/>
          <p:cNvGrpSpPr/>
          <p:nvPr/>
        </p:nvGrpSpPr>
        <p:grpSpPr>
          <a:xfrm>
            <a:off x="1143000" y="1752480"/>
            <a:ext cx="7162560" cy="2971800"/>
            <a:chOff x="1143000" y="1752480"/>
            <a:chExt cx="7162560" cy="2971800"/>
          </a:xfrm>
        </p:grpSpPr>
        <p:grpSp>
          <p:nvGrpSpPr>
            <p:cNvPr id="540" name="Group 6"/>
            <p:cNvGrpSpPr/>
            <p:nvPr/>
          </p:nvGrpSpPr>
          <p:grpSpPr>
            <a:xfrm>
              <a:off x="1143000" y="1752480"/>
              <a:ext cx="3047760" cy="2971800"/>
              <a:chOff x="1143000" y="1752480"/>
              <a:chExt cx="3047760" cy="2971800"/>
            </a:xfrm>
          </p:grpSpPr>
          <p:sp>
            <p:nvSpPr>
              <p:cNvPr id="541" name="Rectangle 3"/>
              <p:cNvSpPr/>
              <p:nvPr/>
            </p:nvSpPr>
            <p:spPr>
              <a:xfrm>
                <a:off x="1143000" y="1752480"/>
                <a:ext cx="2971800" cy="2971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4"/>
              <p:cNvSpPr/>
              <p:nvPr/>
            </p:nvSpPr>
            <p:spPr>
              <a:xfrm>
                <a:off x="1143000" y="327672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5"/>
              <p:cNvSpPr/>
              <p:nvPr/>
            </p:nvSpPr>
            <p:spPr>
              <a:xfrm>
                <a:off x="2666880" y="182880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7"/>
            <p:cNvGrpSpPr/>
            <p:nvPr/>
          </p:nvGrpSpPr>
          <p:grpSpPr>
            <a:xfrm>
              <a:off x="5257800" y="1752480"/>
              <a:ext cx="3047760" cy="2971800"/>
              <a:chOff x="5257800" y="1752480"/>
              <a:chExt cx="3047760" cy="2971800"/>
            </a:xfrm>
          </p:grpSpPr>
          <p:sp>
            <p:nvSpPr>
              <p:cNvPr id="545" name="Rectangle 8"/>
              <p:cNvSpPr/>
              <p:nvPr/>
            </p:nvSpPr>
            <p:spPr>
              <a:xfrm>
                <a:off x="5257800" y="1752480"/>
                <a:ext cx="2971800" cy="2971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9"/>
              <p:cNvSpPr/>
              <p:nvPr/>
            </p:nvSpPr>
            <p:spPr>
              <a:xfrm>
                <a:off x="5257800" y="327672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10"/>
              <p:cNvSpPr/>
              <p:nvPr/>
            </p:nvSpPr>
            <p:spPr>
              <a:xfrm>
                <a:off x="6781680" y="182880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WordArt 11"/>
            <p:cNvSpPr txBox="1"/>
            <p:nvPr/>
          </p:nvSpPr>
          <p:spPr>
            <a:xfrm>
              <a:off x="1523880" y="2133720"/>
              <a:ext cx="2057400" cy="21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00"/>
                  </a:solidFill>
                  <a:latin typeface="宋体"/>
                </a:rPr>
                <a:t>欢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549" name="WordArt 12"/>
            <p:cNvSpPr txBox="1"/>
            <p:nvPr/>
          </p:nvSpPr>
          <p:spPr>
            <a:xfrm>
              <a:off x="5790960" y="2209680"/>
              <a:ext cx="19051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solidFill>
                    <a:srgbClr val="ff0000"/>
                  </a:solidFill>
                  <a:latin typeface="宋体"/>
                </a:rPr>
                <a:t>庆</a:t>
              </a:r>
              <a:endPara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p:transition>
    <p:checke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6"/>
          <p:cNvSpPr/>
          <p:nvPr/>
        </p:nvSpPr>
        <p:spPr>
          <a:xfrm>
            <a:off x="1828800" y="251460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庆  献  帜  洁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奏  曲  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2987640" y="1125360"/>
            <a:ext cx="22701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latin typeface="隶书"/>
              </a:rPr>
              <a:t>我会认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pic>
        <p:nvPicPr>
          <p:cNvPr id="552" name="Picture 6" descr="我会猜"/>
          <p:cNvPicPr/>
          <p:nvPr/>
        </p:nvPicPr>
        <p:blipFill>
          <a:blip r:embed="rId2"/>
          <a:stretch/>
        </p:blipFill>
        <p:spPr>
          <a:xfrm>
            <a:off x="611280" y="476280"/>
            <a:ext cx="1619280" cy="1503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练一练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3"/>
          <p:cNvSpPr/>
          <p:nvPr/>
        </p:nvSpPr>
        <p:spPr>
          <a:xfrm>
            <a:off x="6858000" y="0"/>
            <a:ext cx="2286000" cy="10666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WordArt 4"/>
          <p:cNvSpPr txBox="1"/>
          <p:nvPr/>
        </p:nvSpPr>
        <p:spPr>
          <a:xfrm>
            <a:off x="7162920" y="30492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我会读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698480" y="1066680"/>
            <a:ext cx="7445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献上  洁白  旗帜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祖国  奏起  十三亿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曲  欢</a:t>
            </a:r>
            <a:r>
              <a:rPr b="1" lang="zh-CN" sz="6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8"/>
          <p:cNvGrpSpPr/>
          <p:nvPr/>
        </p:nvGrpSpPr>
        <p:grpSpPr>
          <a:xfrm>
            <a:off x="2135160" y="4343400"/>
            <a:ext cx="3710880" cy="642600"/>
            <a:chOff x="2135160" y="4343400"/>
            <a:chExt cx="3710880" cy="642600"/>
          </a:xfrm>
        </p:grpSpPr>
        <p:sp>
          <p:nvSpPr>
            <p:cNvPr id="558" name="Text Box 6"/>
            <p:cNvSpPr/>
            <p:nvPr/>
          </p:nvSpPr>
          <p:spPr>
            <a:xfrm>
              <a:off x="2135160" y="434340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yu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7"/>
            <p:cNvSpPr/>
            <p:nvPr/>
          </p:nvSpPr>
          <p:spPr>
            <a:xfrm>
              <a:off x="5336280" y="434340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l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FR_07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1" name="Text Box 7"/>
          <p:cNvSpPr/>
          <p:nvPr/>
        </p:nvSpPr>
        <p:spPr>
          <a:xfrm>
            <a:off x="3223440" y="16765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田野献上金黄的果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299760" y="2590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枫林举起火红的旗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3299760" y="3505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蓝天飞着洁白的鸽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3299760" y="4419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海奏起欢乐的乐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11" descr="GIF-37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182880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GIF-37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600200" y="259092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GIF-378"/>
          <p:cNvPicPr/>
          <p:nvPr/>
        </p:nvPicPr>
        <p:blipFill>
          <a:blip r:embed="rId7"/>
          <a:stretch/>
        </p:blipFill>
        <p:spPr>
          <a:xfrm>
            <a:off x="1600200" y="342900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4" descr="GIF-378"/>
          <p:cNvPicPr/>
          <p:nvPr/>
        </p:nvPicPr>
        <p:blipFill>
          <a:blip r:embed="rId8"/>
          <a:stretch/>
        </p:blipFill>
        <p:spPr>
          <a:xfrm>
            <a:off x="1676520" y="4419720"/>
            <a:ext cx="69696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9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稻谷2"/>
          <p:cNvPicPr/>
          <p:nvPr/>
        </p:nvPicPr>
        <p:blipFill>
          <a:blip r:embed="rId1"/>
          <a:stretch/>
        </p:blipFill>
        <p:spPr>
          <a:xfrm>
            <a:off x="380880" y="304920"/>
            <a:ext cx="1797120" cy="2438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稻谷3"/>
          <p:cNvPicPr/>
          <p:nvPr/>
        </p:nvPicPr>
        <p:blipFill>
          <a:blip r:embed="rId2"/>
          <a:stretch/>
        </p:blipFill>
        <p:spPr>
          <a:xfrm>
            <a:off x="2590920" y="304920"/>
            <a:ext cx="2286000" cy="23619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稻谷5"/>
          <p:cNvPicPr/>
          <p:nvPr/>
        </p:nvPicPr>
        <p:blipFill>
          <a:blip r:embed="rId3"/>
          <a:stretch/>
        </p:blipFill>
        <p:spPr>
          <a:xfrm>
            <a:off x="5105520" y="228600"/>
            <a:ext cx="1784160" cy="2514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南瓜"/>
          <p:cNvPicPr/>
          <p:nvPr/>
        </p:nvPicPr>
        <p:blipFill>
          <a:blip r:embed="rId4"/>
          <a:stretch/>
        </p:blipFill>
        <p:spPr>
          <a:xfrm>
            <a:off x="7162920" y="304920"/>
            <a:ext cx="1679400" cy="24382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葫芦"/>
          <p:cNvPicPr/>
          <p:nvPr/>
        </p:nvPicPr>
        <p:blipFill>
          <a:blip r:embed="rId5"/>
          <a:stretch/>
        </p:blipFill>
        <p:spPr>
          <a:xfrm>
            <a:off x="2971800" y="2971800"/>
            <a:ext cx="3352680" cy="2263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玉米"/>
          <p:cNvPicPr/>
          <p:nvPr/>
        </p:nvPicPr>
        <p:blipFill>
          <a:blip r:embed="rId6"/>
          <a:stretch/>
        </p:blipFill>
        <p:spPr>
          <a:xfrm>
            <a:off x="6781680" y="3200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9"/>
          <p:cNvSpPr/>
          <p:nvPr/>
        </p:nvSpPr>
        <p:spPr>
          <a:xfrm>
            <a:off x="2454120" y="548640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田野献上金黄的果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10" descr="GIF-378"/>
          <p:cNvPicPr/>
          <p:nvPr/>
        </p:nvPicPr>
        <p:blipFill>
          <a:blip r:embed="rId7"/>
          <a:stretch/>
        </p:blipFill>
        <p:spPr>
          <a:xfrm>
            <a:off x="8447040" y="622944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2" descr="南瓜2"/>
          <p:cNvPicPr/>
          <p:nvPr/>
        </p:nvPicPr>
        <p:blipFill>
          <a:blip r:embed="rId8"/>
          <a:stretch/>
        </p:blipFill>
        <p:spPr>
          <a:xfrm>
            <a:off x="457200" y="3048120"/>
            <a:ext cx="183204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Object 2" descr=""/>
          <p:cNvPicPr/>
          <p:nvPr/>
        </p:nvPicPr>
        <p:blipFill>
          <a:blip r:embed="rId1"/>
          <a:stretch/>
        </p:blipFill>
        <p:spPr>
          <a:xfrm>
            <a:off x="685800" y="547560"/>
            <a:ext cx="6095880" cy="48578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3"/>
          <p:cNvSpPr/>
          <p:nvPr/>
        </p:nvSpPr>
        <p:spPr>
          <a:xfrm>
            <a:off x="2606760" y="548640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枫林举起火红的旗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4" descr="GIF-378"/>
          <p:cNvPicPr/>
          <p:nvPr/>
        </p:nvPicPr>
        <p:blipFill>
          <a:blip r:embed="rId2"/>
          <a:stretch/>
        </p:blipFill>
        <p:spPr>
          <a:xfrm>
            <a:off x="8447040" y="622944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国旗01"/>
          <p:cNvPicPr/>
          <p:nvPr/>
        </p:nvPicPr>
        <p:blipFill>
          <a:blip r:embed="rId3"/>
          <a:stretch/>
        </p:blipFill>
        <p:spPr>
          <a:xfrm>
            <a:off x="7010280" y="129528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1-1368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2621160" y="54100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蓝天飞着洁白的鸽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4" descr="GIF-378"/>
          <p:cNvPicPr/>
          <p:nvPr/>
        </p:nvPicPr>
        <p:blipFill>
          <a:blip r:embed="rId2"/>
          <a:stretch/>
        </p:blipFill>
        <p:spPr>
          <a:xfrm>
            <a:off x="8153280" y="6229440"/>
            <a:ext cx="6969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SS040"/>
          <p:cNvPicPr/>
          <p:nvPr/>
        </p:nvPicPr>
        <p:blipFill>
          <a:blip r:embed="rId1"/>
          <a:stretch/>
        </p:blipFill>
        <p:spPr>
          <a:xfrm>
            <a:off x="1371600" y="30492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2759040" y="54100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海奏起欢乐的乐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4" descr="GIF-378"/>
          <p:cNvPicPr/>
          <p:nvPr/>
        </p:nvPicPr>
        <p:blipFill>
          <a:blip r:embed="rId2"/>
          <a:stretch/>
        </p:blipFill>
        <p:spPr>
          <a:xfrm>
            <a:off x="8447040" y="6229440"/>
            <a:ext cx="696960" cy="62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7:45:41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8T05:50:18Z</dcterms:modified>
  <cp:revision>38</cp:revision>
  <dc:subject/>
  <dc:title>第一PPT模板网-WWW.1PPT.COM</dc:title>
</cp:coreProperties>
</file>