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C3A-7EA8-482B-A448-3C32566F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8D5-DA96-41DA-B0A1-0953BE62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C021A-1C63-41DE-8F03-8E47D7C1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1E42A-9626-439D-B828-5D07FD05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AAFE8-877B-4D31-BFC6-9D6E8B9D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22AC3-B843-470B-8E64-D834207B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F72AD-4678-4ADA-9CF2-787B9770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BA258-2724-4E2E-8FD0-56B98E90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9C9DD-AFB9-4CCC-B061-7EF8B6C6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D7034-8145-4A31-94D7-D82C78C5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5D0C8-8468-413C-AD9F-0A1C59EC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43997-F42F-4AB6-90A7-1DC589C0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B30-F40A-49DE-8FC2-4C623079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53DFD-E682-4B62-83C0-FDDE483F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F79F6-7B3D-4F1A-AC2E-C0CC1FC5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B4D51-7188-4129-AFA1-A847909A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F938B-AC33-4F5D-A1A2-59B78CC2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573D2-DE2C-4577-8708-83C60FC7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A2BC2-192A-4E83-8B47-08F2D5F3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E440A-5F39-4539-8D54-889E86A6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36720-BE22-41A8-84B7-75389CF2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22EFE-1DB8-4178-9572-6CE8CF03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6A9BA-6B71-475D-A07D-7291A237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5A8-DA02-4383-A201-2138DDE3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4225C-ED32-4DE3-BD55-DA81106B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59867-D052-4553-A45B-18892271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E7467-E71A-4597-8056-F0E1B875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4708B-5D7B-4236-8C02-C03B354E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C7F8C-D212-4AE0-BA01-03303C5E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3A32A-4B34-4D59-B504-78FC9C99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27464-A2BA-4FCC-A65C-76DD0809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FD88F-B482-4101-A7D1-FD561D87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21E0C-6A03-4FB8-B9F0-C58ACFB2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E45AB-82F7-48F6-B2FC-54AFFC06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C25E-11BC-44A2-B317-C876465B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D02B8-7F8A-4228-8557-31E19D03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F69FD-19D7-41ED-BAC5-17E31303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C0082-31EB-45B9-A428-AC3D379E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40FD5-C70E-4F59-AB92-620B4FF2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9A822-0DF1-4214-9CF7-91FEFAFB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32F82-3F65-4CF4-82E7-3293E8DF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FF841-8BED-4B25-9F43-7CE5E9E0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08345-3862-4AA6-855A-C48C6EA0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71419-6455-4AF3-8D06-9149CD3E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E6310-CD1A-4A3D-B89F-0318F113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F011-167B-4568-8CAE-05F967C6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DDEE4-1ED7-481C-8579-52FEC825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6DAB7-C66A-4D19-81CF-FABC4574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FDE82-C3D4-4E0D-85E7-43987233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9AF9E-8695-4B2D-9724-24B4AFEA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75267-2367-4C2C-9FA0-F426F026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AC855-A76E-40E3-BA0C-397EF1E9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6D11A-5D71-4F11-AA2D-8212000B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B860D-7A3E-4B4D-BA0D-C8CED4C6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EB80A-5BCB-414B-A61C-C68E931D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6F477-EF88-414F-895A-EED110CC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C64E-C515-4615-B7D7-48AE885A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970B9-49CC-4F25-BB8A-7F7661EC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7B9A8-3931-4C31-A586-306E1DA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2F7E5-A983-4F88-A2D5-A3F00C5B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C6CB3-CE2D-41F2-8541-1658517C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1DAB5-9832-48AC-88D4-C7C093D8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1ABDB-4C3B-4385-BF8E-78F8F721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A44D6-ABE5-43F3-B2BA-DC977F42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4E1E-DBDB-4EB9-B9E4-EFCAB7C9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F958-A3A9-44F3-BB29-F6A648B1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11A5-CF30-47A6-B96D-2BD5FDD8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BE69-106B-4930-BFBC-944F2ECA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B9B-4FE1-4EB7-8260-72A5F045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E1A5-53AA-4EAB-9091-19C9EA39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CD25-A35D-40AE-91F8-A3A33A9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C421-56CE-47B3-931B-2E3A8A63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5E80-8219-4BB3-8FC8-CFD96553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9AAE-B9B2-4D9F-B7A4-743BB040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40143-6506-4EC9-BD30-1D1974CB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9934-B04A-4549-BB77-97832E12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38FC-52E7-4834-A24D-FFB469EB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0C01-B09B-49DB-981F-132C1CDD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5E0D-0523-4DE8-B155-06AC922B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FBB-BC24-46C8-90AF-2A31DB59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78D8-894F-4E56-A647-57B8673D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EA0C2-B2DD-4976-815E-5F956E9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FE43E-562F-4044-A90B-45A2F25F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B709-98AB-4016-9D9E-4FD8F203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F6EB7-6319-4C4C-B87D-C9F3E610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F179F-B202-4D0A-BADC-77EA5229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814A-90BD-4931-8789-2E7FA703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F7BA2-CC18-4812-93AF-0C2DB5E5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6D860-2C61-42BA-93E2-AF4C3DCA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23E56-C494-45D1-AC63-2210C98F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82A-9762-46BF-964D-0E1F1067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F4B6-74CF-40A5-A3BF-79A2D97B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8B1A8-A5F1-406C-A839-60D247A1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1B508-B840-4B23-9405-D7B0EA16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151E7-9647-4511-8C73-B30CB97C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F104A-94A8-4B74-988E-50A1E73C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E1FF-6E00-4783-BA55-B630D3F7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6ED2-BEAD-493A-8443-240A1FA3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AC2AF-549F-48C6-B98B-606128BF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EC62-3C2D-4018-862B-73B3C323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B99E-6975-4B08-B355-358219CD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BE3-2259-4A4F-B535-DDF36618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1A8C0-FA26-492A-829C-6FCF7FC9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6AF47-D872-4474-A82E-A1F9C6CC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3F276-2F53-4E4F-8732-803335B6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553DF-310B-46FC-AE9D-34C2913C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A0D29-4EE1-4AA2-B2F6-7FFB8B40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A1101-87AE-4D42-A2A4-47FD1037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8835-1F02-416D-A098-13C7306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B2896-E591-4FD2-83EF-21B95684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85B33-4998-43D4-9AD8-E643FFA8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D3321-249E-4654-B832-B622625D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5DE-1043-478D-B3F2-86A392AC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CDB4-FAC4-4791-B4FB-FDDCC531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A7674-62E0-4808-9FC9-DC851626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6AEC2-1FF2-4F72-9968-F30C1210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BA730-322D-4502-99A6-30169028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AA0C8-84F1-4E42-9A8A-3E635838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85F02-75A2-4517-9788-EAFED43B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62477-4256-40AD-91EF-33514FA1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8F06A-94FF-4B27-B0B7-9EB6DD99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1D931-3ACB-497F-AA52-4D63EE88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3B285-E458-4803-AAF7-09ACE39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80B-6A0C-46FE-A93E-01CEA99D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99D9D-3553-4298-A482-635A5EAE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5698B-3D0B-4E91-B7C3-39E0DE40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D555E-3193-4B9C-9BF9-4C0F5149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6330A-4050-4333-ABB7-CCA4738A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E031A-98EA-4F6A-985A-D7607EF2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5F279-0198-441A-BD3B-DBAA09BA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54F7A-5EAC-4EDA-B4C8-39E00C09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CAD94-F162-48FF-BCE2-A155A213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242E8-9863-4F42-86E2-DB9A051A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AC90F-1E2A-4132-BF26-3D977D47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C29-402E-496D-9EF6-26CEDFE4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23EA6-EBE2-4A75-834A-9D3F9C34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C7A20-E604-4675-B43C-E10574F4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25428-B289-4B82-8CF9-10A6978A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E5E4A-55A5-4EBD-BAFF-CC94864F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AB799-28AF-4A1D-939F-3BA9F5F6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45A57-85BD-46F4-9617-AEA83D9E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FF8EA-0B86-47BC-8631-26E259A6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6C1E1-55A8-4ECB-982B-398B6C04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91B9F-14CD-4AC1-8F3E-405CF33E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4DE43-F1B4-4828-BECE-D654F60B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BBF-1A72-494F-BF29-63EF73FB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C3DB0-1A61-4C85-A950-B8372DA0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377F2-E2BA-48FF-8F3F-4757E928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A419B-2BAC-470A-BAC8-896AFF59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DB694-6CC2-4132-B5C8-418B9E4B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4879E-70BF-4335-A707-16361BD3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E82F8-E2CD-42B9-A134-96B2DEE9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C7A4F-784F-4837-88F5-CA2B61DF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E7872-680C-446B-90FA-9DE51D09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B125F-E74D-41D3-B50A-BCB0FFF0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E4A0F-5A30-4B2B-A96D-9ADEB1EB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EA59-F33D-475D-BC9E-D70783EB6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6AF0-CBC6-4873-8CAA-C0D54C9BEA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D360-1F4D-4409-8DCC-3B9AF0AF61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B836-9648-4032-AE56-D071090AC3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07A9-6193-440E-B340-ADF75FA23B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55F1-EEB3-4A77-8A1E-9B0ABE47B3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FCF9-A1CD-45C6-AFE8-6D2F37BAF7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68B8-A65B-4998-9797-55A06DBB32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F36C-F6A7-4755-A6E6-744EDDDFD9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5F54-6BF0-4867-B6FE-BD9289F6FE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DC76-6031-46A4-AAD6-A029F460F8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E5F1-6733-45F6-B947-B77A655622A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781B-83F7-4A51-BB6C-8A6A661540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5F52-8715-460E-B161-6CA674C062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71A5-5310-4DE9-9446-83B7C66E1F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E9D3-28E2-4448-867A-1C46EBBE35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A164-7FEB-48B6-B780-68637B91DA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C07B-0437-4515-947C-88DFC7F3AE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64FF-87EE-4F05-988B-BCFD4C7FAB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D505-53B7-4F2C-AF24-E32EC216BE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DDBD-3B91-42B3-8C93-D7791DE909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48C7-1928-4699-8874-028E10865C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505C-1813-4DB0-A880-C95437F7C0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CCE5-C8EC-4AEE-AF72-BCBB8ADF4C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DB24-EED5-457F-895A-62A79FB414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和时间赛跑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5"/>
          <p:cNvSpPr/>
          <p:nvPr/>
        </p:nvSpPr>
        <p:spPr>
          <a:xfrm>
            <a:off x="556272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彩云"/>
              </a:rPr>
              <a:t>小学语文第七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2484360" y="6278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制作者：开发区二小叶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9"/>
          <p:cNvSpPr txBox="1"/>
          <p:nvPr/>
        </p:nvSpPr>
        <p:spPr>
          <a:xfrm rot="5400000">
            <a:off x="4835880" y="2732760"/>
            <a:ext cx="4872240" cy="136872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和时间赛跑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4"/>
          <p:cNvSpPr/>
          <p:nvPr/>
        </p:nvSpPr>
        <p:spPr>
          <a:xfrm>
            <a:off x="324000" y="128916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是最不值钱的东西，也是最宝贵的东西，因为有了时间，我们就有了一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莱尼斯（拉脱维亚诗人、剧作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严重的浪费就是时间的浪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布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科学需要一个人贡献出毕生的精力，假定你们每个人有两次生命，这对你们说来也还是不够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巴甫洛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产业多么美，多么广，多么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是我的财产，我的田地是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歌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善于利用时间的人，永远找得到充裕的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歌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跑步小童"/>
          <p:cNvPicPr/>
          <p:nvPr/>
        </p:nvPicPr>
        <p:blipFill>
          <a:blip r:embed="rId1"/>
          <a:stretch/>
        </p:blipFill>
        <p:spPr>
          <a:xfrm>
            <a:off x="-468360" y="-819000"/>
            <a:ext cx="3284640" cy="3284280"/>
          </a:xfrm>
          <a:prstGeom prst="rect">
            <a:avLst/>
          </a:prstGeom>
          <a:ln w="0">
            <a:noFill/>
          </a:ln>
        </p:spPr>
      </p:pic>
      <p:sp>
        <p:nvSpPr>
          <p:cNvPr id="564" name="Oval 6"/>
          <p:cNvSpPr/>
          <p:nvPr/>
        </p:nvSpPr>
        <p:spPr>
          <a:xfrm>
            <a:off x="2916360" y="333360"/>
            <a:ext cx="2592360" cy="100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间格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324000" y="1341360"/>
            <a:ext cx="835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何节约归根到底是时间的节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马克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以为世间最可宝贵的就是“今”，最易丧失的也是“今”。因为他最容易丧失，所以更觉得他可以宝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大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就是生命。无端的空耗别人的时间，其实是无异于谋财害命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鲁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省时间，也就是使一个人的有限的生命更加有效，而也即等于延长了人的生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鲁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逆水行舟用力撑，一篙松劲退千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古云“此日足可惜”，吾辈更应惜秒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董必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跑步小童"/>
          <p:cNvPicPr/>
          <p:nvPr/>
        </p:nvPicPr>
        <p:blipFill>
          <a:blip r:embed="rId1"/>
          <a:stretch/>
        </p:blipFill>
        <p:spPr>
          <a:xfrm>
            <a:off x="-468360" y="-819000"/>
            <a:ext cx="3284640" cy="3284280"/>
          </a:xfrm>
          <a:prstGeom prst="rect">
            <a:avLst/>
          </a:prstGeom>
          <a:ln w="0">
            <a:noFill/>
          </a:ln>
        </p:spPr>
      </p:pic>
      <p:sp>
        <p:nvSpPr>
          <p:cNvPr id="567" name="Oval 4"/>
          <p:cNvSpPr/>
          <p:nvPr/>
        </p:nvSpPr>
        <p:spPr>
          <a:xfrm>
            <a:off x="3132000" y="333360"/>
            <a:ext cx="2592360" cy="100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间格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down_r06_c06"/>
          <p:cNvPicPr/>
          <p:nvPr/>
        </p:nvPicPr>
        <p:blipFill>
          <a:blip r:embed="rId1"/>
          <a:srcRect l="0" t="0" r="0" b="361"/>
          <a:stretch/>
        </p:blipFill>
        <p:spPr>
          <a:xfrm>
            <a:off x="-36360" y="44280"/>
            <a:ext cx="1879560" cy="216072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6"/>
          <p:cNvSpPr/>
          <p:nvPr/>
        </p:nvSpPr>
        <p:spPr>
          <a:xfrm>
            <a:off x="611280" y="836640"/>
            <a:ext cx="13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27bd"/>
                </a:solidFill>
                <a:latin typeface="Arial"/>
                <a:ea typeface="华文隶书"/>
              </a:rPr>
              <a:t>自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1258920" y="1341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自由读课文，要求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出声朗读；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要读正确读通顺，难读的地方反复读；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时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1979640" y="4724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默读课文，划出你认为重要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1258920" y="3068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读了这篇课文，你最大的感受是什么？你为什么有这样的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5"/>
          <p:cNvSpPr/>
          <p:nvPr/>
        </p:nvSpPr>
        <p:spPr>
          <a:xfrm>
            <a:off x="684360" y="344988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林清玄，笔名秦情、林漓、林大悲等，台湾省高雄市人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5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生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7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开始散文创作，至今完成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本著作。他的散文文笔流畅清新，表现醇厚、浪漫的情感，朴实中有着感人的力量。他擅长写生活体验，从身边的各种人和事着笔，以优美质朴的语言表达，阅读他的作品有如饮一掬甘美的山泉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6" descr=""/>
          <p:cNvPicPr/>
          <p:nvPr/>
        </p:nvPicPr>
        <p:blipFill>
          <a:blip r:embed="rId1"/>
          <a:stretch/>
        </p:blipFill>
        <p:spPr>
          <a:xfrm>
            <a:off x="1116000" y="0"/>
            <a:ext cx="20509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6" descr="d126"/>
          <p:cNvPicPr/>
          <p:nvPr/>
        </p:nvPicPr>
        <p:blipFill>
          <a:blip r:embed="rId1"/>
          <a:srcRect l="0" t="0" r="0" b="-629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8"/>
          <p:cNvSpPr/>
          <p:nvPr/>
        </p:nvSpPr>
        <p:spPr>
          <a:xfrm>
            <a:off x="741240" y="1535040"/>
            <a:ext cx="766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１、爸爸看到“我”为失去外祖母哀痛的样子，和我说了什么话？画在书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２、作者当时是怎样想的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３、作者又是怎样感到时间流逝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４、小组合作解决自己能够解决的不懂的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1" descr=""/>
          <p:cNvPicPr/>
          <p:nvPr/>
        </p:nvPicPr>
        <p:blipFill>
          <a:blip r:embed="rId2"/>
          <a:stretch/>
        </p:blipFill>
        <p:spPr>
          <a:xfrm>
            <a:off x="3132000" y="260280"/>
            <a:ext cx="28670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d126"/>
          <p:cNvPicPr/>
          <p:nvPr/>
        </p:nvPicPr>
        <p:blipFill>
          <a:blip r:embed="rId1"/>
          <a:srcRect l="0" t="0" r="0" b="-629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5"/>
          <p:cNvSpPr/>
          <p:nvPr/>
        </p:nvSpPr>
        <p:spPr>
          <a:xfrm>
            <a:off x="539640" y="1486440"/>
            <a:ext cx="817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作者小小年纪看到时间过得飞快，心里非常着急，而且还很悲伤，他决定和时间赛跑 。思考与讨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１、课文是从哪几件事情写“我”和时间赛跑的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２、通过小作者的做法，你有什么感受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３、读一读表现作者心情的句子，把你的感受读出来。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４、作者和太阳赛跑了二十年，请你想象一下，做什么事情时，作者还可以和时间赛跑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"/>
          <p:cNvPicPr/>
          <p:nvPr/>
        </p:nvPicPr>
        <p:blipFill>
          <a:blip r:embed="rId2"/>
          <a:stretch/>
        </p:blipFill>
        <p:spPr>
          <a:xfrm>
            <a:off x="3132000" y="87480"/>
            <a:ext cx="2867040" cy="10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d126"/>
          <p:cNvPicPr/>
          <p:nvPr/>
        </p:nvPicPr>
        <p:blipFill>
          <a:blip r:embed="rId1"/>
          <a:srcRect l="0" t="0" r="0" b="-629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1332000" y="15940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为什么作者要与时间赛跑，并要告诉他的孩子们？当时他会是什么心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1403280" y="31449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课文最后说，“假若你一直和时间赛跑，你就可以成功。”你同意这个说法吗？谈谈你的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7" descr=""/>
          <p:cNvPicPr/>
          <p:nvPr/>
        </p:nvPicPr>
        <p:blipFill>
          <a:blip r:embed="rId2"/>
          <a:stretch/>
        </p:blipFill>
        <p:spPr>
          <a:xfrm>
            <a:off x="3132000" y="87480"/>
            <a:ext cx="2867040" cy="10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750960" y="1702080"/>
            <a:ext cx="7421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组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持（ ） 哀（ ） 棱（ ） 悠（ ） 若（ 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特（ ） 衰（ ） 梭（ ） 忧（ ） 诺（ 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抄写下列句子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时间好比东流水，只有流去无流回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世间最宝贵的就是今天，最容易丧失的也是今天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寸光阴一寸金，寸金难买寸光阴；失落寸金容易找，失落光阴无处寻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造句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假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6" descr="5"/>
          <p:cNvPicPr/>
          <p:nvPr/>
        </p:nvPicPr>
        <p:blipFill>
          <a:blip r:embed="rId1"/>
          <a:stretch/>
        </p:blipFill>
        <p:spPr>
          <a:xfrm>
            <a:off x="0" y="0"/>
            <a:ext cx="1943280" cy="16128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7"/>
          <p:cNvSpPr/>
          <p:nvPr/>
        </p:nvSpPr>
        <p:spPr>
          <a:xfrm>
            <a:off x="1224000" y="54936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6"/>
          <p:cNvSpPr/>
          <p:nvPr/>
        </p:nvSpPr>
        <p:spPr>
          <a:xfrm>
            <a:off x="0" y="2132640"/>
            <a:ext cx="9144000" cy="25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匆  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朱自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燕子去了，有再来的时候；杨柳枯了，有再青的时候；桃花谢了，有再开的时候。但 是，聪明的，你告诉我，我们的日子为什么一去不复返呢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有人偷了他们罢：那是 谁？又藏在何处呢？是他们自己逃走了罢：现在又到了哪里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不知道他们给了我多少日子；但我的手确乎是渐渐空虚了。在默默里算着，八千多日 子已经从我手中溜去；像针尖上一滴水滴在大海里，我的日子滴在时间的流里，没有声音， 也没有影子。我不禁头涔涔而泪潸潸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去的尽管去了，来的尽管来着；去来的中间，又怎样地匆匆呢？早上我起来的时候，小 屋里射进两三方斜斜的太阳。太阳他有脚啊，轻轻悄悄地挪移了；我也茫茫然跟着旋转。于 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洗手的时候，日子从水盆里过去；吃饭的时候，日子从饭碗里过去；默默时，便从凝 然的双眼前过去。我觉察他去的匆匆了，伸出手遮挽时，他又从遮挽着的手边过去，天黑 时，我躺在床上，他便伶伶俐俐地从我身上跨过，从我脚边飞去了。等我睁开眼和太阳再 见，这算又溜走了一日。我掩着面叹息。但是新来的日子的影儿又开始在叹息里闪过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逃去如飞的日子里，在千门万户的世界里的我能做些什么呢？只有徘徊罢了，只有匆 匆罢了；在八千多日的匆匆里，除徘徊外，又剩些什么呢？过去的日子如轻烟，被微风吹散 了，如薄雾，被初阳蒸融了；我留着些什么痕迹呢？我何曾留着像游丝样的痕迹呢？我赤裸 裸来到这世界，转眼间也将赤裸裸的回去罢？但不能平的，为什么偏要白白走这一遭啊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聪明的，告诉我，我们的日子为什么一去不复返呢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0" y="0"/>
            <a:ext cx="230508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拓展阅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250920" y="170028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就是生命，时间就是速度，时间就是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郭沫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少壮不努力，老大徒伤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歌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明日复明日，明日何其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生待明日，万事成磋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钱鹤滩（清朝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从来不认为半小时是微不足道的很小的一段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达尔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热爱生命吗？那么别浪费时间，因为时间是组成生命的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富兰克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跑步小童"/>
          <p:cNvPicPr/>
          <p:nvPr/>
        </p:nvPicPr>
        <p:blipFill>
          <a:blip r:embed="rId1"/>
          <a:stretch/>
        </p:blipFill>
        <p:spPr>
          <a:xfrm>
            <a:off x="-468360" y="-819000"/>
            <a:ext cx="3284640" cy="3284280"/>
          </a:xfrm>
          <a:prstGeom prst="rect">
            <a:avLst/>
          </a:prstGeom>
          <a:ln w="0">
            <a:noFill/>
          </a:ln>
        </p:spPr>
      </p:pic>
      <p:sp>
        <p:nvSpPr>
          <p:cNvPr id="561" name="Oval 6"/>
          <p:cNvSpPr/>
          <p:nvPr/>
        </p:nvSpPr>
        <p:spPr>
          <a:xfrm>
            <a:off x="2843280" y="476280"/>
            <a:ext cx="2592360" cy="100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间格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2:55:32Z</dcterms:created>
  <dc:creator>teacher</dc:creator>
  <dc:description/>
  <dc:language>en-US</dc:language>
  <cp:lastModifiedBy>a</cp:lastModifiedBy>
  <dcterms:modified xsi:type="dcterms:W3CDTF">2015-03-16T08:43:57Z</dcterms:modified>
  <cp:revision>7</cp:revision>
  <dc:subject/>
  <dc:title>幻灯片 1</dc:title>
</cp:coreProperties>
</file>