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gif" ContentType="image/gif"/>
  <Override PartName="/ppt/media/image11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83A-3DB6-4581-987C-9C436B87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3A7-BB1F-4777-B9DF-53B546CE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D04F0-EA4A-4259-B4DD-B65E9664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059DC-C91F-4F96-8E2A-A8F5BBD1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C99D7-232D-4881-BFA2-4338F755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51A95-0C8C-46F3-9FF2-755D4924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AB2E1-9336-4C97-BEB5-5FD9BB2C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81883-56AD-4315-9A46-BFFAFF2D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8B1B4-9403-4726-B0EE-06ACEAAC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A6DB2-48B5-4B3B-971C-ABC14B4E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6C6B5-B106-460B-A4CA-D7B37EBD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65134-99BA-4AC4-B751-713C0C94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5D0-374F-4FE8-A34F-D9F95210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D587E-8439-459E-B512-5D58FC4F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D77DB-D6E5-4309-9E04-BB50030E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863A3-CB92-4F3A-8370-87432C19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26C20-2840-4AF3-ADA3-CC7538D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BA57A-B9D2-467F-B1B1-AB134579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EC06E-6F06-4AE1-8D50-B6E7DBBC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ADBF1-2977-46DC-BF2C-CF7E4808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85291-04DB-4180-9DC3-23B523B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12D0A-4525-4C53-B4B3-37F1199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42F0B-9E71-49FA-8E56-4E68E081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A8F-1A35-4B01-8F99-0C5B7CC1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3F5A6-3750-4620-ABCE-2B2F9EAF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14010-CCF0-4DDA-A94E-7A74EB90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6A5A4-8C91-4830-BC93-CB24B94E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39CFF-233B-494E-93BC-C7104164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E22D9-1126-4474-AD6B-18FDE95C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0CD09-0A12-4B5B-9CB1-5AF8082C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A961B-F3F1-431F-90A7-D954478C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A0BF4-DCCF-432A-A858-FA300314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37E49-92A1-4136-975A-33CEF35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30709-FD96-4A6C-AF98-7FB7A71D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CFA2-187D-4EE4-BFB8-B1814B91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DA479-2832-4F54-A6A2-9E501C24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50A1A-BB5D-41E7-AE96-D61ADE2E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EFB5D-1203-46FB-BF90-0EA0D0BB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1A62D-1E1D-4CAD-9C27-FDF6FF1C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B1774-8CCC-43E1-AA84-910F6E49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17530-5829-48BA-A91F-32A722A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EFB22-84CF-4F32-9CF2-C60255E3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FBFE7-41EC-4992-8DD5-AE5AB4E6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8E082-D4F8-452A-919F-2B72E7EE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E28DF-ED96-475E-B6F7-5BEF25AA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57A1-ED5D-4380-8B76-E2F17356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26902-EB03-48DB-B48A-50BC63D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DCA41-5DF9-4B53-B681-850B0997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D4864-147B-4197-A126-9F860943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80933-7EF1-44D5-A717-77252E9B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1394B-2451-4E7C-BA56-220046F5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2D92D-2E70-49C9-A73D-F34AF76E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FED0F-92C2-4854-8FD6-BB72F153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D56DA-0697-4335-BE87-F12CFAFF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6C5B5-D6D2-4F65-BFA3-6F26569D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6D39D-1E06-445A-90AB-1C09139E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C3AB-CE15-44D8-8DDE-CB69DDEF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3AE0E-9E2C-4646-8220-1710D92A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7E79B-3630-4E53-B29F-F9D614C2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04504-8F23-4306-8744-70627571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57A27-2AFF-428B-8A92-7B39169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168CA-C263-4DB2-B6D3-DF6C2D60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C6299-40BC-4502-8A0D-FE19B4BE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3CD6C-1511-4B88-895F-3F688A4E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DF8E-666D-4986-A382-A523FEF2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4B28-BE4E-4075-BE25-E2BA9867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8A77-E87E-4077-A459-5EE95215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5465-2E42-4B80-936C-3D4F3F72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882-D822-47CA-BD00-9918899C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7D48-3CB0-49F5-803E-A1B2A147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A4C0-B6BC-4215-8843-A70FAD3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1A10-E7AE-421E-A462-9F481B05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05CC-2D2F-4CF7-A177-16043712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4135-44CC-4FA1-A3A7-27175F9B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A8BF-9F45-4A24-8A58-D6B840B4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FC4A-9859-4AEB-A887-290F349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6FC6-7130-4F6F-9666-0B67FF1C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9300-A972-421D-B951-AD35DAB4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241B-5E54-404D-8782-3CE1CAC3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F14-08BE-4ED2-808B-AB95C0B4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4A4A-ACF9-4E72-B1A8-BB7E206B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FFC4-FB8E-49E3-83B7-07A201E8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20AC-A7E9-4EDB-A172-AB84F4E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9EBE-6766-4D6B-A1B4-58AA87B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4C48-9F09-49C7-98F0-296EC2BE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F70C-8DBC-436A-B56D-F437D7F6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8C26-DEEE-4E7C-A787-6F58A366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95E7-5AFE-4609-B90C-7E87B0F6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C3F41-5435-4F46-8F8F-18FF0449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771C-AA16-44BE-BA85-3AE5B124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35B-0CE8-4A11-8FEA-DB55DA4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2838-F712-4039-AC2E-0525305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E71D3-B51F-4980-B247-FD518718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DD21-98B1-4071-884C-691F619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06E7-56EB-43B4-8ABA-6C141472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95DB3-7EA8-4897-9725-59997DE4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F3F9-9758-44A5-A6F1-D1B349CD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D821-3C05-4608-91AA-B5A14500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28F0-A549-496B-9581-DFD5B0EA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4527-6161-4D43-90A5-3BDFC4E0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FD36A-383D-4F16-B4F9-66267829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F8D-19D0-48F6-AE5C-1ABEE8A7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7CC94-AC50-4291-B841-BCB059A0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01A97-31C2-4BA2-A89F-0BD00B4A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B979-A895-4B52-A2C0-4300591A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161A-B815-4180-AA09-B94C20FF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1AA3-7CF6-4764-849B-4DD1CAD2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888C1-E452-4D83-90A4-328335E9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E9B3A-1EA5-4343-81E9-609799C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EDA7B-25BD-422C-9882-A940C5B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D8585-7323-48C4-A2C7-6E8AE541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55D28-CAD5-4F66-B779-FACC7B82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D64-0FA1-411E-941B-999CBD3D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C91E4-EE46-45BD-B49A-46753763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CAA5-A1E8-43FF-8AA4-96DCB611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4BD1-902F-4AED-B28A-9D64FC47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1FDF3-EF96-4DC8-BDF9-BA062ACC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0DCA-DCA4-4E70-B387-49D75C7B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1DA57-28AE-4537-8AC1-872AB0D2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C419A-C29D-4CE0-B918-D192396C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E6E95-F0EA-49E0-BF3B-14410436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39B19-0B25-4906-9134-035A6309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0E607-6D46-43F9-BECE-918D47E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B68-878D-4325-96DB-E10466C4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8B6D-8A25-4A18-8C56-5BB26A5D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508A5-B183-4E24-B380-8F7126FC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D4752-49E7-4523-9550-9E89C4C7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784FE-3D8C-4936-B8CB-2CD9AA9D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E4C8-3264-4F37-BA07-9C71C066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AE941-DBE9-4EE5-ADAB-625C45EB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B62A3-38AD-44B5-A437-979228FA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064E9-5540-44C6-B198-008F6957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4CB41-9361-4D33-8A30-1D28EB82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211B2-0EB0-499E-94EF-4296630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6C8-47E2-422E-AF97-0574BDC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B1C62-BCAB-4FDD-BFAB-12BE0846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A5125-4423-4E5D-AAC2-A8BE275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19CD9-9E8A-4A9D-8F3A-B2AEF8F1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31C06-277E-4D81-B2E5-AF34BE87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462CA-9FFE-47B2-95F7-F2A7900E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F88CB-E82C-442A-970E-A7FDBD44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39406-52B8-46AD-8A29-8954BCC4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FB21-C748-49AE-9E41-C4D18035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9718B-6316-4C28-BCDB-0E453D5B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0AD71-DA1C-469E-98EC-D8130341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E7D-8236-4FD4-84D2-D3157565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554BE-9897-4777-AFCE-09443698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ADCBC-0D6D-40EA-8AEF-FD599D0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EE653-63B3-465C-AD23-AE437B9A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33B7A-0865-4569-AA0F-A9B98A7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D8BD3-FEB7-44C8-A0BB-304A8AF2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7A288-9303-4E13-885C-8FED95F7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08BE9-DDE7-4248-A6AF-A3D53D8F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DEDA0-7178-4204-AE7F-B8B04B59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D3B65-7E2C-4519-A0BF-B68EC720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E59B6-F983-46D2-88F8-5BCF1943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3C9F-5A0A-4BF8-B91D-46529E128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BD19-A8AC-41E2-9E22-88DC916626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6DAE-F7D4-4AD3-8471-034FB9497B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7B06-B8A2-4220-B3A0-38F3A0052A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B305-B9ED-4AF7-AE29-A7432395BC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DB31-F299-4E12-A511-50C2080B39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DDBC-56DF-460D-BFD1-FD41B52A80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EC3B-A354-4A6D-8588-1DC5EED3D0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0FBC-D712-4078-AFAB-9CA91BA6A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0F41-A5B1-435A-86F9-6D35BDF713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3E74-D478-4B59-8EE3-CD6CA2CEA5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C4E3-51DB-4F16-A732-CCDADB6DD7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04DF-A5F3-4610-80C9-740B538B1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C91F-C00B-4FE4-BB90-D288B8A55B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5D4-C65A-4B17-9A89-8D35CDA7E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006F-C8DA-4A72-8F52-6EA59F6929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4F5B-4E3D-4E4B-99A4-484741082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09EA-9C14-4C61-9408-67E0FB2772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9CE-A3AF-4502-893E-216094027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4E4C-21A0-41CC-9360-C0140B8AC7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CC4F-557C-43D7-AF83-38FD859493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5DD5-50D9-40A5-9982-162200FF8C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491A-9BA0-4D40-9C5F-EE18B40EA0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F8AF-534E-42C7-93EC-D38CD2EEA2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37BA-405C-4DC5-8676-F5686DE691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5040" y="152280"/>
            <a:ext cx="5632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苏教版）五年级语文上册第五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523880" y="32763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66"/>
                </a:solidFill>
                <a:latin typeface="Franklin Gothic Medium"/>
                <a:ea typeface="华文新魏"/>
              </a:rPr>
              <a:t>黄山奇松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1999080" y="76500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五岳归来不看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黄山归来不看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徐霞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98108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3" descr="20048616181139"/>
          <p:cNvPicPr/>
          <p:nvPr/>
        </p:nvPicPr>
        <p:blipFill>
          <a:blip r:embed="rId1"/>
          <a:stretch/>
        </p:blipFill>
        <p:spPr>
          <a:xfrm>
            <a:off x="0" y="0"/>
            <a:ext cx="9144000" cy="65786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2004527102118486"/>
          <p:cNvPicPr/>
          <p:nvPr/>
        </p:nvPicPr>
        <p:blipFill>
          <a:blip r:embed="rId2"/>
          <a:stretch/>
        </p:blipFill>
        <p:spPr>
          <a:xfrm>
            <a:off x="1219320" y="6172200"/>
            <a:ext cx="6667560" cy="46836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2557080" y="279720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3d01"/>
                </a:solidFill>
                <a:latin typeface="Times New Roman"/>
                <a:ea typeface="楷体_GB2312"/>
              </a:rPr>
              <a:t>假期到了，神湾的教育旅行社准备开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3d01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c3d01"/>
                </a:solidFill>
                <a:latin typeface="Times New Roman"/>
                <a:ea typeface="楷体_GB2312"/>
              </a:rPr>
              <a:t>黄山三日游”的游览线路，请你代写一句广告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763560" y="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9c2f"/>
                </a:solidFill>
                <a:latin typeface="Times New Roman"/>
                <a:ea typeface="隶书"/>
              </a:rPr>
              <a:t>学写广告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2004925154448693"/>
          <p:cNvPicPr/>
          <p:nvPr/>
        </p:nvPicPr>
        <p:blipFill>
          <a:blip r:embed="rId1"/>
          <a:stretch/>
        </p:blipFill>
        <p:spPr>
          <a:xfrm>
            <a:off x="0" y="14400"/>
            <a:ext cx="9372600" cy="68436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5"/>
          <p:cNvSpPr txBox="1"/>
          <p:nvPr/>
        </p:nvSpPr>
        <p:spPr>
          <a:xfrm>
            <a:off x="1692360" y="2060640"/>
            <a:ext cx="5715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指导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76" name="Picture 6" descr="200522121505271"/>
          <p:cNvPicPr/>
          <p:nvPr/>
        </p:nvPicPr>
        <p:blipFill>
          <a:blip r:embed="rId2"/>
          <a:stretch/>
        </p:blipFill>
        <p:spPr>
          <a:xfrm>
            <a:off x="5222880" y="4172040"/>
            <a:ext cx="392112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并掌握本课的生字词，积累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理清文章的条理，整体感知黄山松树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WordArt 4" descr=""/>
          <p:cNvPicPr/>
          <p:nvPr/>
        </p:nvPicPr>
        <p:blipFill>
          <a:blip r:embed="rId1"/>
          <a:stretch/>
        </p:blipFill>
        <p:spPr>
          <a:xfrm>
            <a:off x="237960" y="249120"/>
            <a:ext cx="3144960" cy="989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图27"/>
          <p:cNvPicPr/>
          <p:nvPr/>
        </p:nvPicPr>
        <p:blipFill>
          <a:blip r:embed="rId2"/>
          <a:stretch/>
        </p:blipFill>
        <p:spPr>
          <a:xfrm>
            <a:off x="6043680" y="4903920"/>
            <a:ext cx="3100320" cy="19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仿宋"/>
              </a:rPr>
              <a:t>黄山奇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楷体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被誉为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天下第一奇山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的黄山，以奇松、怪石、云海、温泉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四绝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闻名于世，而人们对黄山奇松，更是情有独钟。山顶上，陡崖边，处处都有它们潇洒、挺秀的身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黄山最妙的观松处，当然是曾被徐霞客称为“黄山绝胜处”的玉屏楼了。楼前悬崖上有“迎客”“陪客”“送客”三大名松。迎客松姿态优美，枝干遒（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iú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劲，虽然饱经风霜，却仍然郁（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郁苍苍，充满生机。它有一丛青翠的枝干斜伸出去，如同好客的主人伸出手臂，热情地欢迎宾客的到来。如今，这棵迎客松已经成为黄山奇松的代表，乃至整个黄山的象征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6"/>
          <p:cNvSpPr/>
          <p:nvPr/>
        </p:nvSpPr>
        <p:spPr>
          <a:xfrm>
            <a:off x="250920" y="2424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5" descr="53b654c864687f0d7e3e6fe2"/>
          <p:cNvPicPr/>
          <p:nvPr/>
        </p:nvPicPr>
        <p:blipFill>
          <a:blip r:embed="rId15"/>
          <a:srcRect l="0" t="0" r="912" b="113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-360" y="2101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陡崖    屹立    情有独钟    姿态优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盆景    宾客    饱经风霜    充满生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声誉    屏障    卧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WordArt 4" descr=""/>
          <p:cNvPicPr/>
          <p:nvPr/>
        </p:nvPicPr>
        <p:blipFill>
          <a:blip r:embed="rId1"/>
          <a:stretch/>
        </p:blipFill>
        <p:spPr>
          <a:xfrm>
            <a:off x="0" y="401760"/>
            <a:ext cx="2762280" cy="1036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图27"/>
          <p:cNvPicPr/>
          <p:nvPr/>
        </p:nvPicPr>
        <p:blipFill>
          <a:blip r:embed="rId2"/>
          <a:stretch/>
        </p:blipFill>
        <p:spPr>
          <a:xfrm>
            <a:off x="6043680" y="4903920"/>
            <a:ext cx="310032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陪客松正对玉屏楼，如同一个绿色的巨人站在那儿，在陪同游人观赏美丽的黄山风光。送客松姿态独特，枝干蟠曲，游人把它比作“天然盆景”。它向山下伸出长长的“手臂”，好像在跟游客依依不舍地告别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8" descr="2006115114026520"/>
          <p:cNvPicPr/>
          <p:nvPr/>
        </p:nvPicPr>
        <p:blipFill>
          <a:blip r:embed="rId1"/>
          <a:srcRect l="0" t="0" r="-1690" b="94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黄山松千姿百态。它们或屹立，或斜出，或弯曲；或仰，或俯，或卧；有的状如黑虎，有的形似孔雀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它们装点着黄山，使得黄山更加神奇，更加秀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8:28:5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40:19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