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CHIMES.WAV" ContentType="audio/x-wav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CAMERA.WAV" ContentType="audio/x-wav"/>
  <Override PartName="/ppt/media/image1.jpeg" ContentType="image/jpeg"/>
  <Override PartName="/ppt/media/image18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1.wmf" ContentType="image/x-wmf"/>
  <Override PartName="/ppt/media/image1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9644-7DC6-4DA0-8424-54281CFF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579D-BF19-4A75-823C-3C861559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6BB53D-8B28-4D19-AD7C-FF38D4BB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08576-0825-4C3B-819B-7BC4A180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D6C4F-C457-49F9-A2D3-219B0F68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4BE7D-BF5F-474A-849F-0AF1A45B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23D3A-E2CB-496D-896A-6B6BBF7E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338C3-86B5-4FA6-9AA2-0EA12329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30214-AF14-4030-A452-73B6B4A9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5A5FA-546D-430F-923A-BE573905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FB3BE-58B9-474A-8D60-1F59239D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F1FC5-D300-47F0-9358-5235C3A3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395-1A48-495A-8EE3-F724E456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463F3-5371-4CFF-8F57-0511F9FB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3AF03-3C0F-4A49-9914-0A412D2C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2E5CF-3C5A-4303-A132-6BD784E2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532FF-008B-4F3F-8EDB-78D708BD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C4252-D1B4-4692-9DAD-647D141D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032B81-78AD-4265-A009-51BF5DC7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7FD76-5F20-436C-B981-9C687ACF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1F362-42CC-435A-8242-3D788FE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3D298-5FCD-456A-A29D-69C54A53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2D30D-9278-4613-809A-54FDC3FA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EAC3-8E41-46A2-918D-0DE06F9E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2D24C-A319-4D5E-84FE-A7263001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75E20-265F-44D7-A464-4F47E159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AF6B52-3E7C-4004-A9A3-992C228D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2F9C9-1ECA-45FF-A324-7EE0457F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EA9BB-595B-4A54-A182-CDF6D485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F3BE3-245B-4504-8FC3-E59D9FF6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8FAFB-628B-4D65-9EE8-1450B378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D467F-1B24-443F-89E0-1387C901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0CFB3-4D5C-4AA3-8D1A-39CCB515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337F-6B98-4EDB-85CF-8556377B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A4BC-7182-4F98-967F-29148E00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C8A27-330D-4304-AF5A-F2FB2CC9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E5EBB-9932-4CCB-A349-A0A00D8A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D31FE-172B-44D7-BF2F-E2F535EE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6CBC9-0176-4BBD-8EC0-25AB1571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EAACE-8E60-4768-9B91-9A79B9E7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0A5F9-55FF-4B59-9AC6-6B29F2C6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145F2-38B4-4918-A07D-F726B288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F77E8-F61A-4523-83F4-0C3D9C80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44229-EBAE-4D35-B4E6-56944748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3F078-D0E3-4010-A797-F67FAAFB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23B3-04A7-4C56-ADA3-424A27F1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0719C-1338-40D9-A735-1445118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24644-D02A-4133-9C91-620EB177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4A67C-5E2D-4D21-838F-470BEDD7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4109B-91E4-4153-934A-21146FBE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D2E0A-E4FD-4499-BAAB-4B4385AB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A6224-14C0-4337-8B51-1BB02045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CFE94-83ED-4575-ACB4-2BF3B91E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17C29-026C-418F-A532-AC73C34C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6B99D-6E05-4AB1-80BD-94E02822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F8A47E-6319-4019-9524-EFFD48F8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4E91-748C-4474-9A72-4A57872B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18EAA-6552-486F-A47B-EA5DFCF2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C934C-A4BD-4DAB-BE6E-1B0A8497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1F0F0-F551-4907-BB80-FA60D47E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C4985-2AEC-43A4-B3A1-0838F22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99F15-D27F-4F2A-B25F-040D03A8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3D9F7-1411-4EC5-A513-88728D87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542AC-1065-4D85-BBE0-227BC8BE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BCBF-96C0-4BB8-9078-6B0EC80E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4F50-73F1-4D0D-9E93-AE05C839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19F2-FFED-41D1-946E-EFA1280B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2720-0DA6-44D5-AD5C-64880539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8AF-8D7D-4C5B-AA15-30BDB7C7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5E99-9C5F-4030-BAAD-77E4381D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2B5B-4754-4E83-B1DB-A078796A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0DEE-0D13-4901-A3E0-E3F0CEB78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BB24-185D-49F5-B603-F3BAE250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63F-A103-40D8-8F91-AF23B83E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8BEC-8DBC-427D-8C84-ECC303BD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23E91-79DD-4A21-8C29-F4D6EF6F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F30C-2C54-48C6-B711-5B2C2445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3A821-4FAB-401D-B84D-76B14DFC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89E53-71D3-46E6-A9D0-021D5AF9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DC9-28AC-4E37-951D-26780DC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DB972-C255-494F-8927-FC4E588F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7D11-95BC-44ED-B953-4FBBF3B1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F1BE-4246-4619-9B1C-E96E6AE1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9845F-F223-4413-9233-9092A0AD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5847-4487-4F28-A0F3-5B78A953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1428A-F109-4F06-A91F-B6EB22CC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39E31-758E-4E50-B6EB-3B42F62C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4383C-28A7-4539-B785-819C89EB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CB44-AC39-4B87-AA95-A3C477A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96BEF-2532-4641-98F2-7BC3688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CCB-EE8B-487B-8DFA-002BE926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9B480-4838-40B5-802C-43AD6BDB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6119-BB7E-4DFD-892E-DCD3DF21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732D3-B344-4ED2-83F4-17BA4167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2C2A-C7FD-4126-9016-7DFC963C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1E93-58CE-48F9-81C2-0EB46173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890D-F667-475A-B7F3-2EA89128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A1B66-4B98-4392-9A0F-F871061F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9E48-5D39-4420-A710-4C0D7363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1A569-1B25-40C3-921E-9A5D226C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0A1E9-5C3A-490C-9EC9-3AAB4598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469-8B6D-47F3-A1FC-C877958F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4E0BA-8435-4BC0-A413-D70422D2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E181B-1D0A-488A-B717-446E4926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DBF64-17BB-4AAD-B720-6F924F7D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D99A0-3FB5-49CA-8711-02AF2814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ACB4-5F27-4C83-9D1B-C56896EA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08893-AC0D-4AED-872B-445BC4A5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E7D62-6C63-47E7-806A-4FC2CEA3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B83B1-C0D2-4C99-8788-09B5F7AB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507FC-4B57-4135-9C0C-E5D2264B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DC218-BF73-421E-B1EB-7625CC05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D3D-C984-4138-9305-5AE63381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A9A98-1AEF-4A51-9865-69897A6E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19CF5-04E6-48B8-8CD7-D49F3FA3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E954E-9B63-4DE8-B226-433A6166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D618C-4638-47CF-824D-C106EB5C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0901-CCF6-4C5F-B960-D5655F3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3469B-D0C8-46D9-AA0C-FF9B3CB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726FE-571A-4C44-B4ED-D9444835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A727-A61B-4DA3-9917-8EB06091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BFA4B-8C40-4BBA-9823-17A7938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CBF1A-E845-46A7-806B-DAADC201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753-11ED-4345-99A5-C1F036D0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B649D-1CBB-480E-8DA3-304BA642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D1405-86C6-4128-A496-BF3ACE03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78BF5-F201-4C81-BBB6-A6D5D7AD2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CAC1E-C850-4DE1-8359-16030C53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1CA90-8903-426A-B692-60C64FD2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562F8-B6AC-4742-AF09-256B73EA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4A9B-E8D3-4798-ABA7-A441129A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CB19A-6723-47A6-82A6-7F15E1CF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6DAF2-14AB-4DAE-81C8-E86C75B2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91CC6-5B4B-4041-B17A-7297218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4424-349D-456E-A469-18910F0A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0E62F-A780-4FCA-B73A-7B048EEA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D9AEC-C367-453D-B8BB-9AD21C51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B38F-5218-488D-8E5C-AD0BEF3F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0CDD1-C43D-45BF-8767-BC1EA7EE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FB57E-40CF-425D-A9A3-3A33ED4C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05D2D-75F5-49F5-8D36-2664FAA9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E4ABD-DFB0-4BD6-9248-6CC81502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98C145-88C7-4640-8775-9C5AE29A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9A959-8471-4EC0-8406-6B067709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2431E-E8D3-46A8-8C9C-5C6539B6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41B-CF74-477E-85C0-174B218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4BB08-3FA7-4704-A40B-9ABC2D40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3A82D-66DB-4B94-8D75-A9F8A0F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92757-0654-45F9-8114-F37F010E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8D890-9851-450D-99F8-BD6CA72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D7392-C7A3-407A-8761-7CE29946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FF507-0B4E-40A2-A465-EBE7A07F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2295A-3E2C-4C8A-B932-BEF34DBB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FD33A-0C37-4617-B459-6B4114E7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E17C8-EBF5-4AF4-997E-EC0F34DE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8C759-8B31-49B6-BC69-9596119B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4E9F-BB20-413B-A7D2-DBFABA7DB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EA25-9206-48AD-A53E-CDF17C8C13A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A395-E242-4A0D-A157-DB3AE15DDB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B2CA-CB78-4E0A-BF62-C03E55E4E66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3F5B-0F61-411A-8A89-DF7988A56F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3364-C654-470E-B69F-0FB2B853B9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F27C-342E-4730-8C60-250B7B48BB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6760-FA88-4BC5-81FC-1D8D65607E1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93DF-9CC4-4CF0-B416-90A345B75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28C3-A8F7-4EF5-9FB3-FC966CFE82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878B-FB0C-4B1E-BCB3-8C7D2E7ED4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F0EC-FA7E-4BEA-B056-69DD797FCCD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A645-A251-4631-B8A6-15798DB463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FD83-E528-4442-98DC-9A4955E789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2C84-6E80-42EC-9F88-325BF2A499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3632-3FAC-48D9-872D-E6365862EC5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BFB1-3EAD-4BB2-9AEC-B0FE2BA847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A5C6-5A9B-43CD-B005-558A8B06A6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49A3-B4BD-4B19-9E90-1A4C611311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CCF2-FA08-48A5-9047-ACFC6FBEB2D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6286-6C36-4EE4-85CA-0601984300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E177-91B1-4A31-A82A-DB6FEA5EC5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70E1-6429-4D13-8AF3-313BBEA413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D0A4-BE87-4302-8586-68B93FA1B5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5D0F-9680-4784-9EA7-199ACF85A4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2" descr="D:\My Documents\shuangfeng.jpg"/>
          <p:cNvPicPr/>
          <p:nvPr/>
        </p:nvPicPr>
        <p:blipFill>
          <a:blip r:embed="rId16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WordArt 3"/>
          <p:cNvSpPr txBox="1"/>
          <p:nvPr/>
        </p:nvSpPr>
        <p:spPr>
          <a:xfrm>
            <a:off x="762120" y="2362320"/>
            <a:ext cx="2666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宋体"/>
              </a:rPr>
              <a:t>黄山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4343400" y="1828800"/>
            <a:ext cx="3429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幼圆"/>
              </a:rPr>
              <a:t>奇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f"/>
            </a:gs>
            <a:gs pos="50000">
              <a:srgbClr val="ccccff"/>
            </a:gs>
            <a:gs pos="100000">
              <a:srgbClr val="f8f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C:\Documents and Settings\Administrator\My Documents\My Pictures\黄山.jpg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3f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D:\My Documents\My Pictures\复件 云中峭壁.jpg"/>
          <p:cNvPicPr/>
          <p:nvPr/>
        </p:nvPicPr>
        <p:blipFill>
          <a:blip r:embed="rId1"/>
          <a:stretch/>
        </p:blipFill>
        <p:spPr>
          <a:xfrm>
            <a:off x="1143000" y="3581280"/>
            <a:ext cx="3246480" cy="24336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D:\My Documents\My Pictures\松1.jpg"/>
          <p:cNvPicPr/>
          <p:nvPr/>
        </p:nvPicPr>
        <p:blipFill>
          <a:blip r:embed="rId2"/>
          <a:stretch/>
        </p:blipFill>
        <p:spPr>
          <a:xfrm>
            <a:off x="5029200" y="380880"/>
            <a:ext cx="3267000" cy="24098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D:\My Documents\My Pictures\温泉1.jpg"/>
          <p:cNvPicPr/>
          <p:nvPr/>
        </p:nvPicPr>
        <p:blipFill>
          <a:blip r:embed="rId3"/>
          <a:stretch/>
        </p:blipFill>
        <p:spPr>
          <a:xfrm>
            <a:off x="5029200" y="3610080"/>
            <a:ext cx="3276720" cy="25192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D:\My Documents\My Pictures\猴子观海.jpg"/>
          <p:cNvPicPr/>
          <p:nvPr/>
        </p:nvPicPr>
        <p:blipFill>
          <a:blip r:embed="rId4"/>
          <a:stretch/>
        </p:blipFill>
        <p:spPr>
          <a:xfrm>
            <a:off x="1066680" y="380880"/>
            <a:ext cx="3353040" cy="246708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8"/>
          <p:cNvSpPr/>
          <p:nvPr/>
        </p:nvSpPr>
        <p:spPr>
          <a:xfrm>
            <a:off x="2133720" y="2666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奇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172200" y="59436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温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22096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云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6095880" y="2635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怪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ccecff"/>
            </a:gs>
            <a:gs pos="100000">
              <a:srgbClr val="00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3">
            <a:hlinkClick r:id="rId1" action="ppaction://hlinksldjump"/>
          </p:cNvPr>
          <p:cNvSpPr/>
          <p:nvPr/>
        </p:nvSpPr>
        <p:spPr>
          <a:xfrm>
            <a:off x="2362320" y="60948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仙 桃 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>
            <a:hlinkClick r:id="rId2" action="ppaction://hlinksldjump"/>
          </p:cNvPr>
          <p:cNvSpPr/>
          <p:nvPr/>
        </p:nvSpPr>
        <p:spPr>
          <a:xfrm>
            <a:off x="2397240" y="1889280"/>
            <a:ext cx="446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猴 子 观 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>
            <a:hlinkClick r:id="rId3" action="ppaction://hlinksldjump"/>
          </p:cNvPr>
          <p:cNvSpPr/>
          <p:nvPr/>
        </p:nvSpPr>
        <p:spPr>
          <a:xfrm>
            <a:off x="1905120" y="335268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金 鸡 叫 天 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905120" y="4724280"/>
            <a:ext cx="6172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五 老 奔 天 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C:\Documents and Settings\Administrator\My Documents\My Pictures\拳头.jpg"/>
          <p:cNvPicPr/>
          <p:nvPr/>
        </p:nvPicPr>
        <p:blipFill>
          <a:blip r:embed="rId1"/>
          <a:stretch/>
        </p:blipFill>
        <p:spPr>
          <a:xfrm>
            <a:off x="609480" y="685800"/>
            <a:ext cx="2505240" cy="2293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6" descr="C:\Documents and Settings\Administrator\My Documents\My Pictures\shi16.jpg"/>
          <p:cNvPicPr/>
          <p:nvPr/>
        </p:nvPicPr>
        <p:blipFill>
          <a:blip r:embed="rId2"/>
          <a:stretch/>
        </p:blipFill>
        <p:spPr>
          <a:xfrm>
            <a:off x="5943600" y="685800"/>
            <a:ext cx="2514600" cy="2368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7" descr="C:\Documents and Settings\Administrator\My Documents\My Pictures\shi2.jpg"/>
          <p:cNvPicPr/>
          <p:nvPr/>
        </p:nvPicPr>
        <p:blipFill>
          <a:blip r:embed="rId3"/>
          <a:stretch/>
        </p:blipFill>
        <p:spPr>
          <a:xfrm>
            <a:off x="3276720" y="2286000"/>
            <a:ext cx="2361960" cy="21258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9" descr="C:\Documents and Settings\Administrator\My Documents\My Pictures\gs3.jpg"/>
          <p:cNvPicPr/>
          <p:nvPr/>
        </p:nvPicPr>
        <p:blipFill>
          <a:blip r:embed="rId4"/>
          <a:stretch/>
        </p:blipFill>
        <p:spPr>
          <a:xfrm>
            <a:off x="609480" y="3886200"/>
            <a:ext cx="2514600" cy="22129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0" descr="C:\Documents and Settings\Administrator\My Documents\My Pictures\shi17.jpg"/>
          <p:cNvPicPr/>
          <p:nvPr/>
        </p:nvPicPr>
        <p:blipFill>
          <a:blip r:embed="rId5"/>
          <a:stretch/>
        </p:blipFill>
        <p:spPr>
          <a:xfrm>
            <a:off x="5791320" y="4114800"/>
            <a:ext cx="29718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5f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380880" y="10666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3919"/>
                </a:solidFill>
                <a:latin typeface="Times New Roman"/>
                <a:ea typeface="隶书"/>
              </a:rPr>
              <a:t>出示句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12"/>
          <p:cNvGrpSpPr/>
          <p:nvPr/>
        </p:nvGrpSpPr>
        <p:grpSpPr>
          <a:xfrm>
            <a:off x="990720" y="2133720"/>
            <a:ext cx="7391160" cy="914400"/>
            <a:chOff x="990720" y="2133720"/>
            <a:chExt cx="7391160" cy="914400"/>
          </a:xfrm>
        </p:grpSpPr>
        <p:sp>
          <p:nvSpPr>
            <p:cNvPr id="548" name="Text Box 4"/>
            <p:cNvSpPr/>
            <p:nvPr/>
          </p:nvSpPr>
          <p:spPr>
            <a:xfrm>
              <a:off x="990720" y="2133720"/>
              <a:ext cx="739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①     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真是形象逼真，（特别有意思）              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"/>
            <p:cNvSpPr/>
            <p:nvPr/>
          </p:nvSpPr>
          <p:spPr>
            <a:xfrm>
              <a:off x="1600200" y="2590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6"/>
            <p:cNvSpPr/>
            <p:nvPr/>
          </p:nvSpPr>
          <p:spPr>
            <a:xfrm>
              <a:off x="1676520" y="3048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Picture 9" descr="F:\Clipart\OFFICE\Z.WMF"/>
          <p:cNvPicPr/>
          <p:nvPr/>
        </p:nvPicPr>
        <p:blipFill>
          <a:blip r:embed="rId1"/>
          <a:stretch/>
        </p:blipFill>
        <p:spPr>
          <a:xfrm>
            <a:off x="6477120" y="4648320"/>
            <a:ext cx="1353960" cy="1315800"/>
          </a:xfrm>
          <a:prstGeom prst="rect">
            <a:avLst/>
          </a:prstGeom>
          <a:ln w="0">
            <a:noFill/>
          </a:ln>
        </p:spPr>
      </p:pic>
      <p:grpSp>
        <p:nvGrpSpPr>
          <p:cNvPr id="552" name="Group 13"/>
          <p:cNvGrpSpPr/>
          <p:nvPr/>
        </p:nvGrpSpPr>
        <p:grpSpPr>
          <a:xfrm>
            <a:off x="1066680" y="3733920"/>
            <a:ext cx="7696440" cy="1373760"/>
            <a:chOff x="1066680" y="3733920"/>
            <a:chExt cx="7696440" cy="1373760"/>
          </a:xfrm>
        </p:grpSpPr>
        <p:sp>
          <p:nvSpPr>
            <p:cNvPr id="553" name="Text Box 7"/>
            <p:cNvSpPr/>
            <p:nvPr/>
          </p:nvSpPr>
          <p:spPr>
            <a:xfrm>
              <a:off x="1066680" y="3733920"/>
              <a:ext cx="7696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②</a:t>
              </a:r>
              <a:r>
                <a:rPr b="0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我喜欢            ，因为              。                                      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>
              <a:off x="2590920" y="422604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>
              <a:off x="5791320" y="423216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9907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课件下载地址：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3" descr="TRAVEL"/>
          <p:cNvPicPr/>
          <p:nvPr/>
        </p:nvPicPr>
        <p:blipFill>
          <a:blip r:embed="rId2"/>
          <a:stretch/>
        </p:blipFill>
        <p:spPr>
          <a:xfrm>
            <a:off x="6248520" y="411480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e4fff6"/>
            </a:gs>
            <a:gs pos="100000">
              <a:srgbClr val="66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1295280" y="1203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a5d00"/>
                </a:solidFill>
                <a:latin typeface="Times New Roman"/>
                <a:ea typeface="楷体_GB2312"/>
              </a:rPr>
              <a:t>仙桃石是一块形状像桃子一样的巨石。它似乎是从天上仙人那儿飞下来的。也许它飞的太急，落地太快，所以只有底部小块挨着下面的石盘子。尽管这样，多少年来，他还是牢牢地站在那里</a:t>
            </a:r>
            <a:r>
              <a:rPr b="0" lang="zh-CN" sz="3600" spc="-1" strike="noStrike">
                <a:solidFill>
                  <a:srgbClr val="ba5d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18"/>
          <p:cNvSpPr/>
          <p:nvPr/>
        </p:nvSpPr>
        <p:spPr>
          <a:xfrm>
            <a:off x="6095880" y="18525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9"/>
          <p:cNvSpPr/>
          <p:nvPr/>
        </p:nvSpPr>
        <p:spPr>
          <a:xfrm>
            <a:off x="7145280" y="428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0"/>
          <p:cNvSpPr/>
          <p:nvPr/>
        </p:nvSpPr>
        <p:spPr>
          <a:xfrm>
            <a:off x="2556000" y="427356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21"/>
          <p:cNvSpPr/>
          <p:nvPr/>
        </p:nvSpPr>
        <p:spPr>
          <a:xfrm>
            <a:off x="4079880" y="2438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Group 24"/>
          <p:cNvGrpSpPr/>
          <p:nvPr/>
        </p:nvGrpSpPr>
        <p:grpSpPr>
          <a:xfrm>
            <a:off x="1430280" y="4876920"/>
            <a:ext cx="6418440" cy="609480"/>
            <a:chOff x="1430280" y="4876920"/>
            <a:chExt cx="6418440" cy="609480"/>
          </a:xfrm>
        </p:grpSpPr>
        <p:sp>
          <p:nvSpPr>
            <p:cNvPr id="564" name="Line 22"/>
            <p:cNvSpPr/>
            <p:nvPr/>
          </p:nvSpPr>
          <p:spPr>
            <a:xfrm>
              <a:off x="7162920" y="48769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3"/>
            <p:cNvSpPr/>
            <p:nvPr/>
          </p:nvSpPr>
          <p:spPr>
            <a:xfrm>
              <a:off x="1430280" y="548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3f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WordArt 4"/>
          <p:cNvSpPr txBox="1"/>
          <p:nvPr/>
        </p:nvSpPr>
        <p:spPr>
          <a:xfrm>
            <a:off x="6858000" y="4724280"/>
            <a:ext cx="990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变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67" name="WordArt 5"/>
          <p:cNvSpPr txBox="1"/>
          <p:nvPr/>
        </p:nvSpPr>
        <p:spPr>
          <a:xfrm>
            <a:off x="1600200" y="4572000"/>
            <a:ext cx="990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伸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68" name="WordArt 6"/>
          <p:cNvSpPr txBox="1"/>
          <p:nvPr/>
        </p:nvSpPr>
        <p:spPr>
          <a:xfrm>
            <a:off x="4267080" y="4648320"/>
            <a:ext cx="990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啼</a:t>
            </a:r>
            <a:endParaRPr b="0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69" name="Picture 8" descr="D:\My Documents\My Pictures\SHI13.JPG"/>
          <p:cNvPicPr/>
          <p:nvPr/>
        </p:nvPicPr>
        <p:blipFill>
          <a:blip r:embed="rId7"/>
          <a:stretch/>
        </p:blipFill>
        <p:spPr>
          <a:xfrm>
            <a:off x="2438280" y="914400"/>
            <a:ext cx="4419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f"/>
            </a:gs>
            <a:gs pos="50000">
              <a:srgbClr val="ccccff"/>
            </a:gs>
            <a:gs pos="100000">
              <a:srgbClr val="f9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A:\houziguanhai.jpg"/>
          <p:cNvPicPr/>
          <p:nvPr/>
        </p:nvPicPr>
        <p:blipFill>
          <a:blip r:embed="rId1"/>
          <a:stretch/>
        </p:blipFill>
        <p:spPr>
          <a:xfrm>
            <a:off x="1371600" y="160020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571" name="WordArt 3"/>
          <p:cNvSpPr txBox="1"/>
          <p:nvPr/>
        </p:nvSpPr>
        <p:spPr>
          <a:xfrm>
            <a:off x="6477120" y="91440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抱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2" name="WordArt 7"/>
          <p:cNvSpPr txBox="1"/>
          <p:nvPr/>
        </p:nvSpPr>
        <p:spPr>
          <a:xfrm>
            <a:off x="6477120" y="274320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蹲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73" name="WordArt 8"/>
          <p:cNvSpPr txBox="1"/>
          <p:nvPr/>
        </p:nvSpPr>
        <p:spPr>
          <a:xfrm>
            <a:off x="6553080" y="4648320"/>
            <a:ext cx="914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观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faff"/>
            </a:gs>
            <a:gs pos="50000">
              <a:srgbClr val="ccccff"/>
            </a:gs>
            <a:gs pos="100000">
              <a:srgbClr val="fa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C:\Documents and Settings\Administrator\My Documents\My Pictures\仙桃石.jpg"/>
          <p:cNvPicPr/>
          <p:nvPr/>
        </p:nvPicPr>
        <p:blipFill>
          <a:blip r:embed="rId1"/>
          <a:stretch/>
        </p:blipFill>
        <p:spPr>
          <a:xfrm>
            <a:off x="990720" y="160020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6019920" y="106668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飞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576" name="WordArt 4"/>
          <p:cNvSpPr txBox="1"/>
          <p:nvPr/>
        </p:nvSpPr>
        <p:spPr>
          <a:xfrm>
            <a:off x="6019920" y="281952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隶书"/>
              </a:rPr>
              <a:t>落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577" name="WordArt 5"/>
          <p:cNvSpPr txBox="1"/>
          <p:nvPr/>
        </p:nvSpPr>
        <p:spPr>
          <a:xfrm>
            <a:off x="5943600" y="4495680"/>
            <a:ext cx="1066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隶书"/>
              </a:rPr>
              <a:t>站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1:03:08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6T14:53:11Z</dcterms:modified>
  <cp:revision>12</cp:revision>
  <dc:subject/>
  <dc:title>第一PPT模板网-WWW.1PPT.COM</dc:title>
</cp:coreProperties>
</file>