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type.wav" ContentType="audio/x-wav"/>
  <Override PartName="/ppt/media/image1.png" ContentType="image/png"/>
  <Override PartName="/ppt/media/carbrake.wav" ContentType="audio/x-wav"/>
  <Override PartName="/ppt/media/image3.jpeg" ContentType="image/jpeg"/>
  <Override PartName="/ppt/media/applause.wav" ContentType="audio/x-wav"/>
  <Override PartName="/ppt/media/drumroll.wav" ContentType="audio/x-wav"/>
  <Override PartName="/ppt/media/gunshot.wav" ContentType="audio/x-wav"/>
  <Override PartName="/ppt/media/chimes.wav" ContentType="audio/x-wav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A1E3-7B69-41F5-88AE-C7200888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06ED-2062-45FC-B0AF-5CAC956C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E20D6-2CA2-42DD-8909-7DA97329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1B970-06B8-4AA7-9E43-8BBED95E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919E8-53B6-414C-AF2E-D6BB5BFD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FB6CF-731B-45E1-A2B3-AA00FBAA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86C09-9A02-4563-B9D2-700B87DE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39091-F060-443D-918B-EC59C237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FE697-61F4-42C6-A26B-1AC4F72C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45A1C-ADB8-4713-B22B-94B6F8B7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F3AD7-9F3E-4192-BD7E-ACA923FB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E6701-49E8-4C68-BA66-66138277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B15E-1C28-42A3-9DF0-4CD1F3B0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8A376-94D3-4019-B4EC-8F7F3209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A5528-7110-4DB4-B89F-07446EBE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D2C71-7970-4453-96C1-AA6DF87E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86EBD-3A42-40BB-B1BF-628745B4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36339-E656-4F5F-A158-BC6AB3DE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4D70B-428F-458A-B99C-4A9627F4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78F89-E28B-4380-B023-93740E04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E90D6-B8DF-477A-BD62-94E4BF54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1A6A8-1097-4F9A-8572-183A9AB0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B13DF-8EA3-4C21-9C75-3B298E3D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66C7-1DA6-47A6-9614-0B04FB6D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D5C5C-F5D9-4E9A-825F-430AFB23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A5898-CA21-44F5-9C2B-2B747DFD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1D9AD-242D-4429-87FB-8BCDDBDC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961BD-DF69-4665-8C46-58345ADD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BA0BB-D6D4-4D5C-BDB3-42B58EE1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611CE-2913-4689-BF90-23B34FEC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22A7E-E8DE-41BC-9442-6F7D49C5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AF5C5-1256-4962-9D07-AE697138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D9FB8-F0F9-4F65-ADDE-E8676938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691BD-9475-415D-B3DB-74815935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0AC3-2ED2-4F08-B75B-D59891138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D7326-198A-4777-B817-2B8E5403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C4FD8-CD9D-4577-A380-05F32F5C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C7488-F9EE-4F0A-8B5A-8745065A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180B8-DE57-46BF-A6ED-47A6D75A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2915F-BD30-43D3-82F6-9EEB018A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80B3D-2D6C-4EDA-BC4A-63104282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EF38E-54CC-4664-BD2A-5545D062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C655F-E79A-49FE-9F3C-0BC1E235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B98F0-A997-4B82-803B-223D311A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B4724-8A5B-4BD3-BA2D-00920087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305D-2B1C-4FA4-9053-3625F181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F06C8-7CAE-470B-8F7A-2EA96FEE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9257B-20BD-450D-963B-685E01F3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B62E2-0E04-4E66-966C-79B14C85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B90F3-ACC7-4FA5-80B9-92B702E7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AFBEF-AABB-4154-855D-64AA99F0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3D30D8-3F5B-4569-8710-445352C6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FE9A5F-7A05-4632-8FB6-3CD7AE62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C16C9F-040A-4029-BF85-49D5FDE6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2CFA64-0D62-471E-A48D-D52559B2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E74516-DA08-4F27-A7C9-89BF56BB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EEA8-7BCA-41D4-B500-7AB2CDB6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26ABBB-7C51-4C74-9CDD-D952662D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9E1A9D-7965-4DDB-9CEB-78CE83CB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568680-4B20-436A-945A-ACB65110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EA8DEB-627F-4ADC-8CC2-6CC59867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FB6BDA-B2FD-4D52-8F25-79E609AF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5D6AAA-DB56-486A-BAF2-B0784BED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F1F590-6310-47BE-8C29-D4C9A808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472C-4D0C-491F-92A6-BA928767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1BEF-51E8-4C2C-B975-AF5FEC8F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43A6-8826-472F-98E3-43DB7DD6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F40B-3FC6-4876-8A87-9A3B9ADB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5C42-67AD-4FEA-A3A7-E314117B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9950-0B3E-47AA-A895-1F727083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E798-BF1A-4E6A-ADE7-785ACE15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24FE-7F90-400E-9B80-4767D285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6BAE-1C44-4B1E-85BA-2B9384E0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FC26-C554-4C15-8CB7-FA18BFE7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AD877-76D6-43B0-B05E-EF83A5CD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B738E-E5C8-4373-85D0-99DBEF54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09D92-460D-4899-A29D-51999C38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0FF63-94A9-4E9F-9B43-DCCCC07B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CF58C-F6E0-4852-98DC-43D12380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4A73-2392-4B34-BE07-FAAF422B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0E944-8F0E-4C3A-9FEF-56B08BC6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5A74C-608D-4A06-839F-F95DD0C5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E7F64-36F8-4F83-B24F-CB4F97E7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C24EF-49A8-48D8-94E8-412DE768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1127A-3B27-4D82-BB33-953CA2B8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35468-DB10-404F-8513-FFDA30EF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2E054-E26A-40EC-953B-CB7F7718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7A08B-C252-4FBE-9F78-09D2B697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C48FF-FDB3-49F1-B874-5931B413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11456-4246-4767-9A7F-D7F42259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6E0F-2701-4F27-8A07-F634390E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6EE2A-2F56-4903-ACD3-2CD7B387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FA960-8245-4E21-8DEF-F6EED2B3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56733-1903-4DA7-8B89-33C5F081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75896-AC6E-4818-A3B7-6BE2D919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853BD-BB64-4424-89EA-778A9086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01BBA-13F6-4E69-A413-E1AA4397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94B88-057A-4A31-B794-BE479B9D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77CFB-FA6F-463C-81E2-98D17C36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FFD4E-D6BE-476F-ABBA-37CB27DE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939BA-9363-489F-B479-8647C383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C808-E82B-4428-B6B9-DF8CCB71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87CD8-998C-4408-9F6C-E0C11081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79272-348F-40F1-B63F-030F2D74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4B382-F96E-405C-B1F7-E05EF032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09A72-E8A6-4465-81C3-BEDC7A40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97A4B-952E-44A2-9A4D-2A9855DF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2F876-FF9D-4E55-92C4-598DB472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5E3D7-FC6A-478C-9371-F539FC09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B556A-2991-46C5-B984-B0288691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10F5D-ED6D-4D6A-A27F-ABCECF5C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D2DDA-36C0-4081-B25C-19DD858B1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4AC6-2639-463F-810E-A41F9EB9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F836C-E701-452D-80E6-1DDE954E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3D090-BDD3-41C1-AB74-6C670380C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92AD9-460C-463B-8018-2F1319B3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27101-8A2E-4FF2-863E-9DA84E30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D1F35-F948-49D0-88D4-C6AC2929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2B5A3-D675-43B6-914B-D1AC2888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74304-B0F0-430D-A000-6EB1C5D0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9120D-B697-4E60-9E08-09131828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D64BA-08E7-450D-9830-366E25CF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B05D7-F29B-4A5D-A6EF-480DF704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0BA2-0732-48CC-91FD-0CE30F34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5B0D6-AB1C-4F4B-840C-C867640E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D7967-9238-4102-94D8-59F80FC1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74960-13F0-4DF1-8265-CC72EEF7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E1326-DE1B-47C1-8E92-503B73CD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D4ACA-1B7A-40E7-9E00-8003A88F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6A638-44D5-4B9C-BEEC-9A31AE3B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82DB9-79C2-4308-BEA1-82252E9B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E544B-59D1-45FF-9E8B-017A9F03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7762A-5389-4A17-A54A-EF7716C1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9B578-C636-46A2-9C5C-7DF11887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7E97-DDA5-4F5D-86F3-7AFD6D05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D5A29-553B-4F60-8728-75D879C9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A0344-D80F-4DB2-BA3D-A586AAAE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F6871-0196-49E7-9E66-7578A1DE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F2C94-5904-4A72-B8E0-F7CBA5FD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BE2C8-279F-4807-812A-6664B8D8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DFD3A-5685-4D8F-89EC-4AD2070C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5F908-BDEA-4CF9-9362-D8E19E28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0C247-3E26-4B40-A4BC-F9CF292D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5C6C9-CC23-4829-9121-16F9D985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D56D2-CBC7-4D76-B76E-D5839BAC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F165-E392-490E-B384-87070930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F185B-6738-4779-B0F7-76505657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EAEAE-DF33-4F8E-B982-DEF8BCDA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38282-242A-4383-BB2B-AD314AFE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8BB80-217A-4BBE-9608-6BDBF541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F83E4-94E1-4EBC-82DA-FA985208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C7140-8D35-4534-8B71-9946FBC98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A1A4C-4F8A-48B2-B411-7A5FD1F4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E889E-E233-4D0D-8A40-72DC299C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046F5-71CA-467C-A6E6-13927246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ECDCE-383C-4DC7-BF2D-F19FF11A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500B-E67A-4693-B5E6-9BBDF3427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CCEB-FD67-4204-97E0-36CFA49D5D2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8788-082C-4E53-99B4-B6BE5C7A40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71F9-3DB9-440D-9DBC-C98CEC2FF68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7F4A-A2C4-4680-A0B9-F16A349C2F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E5D7-358D-4F69-A96F-B0309ACB0D9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F8C4-78A2-4EDA-B7D1-1EBDC87BA3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EA02-6D04-4291-8963-F50A5572074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6761-63E0-4895-93FC-C73DF4DC06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AC4D-8310-48A1-8B86-539056C7CEB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ADC8-9CD1-495C-8BC1-757E75E063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7449-A7FD-4347-A031-EFA64AAD213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8514-E959-46E9-BB24-1E2EC63CD3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1F0A-5F4F-417B-9E17-C57EBB0C045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07A0-D19F-44AA-ACBC-E69C40A768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7B26-F494-4732-8D7B-6B0F2FA22FE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7D5F-1538-44F3-8B90-8C0611EAC0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709A-8F5F-4E6E-885A-312459EFE66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CC8C-C6C0-418A-B417-E4AB0B31A4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A8C9-4DEF-4178-8F77-5E58AA94691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95AF-A18C-426F-943A-F04C5C950C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A30C-CB3D-4DF5-89DA-D66A1D925E5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848B-FC1B-47D0-8179-A799ED84B0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98FD-188D-420D-8CE6-9E1223B485B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C139-7C7C-44A9-8FEB-F36914D028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gunshot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applause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WordArt 2"/>
          <p:cNvSpPr txBox="1"/>
          <p:nvPr/>
        </p:nvSpPr>
        <p:spPr>
          <a:xfrm>
            <a:off x="2666880" y="1905120"/>
            <a:ext cx="3962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化学反应速率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2590920" y="4419720"/>
            <a:ext cx="43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2743200" y="53341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228600" y="411120"/>
            <a:ext cx="81532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、概念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化学反应速率是表示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化学反应快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物理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152280" y="21337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位时间内反应物浓度的减小（或生成物浓度的增加）来表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1314360" y="16002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、定量表示方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Group 5"/>
          <p:cNvGrpSpPr/>
          <p:nvPr/>
        </p:nvGrpSpPr>
        <p:grpSpPr>
          <a:xfrm>
            <a:off x="2149560" y="2666880"/>
            <a:ext cx="3352680" cy="954360"/>
            <a:chOff x="2149560" y="2666880"/>
            <a:chExt cx="3352680" cy="954360"/>
          </a:xfrm>
        </p:grpSpPr>
        <p:sp>
          <p:nvSpPr>
            <p:cNvPr id="540" name="Text Box 6"/>
            <p:cNvSpPr/>
            <p:nvPr/>
          </p:nvSpPr>
          <p:spPr>
            <a:xfrm>
              <a:off x="2149560" y="2886120"/>
              <a:ext cx="787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0000ff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7"/>
            <p:cNvSpPr/>
            <p:nvPr/>
          </p:nvSpPr>
          <p:spPr>
            <a:xfrm>
              <a:off x="2759040" y="312408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8"/>
            <p:cNvSpPr/>
            <p:nvPr/>
          </p:nvSpPr>
          <p:spPr>
            <a:xfrm>
              <a:off x="2835360" y="28191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"/>
            <p:cNvSpPr/>
            <p:nvPr/>
          </p:nvSpPr>
          <p:spPr>
            <a:xfrm>
              <a:off x="4130640" y="28191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Text Box 10"/>
            <p:cNvSpPr/>
            <p:nvPr/>
          </p:nvSpPr>
          <p:spPr>
            <a:xfrm>
              <a:off x="2810880" y="2666880"/>
              <a:ext cx="1357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Text Box 11"/>
            <p:cNvSpPr/>
            <p:nvPr/>
          </p:nvSpPr>
          <p:spPr>
            <a:xfrm>
              <a:off x="2942280" y="3047760"/>
              <a:ext cx="112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12"/>
            <p:cNvSpPr/>
            <p:nvPr/>
          </p:nvSpPr>
          <p:spPr>
            <a:xfrm>
              <a:off x="4268880" y="2895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3"/>
            <p:cNvSpPr/>
            <p:nvPr/>
          </p:nvSpPr>
          <p:spPr>
            <a:xfrm>
              <a:off x="4664160" y="320040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14"/>
            <p:cNvSpPr/>
            <p:nvPr/>
          </p:nvSpPr>
          <p:spPr>
            <a:xfrm>
              <a:off x="4734000" y="2730240"/>
              <a:ext cx="68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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Rectangle 15"/>
            <p:cNvSpPr/>
            <p:nvPr/>
          </p:nvSpPr>
          <p:spPr>
            <a:xfrm>
              <a:off x="4804920" y="3222360"/>
              <a:ext cx="50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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Rectangle 16"/>
          <p:cNvSpPr/>
          <p:nvPr/>
        </p:nvSpPr>
        <p:spPr>
          <a:xfrm>
            <a:off x="3465000" y="1062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一、反应速率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7"/>
          <p:cNvSpPr/>
          <p:nvPr/>
        </p:nvSpPr>
        <p:spPr>
          <a:xfrm>
            <a:off x="228600" y="3505320"/>
            <a:ext cx="8458200" cy="14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、各物理量的单位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应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生成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浓度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l/L) ;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应时间 （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化学反应速率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mol . 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, mol . 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mi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21"/>
          <p:cNvSpPr/>
          <p:nvPr/>
        </p:nvSpPr>
        <p:spPr>
          <a:xfrm>
            <a:off x="380880" y="51055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思考：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、化学反应速率是即时速率还是平均速率？有方向吗？都是正值吗？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22"/>
          <p:cNvSpPr/>
          <p:nvPr/>
        </p:nvSpPr>
        <p:spPr>
          <a:xfrm>
            <a:off x="304920" y="603576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思考：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、化学反应速率与反应现象有关吗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304920" y="685800"/>
            <a:ext cx="8550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在某一化学反应中，反应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 浓度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mol/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5mol/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在这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化学反应速率为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l/(L.s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0" y="5181480"/>
            <a:ext cx="9144000" cy="1099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同一化学反应选用不同物质来表示反应速率时，可能有不同速率数值，但都可表示同一反应的速率而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速率比等于化学方程式中各物质的计量系数之比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3083760" y="90360"/>
            <a:ext cx="27410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方正姚体"/>
              </a:rPr>
              <a:t>化学反应速率概念有关练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6324480" y="1066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380880" y="16002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某一化学反应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溶液中进行，生成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物质的量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mi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mo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mo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求在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mi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化学反应速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mol/(L. min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533520" y="3124080"/>
            <a:ext cx="822960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L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密闭容器中，通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mol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mol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一定条件下发生反应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mi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后测得容器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4 mol 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反应速率（分别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来表示反应速率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_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l/(L. mi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6004080" y="2459160"/>
            <a:ext cx="77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1"/>
          <p:cNvSpPr/>
          <p:nvPr/>
        </p:nvSpPr>
        <p:spPr>
          <a:xfrm>
            <a:off x="83808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2"/>
          <p:cNvSpPr/>
          <p:nvPr/>
        </p:nvSpPr>
        <p:spPr>
          <a:xfrm>
            <a:off x="1127160" y="4287960"/>
            <a:ext cx="29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1       0.3        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380880" y="1160640"/>
            <a:ext cx="8458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反应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+3B=2C+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某段时间内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浓度变化表示的化学反应速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mol·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mi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此段时间内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浓度变化表示的反应速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 mol·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mi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5     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    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       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2088000" y="44280"/>
            <a:ext cx="4916880" cy="94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同物质表示的速率比等于各物质的计量系数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计量系数比→反应速率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380880" y="4952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密闭容器中，发生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A+B = 2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反应，若最初加入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mo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平均反应速率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12mol/(L.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后容器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物质的量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6mol        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8mol          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2mol         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6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Group 5"/>
          <p:cNvGrpSpPr/>
          <p:nvPr/>
        </p:nvGrpSpPr>
        <p:grpSpPr>
          <a:xfrm>
            <a:off x="457200" y="2895480"/>
            <a:ext cx="8153280" cy="2008080"/>
            <a:chOff x="457200" y="2895480"/>
            <a:chExt cx="8153280" cy="2008080"/>
          </a:xfrm>
        </p:grpSpPr>
        <p:sp>
          <p:nvSpPr>
            <p:cNvPr id="567" name="Text Box 6"/>
            <p:cNvSpPr/>
            <p:nvPr/>
          </p:nvSpPr>
          <p:spPr>
            <a:xfrm>
              <a:off x="457200" y="2895480"/>
              <a:ext cx="8153280" cy="19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、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合成氨反应为：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3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=2N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其反应速率可以分别用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来表示，则正确的关系是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  =V  =V           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  =2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   =(3/2)V          D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  =3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7"/>
            <p:cNvSpPr/>
            <p:nvPr/>
          </p:nvSpPr>
          <p:spPr>
            <a:xfrm>
              <a:off x="1175040" y="3992400"/>
              <a:ext cx="343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8"/>
            <p:cNvSpPr/>
            <p:nvPr/>
          </p:nvSpPr>
          <p:spPr>
            <a:xfrm>
              <a:off x="1717560" y="3992400"/>
              <a:ext cx="334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9"/>
            <p:cNvSpPr/>
            <p:nvPr/>
          </p:nvSpPr>
          <p:spPr>
            <a:xfrm>
              <a:off x="2284560" y="3992400"/>
              <a:ext cx="453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0"/>
            <p:cNvSpPr/>
            <p:nvPr/>
          </p:nvSpPr>
          <p:spPr>
            <a:xfrm>
              <a:off x="3836880" y="3992400"/>
              <a:ext cx="354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1"/>
            <p:cNvSpPr/>
            <p:nvPr/>
          </p:nvSpPr>
          <p:spPr>
            <a:xfrm>
              <a:off x="4570560" y="3992400"/>
              <a:ext cx="453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2"/>
            <p:cNvSpPr/>
            <p:nvPr/>
          </p:nvSpPr>
          <p:spPr>
            <a:xfrm>
              <a:off x="1217880" y="4602240"/>
              <a:ext cx="453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13"/>
            <p:cNvSpPr/>
            <p:nvPr/>
          </p:nvSpPr>
          <p:spPr>
            <a:xfrm>
              <a:off x="2394360" y="4572000"/>
              <a:ext cx="343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14"/>
            <p:cNvSpPr/>
            <p:nvPr/>
          </p:nvSpPr>
          <p:spPr>
            <a:xfrm>
              <a:off x="3918240" y="4602240"/>
              <a:ext cx="343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15"/>
            <p:cNvSpPr/>
            <p:nvPr/>
          </p:nvSpPr>
          <p:spPr>
            <a:xfrm>
              <a:off x="4613040" y="4572000"/>
              <a:ext cx="334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Text Box 17"/>
          <p:cNvSpPr/>
          <p:nvPr/>
        </p:nvSpPr>
        <p:spPr>
          <a:xfrm>
            <a:off x="373392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8"/>
          <p:cNvSpPr/>
          <p:nvPr/>
        </p:nvSpPr>
        <p:spPr>
          <a:xfrm>
            <a:off x="6248520" y="3276720"/>
            <a:ext cx="7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19"/>
          <p:cNvSpPr/>
          <p:nvPr/>
        </p:nvSpPr>
        <p:spPr>
          <a:xfrm>
            <a:off x="3809880" y="571500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21"/>
          <p:cNvSpPr/>
          <p:nvPr/>
        </p:nvSpPr>
        <p:spPr>
          <a:xfrm>
            <a:off x="3657600" y="5715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2"/>
          <p:cNvGrpSpPr/>
          <p:nvPr/>
        </p:nvGrpSpPr>
        <p:grpSpPr>
          <a:xfrm>
            <a:off x="304920" y="3048120"/>
            <a:ext cx="8763840" cy="2361240"/>
            <a:chOff x="304920" y="3048120"/>
            <a:chExt cx="8763840" cy="2361240"/>
          </a:xfrm>
        </p:grpSpPr>
        <p:sp>
          <p:nvSpPr>
            <p:cNvPr id="582" name="Text Box 3"/>
            <p:cNvSpPr/>
            <p:nvPr/>
          </p:nvSpPr>
          <p:spPr>
            <a:xfrm>
              <a:off x="304920" y="3048120"/>
              <a:ext cx="41306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、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某温度时，在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容器中，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三种物质随时间的变化曲线如图所示。由图中数据分析，该反应的化学方程式是：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_________________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反应开始至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2mi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平均速率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____________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" name="Group 4"/>
            <p:cNvGrpSpPr/>
            <p:nvPr/>
          </p:nvGrpSpPr>
          <p:grpSpPr>
            <a:xfrm>
              <a:off x="4437720" y="3257640"/>
              <a:ext cx="4631040" cy="2151720"/>
              <a:chOff x="4437720" y="3257640"/>
              <a:chExt cx="4631040" cy="2151720"/>
            </a:xfrm>
          </p:grpSpPr>
          <p:grpSp>
            <p:nvGrpSpPr>
              <p:cNvPr id="584" name="Group 5"/>
              <p:cNvGrpSpPr/>
              <p:nvPr/>
            </p:nvGrpSpPr>
            <p:grpSpPr>
              <a:xfrm>
                <a:off x="4876560" y="3257640"/>
                <a:ext cx="3124440" cy="2151720"/>
                <a:chOff x="4876560" y="3257640"/>
                <a:chExt cx="3124440" cy="2151720"/>
              </a:xfrm>
            </p:grpSpPr>
            <p:sp>
              <p:nvSpPr>
                <p:cNvPr id="585" name="Line 6"/>
                <p:cNvSpPr/>
                <p:nvPr/>
              </p:nvSpPr>
              <p:spPr>
                <a:xfrm flipV="1">
                  <a:off x="5257800" y="3257640"/>
                  <a:ext cx="0" cy="18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Line 7"/>
                <p:cNvSpPr/>
                <p:nvPr/>
              </p:nvSpPr>
              <p:spPr>
                <a:xfrm>
                  <a:off x="5257800" y="5086440"/>
                  <a:ext cx="2743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Arc 8"/>
                <p:cNvSpPr/>
                <p:nvPr/>
              </p:nvSpPr>
              <p:spPr>
                <a:xfrm flipH="1">
                  <a:off x="5257800" y="4705560"/>
                  <a:ext cx="1676160" cy="380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489">
                      <a:moveTo>
                        <a:pt x="2186" y="0"/>
                      </a:moveTo>
                      <a:cubicBezTo>
                        <a:pt x="13212" y="1122"/>
                        <a:pt x="21600" y="10406"/>
                        <a:pt x="21600" y="21489"/>
                      </a:cubicBezTo>
                    </a:path>
                    <a:path stroke="0" w="21600" h="21489">
                      <a:moveTo>
                        <a:pt x="2186" y="0"/>
                      </a:moveTo>
                      <a:cubicBezTo>
                        <a:pt x="13212" y="1122"/>
                        <a:pt x="21600" y="10406"/>
                        <a:pt x="21600" y="21489"/>
                      </a:cubicBezTo>
                      <a:lnTo>
                        <a:pt x="0" y="21489"/>
                      </a:lnTo>
                      <a:lnTo>
                        <a:pt x="218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Arc 9"/>
                <p:cNvSpPr/>
                <p:nvPr/>
              </p:nvSpPr>
              <p:spPr>
                <a:xfrm flipH="1" flipV="1">
                  <a:off x="5260680" y="3463200"/>
                  <a:ext cx="2283120" cy="708120"/>
                </a:xfrm>
                <a:custGeom>
                  <a:avLst/>
                  <a:gdLst/>
                  <a:ahLst/>
                  <a:rect l="l" t="t" r="r" b="b"/>
                  <a:pathLst>
                    <a:path fill="none" w="21571" h="20323">
                      <a:moveTo>
                        <a:pt x="7316" y="-1"/>
                      </a:moveTo>
                      <a:cubicBezTo>
                        <a:pt x="15504" y="2947"/>
                        <a:pt x="21124" y="10522"/>
                        <a:pt x="21571" y="19213"/>
                      </a:cubicBezTo>
                    </a:path>
                    <a:path stroke="0" w="21571" h="20323">
                      <a:moveTo>
                        <a:pt x="7316" y="-1"/>
                      </a:moveTo>
                      <a:cubicBezTo>
                        <a:pt x="15504" y="2947"/>
                        <a:pt x="21124" y="10522"/>
                        <a:pt x="21571" y="19213"/>
                      </a:cubicBezTo>
                      <a:lnTo>
                        <a:pt x="0" y="20323"/>
                      </a:lnTo>
                      <a:lnTo>
                        <a:pt x="7316" y="-1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Arc 10"/>
                <p:cNvSpPr/>
                <p:nvPr/>
              </p:nvSpPr>
              <p:spPr>
                <a:xfrm flipH="1" flipV="1">
                  <a:off x="5257800" y="3484080"/>
                  <a:ext cx="1828800" cy="306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153">
                      <a:moveTo>
                        <a:pt x="4371" y="-1"/>
                      </a:moveTo>
                      <a:cubicBezTo>
                        <a:pt x="14403" y="2073"/>
                        <a:pt x="21600" y="10908"/>
                        <a:pt x="21600" y="21153"/>
                      </a:cubicBezTo>
                    </a:path>
                    <a:path stroke="0" w="21600" h="21153">
                      <a:moveTo>
                        <a:pt x="4371" y="-1"/>
                      </a:moveTo>
                      <a:cubicBezTo>
                        <a:pt x="14403" y="2073"/>
                        <a:pt x="21600" y="10908"/>
                        <a:pt x="21600" y="21153"/>
                      </a:cubicBezTo>
                      <a:lnTo>
                        <a:pt x="0" y="21153"/>
                      </a:lnTo>
                      <a:lnTo>
                        <a:pt x="4371" y="-1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Line 11"/>
                <p:cNvSpPr/>
                <p:nvPr/>
              </p:nvSpPr>
              <p:spPr>
                <a:xfrm>
                  <a:off x="5638680" y="501012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Line 12"/>
                <p:cNvSpPr/>
                <p:nvPr/>
              </p:nvSpPr>
              <p:spPr>
                <a:xfrm>
                  <a:off x="6019560" y="501012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Line 13"/>
                <p:cNvSpPr/>
                <p:nvPr/>
              </p:nvSpPr>
              <p:spPr>
                <a:xfrm>
                  <a:off x="6400800" y="501012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Line 14"/>
                <p:cNvSpPr/>
                <p:nvPr/>
              </p:nvSpPr>
              <p:spPr>
                <a:xfrm>
                  <a:off x="6781680" y="501012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Line 15"/>
                <p:cNvSpPr/>
                <p:nvPr/>
              </p:nvSpPr>
              <p:spPr>
                <a:xfrm>
                  <a:off x="7162560" y="501012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Line 16"/>
                <p:cNvSpPr/>
                <p:nvPr/>
              </p:nvSpPr>
              <p:spPr>
                <a:xfrm>
                  <a:off x="5257800" y="4781520"/>
                  <a:ext cx="7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Line 17"/>
                <p:cNvSpPr/>
                <p:nvPr/>
              </p:nvSpPr>
              <p:spPr>
                <a:xfrm>
                  <a:off x="5257800" y="4476960"/>
                  <a:ext cx="7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Line 18"/>
                <p:cNvSpPr/>
                <p:nvPr/>
              </p:nvSpPr>
              <p:spPr>
                <a:xfrm>
                  <a:off x="5257800" y="4172040"/>
                  <a:ext cx="7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Line 19"/>
                <p:cNvSpPr/>
                <p:nvPr/>
              </p:nvSpPr>
              <p:spPr>
                <a:xfrm>
                  <a:off x="5257800" y="3867120"/>
                  <a:ext cx="7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Line 20"/>
                <p:cNvSpPr/>
                <p:nvPr/>
              </p:nvSpPr>
              <p:spPr>
                <a:xfrm>
                  <a:off x="5257800" y="3486240"/>
                  <a:ext cx="7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Text Box 21"/>
                <p:cNvSpPr/>
                <p:nvPr/>
              </p:nvSpPr>
              <p:spPr>
                <a:xfrm>
                  <a:off x="5511240" y="5072040"/>
                  <a:ext cx="1797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     2      3     4      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Text Box 22"/>
                <p:cNvSpPr/>
                <p:nvPr/>
              </p:nvSpPr>
              <p:spPr>
                <a:xfrm>
                  <a:off x="4877280" y="4629240"/>
                  <a:ext cx="404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Rectangle 23"/>
                <p:cNvSpPr/>
                <p:nvPr/>
              </p:nvSpPr>
              <p:spPr>
                <a:xfrm>
                  <a:off x="5138280" y="508644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Rectangle 24"/>
                <p:cNvSpPr/>
                <p:nvPr/>
              </p:nvSpPr>
              <p:spPr>
                <a:xfrm>
                  <a:off x="4877280" y="3409920"/>
                  <a:ext cx="404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.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Rectangle 25"/>
                <p:cNvSpPr/>
                <p:nvPr/>
              </p:nvSpPr>
              <p:spPr>
                <a:xfrm>
                  <a:off x="4877280" y="4324320"/>
                  <a:ext cx="404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Rectangle 26"/>
                <p:cNvSpPr/>
                <p:nvPr/>
              </p:nvSpPr>
              <p:spPr>
                <a:xfrm>
                  <a:off x="4877280" y="4019760"/>
                  <a:ext cx="404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Rectangle 27"/>
                <p:cNvSpPr/>
                <p:nvPr/>
              </p:nvSpPr>
              <p:spPr>
                <a:xfrm>
                  <a:off x="4876560" y="3714840"/>
                  <a:ext cx="406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Line 28"/>
                <p:cNvSpPr/>
                <p:nvPr/>
              </p:nvSpPr>
              <p:spPr>
                <a:xfrm flipV="1">
                  <a:off x="6019560" y="3333960"/>
                  <a:ext cx="0" cy="175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Text Box 29"/>
                <p:cNvSpPr/>
                <p:nvPr/>
              </p:nvSpPr>
              <p:spPr>
                <a:xfrm>
                  <a:off x="5995800" y="4451400"/>
                  <a:ext cx="435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cc0000"/>
                      </a:solidFill>
                      <a:latin typeface="Times New Roman"/>
                    </a:rPr>
                    <a:t>0.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Text Box 30"/>
                <p:cNvSpPr/>
                <p:nvPr/>
              </p:nvSpPr>
              <p:spPr>
                <a:xfrm>
                  <a:off x="5640120" y="3994200"/>
                  <a:ext cx="435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cc0000"/>
                      </a:solidFill>
                      <a:latin typeface="Times New Roman"/>
                    </a:rPr>
                    <a:t>0.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Text Box 31"/>
                <p:cNvSpPr/>
                <p:nvPr/>
              </p:nvSpPr>
              <p:spPr>
                <a:xfrm>
                  <a:off x="5995800" y="3460680"/>
                  <a:ext cx="435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cc0000"/>
                      </a:solidFill>
                      <a:latin typeface="Times New Roman"/>
                    </a:rPr>
                    <a:t>0.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1" name="Text Box 32"/>
              <p:cNvSpPr/>
              <p:nvPr/>
            </p:nvSpPr>
            <p:spPr>
              <a:xfrm>
                <a:off x="6691320" y="3527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Text Box 33"/>
              <p:cNvSpPr/>
              <p:nvPr/>
            </p:nvSpPr>
            <p:spPr>
              <a:xfrm>
                <a:off x="6691320" y="3908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Text Box 34"/>
              <p:cNvSpPr/>
              <p:nvPr/>
            </p:nvSpPr>
            <p:spPr>
              <a:xfrm>
                <a:off x="6690960" y="444204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Text Box 35"/>
              <p:cNvSpPr/>
              <p:nvPr/>
            </p:nvSpPr>
            <p:spPr>
              <a:xfrm>
                <a:off x="8028360" y="4918320"/>
                <a:ext cx="1040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ff"/>
                    </a:solidFill>
                    <a:latin typeface="Times New Roman"/>
                    <a:ea typeface="方正姚体"/>
                  </a:rPr>
                  <a:t>时间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  <a:ea typeface="方正姚体"/>
                  </a:rPr>
                  <a:t>/m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36"/>
              <p:cNvSpPr/>
              <p:nvPr/>
            </p:nvSpPr>
            <p:spPr>
              <a:xfrm>
                <a:off x="4499640" y="3311280"/>
                <a:ext cx="454680" cy="133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ff"/>
                    </a:solidFill>
                    <a:latin typeface="Times New Roman"/>
                  </a:rPr>
                  <a:t>物质的量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Text Box 37"/>
              <p:cNvSpPr/>
              <p:nvPr/>
            </p:nvSpPr>
            <p:spPr>
              <a:xfrm>
                <a:off x="4437720" y="4400640"/>
                <a:ext cx="59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m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7" name="Text Box 38"/>
          <p:cNvSpPr/>
          <p:nvPr/>
        </p:nvSpPr>
        <p:spPr>
          <a:xfrm>
            <a:off x="304920" y="128268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化合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蒸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mo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5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容器中加热分解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A(g)=B(g)+nC(g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反应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容器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浓度变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8mol/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测得这段时间内，平均速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(c)=0.6mol/ (L.min)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化学反应方程式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值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=_______mol/(L.min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39"/>
          <p:cNvSpPr/>
          <p:nvPr/>
        </p:nvSpPr>
        <p:spPr>
          <a:xfrm>
            <a:off x="2157840" y="228600"/>
            <a:ext cx="4916880" cy="94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同物质表示的速率比等于各物质的计量系数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速率比→计量系数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2311560" y="5791320"/>
            <a:ext cx="4386960" cy="459720"/>
          </a:xfrm>
          <a:prstGeom prst="rect">
            <a:avLst/>
          </a:prstGeom>
          <a:noFill/>
          <a:ln w="2844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速率定义所求得的是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方正姚体"/>
              </a:rPr>
              <a:t>平均速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，而图上的是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方正姚体"/>
              </a:rPr>
              <a:t>瞬时速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403848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5943600" y="243828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219320" y="4495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X + Y = 2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4"/>
          <p:cNvSpPr/>
          <p:nvPr/>
        </p:nvSpPr>
        <p:spPr>
          <a:xfrm>
            <a:off x="1187280" y="522936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05mol/L.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2"/>
          <p:cNvSpPr/>
          <p:nvPr/>
        </p:nvSpPr>
        <p:spPr>
          <a:xfrm>
            <a:off x="457200" y="871560"/>
            <a:ext cx="7772400" cy="22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+3B=2C + 2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不同条件下反应速率分别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0.15mol /(L.min)         ②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0.6mol /(L.mi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0.4mol /(L.min)           ④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0.15mol /(L.mi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该反应进行的最快的条件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①    B. ①④     C.②③       D.②        E.②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2048760" y="160200"/>
            <a:ext cx="508788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方正姚体"/>
              </a:rPr>
              <a:t>比较反应速率快慢，首先转化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同种物质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方正姚体"/>
              </a:rPr>
              <a:t>表示的速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Group 4"/>
          <p:cNvGrpSpPr/>
          <p:nvPr/>
        </p:nvGrpSpPr>
        <p:grpSpPr>
          <a:xfrm>
            <a:off x="485640" y="3124080"/>
            <a:ext cx="8353440" cy="2174760"/>
            <a:chOff x="485640" y="3124080"/>
            <a:chExt cx="8353440" cy="2174760"/>
          </a:xfrm>
        </p:grpSpPr>
        <p:sp>
          <p:nvSpPr>
            <p:cNvPr id="627" name="Text Box 5"/>
            <p:cNvSpPr/>
            <p:nvPr/>
          </p:nvSpPr>
          <p:spPr>
            <a:xfrm>
              <a:off x="485640" y="3124080"/>
              <a:ext cx="8353440" cy="21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、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对于反应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3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2A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以下表示的反应速率中，速率最大的是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0.4 mol·L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0.8 mol·L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A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0.6 mol·L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0.01 mol·L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·S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8" name="Picture 6" descr=""/>
            <p:cNvPicPr/>
            <p:nvPr/>
          </p:nvPicPr>
          <p:blipFill>
            <a:blip r:embed="rId1"/>
            <a:stretch/>
          </p:blipFill>
          <p:spPr>
            <a:xfrm>
              <a:off x="3152880" y="3159000"/>
              <a:ext cx="519120" cy="42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9" name="Text Box 7"/>
          <p:cNvSpPr/>
          <p:nvPr/>
        </p:nvSpPr>
        <p:spPr>
          <a:xfrm>
            <a:off x="5683680" y="4284720"/>
            <a:ext cx="5356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方正姚体"/>
              </a:rPr>
              <a:t>注意单位的一致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4724280" y="21337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0"/>
          <p:cNvSpPr/>
          <p:nvPr/>
        </p:nvSpPr>
        <p:spPr>
          <a:xfrm>
            <a:off x="182880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609480" y="1266840"/>
            <a:ext cx="8007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例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温度、体积不变的容器中进行反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=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若反应物的浓度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1mol/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降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06mol/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那么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06mol/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降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036mol/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所需反应时间应为（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s   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s           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s          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3"/>
          <p:cNvSpPr/>
          <p:nvPr/>
        </p:nvSpPr>
        <p:spPr>
          <a:xfrm>
            <a:off x="4298760" y="3352680"/>
            <a:ext cx="58752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8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化学反应速率是受到一定条件影响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7086600" y="19810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2"/>
          <p:cNvSpPr/>
          <p:nvPr/>
        </p:nvSpPr>
        <p:spPr>
          <a:xfrm>
            <a:off x="457200" y="838080"/>
            <a:ext cx="8381880" cy="1032120"/>
          </a:xfrm>
          <a:prstGeom prst="rect">
            <a:avLst/>
          </a:prstGeom>
          <a:noFill/>
          <a:ln w="9360">
            <a:solidFill>
              <a:srgbClr val="000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分析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31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实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-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应速率哪个更快？如何解释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2918160" y="2057400"/>
            <a:ext cx="388872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块铁，投入足量的下列溶液中，开始时反应速率最快的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0mL 2mol/L H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0mL 2mol/L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0mL 3mol/L H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0mL 18.4mol/L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762120" y="46483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Times New Roman"/>
              </a:rPr>
              <a:t>思考</a:t>
            </a: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0" lang="zh-CN" sz="4000" spc="-1" strike="noStrike">
                <a:solidFill>
                  <a:srgbClr val="3333ff"/>
                </a:solidFill>
                <a:latin typeface="Times New Roman"/>
              </a:rPr>
              <a:t>化学反应过程的实质是什么</a:t>
            </a: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3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02:02:06Z</dcterms:created>
  <dc:creator>wzd</dc:creator>
  <dc:description/>
  <dc:language>en-US</dc:language>
  <cp:lastModifiedBy>a</cp:lastModifiedBy>
  <dcterms:modified xsi:type="dcterms:W3CDTF">2015-03-17T07:10:44Z</dcterms:modified>
  <cp:revision>11</cp:revision>
  <dc:subject/>
  <dc:title>PowerPoint 演示文稿</dc:title>
</cp:coreProperties>
</file>