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CFE-6B61-4956-9FEF-2E4D18FB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91B-DE0B-495A-851C-D3929ED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5156C-390D-4B89-976C-BFFFE7B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93DDF-284D-4331-8A9E-1C1A652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B1603-6DED-40FB-A7BA-004D725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1B990-088E-4F5B-81E6-A9023A6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70EA2-0A08-4317-8452-BD5DA6D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BD871-FA01-4197-BD19-3AD23E9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E08E-936D-4190-9D39-49FB938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1A0F7-F74C-4D62-B0F6-D66EE13B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ACBEE-9DB4-4A16-8535-1CEC35D8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D7F95-2331-47B8-AF43-C742BBB7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FBC-9859-4A32-8E92-E8376190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C9F5F-DE9F-48A5-8F96-1F1746E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76ADA-4CE1-4A98-B3FD-37A91A5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D11AF-D28E-41BF-9864-034E59D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0D3C-1FB8-4270-BCA1-B0BE0C0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A7478-C82E-4E51-A529-EAEC8952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2F6D-52B5-4123-889E-84D6222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CFB5F-44BA-42F5-BE0F-CC348FD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74C8-D5B2-455D-B4BC-261A409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C46B7-C341-458D-9845-0A4114E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25E6A-1736-4AC8-BF5F-0401528B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455-CAAA-4014-9C7C-631B323C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EF145-6CCB-4008-9D75-486F31EA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2343A-A021-4E2E-804D-78D4614B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54450-664D-480E-9BB2-DE507D5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17E8F-CFC2-4EFE-9ABB-F5C6421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44A87-A38E-4162-99B5-53EA1A7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C6A4D-C5C8-49C6-A1CA-4EA85B79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28CC-014D-4FBF-80DD-4667DD7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08C0-12F3-498A-AE55-5BEAE23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384F-8E96-45BA-B988-8E6D028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4EC2-3EF9-48DD-BC37-C7857F0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C1CF-9B8F-4179-9843-352BCD0F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0B777-66E0-4D49-8FF5-30B4064A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304C3-2A6E-4A81-8033-41243BE0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90DFE-C119-444C-8A1E-8D08A1C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FB9EA-E99B-4F5F-8C1F-6C6A1BEB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018F-328D-4181-A964-39665EF1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C2E6E-215E-4ADF-8EE7-92E650C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34910-5D31-4B3F-93A9-E3E2749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BFA42-0841-4274-884B-85B08F1F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8DEDA-288D-4C1B-AA06-09D8C16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94ACD-9353-4A75-B6BA-2D98B82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11A-EE09-4B89-AF81-9BB77E6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7C86B-484D-46A4-9438-03028E8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76615-78F1-4132-AEDA-C1C775B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CF55F-55F1-47FC-B97B-3A91FACF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BD547-B67E-40BA-9CF9-4E88205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944DE-2281-4F2B-A28B-817F402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525F7-4B76-4B4D-9C17-AC0A5D1D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F529D-19C1-468E-844B-94C1B0A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D99E1-A154-4F7F-83A7-C531AEC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2EFDE-DEAD-4368-B940-0DEE6D3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1F2D0-D347-47AB-AB8A-6D213FD7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030-8359-4E8C-A870-71DB456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F2C05-5FC9-4298-8482-830205D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7070C-A5D1-462B-AF9B-0E812C0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7AE34-DED3-4E47-B9B2-1874DCE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8323F-82DB-4809-B20A-6729E4E7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32496-BFE7-4CED-B0AA-54FA1958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1A868-E9D1-4A3D-9E08-44C9FD8C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86E3C-6D88-47EF-B49D-87BB3F09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139-FD1E-46DB-8D7D-1470B56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B9F6-11A5-444B-84EB-0B288F4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109-819F-413C-B473-1274275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91E7-D2E8-45DE-8DFD-1992EB8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880-A85C-4DAE-8CDF-FB09612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4860-2EA5-4271-98DB-1EA4857A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FFF0-A581-4356-B2E7-C6EA723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48D4-CB91-4082-93AF-AF857169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88E7-8E8A-4BF2-AA00-964A259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8E6F-E716-446B-B1AD-C8922A74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4A29-9797-4006-B29A-A927DCA4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30E9-BE21-42C5-B37D-227ADB26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5F16-D120-42B0-943E-D1A1C11B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6EBE-A64F-4D86-A193-61939ED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7759-EFD6-4614-B878-30C421CF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0E5-29F7-4023-A50D-D470F0E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B379-F760-4573-9DFE-4815390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791D-1CCF-4A53-8B8E-C78A335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B1CA-3CD0-4521-BEDB-4EA6888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C786-2503-46D0-A2EE-6250DB7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103F-5FB0-495A-8898-A02B1C25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A91C-6F36-4180-AB80-2DD7062E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FC0D-6DF3-4697-9BB1-0B13C6C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3272-C175-43E6-B13C-B5896590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3750-ADDB-41A3-9A1D-734B797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5E46-3842-4D93-A561-E2B12E6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E96-06C9-48E8-91EB-DE93F09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103E-6B41-4D42-9DB9-456DF18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9EC8-82DC-4D6C-BC45-7EADFBC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AA78-05E2-4244-BA28-790042BD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C11C-6FE3-4845-8BAB-EFA432C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878B-8E52-431C-B774-692178F7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25A2-1F8A-41E7-B5FF-D5286A8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6E33-9715-4809-B355-226ED0B5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8AF4-581C-48EA-9172-0B07DD0C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61A0-16B4-4349-B4FB-AD82D985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2CFB-777E-4CAC-A818-0E473B9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71C-6704-40D7-9BA7-A4A696F3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BA80-C116-4603-8A88-0A7EDD6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87BD-D08A-41BD-93D2-DAD19B8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4BF4-3C7A-4541-BF48-D219129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04DB-603F-4AE8-A83D-28EC60BA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CA73-B8A9-473B-B28D-3C4E68B6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2FEA-48E1-4C03-84DD-281C566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136C-3952-44A2-92D9-624815F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BFB5-7F55-464E-A263-6B8900E0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8523-235A-4D74-AAC9-D41B6EF3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2884-2880-4C58-882B-78AA66E0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BEF-A0B3-4E81-94C8-80ACAF3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9E4A-155C-4DFE-89F0-41AEF6A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6260-C90B-41C8-A81E-894D15C9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25005-2BB8-4B9C-9C8D-66A0AEA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D48E-E057-4365-8BCC-16535783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81407-06DD-4C4C-BFB4-55D75C3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2A91-A849-476F-8603-D77D4FA4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254B6-19BD-435D-8C44-4ABC211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800E-19F5-4907-B47C-14A3309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F0C2-91CA-43E0-AB5E-4CEC53C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404C-BD6C-4DCD-9B6B-7CEC4E9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3D7-AC65-451D-8BC6-B023CE5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F069-B012-4BA4-84A0-0CB5DBE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D3040-19D6-4226-B984-1FF9AA02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FAFFE-75A0-436C-9CEC-B1F200DC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B6143-BCF4-4967-849F-6DE1BBF3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F0101-A8D7-4122-8E0C-79C2789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FC82-3692-41E6-A5C3-147B464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99E1-7762-46D1-82C8-25345A2D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A559-744F-49BB-80D0-A460733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E023-03D1-4754-9678-E7C80E67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3B10-E544-440A-A37F-77F40CE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E26-C3DA-4E8F-A666-61584AD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A45F2-AC91-4D77-A934-FA33FE6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7A49-E3E8-4714-9429-26A7FE9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8BBA-077C-4E8A-961D-BB33C24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4696-FEA5-4439-A008-B20B5092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1199-B276-45A8-B1EE-86CB8315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EF16-106B-472D-B950-2B0E5681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D1B8-54DB-4790-B821-0AE6568D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0542-2D35-4534-9884-88673FD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28BD2-FF9D-4B14-8A7F-AF37D53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98B1-649E-49ED-BD16-661C27B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C1A-B09D-4882-A77B-2DE4193D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BB66-72FE-445A-AB72-78963910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2E79-B31A-4777-9A50-350E2EC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B5B0-681F-4423-BEBB-3E55E7F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6FDD-95E6-4638-9069-96A5A1D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4E215-AA05-4257-B1D2-391C6CE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3C9A-F4DD-4075-A200-0ECA7F3F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23510-AFBD-4783-B7D3-68ADAD56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E0D3-C761-4483-A9E1-BC3FFB34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7145-6419-40BC-889A-821361F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35807-0AAF-440B-AB51-B400BFB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394-2A3C-416E-841F-1A6C0C57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EAC7-54DE-40DA-987B-EEF2C451EC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278-1818-42DB-A171-DEDB48188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8503-5031-439B-8AA0-B0AD1C22AA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CD7-8ECB-4465-B8C8-D96FC1F103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601-B67A-4203-8D76-6F3F0B6200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ABF-AAB1-424D-81F7-F78E36F21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320E-849D-4F52-A0E7-FF2291B615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14D4-7979-44AD-815E-2EE8C7ACD2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B113-D6E2-4D6E-AD01-77106DA82A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5CE-78BB-4DFD-92C1-0EA1A6C3C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29C3-6278-4CFA-A254-5B59BC9190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B9DD-884F-4189-8BBC-0F5B1D6912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5D8-41B4-4687-89B5-35D020A2CA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941D-50BB-4474-9DC2-498089624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C82F-D078-4C9F-851F-E139A366C6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4ABB-DF68-4832-A06D-F1D4E6C129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AFEF-3093-418F-BD5D-5A24025618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69F0-4861-4CB1-9CB0-F70E6B1726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F150-D3D9-4A1B-A82A-48CB9FF929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B8C-CC75-4FBE-B806-6C46715BC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DBA4-1711-4A3D-BD0F-2FC099A6D2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20B-2DBD-4B6C-8CE1-2412FEB13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FCE-6065-4DAD-A61A-C0AD43967F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6F8-FDA3-4DCA-80DE-C714A8E36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219320" y="4876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叶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2971800" y="4876920"/>
            <a:ext cx="5638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圆圆的，绿绿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023200" y="379800"/>
            <a:ext cx="23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</a:rPr>
              <a:t>荷叶圆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4025880" y="1841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qing wa"/>
          <p:cNvPicPr/>
          <p:nvPr/>
        </p:nvPicPr>
        <p:blipFill>
          <a:blip r:embed="rId2"/>
          <a:stretch/>
        </p:blipFill>
        <p:spPr>
          <a:xfrm>
            <a:off x="1066680" y="5029200"/>
            <a:ext cx="2105280" cy="1590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qing ting"/>
          <p:cNvPicPr/>
          <p:nvPr/>
        </p:nvPicPr>
        <p:blipFill>
          <a:blip r:embed="rId3"/>
          <a:stretch/>
        </p:blipFill>
        <p:spPr>
          <a:xfrm>
            <a:off x="3581280" y="990720"/>
            <a:ext cx="4800600" cy="21621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80880" y="15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谁在荷叶上干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581280" y="5029200"/>
            <a:ext cx="51818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青蛙在荷叶上唱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青蛙在荷叶上呱呱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04920" y="2438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蜻蜓在荷叶上休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2" descr="图片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水珠说：“荷叶是我的摇篮。”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3962520" y="914400"/>
            <a:ext cx="350496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42280" y="121824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~~~~~~~~~~~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0" y="1730160"/>
            <a:ext cx="83059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蜻蜓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机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蜻蜓停在荷叶上，展开宽宽的翅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-609480" y="29408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青蛙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歌台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青蛙蹲在荷叶上，呱呱地放声歌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42368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朋友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是我的凉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朋友戴上荷叶，红润润的脸蛋儿，藏在绿油油的荷叶下，比荷花还美呢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2" descr="图片1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303228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" y="853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水珠说：“荷叶是我的摇篮。”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2875680" y="190440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水珠把荷叶当作自己的摇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4721040" y="2666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水珠躺在荷叶上，眨着亮晶晶的眼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533520" y="434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小水珠把荷叶当作自己的摇篮，躺在上面，眨着亮晶晶的眼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2" descr="图片1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380880" y="53244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小水珠把荷叶当作自己的摇篮，躺在上面，眨着亮晶晶的眼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304920" y="19040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蜻蜓把荷叶当作自己的机场，停在上面，展开宽宽的翅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65040" y="319932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青蛙把荷叶当作自己的歌台，蹲在上面，呱呱地放声歌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04920" y="4570920"/>
            <a:ext cx="803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朋友把荷叶当作自己的凉帽，戴上它，红润润的脸蛋儿，藏在绿油油的荷叶下，比荷花还美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90640" y="380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说话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882520" y="1206000"/>
            <a:ext cx="429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蘑菇是小白兔的篮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树叶是小蚂蚁的小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西瓜皮是小熊的帽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459000" y="367560"/>
            <a:ext cx="6288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白兔把蘑菇当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蚂蚁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3213720" y="3187080"/>
            <a:ext cx="429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白兔把蘑菇当作篮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蚂蚁把树叶当作小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熊把西瓜皮当作帽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3"/>
          <p:cNvSpPr/>
          <p:nvPr/>
        </p:nvSpPr>
        <p:spPr>
          <a:xfrm>
            <a:off x="228600" y="2361600"/>
            <a:ext cx="819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白兔把蘑菇当作篮子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着它，高高兴兴地向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04920" y="685080"/>
            <a:ext cx="86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小蚂蚁把树叶当作小船，撑（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chēng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住它，顺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shùn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着水流飘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piāo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向远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57200" y="358056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熊把西瓜皮当作帽子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380880" y="1460520"/>
            <a:ext cx="8001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小蚂蚁把树叶当作小船，撑住它，顺着水流飘向远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小白兔把蘑菇当作篮子，拎着它，高高兴兴地向家跑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小熊把西瓜皮当作帽子，戴上它，胖胖的脸藏在凉凉的瓜皮下面，真舒服啊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06:34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6T08:44:31Z</dcterms:modified>
  <cp:revision>4</cp:revision>
  <dc:subject/>
  <dc:title>第一PPT模板网-WWW.1PPT.COM</dc:title>
</cp:coreProperties>
</file>