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laser.wav" ContentType="audio/x-wav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7A5-DAA9-4EF9-BA60-098D4A60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CAC-B876-40B6-BD6F-C8347300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A7B54-B944-4402-B220-31EA066A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884D6-02EE-4CB0-AB38-56BA9E21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9875C-5F11-4E2A-AB90-2C0368FA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03798-4C6C-4A9D-8A14-EC37105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BB578-7BAE-4D2E-B4AB-E6BB9F25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E8F58-EB4E-4406-8B9D-7BB19241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BDD69-1E08-462E-B264-D8979408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54890-9249-49F1-A119-48B39F0F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F6542-5336-4986-9717-A2DB376B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5F4D9-5BB6-4D6D-BCCE-28272919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FBE-AC68-42B1-91D8-0E7D6D61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8D110-01A4-465B-A85A-77B0563F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591AC-A60F-4EA1-B92D-CB09DB6E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BF9B5-A2D9-46CD-9AB8-BDA28BAC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EDF93-362E-41E8-9633-DD493BA8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A8C4A-2452-450E-897C-33D56488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7E271-0A8C-4030-9CC1-11C30B4D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BF2A2-7567-4828-AEB5-8EDAE05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AB27C-B71C-4B49-A109-69C3CAED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D4535-A159-48FA-9A16-0A68FC11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BFE08-A0D1-4FC3-BD23-41E625D9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F98-C025-4563-B6C8-A309E7CB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EB695-049B-43B8-AC2C-191C83C1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0FF06-C46C-4EA8-B1E4-53491BC2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35907-656D-4769-97FA-5253A431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11C12-6BC7-4384-AF51-D655D99C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8F821-7709-4716-9FE9-1EA960A0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AFC96-459F-4732-8CFF-8AB825CF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F85AE-E057-47CB-8734-4A169956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371C6-D76C-4BD2-9818-6317A32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09337-E7CF-4FE7-A93D-06423833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5A6A0-9FE0-4BB7-9EB1-593C307F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E68B-0EBB-4FCF-8B78-2A8C1F58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47116-E94F-4A13-A68B-8E8819C9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27593-AC99-4F6B-9592-319F036D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585F0-C897-48F6-878E-45A9C638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71EB9-5547-42C1-8B07-0377E86F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CC8B0-4733-49CF-A0D0-F8604151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45B13-3E87-4159-A661-DB96552E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37D24-08E0-43C4-96F6-40B43726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030AF-B95D-462A-8FD2-43513186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55B7D-0065-47A7-ADA4-BD8AE294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BBBC0-C4CB-41E3-92E8-7EEC290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FFB8-D2A9-4FCC-BBD1-A91564ED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A5C1D-366A-4F1F-9DFA-56BD372C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9E31A-9431-44A8-9BB0-DA5DC9F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82DCE-069E-480E-AD9B-E0B0AD0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D48C2-6A88-4C7A-97C7-55F6776D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7DC7A-2B45-4C61-BF8B-6D13CE6D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7B61C-5311-4CCD-ADD7-6368E81A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AA6C2-4D02-4635-9EC3-0DE41BDF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494C2-6E7E-4CDE-A4B6-760AAF94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21F50-7A58-4711-84FD-B023C9A5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C5EDC-C435-4B5F-9542-FFED1892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87FF-2736-4ADE-8432-E4EA473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D406F-121A-436A-AE41-21DEC24F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5D9A3-0969-4B03-9DCF-A885B339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37DED-6608-4455-B5A5-F609A665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3D752-3DDE-4D88-86E2-B573556C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8E3E4-9824-4234-AC36-DDD894BC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BCF04-F798-4F69-8529-F45E34EA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63560-1426-4D90-B95F-47CB7592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56CF0-DFFD-4163-92DA-3DE7CC78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CC536-4D92-40FE-B257-0155A554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AE09B-A734-45EA-B5AF-AB4C6D0E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7282-0A74-465D-98A9-F8B6E09E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8D815-15AD-4D4A-B835-C28343F6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87165-F656-4A9C-ACA4-3858C40F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47FB2-5439-4CF0-9D03-B2A2681D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79CCE-A002-4E63-9612-03B15728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6CAEF-B2CB-40E6-B635-859DC05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F81CD-4143-45D0-A7FA-7FDBE43D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9332F-662B-4582-B07A-9C057B5C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60DE2-FE48-475B-9108-186F64DD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B4962-EC33-4742-A670-FB22F881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7983-17DD-48FA-BE7D-EB645D4F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1117-3DF7-43E9-AEE2-D5512E58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AAE3-5723-479D-9A3C-0B1ECE2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E87-1493-41CF-91DA-44B9E85C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1E98-A89C-4EF7-97F5-B64749A2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164E-24F3-4151-ADEF-32151254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98AF-DFB9-418A-9C0D-81FDD752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1885-4397-4848-BF45-56D6CF39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5566-A90F-4959-AE34-C0B727AE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0A2C-7B4E-46CB-B7D6-6A14ECD1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E97A-7F27-4D0D-95CE-70D18CC6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10C6-E85D-4003-8FC5-BC84ACC2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5BD6-E14D-454D-827A-EA67B8F9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EE90-5BB3-46EB-81C8-1DE9ADA5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D54-4FE0-4616-B464-A8417A6F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B487-DE9C-412C-9509-9909731C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BF0B-CFF7-4B09-9D89-62BB64DD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9D26-8AF0-42E1-8E83-464EE684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DD1C-F11A-425B-9A00-F4C5F6A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AE2E-6D74-4F42-B526-D5768D21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2739-8560-40A4-8110-12CB8E7E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1B2F-3AE9-4DAB-AEAF-A6AE294A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C71E9-2F62-4165-9959-348FCE39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276A9-9371-4AF0-94E4-83A2A23C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25B4D-14C0-482E-9FD0-BF2C164D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7ED-A342-466D-8D35-A54129BA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B103A-CF07-4DD1-861C-A1F1CF7B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BF515-BC9F-47F4-9053-4320875B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45518-7073-4EC4-B9E1-1776F4C5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D4B4-2117-482D-BB4D-06987B2E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75D3C-506C-4989-9CE3-17618F5A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C336B-6AD2-4655-BE24-BD0AD50C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CEB2-26FA-4D3A-A13A-BC96202C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78DC-D24B-422D-B1B0-DBB40D8D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B3A0-F411-43BC-8CFD-D32E2EC4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AAAD7-E17F-46A6-BA7D-9DDB92FE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06A-EF96-4C10-8EEF-FC7A0B81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8C065-9162-4DE6-B938-3CDCCD06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12EC3-CB18-4CFC-BC3C-6FD97A5A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9C7B-66F8-40F0-B50A-A1E6DB3A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DCC53-EFE3-4BE1-812A-D7AB6728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00C06-220C-4715-BCF9-BCB6D36D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D508D-44ED-4091-8651-6BE5A97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762BA-6BA1-4538-913F-0752C9DB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3A6A1-3A50-4057-9CBE-72710BE3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919C-2F7D-4BAC-AB45-019FE8AB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11A71-FD12-43B7-A97C-AFE43406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400-BFE5-4809-A8C1-44B18509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424F-6387-47C5-861B-1B7971E5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4E6E7-C312-413C-8DF4-19BCC569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AE58-1256-469E-993A-D72C1E74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25F2-E739-450E-B01F-3BF43C09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8DF74-7E1A-4D23-A67E-CCDC7B9C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E1BDE-B280-4BC5-9492-FC452DE8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2E2CC-00D9-46EF-94C0-ADB37AE7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96F0-CD5E-428C-A0E9-DDC07CD1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DDEAC-CBF9-4803-A8D6-67BA3C96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A139-ADA4-4F66-B3D2-5EEFE11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307-A04D-4534-B8A4-4F5B5BD2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4308B-67C4-46BA-AC38-C1D206A3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04A6E-BFEC-430B-846B-892BB796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7E37A-8EBB-4C56-85B2-F85ADC23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61FA7-13FF-4703-B7EC-9D7932CB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8A354-CE76-4C4F-8548-2D43C07A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927E4-E3D0-4123-968C-BCC20B95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7D9D-D1D1-47BB-8FDF-4DDE315D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89B60-7F8D-4809-A965-FD0AC1A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9704F-36EB-4DE3-A9EE-4305597F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479C2-B4C4-4656-AC62-6BD83C83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B52-BDCB-4999-A203-857C54C2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2FB78-1555-4BC9-844F-739923F9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75ECD-63CA-4E91-B4CB-8C8A515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2DA2-C253-4E3B-8302-9604A0AF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48D03-8C13-441E-BF0F-CB547DBC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35A90-CEAC-4F74-A019-80F81AF1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446D-477A-49E4-9360-A5222654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8B70D-841C-487F-BC73-3E76742D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CA80-06E8-4C3B-948A-355BE979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EE86A-48DE-447D-921B-0D9D8C3A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1F435-8C60-49A2-99F4-2951B5D2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A63-95EC-4526-813C-D578E6D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311C4-C8DC-4F2B-BAAD-EC63D032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EE67-69D0-4D08-94F7-D4BF6D78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6F15C-73DA-4C64-9D53-4D4A27DF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2F7D5-973A-4A83-BAA4-BE6601B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6F27F-B77A-4B54-A2CC-187D65FE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7B6DF-9687-4683-9EE1-5AFFD825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A4F56-46F2-4288-A265-B548857D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B75DE-1E47-4DDC-A58D-52273063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951BE-E0C6-4142-B678-66394635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DA036-3D35-4C5C-ACB2-D93AAB14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E078-BBC9-46A9-B0A8-99B9BC5ED9E2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7AB4-AEF0-4782-A7D2-9C531D6A4E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5B54-9DF3-4052-B541-7EC3A20B3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2CF1-7E29-4D6C-907B-AF082F8A3F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BCF-894E-4980-8329-39254CA8B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4730-E2B3-4AA3-813E-FD44991CEC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BBEA-04C0-4878-B01A-CF41226773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654B-FCB9-4BC6-A739-2D4E14B6C0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A896-0D37-4668-8AAB-0A2C3E5035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A5E3-CC7D-4228-9F99-EEBF6BA58E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89DE-4DD4-4299-BB36-F194AC3A2B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AD2-685B-4800-A82B-44A63AA015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0363-39AC-47B7-998D-7FA8E97E4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93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6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BB0A-05B4-4B40-AC5E-B54DF55F710D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9E57-BCE5-4B7F-8043-35B47247B0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604B-3AE3-4AB8-BAAB-D579221D77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C5EA-4EFE-4729-B880-23B72AFB96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5C14-A3BA-4786-82A0-2E8DB44B8A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A5A8-016A-4206-A8D7-5A530B476A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5A0-9401-4946-BB63-FED7E35443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EF88-EC66-42C7-93DF-84BF07D974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A918-C1A3-4D13-981F-90543D53D0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9796-DA47-4314-9BC5-7439884822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4A4B-BC25-4571-B5F5-8709A0E2FB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2FCF-A50A-457D-A0DF-127016D7BC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CA91-4284-4A84-B387-E9A100316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核舟"/>
          <p:cNvPicPr/>
          <p:nvPr/>
        </p:nvPicPr>
        <p:blipFill>
          <a:blip r:embed="rId1"/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3"/>
          <p:cNvSpPr/>
          <p:nvPr/>
        </p:nvSpPr>
        <p:spPr>
          <a:xfrm>
            <a:off x="3354480" y="358128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核舟记</a:t>
            </a:r>
            <a:endParaRPr b="0" lang="en-US" sz="1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058400" y="1143000"/>
            <a:ext cx="7632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核舟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3278160" y="380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教学目标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2440080" y="1600200"/>
            <a:ext cx="429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一、了解我国古代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工艺美术的卓越成就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704120" y="380988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二、总结积累文言词汇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018320" y="525780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三、学习空间顺序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210680" y="1294920"/>
            <a:ext cx="7632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2135160" y="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方正舒体"/>
              </a:rPr>
              <a:t>难解文言词语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Text Box 17"/>
          <p:cNvSpPr/>
          <p:nvPr/>
        </p:nvSpPr>
        <p:spPr>
          <a:xfrm>
            <a:off x="2354400" y="853920"/>
            <a:ext cx="2923920" cy="6426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能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径寸之木，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宫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室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Text Box 18"/>
          <p:cNvSpPr/>
          <p:nvPr/>
        </p:nvSpPr>
        <p:spPr>
          <a:xfrm>
            <a:off x="2212200" y="1668600"/>
            <a:ext cx="107496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尝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贻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余核舟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Text Box 19"/>
          <p:cNvSpPr/>
          <p:nvPr/>
        </p:nvSpPr>
        <p:spPr>
          <a:xfrm>
            <a:off x="2009160" y="2278080"/>
            <a:ext cx="188748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盖大苏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泛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赤壁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Text Box 20"/>
          <p:cNvSpPr/>
          <p:nvPr/>
        </p:nvSpPr>
        <p:spPr>
          <a:xfrm>
            <a:off x="1927800" y="2963880"/>
            <a:ext cx="164340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其两膝相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2009160" y="3726000"/>
            <a:ext cx="188748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神情与苏黄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属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Text Box 22"/>
          <p:cNvSpPr/>
          <p:nvPr/>
        </p:nvSpPr>
        <p:spPr>
          <a:xfrm>
            <a:off x="1447920" y="4467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1846440" y="4411800"/>
            <a:ext cx="139968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诎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右臂支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2205720" y="5173560"/>
            <a:ext cx="107496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左手倚一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衡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木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1927440" y="6012000"/>
            <a:ext cx="164412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珠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历历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数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57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606320" y="525600"/>
            <a:ext cx="115632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勾画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了了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1774080" y="1363680"/>
            <a:ext cx="188748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为字共三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有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四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937880" y="2125800"/>
            <a:ext cx="213120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而记其长曾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盈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019240" y="2963880"/>
            <a:ext cx="237492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盖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拣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桃核修狭者为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1432080" y="375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1467000" y="291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核舟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AutoShape 8"/>
          <p:cNvSpPr/>
          <p:nvPr/>
        </p:nvSpPr>
        <p:spPr>
          <a:xfrm>
            <a:off x="2057400" y="266688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2534040" y="230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正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面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2473560" y="3809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背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面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>
            <a:off x="3276720" y="19051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34131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3880080" y="1616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船舱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3429000" y="2509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3600720" y="2378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头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Text Box 20"/>
          <p:cNvSpPr/>
          <p:nvPr/>
        </p:nvSpPr>
        <p:spPr>
          <a:xfrm>
            <a:off x="3677040" y="3216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尾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AutoShape 21"/>
          <p:cNvSpPr/>
          <p:nvPr/>
        </p:nvSpPr>
        <p:spPr>
          <a:xfrm>
            <a:off x="5410080" y="1828800"/>
            <a:ext cx="381240" cy="243828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Text Box 22"/>
          <p:cNvSpPr/>
          <p:nvPr/>
        </p:nvSpPr>
        <p:spPr>
          <a:xfrm>
            <a:off x="5947920" y="15624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空间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顺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1273716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作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1947240" y="18288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一、识记文言字词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2423160" y="2895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二、翻译全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2760120" y="40384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三、试写一篇以空间顺序为顺序的说明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2:21:13Z</dcterms:created>
  <dc:creator>z</dc:creator>
  <dc:description/>
  <dc:language>en-US</dc:language>
  <cp:lastModifiedBy>a</cp:lastModifiedBy>
  <dcterms:modified xsi:type="dcterms:W3CDTF">2015-02-10T11:46:30Z</dcterms:modified>
  <cp:revision>21</cp:revision>
  <dc:subject/>
  <dc:title>PowerPoint 演示文稿</dc:title>
</cp:coreProperties>
</file>