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664-7202-4576-89D8-5E55D881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1B4-C393-4849-AB6C-DE7E34EC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2B819-E1D8-49C1-BFFC-4FF8816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06D15-67DD-4272-9751-95700B3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88226-F4B2-4F60-BEF1-0528DA62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3F4DF-9487-4346-A48A-8E511C6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49732-4E8D-47EB-B4B7-947FD2B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63656-9BB4-4D7B-8E81-5DAAF0E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B2193-BBE4-436F-9F80-1DFFE8B1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066B7-B7F3-418C-840D-B3123F07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DCB76-CF75-4E1A-8332-20C8A856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31572-A664-4840-A312-22C640FE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FFE-36C7-47EA-A7AC-A6F26EF8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351E-E3AF-471C-A29C-F921BF6E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0A984-2971-40AF-8E43-6BCF46E9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DAE77-522B-453E-BF9D-6AEEED2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4DF31-9118-4B88-A700-88BD321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532D8-8F8C-4F62-87DB-5DAA91D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2C0BE-B529-4C16-AD49-55A443C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213C1-9718-48D0-9997-0B65FA6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1050F-2163-4EE0-8F3F-914EA9EB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7AE00-1AE6-4B1A-84D6-93C45EB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29C6A-6DDC-4A4E-AE18-C2EC6797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F78-FA3D-4F36-ABBA-5CB2DCC3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E4C3-748E-4824-959B-B79DDEB0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D2A33-EDF9-445B-B3EA-2BB70991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19333-CBAA-4E20-9B33-25FE6CE5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0FC75-36CB-44E2-AADE-852AC81C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0FCD5-8967-4909-BFDE-AADF1208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99C48-6D1C-4219-A2F1-F353AD25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AEB6F-2650-4077-86A1-DEECD7B7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F71C7-0005-483B-86B9-66FF5DA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3CEAD-92C1-4A52-A077-2D5C3A98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3DC3C-DC08-4BE6-A2DE-F7597884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34DA-87AF-44AF-BC95-13722147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4ACC6-D078-426C-8014-11D42C1D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2C360-86C7-4757-827D-70E36F32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7685A-C581-4F9E-8EB3-01C03D80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5C06D-5334-403E-8D91-D25A3318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81C16-A643-4CA2-A9A2-423B2A8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D60A4-8900-4E8C-920B-8BB8AF26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1640A-0999-43BE-A9AE-092B9762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045AE-C3B3-4BE1-8288-130E3DB4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5453D-7072-4FD4-A9A9-A32B4C60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7DE08-5826-4445-986D-F9B01347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676C-6446-412B-8458-242F24BE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A0CA3-64D2-462D-A54B-7118BF1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6BA7B-B640-4929-A400-A922C113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0CA08-DDDC-49D0-AC78-B2E010A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E25BB-2A04-4015-A238-27B2FE32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C7375-FE61-43B1-8027-6FC92587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1E92B-9659-4ABD-B84C-1F024A17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B621D-2B01-43D9-9F63-3DB04DD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62477-5B30-464D-B5E1-D8450E5A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0ABEC-F193-4469-9D5A-467C6F8C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AD2F4-E1AD-4348-A67B-D6C16D87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64FC-31D1-436D-9022-84468BD6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2F7C8-3A12-497E-A51A-43DB60E6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18916-79ED-4B1A-995E-0390489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75C3C-733A-4107-BD66-FCEDE6B6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53BA2-BB6C-4ABC-A0C8-F5A1BCA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5C100-1AC4-44FD-B730-196BA3A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B60DD-E24B-4616-8D05-97477A9F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81A00-F705-4B96-8701-5DE65568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41B-9CF9-400A-85AE-FDE783E4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8F74-1222-47B5-B744-9F29BC8F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C3EE-5C95-48D5-B0B4-72776E10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72F7-DAA9-4DD7-8AD0-40CD2C8E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2E1-A49C-4C25-94C6-9F349B2C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BDF6-3B26-461F-BADA-7BA3453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026E-EB68-478A-B00B-FF42D81B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25E3-1D1F-4EC9-BC79-A96A2457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B134-8A5F-432A-90BC-BDE7C51F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DC4A-315B-405E-B47D-357239D8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6B74-FAA0-4827-89CE-D7CF0D46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5BCA-883F-4C25-AB84-7469ED32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FB2C-8E19-41B2-B97F-5186E25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1102-6FB7-48C4-8123-EB76E48C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C2BD-355C-4B7B-BEFE-0BDC8703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C53-2C6C-4B6C-A3B9-B94C785D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6FE2-BCFF-4C24-B8FC-4908ED08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7A1D-946C-48BB-A3BA-B61DDB6D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9BF7-71F7-47D5-AF8A-24888FD6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43CA-83FB-411B-A28D-0E9F16F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5807-05BA-47FB-B25F-69015238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1ACA-6F65-43D6-98E6-B14188EB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F40F-85F4-4A35-AC78-47D1EB7E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6652-DB5F-441B-9BA5-E0E5027F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6C85-3596-4708-BF72-0E0BD16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A7E0-AE5F-48D8-A3E5-7B7ECFA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E2C-CA6D-4E05-B443-E4B530F3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85E1-A496-4E13-BAE5-383DE359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4DCB-D296-4314-857B-FFD2AAF9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97F7-01F5-4EB7-A139-E2255C4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E11F-53BF-4CDB-9CB4-7D7B87C2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F766-7A4B-4E75-8D66-7237F08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B3C1-E9F8-4F94-B3F2-0FD9594A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69F2-22E8-475F-B70F-81066918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0A7D-D370-4CDB-85C4-40C4336E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1058-0951-4DA0-98FA-A0A2A2E0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169B-AF1D-47B7-BC1F-E2EC55D6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75F-FEC4-4B37-9178-D6D0177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E300-809F-4173-984F-675CAB0B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92E65-4C8D-4462-B4BF-B32D7E30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BE80B-8730-4C7A-B497-5E952FF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452C9-5EA0-4CB3-88BE-4D8C522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C98DB-A27C-45E3-886A-6681FA01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0B36F-A037-4B58-A627-EA323282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F183-C552-4845-B99F-F80228D6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3960F-B138-4F04-AC9E-384D5FE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BF808-1FA3-4651-A93D-D6A32780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7DCB1-6578-4BBC-B2E6-AF01E0C1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408-69FE-4C14-97D3-358CE0E6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1BBD7-306E-46BC-A250-E91C205E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7651-BB4C-4BD9-A105-038E560B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9F426-92E6-4870-8CCA-2F681D25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225A9-A298-4139-8B24-FE92A7C0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AC18-793D-4CA8-A849-33E94B8E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EA8D-85FE-4B9E-9D75-750ACB2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1101-0E6C-4DE4-AB02-C0614C0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E091-53CA-46C1-9ED8-09A1DE2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2F4C8-E213-4600-A67D-7540D20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7ACE9-5A1A-42EB-B564-C91640F2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4A6-9A05-4CE8-B566-EB312B0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999D-80FA-49A1-B57E-6CE1E90B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975B-7C67-438D-ACAD-7B371C8D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36A0-47F8-4053-8153-6F5D867B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6EC5B-5A1C-4337-8553-208BF4F0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6C770-0BFF-499C-9314-8AC96C12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3155-F133-4DFB-AC8E-B3BDD338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9EB41-E28D-4597-BB98-F3EF8A19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B4E7-10C1-4045-B587-30539753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876B2-3482-47ED-9922-638E7A8B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FB1A-9880-4B5A-9C87-39AF144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58F-7C5E-47B9-AF9B-9A164210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955E-070B-40EA-AD07-DA87E02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7EA84-8332-405D-887D-1CC7D48A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5AFD4-465A-4D68-B59C-5FB5CEB1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E2E93-55D4-43D1-864A-DE83E3C4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1A2E-644F-4865-BB5C-6F4AE2A4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2CE49-C350-4512-84E9-9D25E0A3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E45A0-66AC-4ABA-81A0-A18B8D10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04247-971A-4619-87A8-97DF52F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2B1CA-BB10-422A-B9D7-2DA7C6B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C8C4-A34B-434A-B60A-F4616B0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59A-D43B-4F96-A678-0DF74A6E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305B-6F09-43F5-8101-328CD2A3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A7F1-52CA-4C82-AD4C-E4201C46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FCCFC-145D-41E9-B29E-2E1ED8B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507F9-7F0F-4AAA-A524-FDF8DBC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9E63F-BF19-4165-BCCD-CFBE7AF8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5CE1-9E1B-4CE1-AEC3-99F2B0BE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E87FF-2B41-4110-BD6F-7F0FA368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CF8A7-0B00-4114-8EDD-019466B5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A45A9-9866-4655-A62F-9EF533D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41AB4-54E4-43C4-A284-F99E426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440-78B5-4DF9-A4B8-D97007BDEC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71D-5BA7-4237-BC90-8E2366B17D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DEB3-4635-480C-91D1-F3DE5D275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83C9-E2F4-475C-B894-9DC47E14C9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C4E3-7DB2-421C-9C26-F2F71A71E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00E6-4A2E-45DF-A912-EBAF0D69C9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165-AFF1-44C3-A0FF-E0A9C78BA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FBC9-EF56-49E2-AA54-E73E2123D0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B7D0-7583-491F-9AFD-F5809E0AC2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B29-1C46-4AAC-9FBB-6A133BB45BD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25E-AF5E-482A-BB15-54950F90DA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B359-FBC1-4395-82AF-00E500CA7A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8D7-897F-4956-A05F-113D3C8D3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5A50-EBC5-44E8-9399-EFE3ADBD95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97EA-A404-40E1-9075-999D85134A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B9D-26D5-410C-BD27-DC6C4DDC3C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BB4F-6F51-4176-88AA-D665E8867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8193-6FED-4E80-AE0F-4E6BD5B1CD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AD31-94E4-4AA8-ABD3-159606E11E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1457-CE95-4B65-853E-AC720C41A8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A9AF-DFFC-44E9-89F4-FF24759E3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6BBD-D6A2-4A5A-9BD0-40C4A93A5D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FF02-065A-4CE5-8DB8-1E24882687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A0CB-9298-4BE7-92AA-F3B0197547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0DCD-6C56-44FC-B0E3-856A39B79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7631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一切为了孩子</a:t>
            </a:r>
            <a:br>
              <a:rPr sz="6000"/>
            </a:br>
            <a:r>
              <a:rPr b="0" lang="zh-CN" sz="6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做好孩子的护航使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5"/>
          <p:cNvSpPr txBox="1"/>
          <p:nvPr/>
        </p:nvSpPr>
        <p:spPr>
          <a:xfrm>
            <a:off x="1066680" y="1600200"/>
            <a:ext cx="670572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92d05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华文行楷"/>
              </a:rPr>
              <a:t>欢迎各位家长观临指导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92d050"/>
              </a:solidFill>
              <a:effectLst>
                <a:outerShdw dist="0" dir="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495680" y="6095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高一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）班家长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2013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年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5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8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教育需要社会 家庭 学校共同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对学生的关爱是火热的友情，沉静的了解、相互信任、共同享受和彼此了解；是互相取长补短承认孩子们的弱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孩子们的进步也是</a:t>
            </a:r>
            <a:r>
              <a:rPr b="1" lang="zh-CN" sz="3200" spc="-1" strike="noStrike">
                <a:solidFill>
                  <a:srgbClr val="ff0066"/>
                </a:solidFill>
                <a:latin typeface="汉仪行楷简"/>
                <a:ea typeface="汉仪行楷简"/>
              </a:rPr>
              <a:t>我们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老师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家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生致家长的一封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1066320"/>
            <a:ext cx="5334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家，赐予我一座又一座路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父母永远不疲倦的向我期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古老而又永恒的关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手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心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其实送与不送都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早已经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无论是刮风下雨，还是冰天雪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都以是你心头的牵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在岁月的风雨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会带着感恩和虔诚为您祝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谢谢您的支持，祝您工作顺利</a:t>
            </a:r>
            <a:br>
              <a:rPr sz="4800"/>
            </a:b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生活愉快，再见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汉仪方隶简"/>
                <a:ea typeface="汉仪方隶简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1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校领导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2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期中考试成绩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对您的几点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针对您孩子的情况反馈您的意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致家长的一封信及您对孩子的鼓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班级情况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           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本班共有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69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学生，期中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38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位女生，入学成绩相差较大。学生来源以敦化市为主，也有周边县市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WordArt 5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2598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期中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理科参加考试人数：</a:t>
            </a:r>
            <a:r>
              <a:rPr b="0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14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各科平均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0" y="2743200"/>
          <a:ext cx="8839080" cy="1293840"/>
        </p:xfrm>
        <a:graphic>
          <a:graphicData uri="http://schemas.openxmlformats.org/drawingml/2006/table">
            <a:tbl>
              <a:tblPr/>
              <a:tblGrid>
                <a:gridCol w="1787400"/>
                <a:gridCol w="933480"/>
                <a:gridCol w="1011240"/>
                <a:gridCol w="916200"/>
                <a:gridCol w="1143000"/>
                <a:gridCol w="990360"/>
                <a:gridCol w="9907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文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级平均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班级各科最高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895840"/>
                <a:gridCol w="312408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学生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杨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曲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欧阳博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文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067680" cy="670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表现优秀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岩、魏子策、李慧、夏文静、邢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前十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伟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迟玉婷、李振华、王雪冰、孟凡博、张轩、李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进步较快的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艺霖、赵健、代安妮，祁若男、丁梦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吴柳虎、魏子策、张轩、姜博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邢宇、张轩、宋金明、夏文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本学期出勤良好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振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孟凡博、李慧、宋义双、郭连东、曲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8"/>
          <p:cNvSpPr/>
          <p:nvPr/>
        </p:nvSpPr>
        <p:spPr>
          <a:xfrm>
            <a:off x="6337440" y="3295800"/>
            <a:ext cx="208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教子宝典康熙年间就有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不败宝典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规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W020100929372548913723"/>
          <p:cNvPicPr/>
          <p:nvPr/>
        </p:nvPicPr>
        <p:blipFill>
          <a:blip r:embed="rId10"/>
          <a:stretch/>
        </p:blipFill>
        <p:spPr>
          <a:xfrm>
            <a:off x="5715000" y="1600200"/>
            <a:ext cx="3232080" cy="41148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1690920" y="609120"/>
            <a:ext cx="49456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总纲： 弟子规 圣人训 首孝悌 次谨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泛爱众 而亲仁 有余力 则学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066680" y="3241800"/>
            <a:ext cx="43434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首先，在日常生活中要做到孝敬父母，友爱兄弟姐妹，其次一切言行中，要谨慎，要讲信用；和大众交往时要平等仁和，要时常亲近有仁德的人，向他学习 。以上这些事是学习的根本，非做不可。如果做了还有余遐，更应努力的学习礼、乐、射、御、书、术等六艺，各种经典，以及其他有益的学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04920" y="5956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通过细节改变习惯 再改变性格 从而改变命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学生存在的一些问题及给您的几点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-360" y="57913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5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空挡时间安排不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1295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数同学没从根本上认识到学习的重要性，课堂不能集中注意力好好听课，在课堂还玩心十足，上课思路不能跟着老师走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听讲效率不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2666880"/>
            <a:ext cx="883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习上相当一部分同学存在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懒学情绪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学习不主动，有一些同学根本不会自主学习，学习根本没有压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0" y="373392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校园携带手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上课发信息，上网，看小说，百害而无一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0" y="457200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良的行为习惯，主要表现在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早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穿着打扮不得体，不讲文明礼貌，缺少认识错误的心理承受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早恋的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781640" y="15231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当前高中校园早恋问题日趋严重，并呈现五个鲜明特征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380880" y="2559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行为公开化。以前学生恋爱是小偷式地下活动，而今学生恋爱毫无顾忌。他们之间的称呼也令人吃惊，“老婆，过来一下”、“老公，我先去点菜”，类似的语言在校园常能听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713040" y="33519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动作神速化。入学一个月后，高一学生早恋状况，每个班都不同程度地存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3567240" y="403776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方式信息化。利用手机、现代通讯工具表达爱意，或利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谈情说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4003560" y="46476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恋爱联盟化。几对人集体行动，同时约会、同场所举止亲昵，形成恋爱同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380880" y="5684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后果疯狂化。处理早恋问题成了学校、班主任花精力最大、效果最不明显的工作。不少学校处理方法比较简单，往往是发现问题后严肃批评，通报处分，告诉家长，直至退学。这些传统方法收效甚微，甚至造成严重后果。所以，如何科学地正确地应对高中学生早恋是摆在学校、家庭面前的急待解决的问题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09T02:04:2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