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9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camera.wav" ContentType="audio/x-wav"/>
  <Override PartName="/ppt/media/image16.png" ContentType="image/png"/>
  <Override PartName="/ppt/media/image21.jpeg" ContentType="image/jpeg"/>
  <Override PartName="/ppt/media/chimes.wav" ContentType="audio/x-wav"/>
  <Override PartName="/ppt/media/image5.png" ContentType="image/png"/>
  <Override PartName="/ppt/media/image8.jpeg" ContentType="image/jpeg"/>
  <Override PartName="/ppt/media/image29.jpeg" ContentType="image/jpeg"/>
  <Override PartName="/ppt/media/image27.png" ContentType="image/png"/>
  <Override PartName="/ppt/media/image12.wmf" ContentType="image/x-wmf"/>
  <Override PartName="/ppt/media/image6.jpeg" ContentType="image/jpeg"/>
  <Override PartName="/ppt/media/image30.jpeg" ContentType="image/jpe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7DA-02AD-4D69-A88C-F95E74D1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653-A523-4649-865E-DB53E8A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68E5D-F074-4C1D-94B3-1A6A3728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3DDBD-35F6-4277-9638-9A2F3E5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A76A7-90A8-483B-913E-7E22535E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B5EB-4523-4A35-8F57-C04D8DC2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FC5FC-2FF3-42F9-80C8-3B5AB98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72F5-008F-49D8-82AD-258B2DB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DFC6C-CDB3-4E48-A1C9-998C19C9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D523B-91D5-4CCC-8C39-CBA31CEF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C7332-06ED-45EA-B60C-4A8776DA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87A6D-94AF-4D39-BD91-86E4D05B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F1E-A152-4C79-AE36-078D6867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E00A4-5B26-4991-8D05-B665895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D7A86-EEB7-4A1E-9359-E9CBB78E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048C1-2C31-4BA2-9757-C2CBDF0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F287A-A979-434E-8094-4356C8D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B07D0-6814-4BB9-964E-CAEAD40D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3AF4E-C1B2-4F41-8CF1-5B7032B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76198-7640-4415-9447-DB23235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4DEB4-0004-4B44-B578-DCBC740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DD0DF-EB75-40E3-8308-E44F1785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9388A-E267-4B3F-AE30-7D5B3A8E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DF7-F46D-4D9A-8690-FA5084A9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9B10-5F0E-4545-B1F7-ECE3DE6D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02ADC-5684-4E31-8482-6D76FA7C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3329-62B0-484D-B9A4-4548C45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67632-7A65-40B3-885F-16A1257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C2D81-C86D-4AE1-8052-D447BAA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9471E-8C98-4F1C-821B-59FDC066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77239-482E-4C67-A482-B0AB66A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7167B-4CE4-40FC-88F6-9A8BD0F5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F78BD-29CA-45E4-96F2-8FF799CD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52F8-1F3F-4526-8FCE-D34FF3B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22C2-8D62-4B62-BA64-D8B6BD6D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7626F-2B34-440F-912F-02A6EB50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6480F-11CA-4D72-90BF-9341FD68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C2C35-09AD-4CF4-BBBE-D5236516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579DB-24C7-451F-9C69-D9F209ED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A50AB-BB27-4DE2-AF08-FBCFAAD2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013AA-A2FB-4053-A860-4A0A1BB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3FCAF-2B98-476F-99E1-E5C6A68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CB55E-1649-4C50-BBF1-CBEEFCF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5BF9C-065B-4668-9900-BAEB6D8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73B93-F95B-4D59-97F0-A0E8AD0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A5B4-BCE7-410E-A88E-188510E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59748-7DDD-4139-88A7-06D3C56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8C552-EBA5-420D-A877-9AE4FE4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8D6F4-7606-496E-BD7B-1020AC6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359AF-2CA4-4B7C-B187-4A9FDD73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CF966-FE90-4818-B5A5-D9CD93AC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7A5B8-FA29-4EF8-A78F-0FE06830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4058D-2932-4450-AA8C-61266F45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D8AF5-2C91-44F2-948D-6B30F76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AD73B-F640-40BD-ACC3-323DC069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0DD92-C78C-49C0-8B1B-BA5C8107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BAA1-D78C-44BA-AD2A-C4EE5F27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EB4CF-EB0C-4E0A-9CE2-86189DB5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A1259-AA19-4A73-ABF9-764174BB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7B907-F659-4678-B4B9-BA523C1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9B9C9-E685-42A4-B222-A221274F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035A0-5287-499C-A98D-9B3DFB08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AC406-1A84-44CE-A7E2-386FE002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5A670-D7FC-486A-83C8-E70115B6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F5F8C-2C72-41CF-979C-7463A0CF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5567F-063E-4F61-8732-1EE106A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E6F28-4019-4CCF-AA31-EEB6CF8E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02A9-04B9-4D1D-941C-17E02F4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4B841-1ED3-4E60-BB6D-0BFD2D7F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24E44-C8E5-4BE2-A6A2-E06691DA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42E6E-5DC4-44B4-84D9-0DA87283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C0A7B-2052-4E02-90AC-CE8B56E4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8C6BC-99E2-485D-8385-37AD02F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A96F1-F0EA-4EA5-969D-22C1822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61A51-F832-40CC-95B3-54C26B40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8CD56-4DD9-46F2-9127-867630FA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5765A-F387-478F-A6F8-F5A2BAF7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99D-0B1F-4AE2-AED8-F5E7C1B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75B-1C13-45CA-98B4-95B1BA0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645C-47FD-4598-BD67-F38EC35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DC9-FD50-43C9-A006-E11E768C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3D1-E66B-471F-9082-71E925A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973-B36F-484A-AE5A-229AD6A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2639-9056-4447-BAB9-39297EEB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2E83-05B0-4801-9C78-42ED0652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5A8-7A10-4279-916E-533FCD1F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0EAD-4ED0-493E-B0E5-56199904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A80E-1157-4EC0-BA4E-59E62FC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053B-33A2-484C-927E-F5BF629B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A794-2432-4BA2-8677-6273D48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6DFB-0032-4BC6-8CDC-8BCFDE4B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C1C-CFEB-43EA-AAA6-7C16E3F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C0AF-D599-43EC-9CE7-B1F733B9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7259-ED3B-4EFF-9888-F741D72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E9CB-7364-4676-84FD-4B2C0F1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151F-3A87-4A28-8896-C4E41AA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2F80-8EC9-4E90-88C1-336E0D3F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FDCF-202B-40EB-B078-53DA410C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B5FB-48CA-485C-A7C7-8D512895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FB90-5FD3-4635-B93B-F4D0D2A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9F46-BE75-4957-A8E0-DAB3937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FA5E-8FA6-47F2-9718-92EE76E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8FC-28F5-49A7-9725-F37C0A03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C8C71-EA80-451B-B7E8-6173E34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C377-4EC4-4E11-A05D-38FE8253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D811-ED57-4213-82D6-4F45087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9126-74F9-40B4-966B-1D81DB7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ADB5-8DFE-4FA5-88E3-7E03C105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419F-D1F1-4787-93CE-CDB346B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BC05-07C9-4B56-A947-DA4E570B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FFB4-B666-4473-9D78-798C3600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6C50-0B63-440D-A2BB-B487E772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90B1-8E8D-4C2F-9F19-35F3F3EF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6DD-CBAC-408E-A156-DB38453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A2EA-7F07-445B-9C59-FB1411A5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D987-A1E6-4F95-BDD0-6D7DBCA8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8BB4-AFDB-4A1F-9CCC-59EAA45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219F-A6C0-48B5-9284-233B6373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8FE3-EE36-464A-9608-7085000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8FCD-EEE6-44FB-9C6B-01E0DCAE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FD50F-E09F-43A0-92A0-ABBC05E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51D2-3437-4127-B15F-3F5E6BA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AB0A-1664-4D99-83AE-E5829C77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CD12-6AE4-46D9-9690-B469E316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D5D-714E-424A-8D7D-70E306A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9D6B-CA2B-43B4-9255-005BF986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E140-B7D4-4903-A180-EE5B58C7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F854-56AB-42E7-B099-2FAD72C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1562D-A3FC-4140-B21F-9D793F3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794B9-D799-4A65-A361-27E1E3D6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87F7-B887-48F8-9864-5016125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52D27-0EAA-41B7-BDE2-FD399BA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4720-C22F-4A94-B2C6-7093870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6E12-FD2D-49A3-B280-02E22BB7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6A74C-65D3-4163-AAAA-E07F1A3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277-5E1D-418F-99AB-D202575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257E-EC8C-472B-B5FB-C748506C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4D99-FCD8-4B1C-8E60-7EB44A67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03A08-215E-4B22-BA61-750A41A7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8328-DB67-4872-AE42-5CDDBC6F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2F445-55B3-49F4-AD42-58CCA983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589D-8280-49EE-B1FE-5B25D5E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B549-A892-41CE-AC75-224054B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C1E4-5EBE-403A-B647-2FA725DA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43EA8-4700-465B-BCF0-4D9F9B54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77DF1-1CEC-4526-B302-3D103A92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B0B-F5CF-4838-81EC-C4FFA3D5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E104-9BFC-4172-8135-4C5AED7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FD40-DAD4-41F0-A1E6-B994532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5BDCC-53A6-4EBF-BD6D-674D504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7204-A597-48C9-8CE8-C82B258A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7A39C-81BF-4E32-A319-34B14B9F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DC81-13EB-4879-ACAC-DA1FE101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4762F-3576-415A-B698-88BB3E00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65C4E-1426-44B6-9ECD-6643E2E2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3D8C9-F1A9-4094-A972-F6F6FC69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B482-5FBA-4148-AAF3-6EC2651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2EE-9561-4BE9-B533-DE52524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CEA18-8D1F-4D64-ABF2-FF6AA2D2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BA42-886A-4F02-B094-FB1CD33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8E26B-3D3C-4ECF-8013-0273D9E0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16C7-67F5-4B6E-A758-D7454B4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218EA-C1F1-4F39-BAF8-BC4D8AB8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5ED5-40C6-4872-A8A8-59206C6C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585B-7229-483C-B838-5EF4D57A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ECEC-4973-4EA3-ACB4-4CEFD976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55F6E-CD64-41EE-9773-1895AD1B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FE796-BB83-4613-9E07-E893089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5CAD-61C7-4535-9A48-C8E50FE8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79D4-61EB-4320-9713-915960D72C1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B4CF-F8FB-4820-A742-0E069175653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7E1-332E-4767-8608-9A2BF757778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4346-10D6-4F55-BA75-2920E2B845A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C4E-BA1D-4E1C-BFAE-BEF13E0A2B9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4894-466A-415B-AA2E-66FA90D6261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248-8055-4B2A-8670-0EC505087F7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D594-B74B-41A2-BA98-E892D58369A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21E-C96F-4654-99CC-3479D7806A1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9D2-2D44-4941-B84D-D79AB2058FD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100B-397D-4E6A-A203-86F454BF45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DB4C-4CA3-45F9-8CC0-127DDFD0D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other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EXPHORSA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7748-25ED-47B1-BA0A-2E409A5D5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C67-9661-40CE-B3BE-5C2FD60471C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12B2-C81F-45EC-B1EB-AA32D42D81C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E6E9-8881-43B0-8132-E2924EA2488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775-B5C9-408F-B49B-0306C2521AF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0B7B-2447-43DC-BAAD-0E1A759381F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168-B338-403C-AEF0-1A2278D7947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806D-1D52-43EC-B2C2-40A5045826D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578-F353-4CBE-A9BA-0CA06B040D9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6A9-A5EE-4554-B296-F4A1BA031ED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F060-C6DC-48FA-9FD9-EF273ED2388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C33-390B-4B3B-9892-1C0D22DAE76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8150-AA12-4F60-BA3C-EC9811D8697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6"/>
          <p:cNvSpPr/>
          <p:nvPr/>
        </p:nvSpPr>
        <p:spPr>
          <a:xfrm>
            <a:off x="468360" y="8334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什么是杠杆的平衡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684360" y="14986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当杠杆在动力和阻力的作用下静止时，或作匀速转动时，我们说杠杆平衡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273960" y="18576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68360" y="24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杠杆两端有两只可调节的螺母，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起什么作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425520" y="3716280"/>
            <a:ext cx="82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什么要求杠杆静止时，在水平位置呢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3780000" y="3068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作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调节杠杆自身的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468360" y="472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了直接读出力臂的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24000" y="5319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４．杠杆的平衡条件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1332000" y="6021360"/>
            <a:ext cx="489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75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75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76320" y="1459080"/>
          <a:ext cx="9067680" cy="5160960"/>
        </p:xfrm>
        <a:graphic>
          <a:graphicData uri="http://schemas.openxmlformats.org/drawingml/2006/table">
            <a:tbl>
              <a:tblPr/>
              <a:tblGrid>
                <a:gridCol w="1752480"/>
                <a:gridCol w="1965240"/>
                <a:gridCol w="1920960"/>
                <a:gridCol w="18288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类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特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优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缺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应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省力杠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力杠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臂杠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WordArt 33"/>
          <p:cNvSpPr txBox="1"/>
          <p:nvPr/>
        </p:nvSpPr>
        <p:spPr>
          <a:xfrm>
            <a:off x="0" y="0"/>
            <a:ext cx="1547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归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6" name="Rectangle 34"/>
          <p:cNvSpPr/>
          <p:nvPr/>
        </p:nvSpPr>
        <p:spPr>
          <a:xfrm>
            <a:off x="1828800" y="1916280"/>
            <a:ext cx="19051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阻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809880" y="2192400"/>
          <a:ext cx="3749760" cy="4390920"/>
        </p:xfrm>
        <a:graphic>
          <a:graphicData uri="http://schemas.openxmlformats.org/drawingml/2006/table">
            <a:tbl>
              <a:tblPr/>
              <a:tblGrid>
                <a:gridCol w="1920960"/>
                <a:gridCol w="182880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省力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费距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省距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费力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既不省力也不省距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8" name="Rectangle 48"/>
          <p:cNvSpPr/>
          <p:nvPr/>
        </p:nvSpPr>
        <p:spPr>
          <a:xfrm>
            <a:off x="1905120" y="3516480"/>
            <a:ext cx="1904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阻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49"/>
          <p:cNvSpPr/>
          <p:nvPr/>
        </p:nvSpPr>
        <p:spPr>
          <a:xfrm>
            <a:off x="1828800" y="5116680"/>
            <a:ext cx="19051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阻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1" descr="09"/>
          <p:cNvPicPr/>
          <p:nvPr/>
        </p:nvPicPr>
        <p:blipFill>
          <a:blip r:embed="rId1"/>
          <a:stretch/>
        </p:blipFill>
        <p:spPr>
          <a:xfrm>
            <a:off x="7524720" y="2205000"/>
            <a:ext cx="1619280" cy="11937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52" descr="12"/>
          <p:cNvPicPr/>
          <p:nvPr/>
        </p:nvPicPr>
        <p:blipFill>
          <a:blip r:embed="rId2"/>
          <a:stretch/>
        </p:blipFill>
        <p:spPr>
          <a:xfrm>
            <a:off x="7524720" y="3645000"/>
            <a:ext cx="1619280" cy="13096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3" descr="05"/>
          <p:cNvPicPr/>
          <p:nvPr/>
        </p:nvPicPr>
        <p:blipFill>
          <a:blip r:embed="rId3"/>
          <a:stretch/>
        </p:blipFill>
        <p:spPr>
          <a:xfrm>
            <a:off x="7524720" y="5300640"/>
            <a:ext cx="1619280" cy="10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WordArt 6"/>
          <p:cNvSpPr txBox="1"/>
          <p:nvPr/>
        </p:nvSpPr>
        <p:spPr>
          <a:xfrm>
            <a:off x="0" y="0"/>
            <a:ext cx="838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684360" y="3573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杠杆的种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省力杠杆、费力杠杆、等臂杠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684360" y="155736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杠杆平衡条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l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 F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l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动力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动力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阻力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阻力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457200" y="1295280"/>
            <a:ext cx="82296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两个力作用在杠杆两端使杠杆平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两个力的大小必须相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两个力的力臂长必须相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力臂较长的那个力比较大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力臂较长的那个力比较小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要使右图杠杆保持平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最省力的方向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WordArt 3"/>
          <p:cNvSpPr txBox="1"/>
          <p:nvPr/>
        </p:nvSpPr>
        <p:spPr>
          <a:xfrm>
            <a:off x="304920" y="457200"/>
            <a:ext cx="2682720" cy="13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8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课堂练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7170840" y="534672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5"/>
          <p:cNvSpPr/>
          <p:nvPr/>
        </p:nvSpPr>
        <p:spPr>
          <a:xfrm flipH="1" flipV="1">
            <a:off x="6865560" y="4203360"/>
            <a:ext cx="30492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6"/>
          <p:cNvSpPr/>
          <p:nvPr/>
        </p:nvSpPr>
        <p:spPr>
          <a:xfrm>
            <a:off x="8161200" y="534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7"/>
          <p:cNvSpPr/>
          <p:nvPr/>
        </p:nvSpPr>
        <p:spPr>
          <a:xfrm flipV="1">
            <a:off x="6256440" y="4203360"/>
            <a:ext cx="609480" cy="228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8"/>
          <p:cNvSpPr/>
          <p:nvPr/>
        </p:nvSpPr>
        <p:spPr>
          <a:xfrm flipH="1" flipV="1">
            <a:off x="6713280" y="359388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9"/>
          <p:cNvSpPr/>
          <p:nvPr/>
        </p:nvSpPr>
        <p:spPr>
          <a:xfrm>
            <a:off x="6865920" y="4203720"/>
            <a:ext cx="11160" cy="109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0"/>
          <p:cNvSpPr/>
          <p:nvPr/>
        </p:nvSpPr>
        <p:spPr>
          <a:xfrm flipH="1">
            <a:off x="6865560" y="42037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1"/>
          <p:cNvSpPr/>
          <p:nvPr/>
        </p:nvSpPr>
        <p:spPr>
          <a:xfrm>
            <a:off x="8008920" y="5880240"/>
            <a:ext cx="380880" cy="304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6014160" y="42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6404040" y="344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6589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7401600" y="38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7"/>
          <p:cNvSpPr/>
          <p:nvPr/>
        </p:nvSpPr>
        <p:spPr>
          <a:xfrm rot="20562600">
            <a:off x="6789240" y="42159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8"/>
          <p:cNvSpPr/>
          <p:nvPr/>
        </p:nvSpPr>
        <p:spPr>
          <a:xfrm>
            <a:off x="6865920" y="4203720"/>
            <a:ext cx="763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9"/>
          <p:cNvSpPr/>
          <p:nvPr/>
        </p:nvSpPr>
        <p:spPr>
          <a:xfrm>
            <a:off x="6927840" y="515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7264080" y="134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349380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250920" y="119700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：动力和阻力可以人为规定。（     ）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物体分别挂在杠杆的两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杠杆平衡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端的长度之比是＿＿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WordArt 3"/>
          <p:cNvSpPr txBox="1"/>
          <p:nvPr/>
        </p:nvSpPr>
        <p:spPr>
          <a:xfrm>
            <a:off x="304920" y="457200"/>
            <a:ext cx="2682720" cy="13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8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课堂练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223920" y="2951640"/>
            <a:ext cx="89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各式各样的剪刀都是一对杠杆．要剪开较硬的物体，使用哪种剪刀最合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0" y="4294080"/>
            <a:ext cx="1728720" cy="5605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160360" cy="681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7" descr=""/>
          <p:cNvPicPr/>
          <p:nvPr/>
        </p:nvPicPr>
        <p:blipFill>
          <a:blip r:embed="rId3"/>
          <a:stretch/>
        </p:blipFill>
        <p:spPr>
          <a:xfrm>
            <a:off x="4500720" y="4294080"/>
            <a:ext cx="2232000" cy="6224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8" descr=""/>
          <p:cNvPicPr/>
          <p:nvPr/>
        </p:nvPicPr>
        <p:blipFill>
          <a:blip r:embed="rId4"/>
          <a:stretch/>
        </p:blipFill>
        <p:spPr>
          <a:xfrm>
            <a:off x="6983280" y="4294080"/>
            <a:ext cx="2160720" cy="68760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9"/>
          <p:cNvSpPr/>
          <p:nvPr/>
        </p:nvSpPr>
        <p:spPr>
          <a:xfrm>
            <a:off x="1573200" y="4867920"/>
            <a:ext cx="59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     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    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    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7209000" y="10717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5581080" y="2133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3: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2"/>
          <p:cNvSpPr/>
          <p:nvPr/>
        </p:nvSpPr>
        <p:spPr>
          <a:xfrm>
            <a:off x="6616440" y="35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8"/>
          <p:cNvSpPr/>
          <p:nvPr/>
        </p:nvSpPr>
        <p:spPr>
          <a:xfrm>
            <a:off x="250920" y="126792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图为人的上肢图解，此时手托着质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的物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肱二头肌收缩时所承受的力为（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顿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顿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12" descr="图片1"/>
          <p:cNvPicPr/>
          <p:nvPr/>
        </p:nvPicPr>
        <p:blipFill>
          <a:blip r:embed="rId1"/>
          <a:stretch/>
        </p:blipFill>
        <p:spPr>
          <a:xfrm>
            <a:off x="3019320" y="4000680"/>
            <a:ext cx="6124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325080" cy="1556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．如图所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某同学在做俯卧撑运动。可将他视为一个杠杆。他的重心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重力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牛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么他将身体撑起，双手对地面的压力至少＿＿＿  。若他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分钟内做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个俯卧撑，每次肩部上升的距离均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.4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米，则他的功率至少为＿＿＿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6119640" y="90792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5868720" y="1916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6" descr="P1060711"/>
          <p:cNvPicPr/>
          <p:nvPr/>
        </p:nvPicPr>
        <p:blipFill>
          <a:blip r:embed="rId1"/>
          <a:stretch/>
        </p:blipFill>
        <p:spPr>
          <a:xfrm>
            <a:off x="1403280" y="2565360"/>
            <a:ext cx="5761080" cy="4316400"/>
          </a:xfrm>
          <a:prstGeom prst="rect">
            <a:avLst/>
          </a:prstGeom>
          <a:ln w="0">
            <a:noFill/>
          </a:ln>
        </p:spPr>
      </p:pic>
      <p:sp>
        <p:nvSpPr>
          <p:cNvPr id="782" name="AutoShape 7">
            <a:hlinkClick r:id="" action="ppaction://hlinkshowjump?jump=endshow"/>
          </p:cNvPr>
          <p:cNvSpPr/>
          <p:nvPr/>
        </p:nvSpPr>
        <p:spPr>
          <a:xfrm>
            <a:off x="7885080" y="6021360"/>
            <a:ext cx="1258920" cy="836640"/>
          </a:xfrm>
          <a:custGeom>
            <a:avLst/>
            <a:gdLst>
              <a:gd name="textAreaLeft" fmla="*/ 54000 w 1258920"/>
              <a:gd name="textAreaRight" fmla="*/ 1204920 w 1258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2498" h="21600">
                <a:moveTo>
                  <a:pt x="0" y="0"/>
                </a:moveTo>
                <a:lnTo>
                  <a:pt x="32498" y="0"/>
                </a:lnTo>
                <a:lnTo>
                  <a:pt x="32498" y="21600"/>
                </a:lnTo>
                <a:lnTo>
                  <a:pt x="0" y="21600"/>
                </a:lnTo>
                <a:close/>
              </a:path>
              <a:path fill="lightenLess" w="32498" h="21600">
                <a:moveTo>
                  <a:pt x="0" y="0"/>
                </a:moveTo>
                <a:lnTo>
                  <a:pt x="32498" y="0"/>
                </a:lnTo>
                <a:lnTo>
                  <a:pt x="31098" y="1400"/>
                </a:lnTo>
                <a:lnTo>
                  <a:pt x="1400" y="1400"/>
                </a:lnTo>
                <a:close/>
              </a:path>
              <a:path fill="darken" w="32498" h="21600">
                <a:moveTo>
                  <a:pt x="32498" y="0"/>
                </a:moveTo>
                <a:lnTo>
                  <a:pt x="32498" y="21600"/>
                </a:lnTo>
                <a:lnTo>
                  <a:pt x="31098" y="20200"/>
                </a:lnTo>
                <a:lnTo>
                  <a:pt x="31098" y="1400"/>
                </a:lnTo>
                <a:close/>
              </a:path>
              <a:path fill="darkenLess" w="32498" h="21600">
                <a:moveTo>
                  <a:pt x="32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8" y="20200"/>
                </a:lnTo>
                <a:close/>
              </a:path>
              <a:path fill="lighten" w="32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69"/>
          <p:cNvGrpSpPr/>
          <p:nvPr/>
        </p:nvGrpSpPr>
        <p:grpSpPr>
          <a:xfrm>
            <a:off x="0" y="3284640"/>
            <a:ext cx="5435640" cy="3384360"/>
            <a:chOff x="0" y="3284640"/>
            <a:chExt cx="5435640" cy="3384360"/>
          </a:xfrm>
        </p:grpSpPr>
        <p:grpSp>
          <p:nvGrpSpPr>
            <p:cNvPr id="587" name="Group 66"/>
            <p:cNvGrpSpPr/>
            <p:nvPr/>
          </p:nvGrpSpPr>
          <p:grpSpPr>
            <a:xfrm>
              <a:off x="0" y="3284640"/>
              <a:ext cx="5435640" cy="2880000"/>
              <a:chOff x="0" y="3284640"/>
              <a:chExt cx="5435640" cy="2880000"/>
            </a:xfrm>
          </p:grpSpPr>
          <p:sp>
            <p:nvSpPr>
              <p:cNvPr id="588" name="Line 7"/>
              <p:cNvSpPr/>
              <p:nvPr/>
            </p:nvSpPr>
            <p:spPr>
              <a:xfrm flipV="1">
                <a:off x="1979640" y="3284640"/>
                <a:ext cx="3456000" cy="26301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AutoShape 9"/>
              <p:cNvSpPr/>
              <p:nvPr/>
            </p:nvSpPr>
            <p:spPr>
              <a:xfrm>
                <a:off x="2440080" y="5476680"/>
                <a:ext cx="406440" cy="43776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65"/>
              <p:cNvGrpSpPr/>
              <p:nvPr/>
            </p:nvGrpSpPr>
            <p:grpSpPr>
              <a:xfrm>
                <a:off x="454680" y="4415400"/>
                <a:ext cx="2054520" cy="1716120"/>
                <a:chOff x="454680" y="4415400"/>
                <a:chExt cx="2054520" cy="1716120"/>
              </a:xfrm>
            </p:grpSpPr>
            <p:sp>
              <p:nvSpPr>
                <p:cNvPr id="591" name="Freeform 8"/>
                <p:cNvSpPr/>
                <p:nvPr/>
              </p:nvSpPr>
              <p:spPr>
                <a:xfrm rot="424800">
                  <a:off x="539640" y="4525560"/>
                  <a:ext cx="1884600" cy="1495080"/>
                </a:xfrm>
                <a:custGeom>
                  <a:avLst/>
                  <a:gdLst/>
                  <a:ahLst/>
                  <a:rect l="l" t="t" r="r" b="b"/>
                  <a:pathLst>
                    <a:path w="973" h="750">
                      <a:moveTo>
                        <a:pt x="0" y="733"/>
                      </a:moveTo>
                      <a:cubicBezTo>
                        <a:pt x="5" y="623"/>
                        <a:pt x="7" y="513"/>
                        <a:pt x="15" y="403"/>
                      </a:cubicBezTo>
                      <a:cubicBezTo>
                        <a:pt x="17" y="368"/>
                        <a:pt x="18" y="331"/>
                        <a:pt x="30" y="298"/>
                      </a:cubicBezTo>
                      <a:cubicBezTo>
                        <a:pt x="65" y="202"/>
                        <a:pt x="165" y="148"/>
                        <a:pt x="255" y="118"/>
                      </a:cubicBezTo>
                      <a:cubicBezTo>
                        <a:pt x="301" y="119"/>
                        <a:pt x="751" y="0"/>
                        <a:pt x="870" y="178"/>
                      </a:cubicBezTo>
                      <a:cubicBezTo>
                        <a:pt x="928" y="265"/>
                        <a:pt x="829" y="186"/>
                        <a:pt x="930" y="253"/>
                      </a:cubicBezTo>
                      <a:cubicBezTo>
                        <a:pt x="961" y="346"/>
                        <a:pt x="973" y="419"/>
                        <a:pt x="885" y="478"/>
                      </a:cubicBezTo>
                      <a:cubicBezTo>
                        <a:pt x="870" y="501"/>
                        <a:pt x="817" y="592"/>
                        <a:pt x="780" y="613"/>
                      </a:cubicBezTo>
                      <a:cubicBezTo>
                        <a:pt x="718" y="647"/>
                        <a:pt x="637" y="650"/>
                        <a:pt x="570" y="658"/>
                      </a:cubicBezTo>
                      <a:cubicBezTo>
                        <a:pt x="451" y="698"/>
                        <a:pt x="417" y="705"/>
                        <a:pt x="285" y="718"/>
                      </a:cubicBezTo>
                      <a:cubicBezTo>
                        <a:pt x="189" y="750"/>
                        <a:pt x="157" y="745"/>
                        <a:pt x="45" y="733"/>
                      </a:cubicBezTo>
                      <a:cubicBezTo>
                        <a:pt x="3" y="670"/>
                        <a:pt x="0" y="645"/>
                        <a:pt x="0" y="568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"/>
                <p:cNvSpPr/>
                <p:nvPr/>
              </p:nvSpPr>
              <p:spPr>
                <a:xfrm rot="424800">
                  <a:off x="545400" y="5174280"/>
                  <a:ext cx="814320" cy="525240"/>
                </a:xfrm>
                <a:custGeom>
                  <a:avLst/>
                  <a:gdLst/>
                  <a:ahLst/>
                  <a:rect l="l" t="t" r="r" b="b"/>
                  <a:pathLst>
                    <a:path w="421" h="263">
                      <a:moveTo>
                        <a:pt x="210" y="0"/>
                      </a:moveTo>
                      <a:cubicBezTo>
                        <a:pt x="249" y="13"/>
                        <a:pt x="292" y="13"/>
                        <a:pt x="330" y="30"/>
                      </a:cubicBezTo>
                      <a:cubicBezTo>
                        <a:pt x="363" y="45"/>
                        <a:pt x="420" y="90"/>
                        <a:pt x="420" y="90"/>
                      </a:cubicBezTo>
                      <a:cubicBezTo>
                        <a:pt x="362" y="263"/>
                        <a:pt x="421" y="135"/>
                        <a:pt x="0" y="135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1"/>
                <p:cNvSpPr/>
                <p:nvPr/>
              </p:nvSpPr>
              <p:spPr>
                <a:xfrm rot="424800">
                  <a:off x="1516680" y="5022720"/>
                  <a:ext cx="600120" cy="887040"/>
                </a:xfrm>
                <a:custGeom>
                  <a:avLst/>
                  <a:gdLst/>
                  <a:ahLst/>
                  <a:rect l="l" t="t" r="r" b="b"/>
                  <a:pathLst>
                    <a:path w="310" h="445">
                      <a:moveTo>
                        <a:pt x="25" y="25"/>
                      </a:moveTo>
                      <a:cubicBezTo>
                        <a:pt x="145" y="105"/>
                        <a:pt x="0" y="0"/>
                        <a:pt x="100" y="100"/>
                      </a:cubicBezTo>
                      <a:cubicBezTo>
                        <a:pt x="154" y="154"/>
                        <a:pt x="243" y="152"/>
                        <a:pt x="310" y="160"/>
                      </a:cubicBezTo>
                      <a:cubicBezTo>
                        <a:pt x="305" y="185"/>
                        <a:pt x="309" y="214"/>
                        <a:pt x="295" y="235"/>
                      </a:cubicBezTo>
                      <a:cubicBezTo>
                        <a:pt x="286" y="248"/>
                        <a:pt x="262" y="240"/>
                        <a:pt x="250" y="250"/>
                      </a:cubicBezTo>
                      <a:cubicBezTo>
                        <a:pt x="194" y="295"/>
                        <a:pt x="237" y="332"/>
                        <a:pt x="160" y="370"/>
                      </a:cubicBezTo>
                      <a:cubicBezTo>
                        <a:pt x="146" y="377"/>
                        <a:pt x="129" y="377"/>
                        <a:pt x="115" y="385"/>
                      </a:cubicBezTo>
                      <a:cubicBezTo>
                        <a:pt x="83" y="403"/>
                        <a:pt x="25" y="445"/>
                        <a:pt x="25" y="445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64"/>
              <p:cNvGrpSpPr/>
              <p:nvPr/>
            </p:nvGrpSpPr>
            <p:grpSpPr>
              <a:xfrm>
                <a:off x="0" y="5954400"/>
                <a:ext cx="4473720" cy="210240"/>
                <a:chOff x="0" y="5954400"/>
                <a:chExt cx="4473720" cy="210240"/>
              </a:xfrm>
            </p:grpSpPr>
            <p:sp>
              <p:nvSpPr>
                <p:cNvPr id="595" name="Line 5"/>
                <p:cNvSpPr/>
                <p:nvPr/>
              </p:nvSpPr>
              <p:spPr>
                <a:xfrm>
                  <a:off x="0" y="5954400"/>
                  <a:ext cx="447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6" name="Group 12"/>
                <p:cNvGrpSpPr/>
                <p:nvPr/>
              </p:nvGrpSpPr>
              <p:grpSpPr>
                <a:xfrm>
                  <a:off x="115920" y="5984280"/>
                  <a:ext cx="1037880" cy="180360"/>
                  <a:chOff x="115920" y="5984280"/>
                  <a:chExt cx="1037880" cy="180360"/>
                </a:xfrm>
              </p:grpSpPr>
              <p:grpSp>
                <p:nvGrpSpPr>
                  <p:cNvPr id="597" name="Group 13"/>
                  <p:cNvGrpSpPr/>
                  <p:nvPr/>
                </p:nvGrpSpPr>
                <p:grpSpPr>
                  <a:xfrm>
                    <a:off x="115920" y="5984280"/>
                    <a:ext cx="340560" cy="180360"/>
                    <a:chOff x="115920" y="5984280"/>
                    <a:chExt cx="340560" cy="180360"/>
                  </a:xfrm>
                </p:grpSpPr>
                <p:sp>
                  <p:nvSpPr>
                    <p:cNvPr id="598" name="Line 14"/>
                    <p:cNvSpPr/>
                    <p:nvPr/>
                  </p:nvSpPr>
                  <p:spPr>
                    <a:xfrm>
                      <a:off x="1159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Line 15"/>
                    <p:cNvSpPr/>
                    <p:nvPr/>
                  </p:nvSpPr>
                  <p:spPr>
                    <a:xfrm>
                      <a:off x="3430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Line 16"/>
                    <p:cNvSpPr/>
                    <p:nvPr/>
                  </p:nvSpPr>
                  <p:spPr>
                    <a:xfrm>
                      <a:off x="2293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1" name="Group 17"/>
                  <p:cNvGrpSpPr/>
                  <p:nvPr/>
                </p:nvGrpSpPr>
                <p:grpSpPr>
                  <a:xfrm>
                    <a:off x="813240" y="5984280"/>
                    <a:ext cx="340560" cy="180360"/>
                    <a:chOff x="813240" y="5984280"/>
                    <a:chExt cx="340560" cy="180360"/>
                  </a:xfrm>
                </p:grpSpPr>
                <p:sp>
                  <p:nvSpPr>
                    <p:cNvPr id="602" name="Line 18"/>
                    <p:cNvSpPr/>
                    <p:nvPr/>
                  </p:nvSpPr>
                  <p:spPr>
                    <a:xfrm>
                      <a:off x="8132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Line 19"/>
                    <p:cNvSpPr/>
                    <p:nvPr/>
                  </p:nvSpPr>
                  <p:spPr>
                    <a:xfrm>
                      <a:off x="10404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Line 20"/>
                    <p:cNvSpPr/>
                    <p:nvPr/>
                  </p:nvSpPr>
                  <p:spPr>
                    <a:xfrm>
                      <a:off x="9266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5" name="Group 21"/>
                  <p:cNvGrpSpPr/>
                  <p:nvPr/>
                </p:nvGrpSpPr>
                <p:grpSpPr>
                  <a:xfrm>
                    <a:off x="464400" y="5984280"/>
                    <a:ext cx="340560" cy="180360"/>
                    <a:chOff x="464400" y="5984280"/>
                    <a:chExt cx="340560" cy="180360"/>
                  </a:xfrm>
                </p:grpSpPr>
                <p:sp>
                  <p:nvSpPr>
                    <p:cNvPr id="606" name="Line 22"/>
                    <p:cNvSpPr/>
                    <p:nvPr/>
                  </p:nvSpPr>
                  <p:spPr>
                    <a:xfrm>
                      <a:off x="4644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Line 23"/>
                    <p:cNvSpPr/>
                    <p:nvPr/>
                  </p:nvSpPr>
                  <p:spPr>
                    <a:xfrm>
                      <a:off x="6915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Line 24"/>
                    <p:cNvSpPr/>
                    <p:nvPr/>
                  </p:nvSpPr>
                  <p:spPr>
                    <a:xfrm>
                      <a:off x="577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09" name="Group 25"/>
                <p:cNvGrpSpPr/>
                <p:nvPr/>
              </p:nvGrpSpPr>
              <p:grpSpPr>
                <a:xfrm>
                  <a:off x="2214720" y="5984280"/>
                  <a:ext cx="1037880" cy="180360"/>
                  <a:chOff x="2214720" y="5984280"/>
                  <a:chExt cx="1037880" cy="180360"/>
                </a:xfrm>
              </p:grpSpPr>
              <p:grpSp>
                <p:nvGrpSpPr>
                  <p:cNvPr id="610" name="Group 26"/>
                  <p:cNvGrpSpPr/>
                  <p:nvPr/>
                </p:nvGrpSpPr>
                <p:grpSpPr>
                  <a:xfrm>
                    <a:off x="2214720" y="5984280"/>
                    <a:ext cx="340560" cy="180360"/>
                    <a:chOff x="2214720" y="5984280"/>
                    <a:chExt cx="340560" cy="180360"/>
                  </a:xfrm>
                </p:grpSpPr>
                <p:sp>
                  <p:nvSpPr>
                    <p:cNvPr id="611" name="Line 27"/>
                    <p:cNvSpPr/>
                    <p:nvPr/>
                  </p:nvSpPr>
                  <p:spPr>
                    <a:xfrm>
                      <a:off x="22147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Line 28"/>
                    <p:cNvSpPr/>
                    <p:nvPr/>
                  </p:nvSpPr>
                  <p:spPr>
                    <a:xfrm>
                      <a:off x="24418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Line 29"/>
                    <p:cNvSpPr/>
                    <p:nvPr/>
                  </p:nvSpPr>
                  <p:spPr>
                    <a:xfrm>
                      <a:off x="23281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4" name="Group 30"/>
                  <p:cNvGrpSpPr/>
                  <p:nvPr/>
                </p:nvGrpSpPr>
                <p:grpSpPr>
                  <a:xfrm>
                    <a:off x="2912040" y="5984280"/>
                    <a:ext cx="340560" cy="180360"/>
                    <a:chOff x="2912040" y="5984280"/>
                    <a:chExt cx="340560" cy="180360"/>
                  </a:xfrm>
                </p:grpSpPr>
                <p:sp>
                  <p:nvSpPr>
                    <p:cNvPr id="615" name="Line 31"/>
                    <p:cNvSpPr/>
                    <p:nvPr/>
                  </p:nvSpPr>
                  <p:spPr>
                    <a:xfrm>
                      <a:off x="29120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Line 32"/>
                    <p:cNvSpPr/>
                    <p:nvPr/>
                  </p:nvSpPr>
                  <p:spPr>
                    <a:xfrm>
                      <a:off x="31392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Line 33"/>
                    <p:cNvSpPr/>
                    <p:nvPr/>
                  </p:nvSpPr>
                  <p:spPr>
                    <a:xfrm>
                      <a:off x="30254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8" name="Group 34"/>
                  <p:cNvGrpSpPr/>
                  <p:nvPr/>
                </p:nvGrpSpPr>
                <p:grpSpPr>
                  <a:xfrm>
                    <a:off x="2563200" y="5984280"/>
                    <a:ext cx="340560" cy="180360"/>
                    <a:chOff x="2563200" y="5984280"/>
                    <a:chExt cx="340560" cy="180360"/>
                  </a:xfrm>
                </p:grpSpPr>
                <p:sp>
                  <p:nvSpPr>
                    <p:cNvPr id="619" name="Line 35"/>
                    <p:cNvSpPr/>
                    <p:nvPr/>
                  </p:nvSpPr>
                  <p:spPr>
                    <a:xfrm>
                      <a:off x="25632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Line 36"/>
                    <p:cNvSpPr/>
                    <p:nvPr/>
                  </p:nvSpPr>
                  <p:spPr>
                    <a:xfrm>
                      <a:off x="27903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Line 37"/>
                    <p:cNvSpPr/>
                    <p:nvPr/>
                  </p:nvSpPr>
                  <p:spPr>
                    <a:xfrm>
                      <a:off x="26766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2" name="Group 38"/>
                <p:cNvGrpSpPr/>
                <p:nvPr/>
              </p:nvGrpSpPr>
              <p:grpSpPr>
                <a:xfrm>
                  <a:off x="3289320" y="5984280"/>
                  <a:ext cx="1037880" cy="180360"/>
                  <a:chOff x="3289320" y="5984280"/>
                  <a:chExt cx="1037880" cy="180360"/>
                </a:xfrm>
              </p:grpSpPr>
              <p:grpSp>
                <p:nvGrpSpPr>
                  <p:cNvPr id="623" name="Group 39"/>
                  <p:cNvGrpSpPr/>
                  <p:nvPr/>
                </p:nvGrpSpPr>
                <p:grpSpPr>
                  <a:xfrm>
                    <a:off x="3289320" y="5984280"/>
                    <a:ext cx="340560" cy="180360"/>
                    <a:chOff x="3289320" y="5984280"/>
                    <a:chExt cx="340560" cy="180360"/>
                  </a:xfrm>
                </p:grpSpPr>
                <p:sp>
                  <p:nvSpPr>
                    <p:cNvPr id="624" name="Line 40"/>
                    <p:cNvSpPr/>
                    <p:nvPr/>
                  </p:nvSpPr>
                  <p:spPr>
                    <a:xfrm>
                      <a:off x="32893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Line 41"/>
                    <p:cNvSpPr/>
                    <p:nvPr/>
                  </p:nvSpPr>
                  <p:spPr>
                    <a:xfrm>
                      <a:off x="35164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Line 42"/>
                    <p:cNvSpPr/>
                    <p:nvPr/>
                  </p:nvSpPr>
                  <p:spPr>
                    <a:xfrm>
                      <a:off x="34027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7" name="Group 43"/>
                  <p:cNvGrpSpPr/>
                  <p:nvPr/>
                </p:nvGrpSpPr>
                <p:grpSpPr>
                  <a:xfrm>
                    <a:off x="3986640" y="5984280"/>
                    <a:ext cx="340560" cy="180360"/>
                    <a:chOff x="3986640" y="5984280"/>
                    <a:chExt cx="340560" cy="180360"/>
                  </a:xfrm>
                </p:grpSpPr>
                <p:sp>
                  <p:nvSpPr>
                    <p:cNvPr id="628" name="Line 44"/>
                    <p:cNvSpPr/>
                    <p:nvPr/>
                  </p:nvSpPr>
                  <p:spPr>
                    <a:xfrm>
                      <a:off x="39866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Line 45"/>
                    <p:cNvSpPr/>
                    <p:nvPr/>
                  </p:nvSpPr>
                  <p:spPr>
                    <a:xfrm>
                      <a:off x="4213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Line 46"/>
                    <p:cNvSpPr/>
                    <p:nvPr/>
                  </p:nvSpPr>
                  <p:spPr>
                    <a:xfrm>
                      <a:off x="41000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1" name="Group 47"/>
                  <p:cNvGrpSpPr/>
                  <p:nvPr/>
                </p:nvGrpSpPr>
                <p:grpSpPr>
                  <a:xfrm>
                    <a:off x="3637800" y="5984280"/>
                    <a:ext cx="340560" cy="180360"/>
                    <a:chOff x="3637800" y="5984280"/>
                    <a:chExt cx="340560" cy="180360"/>
                  </a:xfrm>
                </p:grpSpPr>
                <p:sp>
                  <p:nvSpPr>
                    <p:cNvPr id="632" name="Line 48"/>
                    <p:cNvSpPr/>
                    <p:nvPr/>
                  </p:nvSpPr>
                  <p:spPr>
                    <a:xfrm>
                      <a:off x="3637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Line 49"/>
                    <p:cNvSpPr/>
                    <p:nvPr/>
                  </p:nvSpPr>
                  <p:spPr>
                    <a:xfrm>
                      <a:off x="38649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Line 50"/>
                    <p:cNvSpPr/>
                    <p:nvPr/>
                  </p:nvSpPr>
                  <p:spPr>
                    <a:xfrm>
                      <a:off x="37512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35" name="Group 51"/>
                <p:cNvGrpSpPr/>
                <p:nvPr/>
              </p:nvGrpSpPr>
              <p:grpSpPr>
                <a:xfrm>
                  <a:off x="1162080" y="5984280"/>
                  <a:ext cx="1037880" cy="180360"/>
                  <a:chOff x="1162080" y="5984280"/>
                  <a:chExt cx="1037880" cy="180360"/>
                </a:xfrm>
              </p:grpSpPr>
              <p:grpSp>
                <p:nvGrpSpPr>
                  <p:cNvPr id="636" name="Group 52"/>
                  <p:cNvGrpSpPr/>
                  <p:nvPr/>
                </p:nvGrpSpPr>
                <p:grpSpPr>
                  <a:xfrm>
                    <a:off x="1162080" y="5984280"/>
                    <a:ext cx="340560" cy="180360"/>
                    <a:chOff x="1162080" y="5984280"/>
                    <a:chExt cx="340560" cy="180360"/>
                  </a:xfrm>
                </p:grpSpPr>
                <p:sp>
                  <p:nvSpPr>
                    <p:cNvPr id="637" name="Line 53"/>
                    <p:cNvSpPr/>
                    <p:nvPr/>
                  </p:nvSpPr>
                  <p:spPr>
                    <a:xfrm>
                      <a:off x="11620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Line 54"/>
                    <p:cNvSpPr/>
                    <p:nvPr/>
                  </p:nvSpPr>
                  <p:spPr>
                    <a:xfrm>
                      <a:off x="13892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Line 55"/>
                    <p:cNvSpPr/>
                    <p:nvPr/>
                  </p:nvSpPr>
                  <p:spPr>
                    <a:xfrm>
                      <a:off x="12754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0" name="Group 56"/>
                  <p:cNvGrpSpPr/>
                  <p:nvPr/>
                </p:nvGrpSpPr>
                <p:grpSpPr>
                  <a:xfrm>
                    <a:off x="1859400" y="5984280"/>
                    <a:ext cx="340560" cy="180360"/>
                    <a:chOff x="1859400" y="5984280"/>
                    <a:chExt cx="340560" cy="180360"/>
                  </a:xfrm>
                </p:grpSpPr>
                <p:sp>
                  <p:nvSpPr>
                    <p:cNvPr id="641" name="Line 57"/>
                    <p:cNvSpPr/>
                    <p:nvPr/>
                  </p:nvSpPr>
                  <p:spPr>
                    <a:xfrm>
                      <a:off x="18594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Line 58"/>
                    <p:cNvSpPr/>
                    <p:nvPr/>
                  </p:nvSpPr>
                  <p:spPr>
                    <a:xfrm>
                      <a:off x="20865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Line 59"/>
                    <p:cNvSpPr/>
                    <p:nvPr/>
                  </p:nvSpPr>
                  <p:spPr>
                    <a:xfrm>
                      <a:off x="1972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4" name="Group 60"/>
                  <p:cNvGrpSpPr/>
                  <p:nvPr/>
                </p:nvGrpSpPr>
                <p:grpSpPr>
                  <a:xfrm>
                    <a:off x="1510560" y="5984280"/>
                    <a:ext cx="340560" cy="180360"/>
                    <a:chOff x="1510560" y="5984280"/>
                    <a:chExt cx="340560" cy="180360"/>
                  </a:xfrm>
                </p:grpSpPr>
                <p:sp>
                  <p:nvSpPr>
                    <p:cNvPr id="645" name="Line 61"/>
                    <p:cNvSpPr/>
                    <p:nvPr/>
                  </p:nvSpPr>
                  <p:spPr>
                    <a:xfrm>
                      <a:off x="15105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Line 62"/>
                    <p:cNvSpPr/>
                    <p:nvPr/>
                  </p:nvSpPr>
                  <p:spPr>
                    <a:xfrm>
                      <a:off x="17377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Line 63"/>
                    <p:cNvSpPr/>
                    <p:nvPr/>
                  </p:nvSpPr>
                  <p:spPr>
                    <a:xfrm>
                      <a:off x="16239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8" name="Line 67"/>
            <p:cNvSpPr/>
            <p:nvPr/>
          </p:nvSpPr>
          <p:spPr>
            <a:xfrm>
              <a:off x="1979640" y="5877000"/>
              <a:ext cx="504720" cy="792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8"/>
            <p:cNvSpPr/>
            <p:nvPr/>
          </p:nvSpPr>
          <p:spPr>
            <a:xfrm>
              <a:off x="5435640" y="3357720"/>
              <a:ext cx="0" cy="1008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Text Box 70"/>
          <p:cNvSpPr/>
          <p:nvPr/>
        </p:nvSpPr>
        <p:spPr>
          <a:xfrm>
            <a:off x="2052720" y="560556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2466000" y="484020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913640" y="28954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73"/>
          <p:cNvSpPr/>
          <p:nvPr/>
        </p:nvSpPr>
        <p:spPr>
          <a:xfrm>
            <a:off x="5435640" y="4292640"/>
            <a:ext cx="0" cy="201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74"/>
          <p:cNvSpPr/>
          <p:nvPr/>
        </p:nvSpPr>
        <p:spPr>
          <a:xfrm>
            <a:off x="2627280" y="544500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5078520" y="53784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76"/>
          <p:cNvSpPr/>
          <p:nvPr/>
        </p:nvSpPr>
        <p:spPr>
          <a:xfrm>
            <a:off x="5148360" y="5229360"/>
            <a:ext cx="287280" cy="215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2564280" y="640080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78"/>
          <p:cNvSpPr/>
          <p:nvPr/>
        </p:nvSpPr>
        <p:spPr>
          <a:xfrm>
            <a:off x="5588640" y="41497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9"/>
          <p:cNvSpPr/>
          <p:nvPr/>
        </p:nvSpPr>
        <p:spPr>
          <a:xfrm>
            <a:off x="0" y="293400"/>
            <a:ext cx="9144000" cy="1556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如图所示，用撬棒撬石头，手握在撬棒的末端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端，其中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AO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米，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米，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OC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7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米，要撬起石头需要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牛的力，求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端要用多少向下的力才能撬起石头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15"/>
          <p:cNvGrpSpPr/>
          <p:nvPr/>
        </p:nvGrpSpPr>
        <p:grpSpPr>
          <a:xfrm>
            <a:off x="1690560" y="2637000"/>
            <a:ext cx="5905800" cy="3771720"/>
            <a:chOff x="1690560" y="2637000"/>
            <a:chExt cx="5905800" cy="3771720"/>
          </a:xfrm>
        </p:grpSpPr>
        <p:pic>
          <p:nvPicPr>
            <p:cNvPr id="661" name="Picture 14" descr=""/>
            <p:cNvPicPr/>
            <p:nvPr/>
          </p:nvPicPr>
          <p:blipFill>
            <a:blip r:embed="rId1"/>
            <a:stretch/>
          </p:blipFill>
          <p:spPr>
            <a:xfrm>
              <a:off x="1690560" y="2637000"/>
              <a:ext cx="5905800" cy="37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2" name="Group 4"/>
            <p:cNvGrpSpPr/>
            <p:nvPr/>
          </p:nvGrpSpPr>
          <p:grpSpPr>
            <a:xfrm>
              <a:off x="5705640" y="3213000"/>
              <a:ext cx="666720" cy="1657080"/>
              <a:chOff x="5705640" y="3213000"/>
              <a:chExt cx="666720" cy="1657080"/>
            </a:xfrm>
          </p:grpSpPr>
          <p:pic>
            <p:nvPicPr>
              <p:cNvPr id="663" name="Picture 5" descr="5"/>
              <p:cNvPicPr/>
              <p:nvPr/>
            </p:nvPicPr>
            <p:blipFill>
              <a:blip r:embed="rId2"/>
              <a:stretch/>
            </p:blipFill>
            <p:spPr>
              <a:xfrm>
                <a:off x="5715360" y="3213000"/>
                <a:ext cx="6570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Picture 6" descr="5"/>
              <p:cNvPicPr/>
              <p:nvPr/>
            </p:nvPicPr>
            <p:blipFill>
              <a:blip r:embed="rId3"/>
              <a:stretch/>
            </p:blipFill>
            <p:spPr>
              <a:xfrm>
                <a:off x="5705640" y="3974760"/>
                <a:ext cx="657360" cy="895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Group 7"/>
            <p:cNvGrpSpPr/>
            <p:nvPr/>
          </p:nvGrpSpPr>
          <p:grpSpPr>
            <a:xfrm>
              <a:off x="3348000" y="3213000"/>
              <a:ext cx="657000" cy="2228760"/>
              <a:chOff x="3348000" y="3213000"/>
              <a:chExt cx="657000" cy="2228760"/>
            </a:xfrm>
          </p:grpSpPr>
          <p:pic>
            <p:nvPicPr>
              <p:cNvPr id="666" name="Picture 8" descr="4"/>
              <p:cNvPicPr/>
              <p:nvPr/>
            </p:nvPicPr>
            <p:blipFill>
              <a:blip r:embed="rId4"/>
              <a:stretch/>
            </p:blipFill>
            <p:spPr>
              <a:xfrm>
                <a:off x="3385800" y="3213000"/>
                <a:ext cx="55260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Picture 9" descr="5"/>
              <p:cNvPicPr/>
              <p:nvPr/>
            </p:nvPicPr>
            <p:blipFill>
              <a:blip r:embed="rId5"/>
              <a:stretch/>
            </p:blipFill>
            <p:spPr>
              <a:xfrm>
                <a:off x="3348000" y="4546440"/>
                <a:ext cx="657000" cy="89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8" name="Text Box 10"/>
          <p:cNvSpPr/>
          <p:nvPr/>
        </p:nvSpPr>
        <p:spPr>
          <a:xfrm>
            <a:off x="68400" y="833400"/>
            <a:ext cx="69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条件：杠杆已平衡（如图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1"/>
          <p:cNvSpPr/>
          <p:nvPr/>
        </p:nvSpPr>
        <p:spPr>
          <a:xfrm>
            <a:off x="-36360" y="1569960"/>
            <a:ext cx="99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两端去掉相同质量的钩码，杠杆平衡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将两端钩码向支点移同样的距离，杠杆平衡吗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WordArt 12"/>
          <p:cNvSpPr txBox="1"/>
          <p:nvPr/>
        </p:nvSpPr>
        <p:spPr>
          <a:xfrm>
            <a:off x="539640" y="3933720"/>
            <a:ext cx="13716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做一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71" name="Rectangle 13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问题探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3"/>
          <p:cNvGrpSpPr/>
          <p:nvPr/>
        </p:nvGrpSpPr>
        <p:grpSpPr>
          <a:xfrm>
            <a:off x="5362560" y="2762280"/>
            <a:ext cx="657000" cy="2228760"/>
            <a:chOff x="5362560" y="2762280"/>
            <a:chExt cx="657000" cy="2228760"/>
          </a:xfrm>
        </p:grpSpPr>
        <p:pic>
          <p:nvPicPr>
            <p:cNvPr id="674" name="Picture 4" descr="4"/>
            <p:cNvPicPr/>
            <p:nvPr/>
          </p:nvPicPr>
          <p:blipFill>
            <a:blip r:embed="rId2"/>
            <a:stretch/>
          </p:blipFill>
          <p:spPr>
            <a:xfrm>
              <a:off x="5400360" y="2762280"/>
              <a:ext cx="552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5" descr="5"/>
            <p:cNvPicPr/>
            <p:nvPr/>
          </p:nvPicPr>
          <p:blipFill>
            <a:blip r:embed="rId3"/>
            <a:stretch/>
          </p:blipFill>
          <p:spPr>
            <a:xfrm>
              <a:off x="5362560" y="4095720"/>
              <a:ext cx="65700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6" name="Picture 6" descr="瘫"/>
          <p:cNvPicPr/>
          <p:nvPr/>
        </p:nvPicPr>
        <p:blipFill>
          <a:blip r:embed="rId4"/>
          <a:stretch/>
        </p:blipFill>
        <p:spPr>
          <a:xfrm>
            <a:off x="7924680" y="2971800"/>
            <a:ext cx="766800" cy="343836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7"/>
          <p:cNvSpPr/>
          <p:nvPr/>
        </p:nvSpPr>
        <p:spPr>
          <a:xfrm>
            <a:off x="-88560" y="549360"/>
            <a:ext cx="11552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如何用弹簧秤将右边杠杆调平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WordArt 8"/>
          <p:cNvSpPr txBox="1"/>
          <p:nvPr/>
        </p:nvSpPr>
        <p:spPr>
          <a:xfrm>
            <a:off x="1905120" y="0"/>
            <a:ext cx="16761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679" name="Group 9"/>
          <p:cNvGrpSpPr/>
          <p:nvPr/>
        </p:nvGrpSpPr>
        <p:grpSpPr>
          <a:xfrm>
            <a:off x="6019920" y="-485640"/>
            <a:ext cx="919080" cy="3438360"/>
            <a:chOff x="6019920" y="-485640"/>
            <a:chExt cx="919080" cy="3438360"/>
          </a:xfrm>
        </p:grpSpPr>
        <p:pic>
          <p:nvPicPr>
            <p:cNvPr id="680" name="Picture 10" descr="瘫"/>
            <p:cNvPicPr/>
            <p:nvPr/>
          </p:nvPicPr>
          <p:blipFill>
            <a:blip r:embed="rId5"/>
            <a:stretch/>
          </p:blipFill>
          <p:spPr>
            <a:xfrm>
              <a:off x="6172200" y="-485640"/>
              <a:ext cx="7668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Rectangle 11"/>
            <p:cNvSpPr/>
            <p:nvPr/>
          </p:nvSpPr>
          <p:spPr>
            <a:xfrm>
              <a:off x="6114960" y="2514600"/>
              <a:ext cx="666720" cy="266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>
              <a:off x="6172200" y="24764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>
              <a:off x="6019920" y="2743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4"/>
          <p:cNvGrpSpPr/>
          <p:nvPr/>
        </p:nvGrpSpPr>
        <p:grpSpPr>
          <a:xfrm>
            <a:off x="2362320" y="2666880"/>
            <a:ext cx="838080" cy="3738600"/>
            <a:chOff x="2362320" y="2666880"/>
            <a:chExt cx="838080" cy="3738600"/>
          </a:xfrm>
        </p:grpSpPr>
        <p:pic>
          <p:nvPicPr>
            <p:cNvPr id="685" name="Picture 15" descr="瘫"/>
            <p:cNvPicPr/>
            <p:nvPr/>
          </p:nvPicPr>
          <p:blipFill>
            <a:blip r:embed="rId6"/>
            <a:stretch/>
          </p:blipFill>
          <p:spPr>
            <a:xfrm>
              <a:off x="2362320" y="2666880"/>
              <a:ext cx="8334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Line 16"/>
            <p:cNvSpPr/>
            <p:nvPr/>
          </p:nvSpPr>
          <p:spPr>
            <a:xfrm>
              <a:off x="2362320" y="27432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3"/>
          <p:cNvGrpSpPr/>
          <p:nvPr/>
        </p:nvGrpSpPr>
        <p:grpSpPr>
          <a:xfrm>
            <a:off x="5362560" y="2762280"/>
            <a:ext cx="657000" cy="2228760"/>
            <a:chOff x="5362560" y="2762280"/>
            <a:chExt cx="657000" cy="2228760"/>
          </a:xfrm>
        </p:grpSpPr>
        <p:pic>
          <p:nvPicPr>
            <p:cNvPr id="689" name="Picture 4" descr="4"/>
            <p:cNvPicPr/>
            <p:nvPr/>
          </p:nvPicPr>
          <p:blipFill>
            <a:blip r:embed="rId2"/>
            <a:stretch/>
          </p:blipFill>
          <p:spPr>
            <a:xfrm>
              <a:off x="5400360" y="2762280"/>
              <a:ext cx="552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5" descr="5"/>
            <p:cNvPicPr/>
            <p:nvPr/>
          </p:nvPicPr>
          <p:blipFill>
            <a:blip r:embed="rId3"/>
            <a:stretch/>
          </p:blipFill>
          <p:spPr>
            <a:xfrm>
              <a:off x="5362560" y="4095720"/>
              <a:ext cx="65700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Line 6"/>
          <p:cNvSpPr/>
          <p:nvPr/>
        </p:nvSpPr>
        <p:spPr>
          <a:xfrm flipV="1">
            <a:off x="6781680" y="1066680"/>
            <a:ext cx="129564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7"/>
          <p:cNvSpPr/>
          <p:nvPr/>
        </p:nvSpPr>
        <p:spPr>
          <a:xfrm flipV="1">
            <a:off x="6781680" y="83772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8"/>
          <p:cNvSpPr/>
          <p:nvPr/>
        </p:nvSpPr>
        <p:spPr>
          <a:xfrm>
            <a:off x="6781680" y="2590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9"/>
          <p:cNvSpPr/>
          <p:nvPr/>
        </p:nvSpPr>
        <p:spPr>
          <a:xfrm flipH="1" flipV="1">
            <a:off x="5943600" y="12949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8002440" y="533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6478560" y="30492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7926120" y="2743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3"/>
          <p:cNvSpPr/>
          <p:nvPr/>
        </p:nvSpPr>
        <p:spPr>
          <a:xfrm>
            <a:off x="5335560" y="1066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14" descr="瘫"/>
          <p:cNvPicPr/>
          <p:nvPr/>
        </p:nvPicPr>
        <p:blipFill>
          <a:blip r:embed="rId4"/>
          <a:stretch/>
        </p:blipFill>
        <p:spPr>
          <a:xfrm>
            <a:off x="380880" y="2209680"/>
            <a:ext cx="766800" cy="3438720"/>
          </a:xfrm>
          <a:prstGeom prst="rect">
            <a:avLst/>
          </a:prstGeom>
          <a:ln w="0">
            <a:noFill/>
          </a:ln>
        </p:spPr>
      </p:pic>
      <p:sp>
        <p:nvSpPr>
          <p:cNvPr id="700" name="WordArt 15"/>
          <p:cNvSpPr txBox="1"/>
          <p:nvPr/>
        </p:nvSpPr>
        <p:spPr>
          <a:xfrm>
            <a:off x="1066680" y="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哪个方向更省力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1" name="WordArt 16"/>
          <p:cNvSpPr txBox="1"/>
          <p:nvPr/>
        </p:nvSpPr>
        <p:spPr>
          <a:xfrm>
            <a:off x="7391520" y="545796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拉一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4"/>
          <p:cNvSpPr/>
          <p:nvPr/>
        </p:nvSpPr>
        <p:spPr>
          <a:xfrm>
            <a:off x="0" y="0"/>
            <a:ext cx="61722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   思考与讨论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468360" y="1341360"/>
            <a:ext cx="7343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说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小称砣能压千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道理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468360" y="21463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拧松生锈的螺帽要用一段水管套在板手柄上的道理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8" descr="PE01561_"/>
          <p:cNvPicPr/>
          <p:nvPr/>
        </p:nvPicPr>
        <p:blipFill>
          <a:blip r:embed="rId1"/>
          <a:stretch/>
        </p:blipFill>
        <p:spPr>
          <a:xfrm>
            <a:off x="4356000" y="3500280"/>
            <a:ext cx="45831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0" y="0"/>
            <a:ext cx="6300720" cy="58140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给下列杠杆分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Image1902"/>
          <p:cNvPicPr/>
          <p:nvPr/>
        </p:nvPicPr>
        <p:blipFill>
          <a:blip r:embed="rId1"/>
          <a:stretch/>
        </p:blipFill>
        <p:spPr>
          <a:xfrm>
            <a:off x="0" y="549360"/>
            <a:ext cx="3995640" cy="31352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Image1893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45086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14t102"/>
          <p:cNvPicPr/>
          <p:nvPr/>
        </p:nvPicPr>
        <p:blipFill>
          <a:blip r:embed="rId3"/>
          <a:stretch/>
        </p:blipFill>
        <p:spPr>
          <a:xfrm>
            <a:off x="0" y="3014640"/>
            <a:ext cx="3157560" cy="3843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0" descr=""/>
          <p:cNvPicPr/>
          <p:nvPr/>
        </p:nvPicPr>
        <p:blipFill>
          <a:blip r:embed="rId4"/>
          <a:stretch/>
        </p:blipFill>
        <p:spPr>
          <a:xfrm>
            <a:off x="3132000" y="3573360"/>
            <a:ext cx="2952720" cy="3240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1" descr="指甲刀"/>
          <p:cNvPicPr/>
          <p:nvPr/>
        </p:nvPicPr>
        <p:blipFill>
          <a:blip r:embed="rId5"/>
          <a:stretch/>
        </p:blipFill>
        <p:spPr>
          <a:xfrm>
            <a:off x="3995640" y="549360"/>
            <a:ext cx="2089080" cy="3024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2" descr=""/>
          <p:cNvPicPr/>
          <p:nvPr/>
        </p:nvPicPr>
        <p:blipFill>
          <a:blip r:embed="rId6"/>
          <a:stretch/>
        </p:blipFill>
        <p:spPr>
          <a:xfrm>
            <a:off x="608472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2"/>
          <p:cNvSpPr txBox="1"/>
          <p:nvPr/>
        </p:nvSpPr>
        <p:spPr>
          <a:xfrm>
            <a:off x="611280" y="33336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方案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611280" y="1397160"/>
          <a:ext cx="7921440" cy="4371840"/>
        </p:xfrm>
        <a:graphic>
          <a:graphicData uri="http://schemas.openxmlformats.org/drawingml/2006/table">
            <a:tbl>
              <a:tblPr/>
              <a:tblGrid>
                <a:gridCol w="1944720"/>
                <a:gridCol w="3336840"/>
                <a:gridCol w="2639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杠杆实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力臂和阻力臂的关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省力还是费力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17"/>
          <p:cNvSpPr/>
          <p:nvPr/>
        </p:nvSpPr>
        <p:spPr>
          <a:xfrm>
            <a:off x="1476360" y="3141720"/>
            <a:ext cx="11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684360" y="256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铡 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3419640" y="249228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0"/>
          <p:cNvSpPr/>
          <p:nvPr/>
        </p:nvSpPr>
        <p:spPr>
          <a:xfrm>
            <a:off x="6516720" y="2565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1"/>
          <p:cNvSpPr/>
          <p:nvPr/>
        </p:nvSpPr>
        <p:spPr>
          <a:xfrm>
            <a:off x="684360" y="299736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羊角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2"/>
          <p:cNvSpPr/>
          <p:nvPr/>
        </p:nvSpPr>
        <p:spPr>
          <a:xfrm>
            <a:off x="3419640" y="299736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6516720" y="3068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4"/>
          <p:cNvSpPr/>
          <p:nvPr/>
        </p:nvSpPr>
        <p:spPr>
          <a:xfrm>
            <a:off x="684360" y="35002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5"/>
          <p:cNvSpPr/>
          <p:nvPr/>
        </p:nvSpPr>
        <p:spPr>
          <a:xfrm>
            <a:off x="6516720" y="3573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6"/>
          <p:cNvSpPr/>
          <p:nvPr/>
        </p:nvSpPr>
        <p:spPr>
          <a:xfrm>
            <a:off x="3348000" y="350028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7"/>
          <p:cNvSpPr/>
          <p:nvPr/>
        </p:nvSpPr>
        <p:spPr>
          <a:xfrm>
            <a:off x="684360" y="400536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钓鱼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8"/>
          <p:cNvSpPr/>
          <p:nvPr/>
        </p:nvSpPr>
        <p:spPr>
          <a:xfrm>
            <a:off x="6516720" y="4076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755640" y="4508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3348000" y="400536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3348000" y="450864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6300720" y="4581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省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不费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755640" y="189000"/>
            <a:ext cx="31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等臂杠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ShockwaveFlash1"/>
          <p:cNvGraphicFramePr/>
          <p:nvPr/>
        </p:nvGraphicFramePr>
        <p:xfrm>
          <a:off x="0" y="1125360"/>
          <a:ext cx="7380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7380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3:30:17Z</dcterms:created>
  <dc:creator/>
  <dc:description/>
  <dc:language>en-US</dc:language>
  <cp:lastModifiedBy>a</cp:lastModifiedBy>
  <dcterms:modified xsi:type="dcterms:W3CDTF">2015-03-17T05:58:55Z</dcterms:modified>
  <cp:revision>82</cp:revision>
  <dc:subject/>
  <dc:title>幻灯片 1</dc:title>
</cp:coreProperties>
</file>