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7A75-1F1C-4DBD-B436-F921108C3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3E06-F84D-4B05-B40B-E537AF7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AD8BD-897A-4258-8C44-324B21E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E850F-5808-4D34-A64C-F3F1EA5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15D05-1DC8-41F1-A35E-E726746A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B9D07-7B14-47E3-AFDE-D776CEA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C2E3B-09AA-43F6-87C9-E006143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66226-29F2-470B-8052-BD96E15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470D2-81FF-45C2-9E14-BC4500D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47A32-1976-4D35-9B2D-FFE50E8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66894-C28B-4A45-B189-8AEBBD72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8ACD5-E604-444B-9688-BE3F9DFE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E24B-CEE1-43F3-A9F0-0E4FC63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1EB5B-1E7B-45F8-9638-11986D1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831F7-E751-463E-AB0E-1BD3D98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871960-E1BB-4ED6-8536-24F2B0B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5FFDED-7725-4A83-99E2-B59137D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4B8E7-2DA3-4D21-8587-7869CFD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0C8D0-B6E8-414F-9381-A4E6651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360794-834A-46BD-AA46-09ABD099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62299-D0F2-482D-9CFE-BC3C21DF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1F4485-2065-4C9B-97EB-3BA0DFB4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42B598-0AE7-4EAC-B95D-BF021FAC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596A-9AB1-4E86-8AF1-1B757120C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2A84AB-D9A0-4B17-8D3D-0261DBE1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D8713-D669-4F75-AEBB-7B1C2159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C98FBD-3EB1-4783-B4E4-1BB6D1C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8A7555-5199-405B-8EA3-D4504F6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BBA0B-6969-4A78-89FB-8F9EA21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38B77E-3214-45AC-A849-1FDF591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E3CC64-E9C4-45B9-B345-A060660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E3E291-8342-4FAC-B692-EDE4AC1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E1B05F-8907-462F-B2E6-9AE1916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EE41D5-2974-43DC-B6CB-D8ACAD2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35D8-6776-4B4E-93C8-50E9E48E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EFF80-F4A2-4A40-8876-216FA193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2D78AA-CB58-424E-A8D4-B466D5A0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7CC616-E1D7-491F-9794-B70001DD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00AF35-D443-4402-A003-BBB2D10F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CAC7FB-7AE7-4C26-999F-10DD350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7C666E-358C-45FB-A5B8-81C607B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E60BAF-F8B2-4FD6-9020-28FDEB5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2AB7FB-FAE5-4D5B-98C7-83124CA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187134-EA31-480B-8CA8-D7DD02C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C9D432-8959-4F38-8460-9B36F9D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0D319-CFAF-4E82-8862-75B5448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2275C8-F8BE-4B2F-9EF9-6ED2BE7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407B96-0584-4979-8683-08AEA4F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E401C6-8360-48D7-9613-4ECC24D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7689AE-8789-406D-B1F4-DB6B4CEE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0DA482-682F-42C2-AD81-FD0A1AD8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85A9EE-1B53-490F-9D1E-35D8DCA4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F2FAFE-0F2C-4858-B057-1AB5344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3A1999-78D5-453D-AA12-40CBF11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2C3F18-125C-4DA4-A217-3A90A9E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D800B-6FF4-42F9-A259-7E14C93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D066-3401-4A4B-9415-8550135A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4DEA4B-D641-4520-85D3-AF3CBA56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600EA-8CA7-48A0-9E7C-6BDBE9F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0BCC67-5097-46AD-9884-A6D0CFA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0A6A2A-D59A-47C9-9F58-F1AAB91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4F69E7-D57E-4E16-9FD6-B223DD7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DD509E-575E-437A-BA1C-C2310758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C54988-E657-4D7B-8AC9-2DAD177E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6C56E1-E67B-4EBA-A1E8-5F94E0B5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C8086F-0C62-429E-AD59-77CA83E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6F67CD-CF4C-4701-97A2-8828698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C5B78-3D4A-4C74-850A-C7FB64D6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4FE446-76DF-4DC0-8889-17C3D0D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4AB5F4-7D8B-4D7A-8599-E1CE7A5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A8358C-A40A-4833-AB4C-4C2D774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EF9863-B7D2-4AC7-8F29-007626A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A7C337-67E6-4AE1-95FC-4CA17DB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6F8E72-C573-4DDF-B4CD-C3D3049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F6DB92-B3C6-456F-AA0B-B35EACC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1C08A4-4B3E-4BDD-94B9-9F33CE74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8F3CFE-0877-4D84-8A84-2EDFBDFE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41A76F-F61C-4834-8CB3-ED308982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0D0E-4164-4810-9712-EA5D0D9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1169B7-115C-4D87-A959-E9C146E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598077-507E-41BD-8D0E-C5DF7F4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BEED8B-0682-4654-ABC1-77152A39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0CAC07-F98A-4686-9CBC-F332208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BFEDA9-48F0-474E-B3B3-35FF8FFE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AA0CF3-A6E1-4C2B-A840-221ADBF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CC89CF-EF9B-4C26-B4B2-C17A3B6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725F39-1486-4FF1-B328-7F4425A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5FC1A0-653B-4308-9781-65056B9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74C48E-3C80-45C0-8A9F-54755362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727B1-D4ED-4CA8-9B52-38B524AE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EFFB38-7D50-46BE-840A-D69CE57C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189BDF-04BC-40AE-A4F1-48C57DBB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57D005-18AE-43F2-96CB-77EAE95E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EF78B5-A6EA-47A3-94DD-DFBCA11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01CCEF-F7CF-4575-9783-F915D7C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15FFF5-42AF-41EB-BC8F-AB066AB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E3EE08-1734-43A8-B9F5-33D86070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4E277E-0408-4A71-AD26-478B8DC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7C0B36-E248-4147-9F92-667C40C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44C3E8-B3CD-40B2-BAE5-1B08FE0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81430-FE73-455B-886C-4C3DE36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80E710-6947-45DF-BE12-6D73FF9F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043A67-E45F-4321-8AB6-7C599CDE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DD566E-CC7D-4A4A-9891-38E0FC2F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B5F81E-CC9B-41F8-A100-BEC5B8A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4F1CE8-B59A-48BE-BF59-04256FEE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0C798E-B21E-40B4-A0EC-8492B22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E00C43-4FC4-46B0-8567-38D0969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959181-013F-4FAF-B0FD-181CA49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4697BF-F25D-4AEF-9AA8-41CB19B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CC79EC-4659-4625-B596-45E8E67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5586-B4FC-4088-A45B-08ECB18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E716-DAB5-4D89-B51F-169C0828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797E7D-F211-4D71-89A7-0D5BAB7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E646DA-D842-4695-90F6-5551EA5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D66E01-7344-4BCC-93FA-A429B1CE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1C6128-CE98-4C42-A442-05E6457A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A06293-789B-4846-9DD5-317617AD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F85143-9FED-484C-9B28-7C7BC003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5D0C72-6F65-49D8-A4EB-E54CD72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810424-9F84-481D-9605-0983488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4642F4-710F-4E3E-A67F-CBCD7490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F778AC-5E7F-4FAF-88B3-8EBA60C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536C-B677-49A8-9B7E-E396688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D4DBE3-52E6-4AB5-9B37-78289957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90D399-E074-4080-B105-CCA0293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02D85E-88B6-4F1C-980F-C8EBCA0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C7D62F-3DD2-425F-A6EC-8B60F87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4C39E8-925A-4698-8471-5D5CC3D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5DF5D8-C8F6-42D8-AE01-F35CBBB4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A7E278-2BEE-4E74-9570-2CBE13F0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C2B278-2C32-4660-AA3D-5EF541DA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9569D8-7E4B-47A9-9C95-0A4BF94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106B08-C1F5-4C9D-BECE-00C87AC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2495-EDB2-4152-98FA-D41A18BD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6E942F-4698-45C6-909E-7AC9906B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353074-69DC-486B-978F-3DFA489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D56202-8BAF-4C97-9A2E-A9137FA7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3B9799-77CF-491F-9E4E-2553E59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154314-017C-474E-A870-A14E0B3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787416-1303-4BC1-90B1-C293B89D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23BFF5-56B7-4E28-ACCB-1BCA51F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65E490-A556-49F8-A607-570F6293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A8642A-F677-4C81-99CF-05A158E7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A28B62-322F-4827-A7A9-063D2B0A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FDDF0-8295-4604-9ED6-92152371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948A78-3AD8-408C-B3CE-C943CE0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FE55F2-586C-470C-ABA4-096137F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A3C7F2-6ECA-4228-B624-4869F3E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04F0DA-7B35-4E81-9BD4-162BEED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56C43A-FAF2-4379-ADBB-E7C4ADB7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B8A986-0190-4A14-9A11-3BD63B85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9F3DB3-E38F-432E-884F-117F351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C1755A-BFF8-4FD0-B5D8-37533D2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F9A5DA-55A6-4F55-8316-7FF771F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DD6CD76-37CD-48C1-A6A3-A19CD95D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7773E-080D-46AB-B41E-6E19F759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F7F181-840A-4CF2-B57B-FDB5525D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06EB9D-6392-4A59-B7B7-68E6C8D6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CAB549-8103-49D5-8A55-8863809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6B9C7C-4CB0-45C6-B088-1B75AA0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5352F2-B913-4BCB-9EF9-612582B8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82E4A7-4D1E-424E-9792-7C233D8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DE25E6-61A1-44E9-91E8-79454FB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E6EEC1-8D9D-4D55-8BB4-9F3F9C9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716BEA-A8CA-4BD0-8FF7-2ACA025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2D5794-5DFF-475A-AA27-D41A84B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1D8B6-372F-4F69-9B4B-A855DDC6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74EE0D-5D5D-4A97-BAF5-11BC435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049D31-2EEE-41EB-B13C-9008DC7D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E58F72-380C-46B6-A3FE-979ECA48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FA2112-F4B3-4A10-B357-58D5325B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A6CEE0-5B66-4356-9AAA-F3EC30B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69D366-D9F1-48FD-AB69-C84E793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92B571-60FD-4FC6-AA30-03AE059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D0AC60-A2A6-4341-B0CC-00AF3C63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6F53FA-0788-4106-8A55-D3A157E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84901D-0C1F-48CD-94E7-ABC52AF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FCB0C-92AB-4BFB-8D61-F53B5BC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C0609D-D0CD-43B0-82C4-59528C5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643045-8B0A-49FF-BE86-7A47016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3FBC34-FF49-4272-BDAA-CFB6892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A4D5B9-FF83-43FD-B316-30483F12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8787FC-1EF0-4133-BD22-DB802C5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ED8A48-415E-4230-991B-15E930E3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C92781-FA92-498B-BB78-24BD1D18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2CA9E7-C3E7-487F-AFA4-0753094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7FD87C-88F3-41DF-8C53-ADFB733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1CE5DB-0027-45D4-8693-3E53ADC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2B446-5C12-4E2F-8E52-06A9973A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05EE87-40CA-4A51-932B-80872EE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3419BB-0B03-4439-A450-F401E0A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9B7EF4-696A-4515-B6A6-411895E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BBB91C-F903-4973-A94B-C324636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8D088F-823B-4985-BF90-95B5B2C1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566D22-1FA1-4CCA-A13D-427882C2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9623F8-5EBF-4933-9135-587578A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544320-480E-474E-8332-86950ED2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B22167-3947-4973-9052-1B419DC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27B6B3-44B1-41B6-8468-5B5F512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77924-4BC9-4E48-AF81-8CD9BEF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EEF7AF-168A-4F43-8FEA-CF09A8C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1B9543-F214-4BC0-87F0-2ED38F39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093EA7-3112-446D-BBE2-35F608D2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E890F3-B45D-40FC-A02A-AA5CC6E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528BD87-A0A1-469D-89D0-A97EEC9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8DE5C0-7840-452A-9CAE-5B0D623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802D79-4FD6-485E-993E-6D039E6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7E6EF4-C36E-4321-9445-B9F9A697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5D32AD-9B9E-458A-88A1-73ADE20F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E8F101-438F-45A6-BB8D-E87293EE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35EA4-9C43-4F5E-8D22-EA71CF16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C85A680-BBAC-46C1-BD6B-FDD0748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861F24-F596-436B-9B9A-77BE20E6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304A5B-C173-4447-84B1-ABFEA2E8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040377-0199-4F91-802A-9CBB4F4E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A831D9-59C6-4F3B-A454-66B80458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D5EEEB-C330-43DB-80F8-0D7F42D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4E2193-33E6-4818-8AB3-02CDBF1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569AEA6-032B-450C-AA8D-C254539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EE72AB-CE1D-40C3-9EBB-440972DF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1A2170-56AA-4C42-8F63-0AF63DB6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A633-702B-4FC2-A5EC-77E36D3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EFD50-9B44-4732-8D61-60CA3E9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7A88A7-CEBD-4161-A4CD-5E3AD4D0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9013C3-D4C1-4ABA-9D3E-392C1668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67187C-CA70-4865-80DF-0DED3956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7D0136-B04C-4F7F-BB46-D163936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FCD6FA-6315-497B-8CDF-F5BA5F3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02397F7-6173-4BF1-BB65-A030C91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DA5897D-4E82-4EF3-AC37-7E2207C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3FE140-70F9-43B1-A5CA-CEFF8EC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455085-DE65-44D8-8F6E-B153A1B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11ECF0-3227-4D5C-8A4A-D7CD194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37E68-91E7-4035-854B-5B66D7A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3CDA53-691B-4FB1-B7AA-71A94D7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3063C7-C651-4EB4-98DA-ED8B1AB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B6726D-E54D-468F-8B7F-C1E7AD7B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5EE82-53A7-4983-A56F-87F6566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93AA3-2855-48F8-91D6-9815E54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65B79-9F1C-4EBA-990F-DF0F164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48E26-8F88-4FCB-BEDA-4665A20F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2F36-646D-4695-B468-6A8A90D3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2BCF0-E79A-4DF7-ACB3-CD7935B8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4E4EC-BB5E-481C-8E52-017A5A3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F34EA-A378-4680-B7D1-C27411E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068F-DB27-4468-8CC3-B486605F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EF97D-0C5B-4081-B381-9EFAA9BC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E16A0-28F7-44F3-AD8C-C0D8588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B08B3-147B-4702-8ECA-FE89FD28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0D27F-7B89-4761-A6AC-71F4E7F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28D8A-C79C-45CA-8C97-2E098A1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E5A63-8BEB-40B2-B75C-82F3A4F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A64A5-0F2C-43FE-B0B5-D02759E4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4850A-1AB7-4821-9C32-3C84705D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89057-5B7A-420B-AC79-4099EDC8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867E1-1ECB-4CCE-8A0D-1E669B1C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816C-984B-4980-9C12-8E999F4B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24F85-B346-4DA1-A7CB-0E0B3F70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2787C-815C-4D22-9326-5104A27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40419-2529-448C-BC13-FBCA9EBA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E18AB-3EE2-47C2-B303-3A5E788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04D43-0DA1-4D27-9A72-DB5A128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AFC33-1CBD-4988-BD48-1276E1D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C52B2-022F-4C22-B4DF-2881669D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F75E4-2B61-4805-A3F2-63A6051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A89CA-7BEC-424C-B295-2F053BAD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2A8BA-2099-4248-9C2A-FA176792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2203-E7F7-4317-92FF-F8E058AE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C7EB5-520A-4BBA-9649-049A594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79762-8882-446A-A418-E385A286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8559A-0B9E-4BCC-9698-95C05B4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8FE5E-03CD-4866-9B68-2ED6724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4DDC1-FA67-49B3-86DD-1A79BC2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6EAE3-B692-4E98-B2F9-C9C376D5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166EA-105C-430A-B28F-D87452E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C6678-BB2E-44AC-9631-5D0FEBD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5BE72-579B-4805-BF08-3DD9E48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A283F-A3F8-4BD6-976F-08DC3DC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75A4-096E-42C0-B485-658B498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3FA8A-B1E7-4FD3-A497-34D0E11C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F5DF8-03C5-4D7D-BEC8-CD38CEFC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8B29C-BB7B-447D-916F-56904986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E48B3-EEFA-4F48-B5C1-AE57AB5E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4A5A9-2879-4C15-AD25-33EA1990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D5D5B-F87F-4956-A3C8-96333D34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7B678-4A30-461B-875D-8EA4D5A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71420-7AF4-4EDC-AB9C-32CFA3B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CB24D-9396-4957-9EA0-C498D6F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8FBE9-FD88-4CED-81D5-63E1D35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E515-4E09-4313-969D-93099A8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10298-C4B7-4617-B183-60CCAF9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077B0-AF0C-4A1C-8FC9-DB207B0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DB44B-2CAD-4C5F-9C93-C1F9DD94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F5AC4-CB5C-4273-BF18-94919FFA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7700D-DD2E-4145-8654-CCAC029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77788-A8E8-4DD2-A6AE-E47BD0D9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CD004-A8FB-4308-8E44-04ADA8F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2FC49-2EA5-4203-AC2C-7A0958A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E9222-93F9-4F52-A1BD-410C72F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B86C8-6B95-41A8-B350-9FE6632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67FD-CA7D-49F1-A761-3BD6A8C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45ADE-0710-4849-B611-8F04A04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A058C-1A37-4763-AF54-D7CE744A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3DD8B-C46F-4E7B-8B4F-9EE12743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39220-955E-45C4-AC60-7A9653A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39A3C-D547-48A9-86E7-B7EDE39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674AC-4F72-4D9D-8847-5FD22772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220EC-C09F-4D23-BA8F-5860D040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13789-F302-4D6D-877E-9E4F70E2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1E9D2-7C76-4FA4-8AA1-E62E5E8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A1356-DCCC-4389-AC97-DA2A0FC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4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65680" y="657828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aeaea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942-ADDA-4368-ABDF-CDDE50DE9D25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214"/>
          <p:cNvGrpSpPr/>
          <p:nvPr/>
        </p:nvGrpSpPr>
        <p:grpSpPr>
          <a:xfrm>
            <a:off x="0" y="0"/>
            <a:ext cx="8570520" cy="1031760"/>
            <a:chOff x="0" y="0"/>
            <a:chExt cx="8570520" cy="1031760"/>
          </a:xfrm>
        </p:grpSpPr>
        <p:sp>
          <p:nvSpPr>
            <p:cNvPr id="4" name="AutoShape 37"/>
            <p:cNvSpPr/>
            <p:nvPr/>
          </p:nvSpPr>
          <p:spPr>
            <a:xfrm>
              <a:off x="0" y="0"/>
              <a:ext cx="8560080" cy="1031760"/>
            </a:xfrm>
            <a:prstGeom prst="roundRect">
              <a:avLst>
                <a:gd name="adj" fmla="val 26273"/>
              </a:avLst>
            </a:prstGeom>
            <a:solidFill>
              <a:srgbClr val="36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38"/>
            <p:cNvSpPr/>
            <p:nvPr/>
          </p:nvSpPr>
          <p:spPr>
            <a:xfrm>
              <a:off x="10440" y="793800"/>
              <a:ext cx="8560080" cy="11412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36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0" y="905040"/>
            <a:ext cx="9144000" cy="55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410"/>
          <p:cNvGrpSpPr/>
          <p:nvPr/>
        </p:nvGrpSpPr>
        <p:grpSpPr>
          <a:xfrm>
            <a:off x="7772400" y="0"/>
            <a:ext cx="1244520" cy="1181160"/>
            <a:chOff x="7772400" y="0"/>
            <a:chExt cx="1244520" cy="1181160"/>
          </a:xfrm>
        </p:grpSpPr>
        <p:sp>
          <p:nvSpPr>
            <p:cNvPr id="9" name="Oval 296"/>
            <p:cNvSpPr/>
            <p:nvPr/>
          </p:nvSpPr>
          <p:spPr>
            <a:xfrm>
              <a:off x="7772400" y="0"/>
              <a:ext cx="1181160" cy="1181160"/>
            </a:xfrm>
            <a:prstGeom prst="ellipse">
              <a:avLst/>
            </a:prstGeom>
            <a:solidFill>
              <a:srgbClr val="34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297"/>
            <p:cNvSpPr/>
            <p:nvPr/>
          </p:nvSpPr>
          <p:spPr>
            <a:xfrm>
              <a:off x="7835760" y="0"/>
              <a:ext cx="1181160" cy="11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438"/>
          <p:cNvGrpSpPr/>
          <p:nvPr/>
        </p:nvGrpSpPr>
        <p:grpSpPr>
          <a:xfrm>
            <a:off x="8026200" y="115920"/>
            <a:ext cx="977040" cy="872280"/>
            <a:chOff x="8026200" y="115920"/>
            <a:chExt cx="977040" cy="872280"/>
          </a:xfrm>
        </p:grpSpPr>
        <p:grpSp>
          <p:nvGrpSpPr>
            <p:cNvPr id="12" name="Group 417"/>
            <p:cNvGrpSpPr/>
            <p:nvPr/>
          </p:nvGrpSpPr>
          <p:grpSpPr>
            <a:xfrm>
              <a:off x="8026200" y="491040"/>
              <a:ext cx="495000" cy="497160"/>
              <a:chOff x="8026200" y="491040"/>
              <a:chExt cx="495000" cy="497160"/>
            </a:xfrm>
          </p:grpSpPr>
          <p:sp>
            <p:nvSpPr>
              <p:cNvPr id="13" name="AutoShape 418"/>
              <p:cNvSpPr/>
              <p:nvPr/>
            </p:nvSpPr>
            <p:spPr>
              <a:xfrm flipH="1">
                <a:off x="8025840" y="491040"/>
                <a:ext cx="495000" cy="247680"/>
              </a:xfrm>
              <a:prstGeom prst="diamond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419"/>
              <p:cNvSpPr/>
              <p:nvPr/>
            </p:nvSpPr>
            <p:spPr>
              <a:xfrm flipH="1">
                <a:off x="8273160" y="61164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420"/>
              <p:cNvSpPr/>
              <p:nvPr/>
            </p:nvSpPr>
            <p:spPr>
              <a:xfrm>
                <a:off x="8027640" y="61272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421"/>
            <p:cNvGrpSpPr/>
            <p:nvPr/>
          </p:nvGrpSpPr>
          <p:grpSpPr>
            <a:xfrm>
              <a:off x="8510400" y="494280"/>
              <a:ext cx="492840" cy="493920"/>
              <a:chOff x="8510400" y="494280"/>
              <a:chExt cx="492840" cy="493920"/>
            </a:xfrm>
          </p:grpSpPr>
          <p:sp>
            <p:nvSpPr>
              <p:cNvPr id="17" name="AutoShape 422"/>
              <p:cNvSpPr/>
              <p:nvPr/>
            </p:nvSpPr>
            <p:spPr>
              <a:xfrm flipH="1">
                <a:off x="8510040" y="494280"/>
                <a:ext cx="492840" cy="24588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423"/>
              <p:cNvSpPr/>
              <p:nvPr/>
            </p:nvSpPr>
            <p:spPr>
              <a:xfrm flipH="1">
                <a:off x="8756280" y="614880"/>
                <a:ext cx="246600" cy="371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424"/>
              <p:cNvSpPr/>
              <p:nvPr/>
            </p:nvSpPr>
            <p:spPr>
              <a:xfrm>
                <a:off x="8512200" y="614880"/>
                <a:ext cx="246600" cy="373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Group 412"/>
            <p:cNvGrpSpPr/>
            <p:nvPr/>
          </p:nvGrpSpPr>
          <p:grpSpPr>
            <a:xfrm>
              <a:off x="8260200" y="115920"/>
              <a:ext cx="494640" cy="493560"/>
              <a:chOff x="8260200" y="115920"/>
              <a:chExt cx="494640" cy="493560"/>
            </a:xfrm>
          </p:grpSpPr>
          <p:sp>
            <p:nvSpPr>
              <p:cNvPr id="21" name="AutoShape 413"/>
              <p:cNvSpPr/>
              <p:nvPr/>
            </p:nvSpPr>
            <p:spPr>
              <a:xfrm flipH="1">
                <a:off x="8259840" y="115920"/>
                <a:ext cx="494280" cy="24552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Freeform 414"/>
              <p:cNvSpPr/>
              <p:nvPr/>
            </p:nvSpPr>
            <p:spPr>
              <a:xfrm flipH="1">
                <a:off x="8508600" y="236880"/>
                <a:ext cx="246240" cy="37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415"/>
              <p:cNvSpPr/>
              <p:nvPr/>
            </p:nvSpPr>
            <p:spPr>
              <a:xfrm>
                <a:off x="8262000" y="236880"/>
                <a:ext cx="246240" cy="372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DD5-5A42-4AC0-B4C7-729668DBF35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9AD-B9CB-4264-ABD4-4162EF571B8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A57-FCB7-4B98-ADD3-1F2801EC0D4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C254-3215-4B19-A443-567B39B785C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6BC-461D-4BDC-BA1B-CE34D9E6336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60C-8DAC-4DEF-AB1C-10B75208722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85FD-FE67-482C-B751-0598FC75A56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EEAA-9F7B-4434-888B-D297492109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90B1-A1B5-4191-A4A0-E0BB9ACD059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3F20-CDE4-4EA9-96D5-5E038D0CE7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27E-02B1-42BD-A40C-F999598C4E8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6915-E346-4E55-A3F5-4B5CCD2492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135D-1486-4AB9-BBE6-8537AFA9679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CC9-8570-4279-AD08-97A9DF52FA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0EC-BF56-4AB3-A073-C0C7E8642A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8AA-78C8-4C1A-A7AB-1AA2F30D4BB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630B-DA8A-4D2A-B340-C5E08DF069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BC7-8818-40C6-936F-8F33D1C6FD3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E1C-3A02-4DB2-A8D7-BDB34C0369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3B1-CB96-450F-A075-6BB5B49AA52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57D7-1C61-4049-8DCC-5CA0C74B52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993D-2440-466B-B8A5-23C42F26A86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A6DA-9EBF-4B2E-8337-DA43996331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56D-2692-4528-A8CE-8124341D579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6C32-D937-464A-9B06-9466A30C9F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40D-6894-40B5-B70C-9D9A4C498B8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2537-8DFD-4365-8931-55359F0DA8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94F-A21E-47DD-A5CF-B4FDEA94200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76CD-A696-415D-B5E0-909271C146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5174-6E16-4692-887B-45B4D55BDC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D6B-6ACC-4EAD-BF1B-A082799C41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25"/>
          <p:cNvSpPr/>
          <p:nvPr/>
        </p:nvSpPr>
        <p:spPr>
          <a:xfrm>
            <a:off x="6029280" y="1125360"/>
            <a:ext cx="20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9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533520"/>
            <a:ext cx="9144000" cy="6057720"/>
          </a:xfrm>
          <a:prstGeom prst="rect">
            <a:avLst/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0"/>
          <p:cNvGrpSpPr/>
          <p:nvPr/>
        </p:nvGrpSpPr>
        <p:grpSpPr>
          <a:xfrm>
            <a:off x="6463800" y="4392720"/>
            <a:ext cx="2371320" cy="2375280"/>
            <a:chOff x="6463800" y="4392720"/>
            <a:chExt cx="2371320" cy="2375280"/>
          </a:xfrm>
        </p:grpSpPr>
        <p:grpSp>
          <p:nvGrpSpPr>
            <p:cNvPr id="147" name="Group 101"/>
            <p:cNvGrpSpPr/>
            <p:nvPr/>
          </p:nvGrpSpPr>
          <p:grpSpPr>
            <a:xfrm>
              <a:off x="7334640" y="4392720"/>
              <a:ext cx="1492920" cy="1927080"/>
              <a:chOff x="7334640" y="4392720"/>
              <a:chExt cx="1492920" cy="1927080"/>
            </a:xfrm>
          </p:grpSpPr>
          <p:sp>
            <p:nvSpPr>
              <p:cNvPr id="148" name="AutoShape 102"/>
              <p:cNvSpPr/>
              <p:nvPr/>
            </p:nvSpPr>
            <p:spPr>
              <a:xfrm flipH="1">
                <a:off x="7335000" y="5281200"/>
                <a:ext cx="586800" cy="29304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03"/>
              <p:cNvSpPr/>
              <p:nvPr/>
            </p:nvSpPr>
            <p:spPr>
              <a:xfrm flipH="1">
                <a:off x="7628400" y="542484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04"/>
              <p:cNvSpPr/>
              <p:nvPr/>
            </p:nvSpPr>
            <p:spPr>
              <a:xfrm>
                <a:off x="7335000" y="542484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5"/>
              <p:cNvSpPr/>
              <p:nvPr/>
            </p:nvSpPr>
            <p:spPr>
              <a:xfrm flipH="1">
                <a:off x="7335000" y="498132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06"/>
              <p:cNvSpPr/>
              <p:nvPr/>
            </p:nvSpPr>
            <p:spPr>
              <a:xfrm flipH="1">
                <a:off x="7628400" y="512568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07"/>
              <p:cNvSpPr/>
              <p:nvPr/>
            </p:nvSpPr>
            <p:spPr>
              <a:xfrm>
                <a:off x="7336440" y="5127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108"/>
              <p:cNvGrpSpPr/>
              <p:nvPr/>
            </p:nvGrpSpPr>
            <p:grpSpPr>
              <a:xfrm>
                <a:off x="7335000" y="4684320"/>
                <a:ext cx="586800" cy="590040"/>
                <a:chOff x="7335000" y="4684320"/>
                <a:chExt cx="586800" cy="590040"/>
              </a:xfrm>
            </p:grpSpPr>
            <p:sp>
              <p:nvSpPr>
                <p:cNvPr id="155" name="AutoShape 109"/>
                <p:cNvSpPr/>
                <p:nvPr/>
              </p:nvSpPr>
              <p:spPr>
                <a:xfrm flipH="1">
                  <a:off x="7335000" y="4684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10"/>
                <p:cNvSpPr/>
                <p:nvPr/>
              </p:nvSpPr>
              <p:spPr>
                <a:xfrm flipH="1">
                  <a:off x="7627680" y="48276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111"/>
                <p:cNvSpPr/>
                <p:nvPr/>
              </p:nvSpPr>
              <p:spPr>
                <a:xfrm>
                  <a:off x="7336440" y="48286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AutoShape 112"/>
              <p:cNvSpPr/>
              <p:nvPr/>
            </p:nvSpPr>
            <p:spPr>
              <a:xfrm flipH="1">
                <a:off x="7631280" y="5428800"/>
                <a:ext cx="58716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113"/>
              <p:cNvSpPr/>
              <p:nvPr/>
            </p:nvSpPr>
            <p:spPr>
              <a:xfrm flipH="1">
                <a:off x="7919280" y="557244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114"/>
              <p:cNvSpPr/>
              <p:nvPr/>
            </p:nvSpPr>
            <p:spPr>
              <a:xfrm>
                <a:off x="7632000" y="557244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115"/>
              <p:cNvGrpSpPr/>
              <p:nvPr/>
            </p:nvGrpSpPr>
            <p:grpSpPr>
              <a:xfrm>
                <a:off x="7631640" y="5131440"/>
                <a:ext cx="587160" cy="590400"/>
                <a:chOff x="7631640" y="5131440"/>
                <a:chExt cx="587160" cy="590400"/>
              </a:xfrm>
            </p:grpSpPr>
            <p:sp>
              <p:nvSpPr>
                <p:cNvPr id="162" name="AutoShape 116"/>
                <p:cNvSpPr/>
                <p:nvPr/>
              </p:nvSpPr>
              <p:spPr>
                <a:xfrm flipH="1">
                  <a:off x="7631280" y="5131440"/>
                  <a:ext cx="58716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17"/>
                <p:cNvSpPr/>
                <p:nvPr/>
              </p:nvSpPr>
              <p:spPr>
                <a:xfrm flipH="1">
                  <a:off x="7924680" y="52747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18"/>
                <p:cNvSpPr/>
                <p:nvPr/>
              </p:nvSpPr>
              <p:spPr>
                <a:xfrm>
                  <a:off x="7633440" y="527616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19"/>
              <p:cNvGrpSpPr/>
              <p:nvPr/>
            </p:nvGrpSpPr>
            <p:grpSpPr>
              <a:xfrm>
                <a:off x="7639920" y="4841640"/>
                <a:ext cx="586800" cy="587880"/>
                <a:chOff x="7639920" y="4841640"/>
                <a:chExt cx="586800" cy="587880"/>
              </a:xfrm>
            </p:grpSpPr>
            <p:sp>
              <p:nvSpPr>
                <p:cNvPr id="166" name="AutoShape 120"/>
                <p:cNvSpPr/>
                <p:nvPr/>
              </p:nvSpPr>
              <p:spPr>
                <a:xfrm flipH="1">
                  <a:off x="7639920" y="48416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21"/>
                <p:cNvSpPr/>
                <p:nvPr/>
              </p:nvSpPr>
              <p:spPr>
                <a:xfrm flipH="1">
                  <a:off x="7926840" y="49834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22"/>
                <p:cNvSpPr/>
                <p:nvPr/>
              </p:nvSpPr>
              <p:spPr>
                <a:xfrm>
                  <a:off x="7641360" y="4984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23"/>
              <p:cNvGrpSpPr/>
              <p:nvPr/>
            </p:nvGrpSpPr>
            <p:grpSpPr>
              <a:xfrm>
                <a:off x="7937640" y="5583960"/>
                <a:ext cx="586800" cy="588960"/>
                <a:chOff x="7937640" y="5583960"/>
                <a:chExt cx="586800" cy="588960"/>
              </a:xfrm>
            </p:grpSpPr>
            <p:sp>
              <p:nvSpPr>
                <p:cNvPr id="170" name="AutoShape 124"/>
                <p:cNvSpPr/>
                <p:nvPr/>
              </p:nvSpPr>
              <p:spPr>
                <a:xfrm flipH="1">
                  <a:off x="7937640" y="558396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125"/>
                <p:cNvSpPr/>
                <p:nvPr/>
              </p:nvSpPr>
              <p:spPr>
                <a:xfrm flipH="1">
                  <a:off x="8230320" y="57268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126"/>
                <p:cNvSpPr/>
                <p:nvPr/>
              </p:nvSpPr>
              <p:spPr>
                <a:xfrm>
                  <a:off x="7939080" y="5728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127"/>
              <p:cNvGrpSpPr/>
              <p:nvPr/>
            </p:nvGrpSpPr>
            <p:grpSpPr>
              <a:xfrm>
                <a:off x="7933680" y="5288760"/>
                <a:ext cx="586800" cy="587880"/>
                <a:chOff x="7933680" y="5288760"/>
                <a:chExt cx="586800" cy="587880"/>
              </a:xfrm>
            </p:grpSpPr>
            <p:sp>
              <p:nvSpPr>
                <p:cNvPr id="174" name="AutoShape 128"/>
                <p:cNvSpPr/>
                <p:nvPr/>
              </p:nvSpPr>
              <p:spPr>
                <a:xfrm flipH="1">
                  <a:off x="7933680" y="52887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129"/>
                <p:cNvSpPr/>
                <p:nvPr/>
              </p:nvSpPr>
              <p:spPr>
                <a:xfrm flipH="1">
                  <a:off x="8222400" y="5432040"/>
                  <a:ext cx="293400" cy="4424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130"/>
                <p:cNvSpPr/>
                <p:nvPr/>
              </p:nvSpPr>
              <p:spPr>
                <a:xfrm>
                  <a:off x="7939080" y="5432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131"/>
              <p:cNvGrpSpPr/>
              <p:nvPr/>
            </p:nvGrpSpPr>
            <p:grpSpPr>
              <a:xfrm>
                <a:off x="7933680" y="4993200"/>
                <a:ext cx="586800" cy="582120"/>
                <a:chOff x="7933680" y="4993200"/>
                <a:chExt cx="586800" cy="582120"/>
              </a:xfrm>
            </p:grpSpPr>
            <p:sp>
              <p:nvSpPr>
                <p:cNvPr id="178" name="AutoShape 132"/>
                <p:cNvSpPr/>
                <p:nvPr/>
              </p:nvSpPr>
              <p:spPr>
                <a:xfrm flipH="1">
                  <a:off x="7933680" y="49932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133"/>
                <p:cNvSpPr/>
                <p:nvPr/>
              </p:nvSpPr>
              <p:spPr>
                <a:xfrm flipH="1">
                  <a:off x="8222400" y="51292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134"/>
                <p:cNvSpPr/>
                <p:nvPr/>
              </p:nvSpPr>
              <p:spPr>
                <a:xfrm>
                  <a:off x="7937640" y="5130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35"/>
              <p:cNvGrpSpPr/>
              <p:nvPr/>
            </p:nvGrpSpPr>
            <p:grpSpPr>
              <a:xfrm>
                <a:off x="8240400" y="5731920"/>
                <a:ext cx="586440" cy="587880"/>
                <a:chOff x="8240400" y="5731920"/>
                <a:chExt cx="586440" cy="587880"/>
              </a:xfrm>
            </p:grpSpPr>
            <p:sp>
              <p:nvSpPr>
                <p:cNvPr id="182" name="AutoShape 136"/>
                <p:cNvSpPr/>
                <p:nvPr/>
              </p:nvSpPr>
              <p:spPr>
                <a:xfrm flipH="1">
                  <a:off x="8240040" y="573192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37"/>
                <p:cNvSpPr/>
                <p:nvPr/>
              </p:nvSpPr>
              <p:spPr>
                <a:xfrm flipH="1">
                  <a:off x="8533080" y="5875200"/>
                  <a:ext cx="293400" cy="4424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38"/>
                <p:cNvSpPr/>
                <p:nvPr/>
              </p:nvSpPr>
              <p:spPr>
                <a:xfrm>
                  <a:off x="82422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39"/>
              <p:cNvGrpSpPr/>
              <p:nvPr/>
            </p:nvGrpSpPr>
            <p:grpSpPr>
              <a:xfrm>
                <a:off x="8240760" y="5436360"/>
                <a:ext cx="586800" cy="588960"/>
                <a:chOff x="8240760" y="5436360"/>
                <a:chExt cx="586800" cy="588960"/>
              </a:xfrm>
            </p:grpSpPr>
            <p:sp>
              <p:nvSpPr>
                <p:cNvPr id="186" name="AutoShape 140"/>
                <p:cNvSpPr/>
                <p:nvPr/>
              </p:nvSpPr>
              <p:spPr>
                <a:xfrm flipH="1">
                  <a:off x="8240760" y="543636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41"/>
                <p:cNvSpPr/>
                <p:nvPr/>
              </p:nvSpPr>
              <p:spPr>
                <a:xfrm flipH="1">
                  <a:off x="8533440" y="5579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42"/>
                <p:cNvSpPr/>
                <p:nvPr/>
              </p:nvSpPr>
              <p:spPr>
                <a:xfrm>
                  <a:off x="8241840" y="55803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143"/>
              <p:cNvGrpSpPr/>
              <p:nvPr/>
            </p:nvGrpSpPr>
            <p:grpSpPr>
              <a:xfrm>
                <a:off x="8240760" y="5141160"/>
                <a:ext cx="586800" cy="588240"/>
                <a:chOff x="8240760" y="5141160"/>
                <a:chExt cx="586800" cy="588240"/>
              </a:xfrm>
            </p:grpSpPr>
            <p:sp>
              <p:nvSpPr>
                <p:cNvPr id="190" name="AutoShape 144"/>
                <p:cNvSpPr/>
                <p:nvPr/>
              </p:nvSpPr>
              <p:spPr>
                <a:xfrm flipH="1">
                  <a:off x="8240760" y="51411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45"/>
                <p:cNvSpPr/>
                <p:nvPr/>
              </p:nvSpPr>
              <p:spPr>
                <a:xfrm flipH="1">
                  <a:off x="8533440" y="52837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46"/>
                <p:cNvSpPr/>
                <p:nvPr/>
              </p:nvSpPr>
              <p:spPr>
                <a:xfrm>
                  <a:off x="8241840" y="5285520"/>
                  <a:ext cx="293400" cy="443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147"/>
              <p:cNvGrpSpPr/>
              <p:nvPr/>
            </p:nvGrpSpPr>
            <p:grpSpPr>
              <a:xfrm>
                <a:off x="7334640" y="4392720"/>
                <a:ext cx="586440" cy="587880"/>
                <a:chOff x="7334640" y="4392720"/>
                <a:chExt cx="586440" cy="587880"/>
              </a:xfrm>
            </p:grpSpPr>
            <p:sp>
              <p:nvSpPr>
                <p:cNvPr id="194" name="AutoShape 148"/>
                <p:cNvSpPr/>
                <p:nvPr/>
              </p:nvSpPr>
              <p:spPr>
                <a:xfrm flipH="1">
                  <a:off x="7334280" y="439272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149"/>
                <p:cNvSpPr/>
                <p:nvPr/>
              </p:nvSpPr>
              <p:spPr>
                <a:xfrm flipH="1">
                  <a:off x="7619760" y="4536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50"/>
                <p:cNvSpPr/>
                <p:nvPr/>
              </p:nvSpPr>
              <p:spPr>
                <a:xfrm>
                  <a:off x="7335000" y="4536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51"/>
              <p:cNvGrpSpPr/>
              <p:nvPr/>
            </p:nvGrpSpPr>
            <p:grpSpPr>
              <a:xfrm>
                <a:off x="7638120" y="4540320"/>
                <a:ext cx="586800" cy="590400"/>
                <a:chOff x="7638120" y="4540320"/>
                <a:chExt cx="586800" cy="590400"/>
              </a:xfrm>
            </p:grpSpPr>
            <p:sp>
              <p:nvSpPr>
                <p:cNvPr id="198" name="AutoShape 152"/>
                <p:cNvSpPr/>
                <p:nvPr/>
              </p:nvSpPr>
              <p:spPr>
                <a:xfrm flipH="1">
                  <a:off x="7638120" y="4540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53"/>
                <p:cNvSpPr/>
                <p:nvPr/>
              </p:nvSpPr>
              <p:spPr>
                <a:xfrm flipH="1">
                  <a:off x="7930800" y="46836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54"/>
                <p:cNvSpPr/>
                <p:nvPr/>
              </p:nvSpPr>
              <p:spPr>
                <a:xfrm>
                  <a:off x="7639560" y="468504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155"/>
              <p:cNvGrpSpPr/>
              <p:nvPr/>
            </p:nvGrpSpPr>
            <p:grpSpPr>
              <a:xfrm>
                <a:off x="7937280" y="4690080"/>
                <a:ext cx="586440" cy="590040"/>
                <a:chOff x="7937280" y="4690080"/>
                <a:chExt cx="586440" cy="590040"/>
              </a:xfrm>
            </p:grpSpPr>
            <p:sp>
              <p:nvSpPr>
                <p:cNvPr id="202" name="AutoShape 156"/>
                <p:cNvSpPr/>
                <p:nvPr/>
              </p:nvSpPr>
              <p:spPr>
                <a:xfrm flipH="1">
                  <a:off x="7936920" y="46900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57"/>
                <p:cNvSpPr/>
                <p:nvPr/>
              </p:nvSpPr>
              <p:spPr>
                <a:xfrm flipH="1">
                  <a:off x="8220240" y="4834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8"/>
                <p:cNvSpPr/>
                <p:nvPr/>
              </p:nvSpPr>
              <p:spPr>
                <a:xfrm>
                  <a:off x="7939080" y="4835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159"/>
              <p:cNvGrpSpPr/>
              <p:nvPr/>
            </p:nvGrpSpPr>
            <p:grpSpPr>
              <a:xfrm>
                <a:off x="8240400" y="4845600"/>
                <a:ext cx="586440" cy="587880"/>
                <a:chOff x="8240400" y="4845600"/>
                <a:chExt cx="586440" cy="587880"/>
              </a:xfrm>
            </p:grpSpPr>
            <p:sp>
              <p:nvSpPr>
                <p:cNvPr id="206" name="AutoShape 160"/>
                <p:cNvSpPr/>
                <p:nvPr/>
              </p:nvSpPr>
              <p:spPr>
                <a:xfrm flipH="1">
                  <a:off x="8240040" y="484560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61"/>
                <p:cNvSpPr/>
                <p:nvPr/>
              </p:nvSpPr>
              <p:spPr>
                <a:xfrm flipH="1">
                  <a:off x="8533080" y="49888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2"/>
                <p:cNvSpPr/>
                <p:nvPr/>
              </p:nvSpPr>
              <p:spPr>
                <a:xfrm>
                  <a:off x="8242200" y="49888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Group 163"/>
            <p:cNvGrpSpPr/>
            <p:nvPr/>
          </p:nvGrpSpPr>
          <p:grpSpPr>
            <a:xfrm>
              <a:off x="6463800" y="4828320"/>
              <a:ext cx="1492560" cy="1927800"/>
              <a:chOff x="6463800" y="4828320"/>
              <a:chExt cx="1492560" cy="1927800"/>
            </a:xfrm>
          </p:grpSpPr>
          <p:sp>
            <p:nvSpPr>
              <p:cNvPr id="210" name="AutoShape 164"/>
              <p:cNvSpPr/>
              <p:nvPr/>
            </p:nvSpPr>
            <p:spPr>
              <a:xfrm flipH="1">
                <a:off x="6464160" y="57164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5"/>
              <p:cNvSpPr/>
              <p:nvPr/>
            </p:nvSpPr>
            <p:spPr>
              <a:xfrm flipH="1">
                <a:off x="6756840" y="5860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66"/>
              <p:cNvSpPr/>
              <p:nvPr/>
            </p:nvSpPr>
            <p:spPr>
              <a:xfrm>
                <a:off x="6464160" y="5860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AutoShape 167"/>
              <p:cNvSpPr/>
              <p:nvPr/>
            </p:nvSpPr>
            <p:spPr>
              <a:xfrm flipH="1">
                <a:off x="6464160" y="54172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68"/>
              <p:cNvSpPr/>
              <p:nvPr/>
            </p:nvSpPr>
            <p:spPr>
              <a:xfrm flipH="1">
                <a:off x="6756840" y="55609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69"/>
              <p:cNvSpPr/>
              <p:nvPr/>
            </p:nvSpPr>
            <p:spPr>
              <a:xfrm>
                <a:off x="6466320" y="5563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Group 170"/>
              <p:cNvGrpSpPr/>
              <p:nvPr/>
            </p:nvGrpSpPr>
            <p:grpSpPr>
              <a:xfrm>
                <a:off x="6464160" y="5119560"/>
                <a:ext cx="586800" cy="590760"/>
                <a:chOff x="6464160" y="5119560"/>
                <a:chExt cx="586800" cy="590760"/>
              </a:xfrm>
            </p:grpSpPr>
            <p:sp>
              <p:nvSpPr>
                <p:cNvPr id="217" name="AutoShape 171"/>
                <p:cNvSpPr/>
                <p:nvPr/>
              </p:nvSpPr>
              <p:spPr>
                <a:xfrm flipH="1">
                  <a:off x="6464160" y="5119560"/>
                  <a:ext cx="586800" cy="2941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72"/>
                <p:cNvSpPr/>
                <p:nvPr/>
              </p:nvSpPr>
              <p:spPr>
                <a:xfrm flipH="1">
                  <a:off x="6756840" y="52628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73"/>
                <p:cNvSpPr/>
                <p:nvPr/>
              </p:nvSpPr>
              <p:spPr>
                <a:xfrm>
                  <a:off x="6465600" y="526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AutoShape 174"/>
              <p:cNvSpPr/>
              <p:nvPr/>
            </p:nvSpPr>
            <p:spPr>
              <a:xfrm flipH="1">
                <a:off x="6761520" y="586440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75"/>
              <p:cNvSpPr/>
              <p:nvPr/>
            </p:nvSpPr>
            <p:spPr>
              <a:xfrm flipH="1">
                <a:off x="7048440" y="600804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76"/>
              <p:cNvSpPr/>
              <p:nvPr/>
            </p:nvSpPr>
            <p:spPr>
              <a:xfrm>
                <a:off x="6761520" y="600804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Group 177"/>
              <p:cNvGrpSpPr/>
              <p:nvPr/>
            </p:nvGrpSpPr>
            <p:grpSpPr>
              <a:xfrm>
                <a:off x="6761520" y="5566680"/>
                <a:ext cx="586800" cy="590760"/>
                <a:chOff x="6761520" y="5566680"/>
                <a:chExt cx="586800" cy="590760"/>
              </a:xfrm>
            </p:grpSpPr>
            <p:sp>
              <p:nvSpPr>
                <p:cNvPr id="224" name="AutoShape 178"/>
                <p:cNvSpPr/>
                <p:nvPr/>
              </p:nvSpPr>
              <p:spPr>
                <a:xfrm flipH="1">
                  <a:off x="6761520" y="5566680"/>
                  <a:ext cx="586800" cy="2941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79"/>
                <p:cNvSpPr/>
                <p:nvPr/>
              </p:nvSpPr>
              <p:spPr>
                <a:xfrm flipH="1">
                  <a:off x="7054200" y="5709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80"/>
                <p:cNvSpPr/>
                <p:nvPr/>
              </p:nvSpPr>
              <p:spPr>
                <a:xfrm>
                  <a:off x="6762960" y="57114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181"/>
              <p:cNvGrpSpPr/>
              <p:nvPr/>
            </p:nvGrpSpPr>
            <p:grpSpPr>
              <a:xfrm>
                <a:off x="6769440" y="5276880"/>
                <a:ext cx="586080" cy="588600"/>
                <a:chOff x="6769440" y="5276880"/>
                <a:chExt cx="586080" cy="588600"/>
              </a:xfrm>
            </p:grpSpPr>
            <p:sp>
              <p:nvSpPr>
                <p:cNvPr id="228" name="AutoShape 182"/>
                <p:cNvSpPr/>
                <p:nvPr/>
              </p:nvSpPr>
              <p:spPr>
                <a:xfrm flipH="1">
                  <a:off x="6769440" y="527688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83"/>
                <p:cNvSpPr/>
                <p:nvPr/>
              </p:nvSpPr>
              <p:spPr>
                <a:xfrm flipH="1">
                  <a:off x="7056720" y="5418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84"/>
                <p:cNvSpPr/>
                <p:nvPr/>
              </p:nvSpPr>
              <p:spPr>
                <a:xfrm>
                  <a:off x="6771600" y="5420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185"/>
              <p:cNvGrpSpPr/>
              <p:nvPr/>
            </p:nvGrpSpPr>
            <p:grpSpPr>
              <a:xfrm>
                <a:off x="7066440" y="6019920"/>
                <a:ext cx="586800" cy="588600"/>
                <a:chOff x="7066440" y="6019920"/>
                <a:chExt cx="586800" cy="588600"/>
              </a:xfrm>
            </p:grpSpPr>
            <p:sp>
              <p:nvSpPr>
                <p:cNvPr id="232" name="AutoShape 186"/>
                <p:cNvSpPr/>
                <p:nvPr/>
              </p:nvSpPr>
              <p:spPr>
                <a:xfrm flipH="1">
                  <a:off x="7066440" y="6019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87"/>
                <p:cNvSpPr/>
                <p:nvPr/>
              </p:nvSpPr>
              <p:spPr>
                <a:xfrm flipH="1">
                  <a:off x="7359120" y="6162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88"/>
                <p:cNvSpPr/>
                <p:nvPr/>
              </p:nvSpPr>
              <p:spPr>
                <a:xfrm>
                  <a:off x="7067880" y="6163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89"/>
              <p:cNvGrpSpPr/>
              <p:nvPr/>
            </p:nvGrpSpPr>
            <p:grpSpPr>
              <a:xfrm>
                <a:off x="7062840" y="5724360"/>
                <a:ext cx="586080" cy="588600"/>
                <a:chOff x="7062840" y="5724360"/>
                <a:chExt cx="586080" cy="588600"/>
              </a:xfrm>
            </p:grpSpPr>
            <p:sp>
              <p:nvSpPr>
                <p:cNvPr id="236" name="AutoShape 190"/>
                <p:cNvSpPr/>
                <p:nvPr/>
              </p:nvSpPr>
              <p:spPr>
                <a:xfrm flipH="1">
                  <a:off x="7062840" y="5724360"/>
                  <a:ext cx="58608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91"/>
                <p:cNvSpPr/>
                <p:nvPr/>
              </p:nvSpPr>
              <p:spPr>
                <a:xfrm flipH="1">
                  <a:off x="7351200" y="5868000"/>
                  <a:ext cx="29268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92"/>
                <p:cNvSpPr/>
                <p:nvPr/>
              </p:nvSpPr>
              <p:spPr>
                <a:xfrm>
                  <a:off x="7068240" y="58680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3"/>
              <p:cNvGrpSpPr/>
              <p:nvPr/>
            </p:nvGrpSpPr>
            <p:grpSpPr>
              <a:xfrm>
                <a:off x="7062840" y="5428800"/>
                <a:ext cx="586080" cy="582840"/>
                <a:chOff x="7062840" y="5428800"/>
                <a:chExt cx="586080" cy="582840"/>
              </a:xfrm>
            </p:grpSpPr>
            <p:sp>
              <p:nvSpPr>
                <p:cNvPr id="240" name="AutoShape 194"/>
                <p:cNvSpPr/>
                <p:nvPr/>
              </p:nvSpPr>
              <p:spPr>
                <a:xfrm flipH="1">
                  <a:off x="7062840" y="542880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95"/>
                <p:cNvSpPr/>
                <p:nvPr/>
              </p:nvSpPr>
              <p:spPr>
                <a:xfrm flipH="1">
                  <a:off x="7351200" y="55645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96"/>
                <p:cNvSpPr/>
                <p:nvPr/>
              </p:nvSpPr>
              <p:spPr>
                <a:xfrm>
                  <a:off x="7066080" y="5566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97"/>
              <p:cNvGrpSpPr/>
              <p:nvPr/>
            </p:nvGrpSpPr>
            <p:grpSpPr>
              <a:xfrm>
                <a:off x="7369200" y="6167520"/>
                <a:ext cx="586440" cy="588600"/>
                <a:chOff x="7369200" y="6167520"/>
                <a:chExt cx="586440" cy="588600"/>
              </a:xfrm>
            </p:grpSpPr>
            <p:sp>
              <p:nvSpPr>
                <p:cNvPr id="244" name="AutoShape 198"/>
                <p:cNvSpPr/>
                <p:nvPr/>
              </p:nvSpPr>
              <p:spPr>
                <a:xfrm flipH="1">
                  <a:off x="7368840" y="616752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99"/>
                <p:cNvSpPr/>
                <p:nvPr/>
              </p:nvSpPr>
              <p:spPr>
                <a:xfrm flipH="1">
                  <a:off x="7661880" y="631116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200"/>
                <p:cNvSpPr/>
                <p:nvPr/>
              </p:nvSpPr>
              <p:spPr>
                <a:xfrm>
                  <a:off x="7371000" y="63111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201"/>
              <p:cNvGrpSpPr/>
              <p:nvPr/>
            </p:nvGrpSpPr>
            <p:grpSpPr>
              <a:xfrm>
                <a:off x="7369560" y="5872320"/>
                <a:ext cx="586800" cy="588600"/>
                <a:chOff x="7369560" y="5872320"/>
                <a:chExt cx="586800" cy="588600"/>
              </a:xfrm>
            </p:grpSpPr>
            <p:sp>
              <p:nvSpPr>
                <p:cNvPr id="248" name="AutoShape 202"/>
                <p:cNvSpPr/>
                <p:nvPr/>
              </p:nvSpPr>
              <p:spPr>
                <a:xfrm flipH="1">
                  <a:off x="7369560" y="5872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203"/>
                <p:cNvSpPr/>
                <p:nvPr/>
              </p:nvSpPr>
              <p:spPr>
                <a:xfrm flipH="1">
                  <a:off x="7662240" y="6015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204"/>
                <p:cNvSpPr/>
                <p:nvPr/>
              </p:nvSpPr>
              <p:spPr>
                <a:xfrm>
                  <a:off x="7370640" y="6016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205"/>
              <p:cNvGrpSpPr/>
              <p:nvPr/>
            </p:nvGrpSpPr>
            <p:grpSpPr>
              <a:xfrm>
                <a:off x="7369560" y="5576400"/>
                <a:ext cx="586800" cy="588960"/>
                <a:chOff x="7369560" y="5576400"/>
                <a:chExt cx="586800" cy="588960"/>
              </a:xfrm>
            </p:grpSpPr>
            <p:sp>
              <p:nvSpPr>
                <p:cNvPr id="252" name="AutoShape 206"/>
                <p:cNvSpPr/>
                <p:nvPr/>
              </p:nvSpPr>
              <p:spPr>
                <a:xfrm flipH="1">
                  <a:off x="7369560" y="55764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7"/>
                <p:cNvSpPr/>
                <p:nvPr/>
              </p:nvSpPr>
              <p:spPr>
                <a:xfrm flipH="1">
                  <a:off x="7662240" y="57193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08"/>
                <p:cNvSpPr/>
                <p:nvPr/>
              </p:nvSpPr>
              <p:spPr>
                <a:xfrm>
                  <a:off x="7370640" y="5720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209"/>
              <p:cNvGrpSpPr/>
              <p:nvPr/>
            </p:nvGrpSpPr>
            <p:grpSpPr>
              <a:xfrm>
                <a:off x="6463800" y="4828320"/>
                <a:ext cx="586440" cy="588600"/>
                <a:chOff x="6463800" y="4828320"/>
                <a:chExt cx="586440" cy="588600"/>
              </a:xfrm>
            </p:grpSpPr>
            <p:sp>
              <p:nvSpPr>
                <p:cNvPr id="256" name="AutoShape 210"/>
                <p:cNvSpPr/>
                <p:nvPr/>
              </p:nvSpPr>
              <p:spPr>
                <a:xfrm flipH="1">
                  <a:off x="6463440" y="4828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11"/>
                <p:cNvSpPr/>
                <p:nvPr/>
              </p:nvSpPr>
              <p:spPr>
                <a:xfrm flipH="1">
                  <a:off x="6748920" y="4971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12"/>
                <p:cNvSpPr/>
                <p:nvPr/>
              </p:nvSpPr>
              <p:spPr>
                <a:xfrm>
                  <a:off x="6464160" y="4971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Group 213"/>
              <p:cNvGrpSpPr/>
              <p:nvPr/>
            </p:nvGrpSpPr>
            <p:grpSpPr>
              <a:xfrm>
                <a:off x="6767280" y="4975920"/>
                <a:ext cx="586800" cy="590400"/>
                <a:chOff x="6767280" y="4975920"/>
                <a:chExt cx="586800" cy="590400"/>
              </a:xfrm>
            </p:grpSpPr>
            <p:sp>
              <p:nvSpPr>
                <p:cNvPr id="260" name="AutoShape 214"/>
                <p:cNvSpPr/>
                <p:nvPr/>
              </p:nvSpPr>
              <p:spPr>
                <a:xfrm flipH="1">
                  <a:off x="6767280" y="49759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15"/>
                <p:cNvSpPr/>
                <p:nvPr/>
              </p:nvSpPr>
              <p:spPr>
                <a:xfrm flipH="1">
                  <a:off x="7059960" y="51192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16"/>
                <p:cNvSpPr/>
                <p:nvPr/>
              </p:nvSpPr>
              <p:spPr>
                <a:xfrm>
                  <a:off x="6768720" y="512064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217"/>
              <p:cNvGrpSpPr/>
              <p:nvPr/>
            </p:nvGrpSpPr>
            <p:grpSpPr>
              <a:xfrm>
                <a:off x="7066080" y="5125320"/>
                <a:ext cx="586440" cy="590760"/>
                <a:chOff x="7066080" y="5125320"/>
                <a:chExt cx="586440" cy="590760"/>
              </a:xfrm>
            </p:grpSpPr>
            <p:sp>
              <p:nvSpPr>
                <p:cNvPr id="264" name="AutoShape 218"/>
                <p:cNvSpPr/>
                <p:nvPr/>
              </p:nvSpPr>
              <p:spPr>
                <a:xfrm flipH="1">
                  <a:off x="7065720" y="5125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219"/>
                <p:cNvSpPr/>
                <p:nvPr/>
              </p:nvSpPr>
              <p:spPr>
                <a:xfrm flipH="1">
                  <a:off x="7349040" y="52693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220"/>
                <p:cNvSpPr/>
                <p:nvPr/>
              </p:nvSpPr>
              <p:spPr>
                <a:xfrm>
                  <a:off x="7067880" y="52711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221"/>
              <p:cNvGrpSpPr/>
              <p:nvPr/>
            </p:nvGrpSpPr>
            <p:grpSpPr>
              <a:xfrm>
                <a:off x="7369560" y="5280840"/>
                <a:ext cx="586800" cy="588600"/>
                <a:chOff x="7369560" y="5280840"/>
                <a:chExt cx="586800" cy="588600"/>
              </a:xfrm>
            </p:grpSpPr>
            <p:sp>
              <p:nvSpPr>
                <p:cNvPr id="268" name="AutoShape 222"/>
                <p:cNvSpPr/>
                <p:nvPr/>
              </p:nvSpPr>
              <p:spPr>
                <a:xfrm flipH="1">
                  <a:off x="7369560" y="528084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23"/>
                <p:cNvSpPr/>
                <p:nvPr/>
              </p:nvSpPr>
              <p:spPr>
                <a:xfrm flipH="1">
                  <a:off x="7662240" y="54237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24"/>
                <p:cNvSpPr/>
                <p:nvPr/>
              </p:nvSpPr>
              <p:spPr>
                <a:xfrm>
                  <a:off x="7370640" y="5424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Group 225"/>
            <p:cNvGrpSpPr/>
            <p:nvPr/>
          </p:nvGrpSpPr>
          <p:grpSpPr>
            <a:xfrm>
              <a:off x="7956720" y="5139000"/>
              <a:ext cx="878400" cy="1629000"/>
              <a:chOff x="7956720" y="5139000"/>
              <a:chExt cx="878400" cy="1629000"/>
            </a:xfrm>
          </p:grpSpPr>
          <p:grpSp>
            <p:nvGrpSpPr>
              <p:cNvPr id="272" name="Group 226"/>
              <p:cNvGrpSpPr/>
              <p:nvPr/>
            </p:nvGrpSpPr>
            <p:grpSpPr>
              <a:xfrm>
                <a:off x="8248320" y="6033600"/>
                <a:ext cx="586800" cy="588600"/>
                <a:chOff x="8248320" y="6033600"/>
                <a:chExt cx="586800" cy="588600"/>
              </a:xfrm>
            </p:grpSpPr>
            <p:sp>
              <p:nvSpPr>
                <p:cNvPr id="273" name="AutoShape 227"/>
                <p:cNvSpPr/>
                <p:nvPr/>
              </p:nvSpPr>
              <p:spPr>
                <a:xfrm flipH="1">
                  <a:off x="8248320" y="603360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28"/>
                <p:cNvSpPr/>
                <p:nvPr/>
              </p:nvSpPr>
              <p:spPr>
                <a:xfrm flipH="1">
                  <a:off x="8541000" y="6176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29"/>
                <p:cNvSpPr/>
                <p:nvPr/>
              </p:nvSpPr>
              <p:spPr>
                <a:xfrm>
                  <a:off x="8249400" y="6177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230"/>
              <p:cNvGrpSpPr/>
              <p:nvPr/>
            </p:nvGrpSpPr>
            <p:grpSpPr>
              <a:xfrm>
                <a:off x="7957080" y="6179040"/>
                <a:ext cx="586080" cy="588960"/>
                <a:chOff x="7957080" y="6179040"/>
                <a:chExt cx="586080" cy="588960"/>
              </a:xfrm>
            </p:grpSpPr>
            <p:sp>
              <p:nvSpPr>
                <p:cNvPr id="277" name="AutoShape 231"/>
                <p:cNvSpPr/>
                <p:nvPr/>
              </p:nvSpPr>
              <p:spPr>
                <a:xfrm flipH="1">
                  <a:off x="7957080" y="617904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32"/>
                <p:cNvSpPr/>
                <p:nvPr/>
              </p:nvSpPr>
              <p:spPr>
                <a:xfrm flipH="1">
                  <a:off x="8249040" y="632304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233"/>
                <p:cNvSpPr/>
                <p:nvPr/>
              </p:nvSpPr>
              <p:spPr>
                <a:xfrm>
                  <a:off x="7958520" y="63230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34"/>
              <p:cNvGrpSpPr/>
              <p:nvPr/>
            </p:nvGrpSpPr>
            <p:grpSpPr>
              <a:xfrm>
                <a:off x="8248320" y="5731920"/>
                <a:ext cx="586800" cy="588960"/>
                <a:chOff x="8248320" y="5731920"/>
                <a:chExt cx="586800" cy="588960"/>
              </a:xfrm>
            </p:grpSpPr>
            <p:sp>
              <p:nvSpPr>
                <p:cNvPr id="281" name="AutoShape 235"/>
                <p:cNvSpPr/>
                <p:nvPr/>
              </p:nvSpPr>
              <p:spPr>
                <a:xfrm flipH="1">
                  <a:off x="8248320" y="5731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236"/>
                <p:cNvSpPr/>
                <p:nvPr/>
              </p:nvSpPr>
              <p:spPr>
                <a:xfrm flipH="1">
                  <a:off x="85410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237"/>
                <p:cNvSpPr/>
                <p:nvPr/>
              </p:nvSpPr>
              <p:spPr>
                <a:xfrm>
                  <a:off x="8249760" y="58759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238"/>
              <p:cNvGrpSpPr/>
              <p:nvPr/>
            </p:nvGrpSpPr>
            <p:grpSpPr>
              <a:xfrm>
                <a:off x="7956720" y="5877720"/>
                <a:ext cx="586440" cy="588600"/>
                <a:chOff x="7956720" y="5877720"/>
                <a:chExt cx="586440" cy="588600"/>
              </a:xfrm>
            </p:grpSpPr>
            <p:sp>
              <p:nvSpPr>
                <p:cNvPr id="285" name="AutoShape 239"/>
                <p:cNvSpPr/>
                <p:nvPr/>
              </p:nvSpPr>
              <p:spPr>
                <a:xfrm flipH="1">
                  <a:off x="7956360" y="587772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240"/>
                <p:cNvSpPr/>
                <p:nvPr/>
              </p:nvSpPr>
              <p:spPr>
                <a:xfrm flipH="1">
                  <a:off x="8250120" y="602064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241"/>
                <p:cNvSpPr/>
                <p:nvPr/>
              </p:nvSpPr>
              <p:spPr>
                <a:xfrm>
                  <a:off x="7958160" y="60217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42"/>
              <p:cNvGrpSpPr/>
              <p:nvPr/>
            </p:nvGrpSpPr>
            <p:grpSpPr>
              <a:xfrm>
                <a:off x="8248320" y="5430600"/>
                <a:ext cx="586800" cy="590400"/>
                <a:chOff x="8248320" y="5430600"/>
                <a:chExt cx="586800" cy="590400"/>
              </a:xfrm>
            </p:grpSpPr>
            <p:sp>
              <p:nvSpPr>
                <p:cNvPr id="289" name="AutoShape 243"/>
                <p:cNvSpPr/>
                <p:nvPr/>
              </p:nvSpPr>
              <p:spPr>
                <a:xfrm flipH="1">
                  <a:off x="8248320" y="543060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44"/>
                <p:cNvSpPr/>
                <p:nvPr/>
              </p:nvSpPr>
              <p:spPr>
                <a:xfrm flipH="1">
                  <a:off x="8541000" y="55738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45"/>
                <p:cNvSpPr/>
                <p:nvPr/>
              </p:nvSpPr>
              <p:spPr>
                <a:xfrm>
                  <a:off x="8249760" y="55753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 246"/>
              <p:cNvGrpSpPr/>
              <p:nvPr/>
            </p:nvGrpSpPr>
            <p:grpSpPr>
              <a:xfrm>
                <a:off x="7956720" y="5576040"/>
                <a:ext cx="586440" cy="590760"/>
                <a:chOff x="7956720" y="5576040"/>
                <a:chExt cx="586440" cy="590760"/>
              </a:xfrm>
            </p:grpSpPr>
            <p:sp>
              <p:nvSpPr>
                <p:cNvPr id="293" name="AutoShape 247"/>
                <p:cNvSpPr/>
                <p:nvPr/>
              </p:nvSpPr>
              <p:spPr>
                <a:xfrm flipH="1">
                  <a:off x="7956360" y="55760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48"/>
                <p:cNvSpPr/>
                <p:nvPr/>
              </p:nvSpPr>
              <p:spPr>
                <a:xfrm flipH="1">
                  <a:off x="8250120" y="571932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49"/>
                <p:cNvSpPr/>
                <p:nvPr/>
              </p:nvSpPr>
              <p:spPr>
                <a:xfrm>
                  <a:off x="7958160" y="572076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50"/>
              <p:cNvGrpSpPr/>
              <p:nvPr/>
            </p:nvGrpSpPr>
            <p:grpSpPr>
              <a:xfrm>
                <a:off x="8248320" y="5139000"/>
                <a:ext cx="586800" cy="588960"/>
                <a:chOff x="8248320" y="5139000"/>
                <a:chExt cx="586800" cy="588960"/>
              </a:xfrm>
            </p:grpSpPr>
            <p:sp>
              <p:nvSpPr>
                <p:cNvPr id="297" name="AutoShape 251"/>
                <p:cNvSpPr/>
                <p:nvPr/>
              </p:nvSpPr>
              <p:spPr>
                <a:xfrm flipH="1">
                  <a:off x="8248320" y="51390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252"/>
                <p:cNvSpPr/>
                <p:nvPr/>
              </p:nvSpPr>
              <p:spPr>
                <a:xfrm flipH="1">
                  <a:off x="8541000" y="5282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253"/>
                <p:cNvSpPr/>
                <p:nvPr/>
              </p:nvSpPr>
              <p:spPr>
                <a:xfrm>
                  <a:off x="8249760" y="52830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54"/>
              <p:cNvGrpSpPr/>
              <p:nvPr/>
            </p:nvGrpSpPr>
            <p:grpSpPr>
              <a:xfrm>
                <a:off x="7956720" y="5284800"/>
                <a:ext cx="586440" cy="588600"/>
                <a:chOff x="7956720" y="5284800"/>
                <a:chExt cx="586440" cy="588600"/>
              </a:xfrm>
            </p:grpSpPr>
            <p:sp>
              <p:nvSpPr>
                <p:cNvPr id="301" name="AutoShape 255"/>
                <p:cNvSpPr/>
                <p:nvPr/>
              </p:nvSpPr>
              <p:spPr>
                <a:xfrm flipH="1">
                  <a:off x="7956360" y="528480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256"/>
                <p:cNvSpPr/>
                <p:nvPr/>
              </p:nvSpPr>
              <p:spPr>
                <a:xfrm flipH="1">
                  <a:off x="8250120" y="54277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257"/>
                <p:cNvSpPr/>
                <p:nvPr/>
              </p:nvSpPr>
              <p:spPr>
                <a:xfrm>
                  <a:off x="7958160" y="542916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4" name="Group 258"/>
          <p:cNvGrpSpPr/>
          <p:nvPr/>
        </p:nvGrpSpPr>
        <p:grpSpPr>
          <a:xfrm>
            <a:off x="6426000" y="4329000"/>
            <a:ext cx="2371320" cy="2375640"/>
            <a:chOff x="6426000" y="4329000"/>
            <a:chExt cx="2371320" cy="2375640"/>
          </a:xfrm>
        </p:grpSpPr>
        <p:grpSp>
          <p:nvGrpSpPr>
            <p:cNvPr id="305" name="Group 259"/>
            <p:cNvGrpSpPr/>
            <p:nvPr/>
          </p:nvGrpSpPr>
          <p:grpSpPr>
            <a:xfrm>
              <a:off x="7296840" y="4329000"/>
              <a:ext cx="1492920" cy="1928160"/>
              <a:chOff x="7296840" y="4329000"/>
              <a:chExt cx="1492920" cy="1928160"/>
            </a:xfrm>
          </p:grpSpPr>
          <p:sp>
            <p:nvSpPr>
              <p:cNvPr id="306" name="AutoShape 260"/>
              <p:cNvSpPr/>
              <p:nvPr/>
            </p:nvSpPr>
            <p:spPr>
              <a:xfrm flipH="1">
                <a:off x="7297200" y="5217480"/>
                <a:ext cx="586800" cy="29304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261"/>
              <p:cNvSpPr/>
              <p:nvPr/>
            </p:nvSpPr>
            <p:spPr>
              <a:xfrm flipH="1">
                <a:off x="7590600" y="536148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262"/>
              <p:cNvSpPr/>
              <p:nvPr/>
            </p:nvSpPr>
            <p:spPr>
              <a:xfrm>
                <a:off x="7297200" y="5361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AutoShape 263"/>
              <p:cNvSpPr/>
              <p:nvPr/>
            </p:nvSpPr>
            <p:spPr>
              <a:xfrm flipH="1">
                <a:off x="7297200" y="49179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264"/>
              <p:cNvSpPr/>
              <p:nvPr/>
            </p:nvSpPr>
            <p:spPr>
              <a:xfrm flipH="1">
                <a:off x="7590600" y="506196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265"/>
              <p:cNvSpPr/>
              <p:nvPr/>
            </p:nvSpPr>
            <p:spPr>
              <a:xfrm>
                <a:off x="7298640" y="506376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266"/>
              <p:cNvGrpSpPr/>
              <p:nvPr/>
            </p:nvGrpSpPr>
            <p:grpSpPr>
              <a:xfrm>
                <a:off x="7297200" y="4620600"/>
                <a:ext cx="586800" cy="590400"/>
                <a:chOff x="7297200" y="4620600"/>
                <a:chExt cx="586800" cy="590400"/>
              </a:xfrm>
            </p:grpSpPr>
            <p:sp>
              <p:nvSpPr>
                <p:cNvPr id="313" name="AutoShape 267"/>
                <p:cNvSpPr/>
                <p:nvPr/>
              </p:nvSpPr>
              <p:spPr>
                <a:xfrm flipH="1">
                  <a:off x="7297200" y="46206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268"/>
                <p:cNvSpPr/>
                <p:nvPr/>
              </p:nvSpPr>
              <p:spPr>
                <a:xfrm flipH="1">
                  <a:off x="7589880" y="47638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269"/>
                <p:cNvSpPr/>
                <p:nvPr/>
              </p:nvSpPr>
              <p:spPr>
                <a:xfrm>
                  <a:off x="7298640" y="47653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AutoShape 270"/>
              <p:cNvSpPr/>
              <p:nvPr/>
            </p:nvSpPr>
            <p:spPr>
              <a:xfrm flipH="1">
                <a:off x="7593480" y="5365440"/>
                <a:ext cx="58716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271"/>
              <p:cNvSpPr/>
              <p:nvPr/>
            </p:nvSpPr>
            <p:spPr>
              <a:xfrm flipH="1">
                <a:off x="7881480" y="550908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272"/>
              <p:cNvSpPr/>
              <p:nvPr/>
            </p:nvSpPr>
            <p:spPr>
              <a:xfrm>
                <a:off x="7594200" y="550908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273"/>
              <p:cNvGrpSpPr/>
              <p:nvPr/>
            </p:nvGrpSpPr>
            <p:grpSpPr>
              <a:xfrm>
                <a:off x="7593840" y="5067720"/>
                <a:ext cx="587160" cy="590760"/>
                <a:chOff x="7593840" y="5067720"/>
                <a:chExt cx="587160" cy="590760"/>
              </a:xfrm>
            </p:grpSpPr>
            <p:sp>
              <p:nvSpPr>
                <p:cNvPr id="320" name="AutoShape 274"/>
                <p:cNvSpPr/>
                <p:nvPr/>
              </p:nvSpPr>
              <p:spPr>
                <a:xfrm flipH="1">
                  <a:off x="7593480" y="5067720"/>
                  <a:ext cx="58716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75"/>
                <p:cNvSpPr/>
                <p:nvPr/>
              </p:nvSpPr>
              <p:spPr>
                <a:xfrm flipH="1">
                  <a:off x="7886880" y="52110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76"/>
                <p:cNvSpPr/>
                <p:nvPr/>
              </p:nvSpPr>
              <p:spPr>
                <a:xfrm>
                  <a:off x="7595640" y="52124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277"/>
              <p:cNvGrpSpPr/>
              <p:nvPr/>
            </p:nvGrpSpPr>
            <p:grpSpPr>
              <a:xfrm>
                <a:off x="7602120" y="4777920"/>
                <a:ext cx="586800" cy="588600"/>
                <a:chOff x="7602120" y="4777920"/>
                <a:chExt cx="586800" cy="588600"/>
              </a:xfrm>
            </p:grpSpPr>
            <p:sp>
              <p:nvSpPr>
                <p:cNvPr id="324" name="AutoShape 278"/>
                <p:cNvSpPr/>
                <p:nvPr/>
              </p:nvSpPr>
              <p:spPr>
                <a:xfrm flipH="1">
                  <a:off x="7602120" y="4777920"/>
                  <a:ext cx="58680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79"/>
                <p:cNvSpPr/>
                <p:nvPr/>
              </p:nvSpPr>
              <p:spPr>
                <a:xfrm flipH="1">
                  <a:off x="7889040" y="49197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80"/>
                <p:cNvSpPr/>
                <p:nvPr/>
              </p:nvSpPr>
              <p:spPr>
                <a:xfrm>
                  <a:off x="7603560" y="49215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281"/>
              <p:cNvGrpSpPr/>
              <p:nvPr/>
            </p:nvGrpSpPr>
            <p:grpSpPr>
              <a:xfrm>
                <a:off x="7899840" y="5520600"/>
                <a:ext cx="586800" cy="588960"/>
                <a:chOff x="7899840" y="5520600"/>
                <a:chExt cx="586800" cy="588960"/>
              </a:xfrm>
            </p:grpSpPr>
            <p:sp>
              <p:nvSpPr>
                <p:cNvPr id="328" name="AutoShape 282"/>
                <p:cNvSpPr/>
                <p:nvPr/>
              </p:nvSpPr>
              <p:spPr>
                <a:xfrm flipH="1">
                  <a:off x="7899840" y="552060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83"/>
                <p:cNvSpPr/>
                <p:nvPr/>
              </p:nvSpPr>
              <p:spPr>
                <a:xfrm flipH="1">
                  <a:off x="8192520" y="5663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84"/>
                <p:cNvSpPr/>
                <p:nvPr/>
              </p:nvSpPr>
              <p:spPr>
                <a:xfrm>
                  <a:off x="7901280" y="56649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85"/>
              <p:cNvGrpSpPr/>
              <p:nvPr/>
            </p:nvGrpSpPr>
            <p:grpSpPr>
              <a:xfrm>
                <a:off x="7895880" y="5225040"/>
                <a:ext cx="586800" cy="588600"/>
                <a:chOff x="7895880" y="5225040"/>
                <a:chExt cx="586800" cy="588600"/>
              </a:xfrm>
            </p:grpSpPr>
            <p:sp>
              <p:nvSpPr>
                <p:cNvPr id="332" name="AutoShape 286"/>
                <p:cNvSpPr/>
                <p:nvPr/>
              </p:nvSpPr>
              <p:spPr>
                <a:xfrm flipH="1">
                  <a:off x="7895880" y="5225040"/>
                  <a:ext cx="58680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87"/>
                <p:cNvSpPr/>
                <p:nvPr/>
              </p:nvSpPr>
              <p:spPr>
                <a:xfrm flipH="1">
                  <a:off x="8184600" y="53686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288"/>
                <p:cNvSpPr/>
                <p:nvPr/>
              </p:nvSpPr>
              <p:spPr>
                <a:xfrm>
                  <a:off x="7901280" y="5368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289"/>
              <p:cNvGrpSpPr/>
              <p:nvPr/>
            </p:nvGrpSpPr>
            <p:grpSpPr>
              <a:xfrm>
                <a:off x="7895880" y="4929840"/>
                <a:ext cx="586800" cy="582840"/>
                <a:chOff x="7895880" y="4929840"/>
                <a:chExt cx="586800" cy="582840"/>
              </a:xfrm>
            </p:grpSpPr>
            <p:sp>
              <p:nvSpPr>
                <p:cNvPr id="336" name="AutoShape 290"/>
                <p:cNvSpPr/>
                <p:nvPr/>
              </p:nvSpPr>
              <p:spPr>
                <a:xfrm flipH="1">
                  <a:off x="7895880" y="4929840"/>
                  <a:ext cx="58680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291"/>
                <p:cNvSpPr/>
                <p:nvPr/>
              </p:nvSpPr>
              <p:spPr>
                <a:xfrm flipH="1">
                  <a:off x="8184600" y="5065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292"/>
                <p:cNvSpPr/>
                <p:nvPr/>
              </p:nvSpPr>
              <p:spPr>
                <a:xfrm>
                  <a:off x="7899840" y="50677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293"/>
              <p:cNvGrpSpPr/>
              <p:nvPr/>
            </p:nvGrpSpPr>
            <p:grpSpPr>
              <a:xfrm>
                <a:off x="8202600" y="5668560"/>
                <a:ext cx="586440" cy="588600"/>
                <a:chOff x="8202600" y="5668560"/>
                <a:chExt cx="586440" cy="588600"/>
              </a:xfrm>
            </p:grpSpPr>
            <p:sp>
              <p:nvSpPr>
                <p:cNvPr id="340" name="AutoShape 294"/>
                <p:cNvSpPr/>
                <p:nvPr/>
              </p:nvSpPr>
              <p:spPr>
                <a:xfrm flipH="1">
                  <a:off x="8202240" y="5668560"/>
                  <a:ext cx="58644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295"/>
                <p:cNvSpPr/>
                <p:nvPr/>
              </p:nvSpPr>
              <p:spPr>
                <a:xfrm flipH="1">
                  <a:off x="8495280" y="581220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296"/>
                <p:cNvSpPr/>
                <p:nvPr/>
              </p:nvSpPr>
              <p:spPr>
                <a:xfrm>
                  <a:off x="8204400" y="58122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297"/>
              <p:cNvGrpSpPr/>
              <p:nvPr/>
            </p:nvGrpSpPr>
            <p:grpSpPr>
              <a:xfrm>
                <a:off x="8202960" y="5372640"/>
                <a:ext cx="586800" cy="588960"/>
                <a:chOff x="8202960" y="5372640"/>
                <a:chExt cx="586800" cy="588960"/>
              </a:xfrm>
            </p:grpSpPr>
            <p:sp>
              <p:nvSpPr>
                <p:cNvPr id="344" name="AutoShape 298"/>
                <p:cNvSpPr/>
                <p:nvPr/>
              </p:nvSpPr>
              <p:spPr>
                <a:xfrm flipH="1">
                  <a:off x="8202960" y="5372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299"/>
                <p:cNvSpPr/>
                <p:nvPr/>
              </p:nvSpPr>
              <p:spPr>
                <a:xfrm flipH="1">
                  <a:off x="8495640" y="55155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300"/>
                <p:cNvSpPr/>
                <p:nvPr/>
              </p:nvSpPr>
              <p:spPr>
                <a:xfrm>
                  <a:off x="8204040" y="5516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301"/>
              <p:cNvGrpSpPr/>
              <p:nvPr/>
            </p:nvGrpSpPr>
            <p:grpSpPr>
              <a:xfrm>
                <a:off x="8202960" y="5077440"/>
                <a:ext cx="586800" cy="588600"/>
                <a:chOff x="8202960" y="5077440"/>
                <a:chExt cx="586800" cy="588600"/>
              </a:xfrm>
            </p:grpSpPr>
            <p:sp>
              <p:nvSpPr>
                <p:cNvPr id="348" name="AutoShape 302"/>
                <p:cNvSpPr/>
                <p:nvPr/>
              </p:nvSpPr>
              <p:spPr>
                <a:xfrm flipH="1">
                  <a:off x="8202960" y="5077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303"/>
                <p:cNvSpPr/>
                <p:nvPr/>
              </p:nvSpPr>
              <p:spPr>
                <a:xfrm flipH="1">
                  <a:off x="8495640" y="52203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304"/>
                <p:cNvSpPr/>
                <p:nvPr/>
              </p:nvSpPr>
              <p:spPr>
                <a:xfrm>
                  <a:off x="8204040" y="522180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05"/>
              <p:cNvGrpSpPr/>
              <p:nvPr/>
            </p:nvGrpSpPr>
            <p:grpSpPr>
              <a:xfrm>
                <a:off x="7296840" y="4329000"/>
                <a:ext cx="586440" cy="588600"/>
                <a:chOff x="7296840" y="4329000"/>
                <a:chExt cx="586440" cy="588600"/>
              </a:xfrm>
            </p:grpSpPr>
            <p:sp>
              <p:nvSpPr>
                <p:cNvPr id="352" name="AutoShape 306"/>
                <p:cNvSpPr/>
                <p:nvPr/>
              </p:nvSpPr>
              <p:spPr>
                <a:xfrm flipH="1">
                  <a:off x="7296480" y="43290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307"/>
                <p:cNvSpPr/>
                <p:nvPr/>
              </p:nvSpPr>
              <p:spPr>
                <a:xfrm flipH="1">
                  <a:off x="7581960" y="4472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308"/>
                <p:cNvSpPr/>
                <p:nvPr/>
              </p:nvSpPr>
              <p:spPr>
                <a:xfrm>
                  <a:off x="7297200" y="4472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309"/>
              <p:cNvGrpSpPr/>
              <p:nvPr/>
            </p:nvGrpSpPr>
            <p:grpSpPr>
              <a:xfrm>
                <a:off x="7600320" y="4476600"/>
                <a:ext cx="586800" cy="590760"/>
                <a:chOff x="7600320" y="4476600"/>
                <a:chExt cx="586800" cy="590760"/>
              </a:xfrm>
            </p:grpSpPr>
            <p:sp>
              <p:nvSpPr>
                <p:cNvPr id="356" name="AutoShape 310"/>
                <p:cNvSpPr/>
                <p:nvPr/>
              </p:nvSpPr>
              <p:spPr>
                <a:xfrm flipH="1">
                  <a:off x="7600320" y="447660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311"/>
                <p:cNvSpPr/>
                <p:nvPr/>
              </p:nvSpPr>
              <p:spPr>
                <a:xfrm flipH="1">
                  <a:off x="7893000" y="4619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312"/>
                <p:cNvSpPr/>
                <p:nvPr/>
              </p:nvSpPr>
              <p:spPr>
                <a:xfrm>
                  <a:off x="7601760" y="4621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313"/>
              <p:cNvGrpSpPr/>
              <p:nvPr/>
            </p:nvGrpSpPr>
            <p:grpSpPr>
              <a:xfrm>
                <a:off x="7899480" y="4626360"/>
                <a:ext cx="586440" cy="590760"/>
                <a:chOff x="7899480" y="4626360"/>
                <a:chExt cx="586440" cy="590760"/>
              </a:xfrm>
            </p:grpSpPr>
            <p:sp>
              <p:nvSpPr>
                <p:cNvPr id="360" name="AutoShape 314"/>
                <p:cNvSpPr/>
                <p:nvPr/>
              </p:nvSpPr>
              <p:spPr>
                <a:xfrm flipH="1">
                  <a:off x="7899120" y="4626360"/>
                  <a:ext cx="586440" cy="2934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315"/>
                <p:cNvSpPr/>
                <p:nvPr/>
              </p:nvSpPr>
              <p:spPr>
                <a:xfrm flipH="1">
                  <a:off x="8182440" y="47703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316"/>
                <p:cNvSpPr/>
                <p:nvPr/>
              </p:nvSpPr>
              <p:spPr>
                <a:xfrm>
                  <a:off x="7901280" y="47721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317"/>
              <p:cNvGrpSpPr/>
              <p:nvPr/>
            </p:nvGrpSpPr>
            <p:grpSpPr>
              <a:xfrm>
                <a:off x="8202600" y="4781880"/>
                <a:ext cx="586440" cy="588600"/>
                <a:chOff x="8202600" y="4781880"/>
                <a:chExt cx="586440" cy="588600"/>
              </a:xfrm>
            </p:grpSpPr>
            <p:sp>
              <p:nvSpPr>
                <p:cNvPr id="364" name="AutoShape 318"/>
                <p:cNvSpPr/>
                <p:nvPr/>
              </p:nvSpPr>
              <p:spPr>
                <a:xfrm flipH="1">
                  <a:off x="8202240" y="47818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319"/>
                <p:cNvSpPr/>
                <p:nvPr/>
              </p:nvSpPr>
              <p:spPr>
                <a:xfrm flipH="1">
                  <a:off x="8495280" y="4925520"/>
                  <a:ext cx="29340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320"/>
                <p:cNvSpPr/>
                <p:nvPr/>
              </p:nvSpPr>
              <p:spPr>
                <a:xfrm>
                  <a:off x="8204400" y="49255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Group 321"/>
            <p:cNvGrpSpPr/>
            <p:nvPr/>
          </p:nvGrpSpPr>
          <p:grpSpPr>
            <a:xfrm>
              <a:off x="6426000" y="4764600"/>
              <a:ext cx="1492560" cy="1928160"/>
              <a:chOff x="6426000" y="4764600"/>
              <a:chExt cx="1492560" cy="1928160"/>
            </a:xfrm>
          </p:grpSpPr>
          <p:sp>
            <p:nvSpPr>
              <p:cNvPr id="368" name="AutoShape 322"/>
              <p:cNvSpPr/>
              <p:nvPr/>
            </p:nvSpPr>
            <p:spPr>
              <a:xfrm flipH="1">
                <a:off x="6426360" y="56530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323"/>
              <p:cNvSpPr/>
              <p:nvPr/>
            </p:nvSpPr>
            <p:spPr>
              <a:xfrm flipH="1">
                <a:off x="6719040" y="579672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324"/>
              <p:cNvSpPr/>
              <p:nvPr/>
            </p:nvSpPr>
            <p:spPr>
              <a:xfrm>
                <a:off x="6426360" y="579672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utoShape 325"/>
              <p:cNvSpPr/>
              <p:nvPr/>
            </p:nvSpPr>
            <p:spPr>
              <a:xfrm flipH="1">
                <a:off x="6426360" y="53535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326"/>
              <p:cNvSpPr/>
              <p:nvPr/>
            </p:nvSpPr>
            <p:spPr>
              <a:xfrm flipH="1">
                <a:off x="6719040" y="54972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327"/>
              <p:cNvSpPr/>
              <p:nvPr/>
            </p:nvSpPr>
            <p:spPr>
              <a:xfrm>
                <a:off x="6428520" y="549936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Group 328"/>
              <p:cNvGrpSpPr/>
              <p:nvPr/>
            </p:nvGrpSpPr>
            <p:grpSpPr>
              <a:xfrm>
                <a:off x="6426360" y="5055840"/>
                <a:ext cx="586800" cy="590760"/>
                <a:chOff x="6426360" y="5055840"/>
                <a:chExt cx="586800" cy="590760"/>
              </a:xfrm>
            </p:grpSpPr>
            <p:sp>
              <p:nvSpPr>
                <p:cNvPr id="375" name="AutoShape 329"/>
                <p:cNvSpPr/>
                <p:nvPr/>
              </p:nvSpPr>
              <p:spPr>
                <a:xfrm flipH="1">
                  <a:off x="6426360" y="505584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330"/>
                <p:cNvSpPr/>
                <p:nvPr/>
              </p:nvSpPr>
              <p:spPr>
                <a:xfrm flipH="1">
                  <a:off x="6719040" y="5199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331"/>
                <p:cNvSpPr/>
                <p:nvPr/>
              </p:nvSpPr>
              <p:spPr>
                <a:xfrm>
                  <a:off x="6427800" y="5200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AutoShape 332"/>
              <p:cNvSpPr/>
              <p:nvPr/>
            </p:nvSpPr>
            <p:spPr>
              <a:xfrm flipH="1">
                <a:off x="6723720" y="58006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333"/>
              <p:cNvSpPr/>
              <p:nvPr/>
            </p:nvSpPr>
            <p:spPr>
              <a:xfrm flipH="1">
                <a:off x="7010640" y="594432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334"/>
              <p:cNvSpPr/>
              <p:nvPr/>
            </p:nvSpPr>
            <p:spPr>
              <a:xfrm>
                <a:off x="6723720" y="594432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Group 335"/>
              <p:cNvGrpSpPr/>
              <p:nvPr/>
            </p:nvGrpSpPr>
            <p:grpSpPr>
              <a:xfrm>
                <a:off x="6723720" y="5502960"/>
                <a:ext cx="586800" cy="590760"/>
                <a:chOff x="6723720" y="5502960"/>
                <a:chExt cx="586800" cy="590760"/>
              </a:xfrm>
            </p:grpSpPr>
            <p:sp>
              <p:nvSpPr>
                <p:cNvPr id="382" name="AutoShape 336"/>
                <p:cNvSpPr/>
                <p:nvPr/>
              </p:nvSpPr>
              <p:spPr>
                <a:xfrm flipH="1">
                  <a:off x="6723720" y="550296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337"/>
                <p:cNvSpPr/>
                <p:nvPr/>
              </p:nvSpPr>
              <p:spPr>
                <a:xfrm flipH="1">
                  <a:off x="7016400" y="56462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338"/>
                <p:cNvSpPr/>
                <p:nvPr/>
              </p:nvSpPr>
              <p:spPr>
                <a:xfrm>
                  <a:off x="6725160" y="5647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Group 339"/>
              <p:cNvGrpSpPr/>
              <p:nvPr/>
            </p:nvGrpSpPr>
            <p:grpSpPr>
              <a:xfrm>
                <a:off x="6731640" y="5213160"/>
                <a:ext cx="586080" cy="588600"/>
                <a:chOff x="6731640" y="5213160"/>
                <a:chExt cx="586080" cy="588600"/>
              </a:xfrm>
            </p:grpSpPr>
            <p:sp>
              <p:nvSpPr>
                <p:cNvPr id="386" name="AutoShape 340"/>
                <p:cNvSpPr/>
                <p:nvPr/>
              </p:nvSpPr>
              <p:spPr>
                <a:xfrm flipH="1">
                  <a:off x="6731640" y="5213160"/>
                  <a:ext cx="58608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341"/>
                <p:cNvSpPr/>
                <p:nvPr/>
              </p:nvSpPr>
              <p:spPr>
                <a:xfrm flipH="1">
                  <a:off x="7018920" y="53550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342"/>
                <p:cNvSpPr/>
                <p:nvPr/>
              </p:nvSpPr>
              <p:spPr>
                <a:xfrm>
                  <a:off x="6733800" y="53568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43"/>
              <p:cNvGrpSpPr/>
              <p:nvPr/>
            </p:nvGrpSpPr>
            <p:grpSpPr>
              <a:xfrm>
                <a:off x="7028640" y="5956200"/>
                <a:ext cx="586800" cy="588600"/>
                <a:chOff x="7028640" y="5956200"/>
                <a:chExt cx="586800" cy="588600"/>
              </a:xfrm>
            </p:grpSpPr>
            <p:sp>
              <p:nvSpPr>
                <p:cNvPr id="390" name="AutoShape 344"/>
                <p:cNvSpPr/>
                <p:nvPr/>
              </p:nvSpPr>
              <p:spPr>
                <a:xfrm flipH="1">
                  <a:off x="7028640" y="595620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345"/>
                <p:cNvSpPr/>
                <p:nvPr/>
              </p:nvSpPr>
              <p:spPr>
                <a:xfrm flipH="1">
                  <a:off x="7321320" y="60991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346"/>
                <p:cNvSpPr/>
                <p:nvPr/>
              </p:nvSpPr>
              <p:spPr>
                <a:xfrm>
                  <a:off x="7030080" y="6100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347"/>
              <p:cNvGrpSpPr/>
              <p:nvPr/>
            </p:nvGrpSpPr>
            <p:grpSpPr>
              <a:xfrm>
                <a:off x="7025040" y="5661000"/>
                <a:ext cx="586080" cy="588600"/>
                <a:chOff x="7025040" y="5661000"/>
                <a:chExt cx="586080" cy="588600"/>
              </a:xfrm>
            </p:grpSpPr>
            <p:sp>
              <p:nvSpPr>
                <p:cNvPr id="394" name="AutoShape 348"/>
                <p:cNvSpPr/>
                <p:nvPr/>
              </p:nvSpPr>
              <p:spPr>
                <a:xfrm flipH="1">
                  <a:off x="7025040" y="5661000"/>
                  <a:ext cx="58608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349"/>
                <p:cNvSpPr/>
                <p:nvPr/>
              </p:nvSpPr>
              <p:spPr>
                <a:xfrm flipH="1">
                  <a:off x="7313400" y="5804640"/>
                  <a:ext cx="29268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350"/>
                <p:cNvSpPr/>
                <p:nvPr/>
              </p:nvSpPr>
              <p:spPr>
                <a:xfrm>
                  <a:off x="7030440" y="5804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351"/>
              <p:cNvGrpSpPr/>
              <p:nvPr/>
            </p:nvGrpSpPr>
            <p:grpSpPr>
              <a:xfrm>
                <a:off x="7025040" y="5365080"/>
                <a:ext cx="586080" cy="582840"/>
                <a:chOff x="7025040" y="5365080"/>
                <a:chExt cx="586080" cy="582840"/>
              </a:xfrm>
            </p:grpSpPr>
            <p:sp>
              <p:nvSpPr>
                <p:cNvPr id="398" name="AutoShape 352"/>
                <p:cNvSpPr/>
                <p:nvPr/>
              </p:nvSpPr>
              <p:spPr>
                <a:xfrm flipH="1">
                  <a:off x="7025040" y="5365080"/>
                  <a:ext cx="58608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353"/>
                <p:cNvSpPr/>
                <p:nvPr/>
              </p:nvSpPr>
              <p:spPr>
                <a:xfrm flipH="1">
                  <a:off x="7313400" y="55008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354"/>
                <p:cNvSpPr/>
                <p:nvPr/>
              </p:nvSpPr>
              <p:spPr>
                <a:xfrm>
                  <a:off x="7028280" y="5502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355"/>
              <p:cNvGrpSpPr/>
              <p:nvPr/>
            </p:nvGrpSpPr>
            <p:grpSpPr>
              <a:xfrm>
                <a:off x="7331400" y="6104160"/>
                <a:ext cx="586440" cy="588600"/>
                <a:chOff x="7331400" y="6104160"/>
                <a:chExt cx="586440" cy="588600"/>
              </a:xfrm>
            </p:grpSpPr>
            <p:sp>
              <p:nvSpPr>
                <p:cNvPr id="402" name="AutoShape 356"/>
                <p:cNvSpPr/>
                <p:nvPr/>
              </p:nvSpPr>
              <p:spPr>
                <a:xfrm flipH="1">
                  <a:off x="7331040" y="6104160"/>
                  <a:ext cx="58644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357"/>
                <p:cNvSpPr/>
                <p:nvPr/>
              </p:nvSpPr>
              <p:spPr>
                <a:xfrm flipH="1">
                  <a:off x="7624080" y="624780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358"/>
                <p:cNvSpPr/>
                <p:nvPr/>
              </p:nvSpPr>
              <p:spPr>
                <a:xfrm>
                  <a:off x="7333200" y="62478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359"/>
              <p:cNvGrpSpPr/>
              <p:nvPr/>
            </p:nvGrpSpPr>
            <p:grpSpPr>
              <a:xfrm>
                <a:off x="7331760" y="5808600"/>
                <a:ext cx="586800" cy="588600"/>
                <a:chOff x="7331760" y="5808600"/>
                <a:chExt cx="586800" cy="588600"/>
              </a:xfrm>
            </p:grpSpPr>
            <p:sp>
              <p:nvSpPr>
                <p:cNvPr id="406" name="AutoShape 360"/>
                <p:cNvSpPr/>
                <p:nvPr/>
              </p:nvSpPr>
              <p:spPr>
                <a:xfrm flipH="1">
                  <a:off x="7331760" y="58086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361"/>
                <p:cNvSpPr/>
                <p:nvPr/>
              </p:nvSpPr>
              <p:spPr>
                <a:xfrm flipH="1">
                  <a:off x="7624440" y="5951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362"/>
                <p:cNvSpPr/>
                <p:nvPr/>
              </p:nvSpPr>
              <p:spPr>
                <a:xfrm>
                  <a:off x="7332840" y="5952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363"/>
              <p:cNvGrpSpPr/>
              <p:nvPr/>
            </p:nvGrpSpPr>
            <p:grpSpPr>
              <a:xfrm>
                <a:off x="7331760" y="5512680"/>
                <a:ext cx="586800" cy="588960"/>
                <a:chOff x="7331760" y="5512680"/>
                <a:chExt cx="586800" cy="588960"/>
              </a:xfrm>
            </p:grpSpPr>
            <p:sp>
              <p:nvSpPr>
                <p:cNvPr id="410" name="AutoShape 364"/>
                <p:cNvSpPr/>
                <p:nvPr/>
              </p:nvSpPr>
              <p:spPr>
                <a:xfrm flipH="1">
                  <a:off x="7331760" y="551268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365"/>
                <p:cNvSpPr/>
                <p:nvPr/>
              </p:nvSpPr>
              <p:spPr>
                <a:xfrm flipH="1">
                  <a:off x="7624440" y="56556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366"/>
                <p:cNvSpPr/>
                <p:nvPr/>
              </p:nvSpPr>
              <p:spPr>
                <a:xfrm>
                  <a:off x="7332840" y="5657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367"/>
              <p:cNvGrpSpPr/>
              <p:nvPr/>
            </p:nvGrpSpPr>
            <p:grpSpPr>
              <a:xfrm>
                <a:off x="6426000" y="4764600"/>
                <a:ext cx="586440" cy="588600"/>
                <a:chOff x="6426000" y="4764600"/>
                <a:chExt cx="586440" cy="588600"/>
              </a:xfrm>
            </p:grpSpPr>
            <p:sp>
              <p:nvSpPr>
                <p:cNvPr id="414" name="AutoShape 368"/>
                <p:cNvSpPr/>
                <p:nvPr/>
              </p:nvSpPr>
              <p:spPr>
                <a:xfrm flipH="1">
                  <a:off x="6425640" y="47646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369"/>
                <p:cNvSpPr/>
                <p:nvPr/>
              </p:nvSpPr>
              <p:spPr>
                <a:xfrm flipH="1">
                  <a:off x="6711120" y="4908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370"/>
                <p:cNvSpPr/>
                <p:nvPr/>
              </p:nvSpPr>
              <p:spPr>
                <a:xfrm>
                  <a:off x="6426360" y="4908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371"/>
              <p:cNvGrpSpPr/>
              <p:nvPr/>
            </p:nvGrpSpPr>
            <p:grpSpPr>
              <a:xfrm>
                <a:off x="6729480" y="4912200"/>
                <a:ext cx="586800" cy="590400"/>
                <a:chOff x="6729480" y="4912200"/>
                <a:chExt cx="586800" cy="590400"/>
              </a:xfrm>
            </p:grpSpPr>
            <p:sp>
              <p:nvSpPr>
                <p:cNvPr id="418" name="AutoShape 372"/>
                <p:cNvSpPr/>
                <p:nvPr/>
              </p:nvSpPr>
              <p:spPr>
                <a:xfrm flipH="1">
                  <a:off x="6729480" y="49122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373"/>
                <p:cNvSpPr/>
                <p:nvPr/>
              </p:nvSpPr>
              <p:spPr>
                <a:xfrm flipH="1">
                  <a:off x="7022160" y="50554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374"/>
                <p:cNvSpPr/>
                <p:nvPr/>
              </p:nvSpPr>
              <p:spPr>
                <a:xfrm>
                  <a:off x="6730920" y="50569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375"/>
              <p:cNvGrpSpPr/>
              <p:nvPr/>
            </p:nvGrpSpPr>
            <p:grpSpPr>
              <a:xfrm>
                <a:off x="7028280" y="5061600"/>
                <a:ext cx="586440" cy="590760"/>
                <a:chOff x="7028280" y="5061600"/>
                <a:chExt cx="586440" cy="590760"/>
              </a:xfrm>
            </p:grpSpPr>
            <p:sp>
              <p:nvSpPr>
                <p:cNvPr id="422" name="AutoShape 376"/>
                <p:cNvSpPr/>
                <p:nvPr/>
              </p:nvSpPr>
              <p:spPr>
                <a:xfrm flipH="1">
                  <a:off x="7027920" y="5061600"/>
                  <a:ext cx="586440" cy="2934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377"/>
                <p:cNvSpPr/>
                <p:nvPr/>
              </p:nvSpPr>
              <p:spPr>
                <a:xfrm flipH="1">
                  <a:off x="7311240" y="52056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378"/>
                <p:cNvSpPr/>
                <p:nvPr/>
              </p:nvSpPr>
              <p:spPr>
                <a:xfrm>
                  <a:off x="7030080" y="52074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379"/>
              <p:cNvGrpSpPr/>
              <p:nvPr/>
            </p:nvGrpSpPr>
            <p:grpSpPr>
              <a:xfrm>
                <a:off x="7331760" y="5217120"/>
                <a:ext cx="586800" cy="588600"/>
                <a:chOff x="7331760" y="5217120"/>
                <a:chExt cx="586800" cy="588600"/>
              </a:xfrm>
            </p:grpSpPr>
            <p:sp>
              <p:nvSpPr>
                <p:cNvPr id="426" name="AutoShape 380"/>
                <p:cNvSpPr/>
                <p:nvPr/>
              </p:nvSpPr>
              <p:spPr>
                <a:xfrm flipH="1">
                  <a:off x="7331760" y="521712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381"/>
                <p:cNvSpPr/>
                <p:nvPr/>
              </p:nvSpPr>
              <p:spPr>
                <a:xfrm flipH="1">
                  <a:off x="7624440" y="53600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382"/>
                <p:cNvSpPr/>
                <p:nvPr/>
              </p:nvSpPr>
              <p:spPr>
                <a:xfrm>
                  <a:off x="7332840" y="53611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383"/>
            <p:cNvGrpSpPr/>
            <p:nvPr/>
          </p:nvGrpSpPr>
          <p:grpSpPr>
            <a:xfrm>
              <a:off x="7918920" y="5075640"/>
              <a:ext cx="878400" cy="1629000"/>
              <a:chOff x="7918920" y="5075640"/>
              <a:chExt cx="878400" cy="1629000"/>
            </a:xfrm>
          </p:grpSpPr>
          <p:grpSp>
            <p:nvGrpSpPr>
              <p:cNvPr id="430" name="Group 384"/>
              <p:cNvGrpSpPr/>
              <p:nvPr/>
            </p:nvGrpSpPr>
            <p:grpSpPr>
              <a:xfrm>
                <a:off x="8210520" y="5970240"/>
                <a:ext cx="586800" cy="588600"/>
                <a:chOff x="8210520" y="5970240"/>
                <a:chExt cx="586800" cy="588600"/>
              </a:xfrm>
            </p:grpSpPr>
            <p:sp>
              <p:nvSpPr>
                <p:cNvPr id="431" name="AutoShape 385"/>
                <p:cNvSpPr/>
                <p:nvPr/>
              </p:nvSpPr>
              <p:spPr>
                <a:xfrm flipH="1">
                  <a:off x="8210520" y="5970240"/>
                  <a:ext cx="586800" cy="2926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386"/>
                <p:cNvSpPr/>
                <p:nvPr/>
              </p:nvSpPr>
              <p:spPr>
                <a:xfrm flipH="1">
                  <a:off x="8503200" y="61131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387"/>
                <p:cNvSpPr/>
                <p:nvPr/>
              </p:nvSpPr>
              <p:spPr>
                <a:xfrm>
                  <a:off x="8211600" y="61142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388"/>
              <p:cNvGrpSpPr/>
              <p:nvPr/>
            </p:nvGrpSpPr>
            <p:grpSpPr>
              <a:xfrm>
                <a:off x="7919280" y="6115680"/>
                <a:ext cx="586080" cy="588960"/>
                <a:chOff x="7919280" y="6115680"/>
                <a:chExt cx="586080" cy="588960"/>
              </a:xfrm>
            </p:grpSpPr>
            <p:sp>
              <p:nvSpPr>
                <p:cNvPr id="435" name="AutoShape 389"/>
                <p:cNvSpPr/>
                <p:nvPr/>
              </p:nvSpPr>
              <p:spPr>
                <a:xfrm flipH="1">
                  <a:off x="7919280" y="6115680"/>
                  <a:ext cx="58608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390"/>
                <p:cNvSpPr/>
                <p:nvPr/>
              </p:nvSpPr>
              <p:spPr>
                <a:xfrm flipH="1">
                  <a:off x="8211240" y="62596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391"/>
                <p:cNvSpPr/>
                <p:nvPr/>
              </p:nvSpPr>
              <p:spPr>
                <a:xfrm>
                  <a:off x="7920720" y="6259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Group 392"/>
              <p:cNvGrpSpPr/>
              <p:nvPr/>
            </p:nvGrpSpPr>
            <p:grpSpPr>
              <a:xfrm>
                <a:off x="8210520" y="5668560"/>
                <a:ext cx="586800" cy="588960"/>
                <a:chOff x="8210520" y="5668560"/>
                <a:chExt cx="586800" cy="588960"/>
              </a:xfrm>
            </p:grpSpPr>
            <p:sp>
              <p:nvSpPr>
                <p:cNvPr id="439" name="AutoShape 393"/>
                <p:cNvSpPr/>
                <p:nvPr/>
              </p:nvSpPr>
              <p:spPr>
                <a:xfrm flipH="1">
                  <a:off x="8210520" y="566856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394"/>
                <p:cNvSpPr/>
                <p:nvPr/>
              </p:nvSpPr>
              <p:spPr>
                <a:xfrm flipH="1">
                  <a:off x="8503200" y="5811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395"/>
                <p:cNvSpPr/>
                <p:nvPr/>
              </p:nvSpPr>
              <p:spPr>
                <a:xfrm>
                  <a:off x="8211960" y="58125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96"/>
              <p:cNvGrpSpPr/>
              <p:nvPr/>
            </p:nvGrpSpPr>
            <p:grpSpPr>
              <a:xfrm>
                <a:off x="7918920" y="5814360"/>
                <a:ext cx="586440" cy="588600"/>
                <a:chOff x="7918920" y="5814360"/>
                <a:chExt cx="586440" cy="588600"/>
              </a:xfrm>
            </p:grpSpPr>
            <p:sp>
              <p:nvSpPr>
                <p:cNvPr id="443" name="AutoShape 397"/>
                <p:cNvSpPr/>
                <p:nvPr/>
              </p:nvSpPr>
              <p:spPr>
                <a:xfrm flipH="1">
                  <a:off x="7918560" y="5814360"/>
                  <a:ext cx="58644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98"/>
                <p:cNvSpPr/>
                <p:nvPr/>
              </p:nvSpPr>
              <p:spPr>
                <a:xfrm flipH="1">
                  <a:off x="8212320" y="595728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99"/>
                <p:cNvSpPr/>
                <p:nvPr/>
              </p:nvSpPr>
              <p:spPr>
                <a:xfrm>
                  <a:off x="7920360" y="5958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400"/>
              <p:cNvGrpSpPr/>
              <p:nvPr/>
            </p:nvGrpSpPr>
            <p:grpSpPr>
              <a:xfrm>
                <a:off x="8210520" y="5367240"/>
                <a:ext cx="586800" cy="590400"/>
                <a:chOff x="8210520" y="5367240"/>
                <a:chExt cx="586800" cy="590400"/>
              </a:xfrm>
            </p:grpSpPr>
            <p:sp>
              <p:nvSpPr>
                <p:cNvPr id="447" name="AutoShape 401"/>
                <p:cNvSpPr/>
                <p:nvPr/>
              </p:nvSpPr>
              <p:spPr>
                <a:xfrm flipH="1">
                  <a:off x="8210520" y="53672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402"/>
                <p:cNvSpPr/>
                <p:nvPr/>
              </p:nvSpPr>
              <p:spPr>
                <a:xfrm flipH="1">
                  <a:off x="8503200" y="55105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403"/>
                <p:cNvSpPr/>
                <p:nvPr/>
              </p:nvSpPr>
              <p:spPr>
                <a:xfrm>
                  <a:off x="8211960" y="551196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404"/>
              <p:cNvGrpSpPr/>
              <p:nvPr/>
            </p:nvGrpSpPr>
            <p:grpSpPr>
              <a:xfrm>
                <a:off x="7918920" y="5512680"/>
                <a:ext cx="586440" cy="590760"/>
                <a:chOff x="7918920" y="5512680"/>
                <a:chExt cx="586440" cy="590760"/>
              </a:xfrm>
            </p:grpSpPr>
            <p:sp>
              <p:nvSpPr>
                <p:cNvPr id="451" name="AutoShape 405"/>
                <p:cNvSpPr/>
                <p:nvPr/>
              </p:nvSpPr>
              <p:spPr>
                <a:xfrm flipH="1">
                  <a:off x="7918560" y="5512680"/>
                  <a:ext cx="586440" cy="29376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406"/>
                <p:cNvSpPr/>
                <p:nvPr/>
              </p:nvSpPr>
              <p:spPr>
                <a:xfrm flipH="1">
                  <a:off x="8212320" y="565596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407"/>
                <p:cNvSpPr/>
                <p:nvPr/>
              </p:nvSpPr>
              <p:spPr>
                <a:xfrm>
                  <a:off x="7920360" y="56574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408"/>
              <p:cNvGrpSpPr/>
              <p:nvPr/>
            </p:nvGrpSpPr>
            <p:grpSpPr>
              <a:xfrm>
                <a:off x="8210520" y="5075640"/>
                <a:ext cx="586800" cy="588960"/>
                <a:chOff x="8210520" y="5075640"/>
                <a:chExt cx="586800" cy="588960"/>
              </a:xfrm>
            </p:grpSpPr>
            <p:sp>
              <p:nvSpPr>
                <p:cNvPr id="455" name="AutoShape 409"/>
                <p:cNvSpPr/>
                <p:nvPr/>
              </p:nvSpPr>
              <p:spPr>
                <a:xfrm flipH="1">
                  <a:off x="8210520" y="5075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410"/>
                <p:cNvSpPr/>
                <p:nvPr/>
              </p:nvSpPr>
              <p:spPr>
                <a:xfrm flipH="1">
                  <a:off x="8503200" y="5218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411"/>
                <p:cNvSpPr/>
                <p:nvPr/>
              </p:nvSpPr>
              <p:spPr>
                <a:xfrm>
                  <a:off x="8211960" y="5219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412"/>
              <p:cNvGrpSpPr/>
              <p:nvPr/>
            </p:nvGrpSpPr>
            <p:grpSpPr>
              <a:xfrm>
                <a:off x="7918920" y="5221440"/>
                <a:ext cx="586440" cy="588600"/>
                <a:chOff x="7918920" y="5221440"/>
                <a:chExt cx="586440" cy="588600"/>
              </a:xfrm>
            </p:grpSpPr>
            <p:sp>
              <p:nvSpPr>
                <p:cNvPr id="459" name="AutoShape 413"/>
                <p:cNvSpPr/>
                <p:nvPr/>
              </p:nvSpPr>
              <p:spPr>
                <a:xfrm flipH="1">
                  <a:off x="7918560" y="5221440"/>
                  <a:ext cx="58644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414"/>
                <p:cNvSpPr/>
                <p:nvPr/>
              </p:nvSpPr>
              <p:spPr>
                <a:xfrm flipH="1">
                  <a:off x="8212320" y="5364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415"/>
                <p:cNvSpPr/>
                <p:nvPr/>
              </p:nvSpPr>
              <p:spPr>
                <a:xfrm>
                  <a:off x="7920360" y="536580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2" name="Rectangle 424"/>
          <p:cNvSpPr/>
          <p:nvPr/>
        </p:nvSpPr>
        <p:spPr>
          <a:xfrm>
            <a:off x="706320" y="646200"/>
            <a:ext cx="8437680" cy="22068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82"/>
          <p:cNvGrpSpPr/>
          <p:nvPr/>
        </p:nvGrpSpPr>
        <p:grpSpPr>
          <a:xfrm>
            <a:off x="212760" y="133200"/>
            <a:ext cx="5816520" cy="5423040"/>
            <a:chOff x="212760" y="133200"/>
            <a:chExt cx="5816520" cy="5423040"/>
          </a:xfrm>
        </p:grpSpPr>
        <p:sp>
          <p:nvSpPr>
            <p:cNvPr id="464" name="Oval 83"/>
            <p:cNvSpPr/>
            <p:nvPr/>
          </p:nvSpPr>
          <p:spPr>
            <a:xfrm>
              <a:off x="212760" y="133200"/>
              <a:ext cx="5816520" cy="5423040"/>
            </a:xfrm>
            <a:prstGeom prst="ellips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AutoShape 84"/>
            <p:cNvSpPr/>
            <p:nvPr/>
          </p:nvSpPr>
          <p:spPr>
            <a:xfrm flipV="1">
              <a:off x="212760" y="132840"/>
              <a:ext cx="3063240" cy="2638800"/>
            </a:xfrm>
            <a:prstGeom prst="rtTriangl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72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416"/>
          <p:cNvSpPr/>
          <p:nvPr/>
        </p:nvSpPr>
        <p:spPr>
          <a:xfrm flipV="1">
            <a:off x="7856640" y="3031920"/>
            <a:ext cx="0" cy="2119320"/>
          </a:xfrm>
          <a:prstGeom prst="line">
            <a:avLst/>
          </a:prstGeom>
          <a:ln w="1908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417"/>
          <p:cNvSpPr/>
          <p:nvPr/>
        </p:nvSpPr>
        <p:spPr>
          <a:xfrm flipV="1">
            <a:off x="7392960" y="2455920"/>
            <a:ext cx="0" cy="2836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418"/>
          <p:cNvSpPr/>
          <p:nvPr/>
        </p:nvSpPr>
        <p:spPr>
          <a:xfrm flipV="1">
            <a:off x="7113600" y="3184200"/>
            <a:ext cx="0" cy="17492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419"/>
          <p:cNvSpPr/>
          <p:nvPr/>
        </p:nvSpPr>
        <p:spPr>
          <a:xfrm flipV="1">
            <a:off x="7545240" y="2847960"/>
            <a:ext cx="0" cy="1974960"/>
          </a:xfrm>
          <a:prstGeom prst="line">
            <a:avLst/>
          </a:prstGeom>
          <a:ln w="3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421"/>
          <p:cNvGrpSpPr/>
          <p:nvPr/>
        </p:nvGrpSpPr>
        <p:grpSpPr>
          <a:xfrm>
            <a:off x="0" y="6480"/>
            <a:ext cx="5816520" cy="5422680"/>
            <a:chOff x="0" y="6480"/>
            <a:chExt cx="5816520" cy="5422680"/>
          </a:xfrm>
        </p:grpSpPr>
        <p:sp>
          <p:nvSpPr>
            <p:cNvPr id="472" name="Oval 422"/>
            <p:cNvSpPr/>
            <p:nvPr/>
          </p:nvSpPr>
          <p:spPr>
            <a:xfrm>
              <a:off x="0" y="6480"/>
              <a:ext cx="5816520" cy="542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423"/>
            <p:cNvSpPr/>
            <p:nvPr/>
          </p:nvSpPr>
          <p:spPr>
            <a:xfrm flipV="1">
              <a:off x="0" y="6120"/>
              <a:ext cx="3063240" cy="2638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AutoShape 54"/>
          <p:cNvSpPr/>
          <p:nvPr/>
        </p:nvSpPr>
        <p:spPr>
          <a:xfrm>
            <a:off x="695160" y="0"/>
            <a:ext cx="8448840" cy="75708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5"/>
          <p:cNvSpPr/>
          <p:nvPr/>
        </p:nvSpPr>
        <p:spPr>
          <a:xfrm>
            <a:off x="706320" y="558720"/>
            <a:ext cx="843768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77"/>
          <p:cNvSpPr/>
          <p:nvPr/>
        </p:nvSpPr>
        <p:spPr>
          <a:xfrm>
            <a:off x="12600" y="0"/>
            <a:ext cx="1575000" cy="157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18900000"/>
          </a:gradFill>
          <a:ln w="38160">
            <a:solidFill>
              <a:srgbClr val="00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928"/>
          <p:cNvGrpSpPr/>
          <p:nvPr/>
        </p:nvGrpSpPr>
        <p:grpSpPr>
          <a:xfrm>
            <a:off x="139320" y="158760"/>
            <a:ext cx="1581480" cy="1287000"/>
            <a:chOff x="139320" y="158760"/>
            <a:chExt cx="1581480" cy="1287000"/>
          </a:xfrm>
        </p:grpSpPr>
        <p:grpSp>
          <p:nvGrpSpPr>
            <p:cNvPr id="478" name="Group 713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479" name="AutoShape 714"/>
              <p:cNvSpPr/>
              <p:nvPr/>
            </p:nvSpPr>
            <p:spPr>
              <a:xfrm flipH="1">
                <a:off x="1293840" y="509760"/>
                <a:ext cx="426960" cy="212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715"/>
              <p:cNvSpPr/>
              <p:nvPr/>
            </p:nvSpPr>
            <p:spPr>
              <a:xfrm flipH="1">
                <a:off x="1506240" y="614160"/>
                <a:ext cx="213480" cy="320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36147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716"/>
              <p:cNvSpPr/>
              <p:nvPr/>
            </p:nvSpPr>
            <p:spPr>
              <a:xfrm>
                <a:off x="1294920" y="614160"/>
                <a:ext cx="213480" cy="3225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36147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927"/>
            <p:cNvGrpSpPr/>
            <p:nvPr/>
          </p:nvGrpSpPr>
          <p:grpSpPr>
            <a:xfrm>
              <a:off x="139320" y="158760"/>
              <a:ext cx="1285920" cy="1287000"/>
              <a:chOff x="139320" y="158760"/>
              <a:chExt cx="1285920" cy="1287000"/>
            </a:xfrm>
          </p:grpSpPr>
          <p:grpSp>
            <p:nvGrpSpPr>
              <p:cNvPr id="483" name="Group 668"/>
              <p:cNvGrpSpPr/>
              <p:nvPr/>
            </p:nvGrpSpPr>
            <p:grpSpPr>
              <a:xfrm>
                <a:off x="139320" y="555480"/>
                <a:ext cx="566280" cy="569160"/>
                <a:chOff x="139320" y="555480"/>
                <a:chExt cx="566280" cy="569160"/>
              </a:xfrm>
            </p:grpSpPr>
            <p:sp>
              <p:nvSpPr>
                <p:cNvPr id="484" name="AutoShape 669"/>
                <p:cNvSpPr/>
                <p:nvPr/>
              </p:nvSpPr>
              <p:spPr>
                <a:xfrm flipH="1">
                  <a:off x="138960" y="555480"/>
                  <a:ext cx="566280" cy="2833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670"/>
                <p:cNvSpPr/>
                <p:nvPr/>
              </p:nvSpPr>
              <p:spPr>
                <a:xfrm flipH="1">
                  <a:off x="422640" y="69372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671"/>
                <p:cNvSpPr/>
                <p:nvPr/>
              </p:nvSpPr>
              <p:spPr>
                <a:xfrm>
                  <a:off x="141120" y="69480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680"/>
              <p:cNvGrpSpPr/>
              <p:nvPr/>
            </p:nvGrpSpPr>
            <p:grpSpPr>
              <a:xfrm>
                <a:off x="502200" y="728280"/>
                <a:ext cx="563760" cy="565560"/>
                <a:chOff x="502200" y="728280"/>
                <a:chExt cx="563760" cy="565560"/>
              </a:xfrm>
            </p:grpSpPr>
            <p:sp>
              <p:nvSpPr>
                <p:cNvPr id="488" name="AutoShape 681"/>
                <p:cNvSpPr/>
                <p:nvPr/>
              </p:nvSpPr>
              <p:spPr>
                <a:xfrm flipH="1">
                  <a:off x="502200" y="728280"/>
                  <a:ext cx="56376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682"/>
                <p:cNvSpPr/>
                <p:nvPr/>
              </p:nvSpPr>
              <p:spPr>
                <a:xfrm flipH="1">
                  <a:off x="783000" y="866160"/>
                  <a:ext cx="281880" cy="425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683"/>
                <p:cNvSpPr/>
                <p:nvPr/>
              </p:nvSpPr>
              <p:spPr>
                <a:xfrm>
                  <a:off x="503640" y="866160"/>
                  <a:ext cx="28188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684"/>
              <p:cNvGrpSpPr/>
              <p:nvPr/>
            </p:nvGrpSpPr>
            <p:grpSpPr>
              <a:xfrm>
                <a:off x="501840" y="442440"/>
                <a:ext cx="564120" cy="567360"/>
                <a:chOff x="501840" y="442440"/>
                <a:chExt cx="564120" cy="567360"/>
              </a:xfrm>
            </p:grpSpPr>
            <p:sp>
              <p:nvSpPr>
                <p:cNvPr id="492" name="AutoShape 685"/>
                <p:cNvSpPr/>
                <p:nvPr/>
              </p:nvSpPr>
              <p:spPr>
                <a:xfrm flipH="1">
                  <a:off x="501480" y="442440"/>
                  <a:ext cx="56412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686"/>
                <p:cNvSpPr/>
                <p:nvPr/>
              </p:nvSpPr>
              <p:spPr>
                <a:xfrm flipH="1">
                  <a:off x="783360" y="579960"/>
                  <a:ext cx="28188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687"/>
                <p:cNvSpPr/>
                <p:nvPr/>
              </p:nvSpPr>
              <p:spPr>
                <a:xfrm>
                  <a:off x="503280" y="581400"/>
                  <a:ext cx="28188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688"/>
              <p:cNvGrpSpPr/>
              <p:nvPr/>
            </p:nvGrpSpPr>
            <p:grpSpPr>
              <a:xfrm>
                <a:off x="501840" y="158760"/>
                <a:ext cx="564120" cy="565560"/>
                <a:chOff x="501840" y="158760"/>
                <a:chExt cx="564120" cy="565560"/>
              </a:xfrm>
            </p:grpSpPr>
            <p:sp>
              <p:nvSpPr>
                <p:cNvPr id="496" name="AutoShape 689"/>
                <p:cNvSpPr/>
                <p:nvPr/>
              </p:nvSpPr>
              <p:spPr>
                <a:xfrm flipH="1">
                  <a:off x="501480" y="158760"/>
                  <a:ext cx="56412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690"/>
                <p:cNvSpPr/>
                <p:nvPr/>
              </p:nvSpPr>
              <p:spPr>
                <a:xfrm flipH="1">
                  <a:off x="783360" y="29592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691"/>
                <p:cNvSpPr/>
                <p:nvPr/>
              </p:nvSpPr>
              <p:spPr>
                <a:xfrm>
                  <a:off x="503280" y="297360"/>
                  <a:ext cx="28188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717"/>
              <p:cNvGrpSpPr/>
              <p:nvPr/>
            </p:nvGrpSpPr>
            <p:grpSpPr>
              <a:xfrm>
                <a:off x="860760" y="879480"/>
                <a:ext cx="564480" cy="566280"/>
                <a:chOff x="860760" y="879480"/>
                <a:chExt cx="564480" cy="566280"/>
              </a:xfrm>
            </p:grpSpPr>
            <p:sp>
              <p:nvSpPr>
                <p:cNvPr id="500" name="AutoShape 718"/>
                <p:cNvSpPr/>
                <p:nvPr/>
              </p:nvSpPr>
              <p:spPr>
                <a:xfrm flipH="1">
                  <a:off x="860760" y="879480"/>
                  <a:ext cx="56448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719"/>
                <p:cNvSpPr/>
                <p:nvPr/>
              </p:nvSpPr>
              <p:spPr>
                <a:xfrm flipH="1">
                  <a:off x="1142640" y="1017360"/>
                  <a:ext cx="28224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720"/>
                <p:cNvSpPr/>
                <p:nvPr/>
              </p:nvSpPr>
              <p:spPr>
                <a:xfrm>
                  <a:off x="861480" y="1018080"/>
                  <a:ext cx="28224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Group 967"/>
          <p:cNvGrpSpPr/>
          <p:nvPr/>
        </p:nvGrpSpPr>
        <p:grpSpPr>
          <a:xfrm>
            <a:off x="139680" y="158760"/>
            <a:ext cx="1581120" cy="1287360"/>
            <a:chOff x="139680" y="158760"/>
            <a:chExt cx="1581120" cy="1287360"/>
          </a:xfrm>
        </p:grpSpPr>
        <p:grpSp>
          <p:nvGrpSpPr>
            <p:cNvPr id="504" name="Group 963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505" name="AutoShape 931"/>
              <p:cNvSpPr/>
              <p:nvPr/>
            </p:nvSpPr>
            <p:spPr>
              <a:xfrm flipH="1">
                <a:off x="1293840" y="509760"/>
                <a:ext cx="426960" cy="212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932"/>
              <p:cNvSpPr/>
              <p:nvPr/>
            </p:nvSpPr>
            <p:spPr>
              <a:xfrm flipH="1">
                <a:off x="1507320" y="614520"/>
                <a:ext cx="212760" cy="320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933"/>
              <p:cNvSpPr/>
              <p:nvPr/>
            </p:nvSpPr>
            <p:spPr>
              <a:xfrm>
                <a:off x="1295280" y="614520"/>
                <a:ext cx="212760" cy="3222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966"/>
            <p:cNvGrpSpPr/>
            <p:nvPr/>
          </p:nvGrpSpPr>
          <p:grpSpPr>
            <a:xfrm>
              <a:off x="139680" y="158760"/>
              <a:ext cx="1285920" cy="1287360"/>
              <a:chOff x="139680" y="158760"/>
              <a:chExt cx="1285920" cy="1287360"/>
            </a:xfrm>
          </p:grpSpPr>
          <p:grpSp>
            <p:nvGrpSpPr>
              <p:cNvPr id="509" name="Group 935"/>
              <p:cNvGrpSpPr/>
              <p:nvPr/>
            </p:nvGrpSpPr>
            <p:grpSpPr>
              <a:xfrm>
                <a:off x="139680" y="555480"/>
                <a:ext cx="566640" cy="569520"/>
                <a:chOff x="139680" y="555480"/>
                <a:chExt cx="566640" cy="569520"/>
              </a:xfrm>
            </p:grpSpPr>
            <p:sp>
              <p:nvSpPr>
                <p:cNvPr id="510" name="AutoShape 936"/>
                <p:cNvSpPr/>
                <p:nvPr/>
              </p:nvSpPr>
              <p:spPr>
                <a:xfrm flipH="1">
                  <a:off x="139680" y="555480"/>
                  <a:ext cx="566640" cy="283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937"/>
                <p:cNvSpPr/>
                <p:nvPr/>
              </p:nvSpPr>
              <p:spPr>
                <a:xfrm flipH="1">
                  <a:off x="422280" y="69372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938"/>
                <p:cNvSpPr/>
                <p:nvPr/>
              </p:nvSpPr>
              <p:spPr>
                <a:xfrm>
                  <a:off x="141120" y="69480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939"/>
              <p:cNvGrpSpPr/>
              <p:nvPr/>
            </p:nvGrpSpPr>
            <p:grpSpPr>
              <a:xfrm>
                <a:off x="501120" y="728640"/>
                <a:ext cx="564840" cy="566280"/>
                <a:chOff x="501120" y="728640"/>
                <a:chExt cx="564840" cy="566280"/>
              </a:xfrm>
            </p:grpSpPr>
            <p:sp>
              <p:nvSpPr>
                <p:cNvPr id="514" name="AutoShape 940"/>
                <p:cNvSpPr/>
                <p:nvPr/>
              </p:nvSpPr>
              <p:spPr>
                <a:xfrm flipH="1">
                  <a:off x="500760" y="728640"/>
                  <a:ext cx="56484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941"/>
                <p:cNvSpPr/>
                <p:nvPr/>
              </p:nvSpPr>
              <p:spPr>
                <a:xfrm flipH="1">
                  <a:off x="783000" y="866880"/>
                  <a:ext cx="282600" cy="425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942"/>
                <p:cNvSpPr/>
                <p:nvPr/>
              </p:nvSpPr>
              <p:spPr>
                <a:xfrm>
                  <a:off x="502920" y="866880"/>
                  <a:ext cx="28260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943"/>
              <p:cNvGrpSpPr/>
              <p:nvPr/>
            </p:nvGrpSpPr>
            <p:grpSpPr>
              <a:xfrm>
                <a:off x="501480" y="442800"/>
                <a:ext cx="565200" cy="568080"/>
                <a:chOff x="501480" y="442800"/>
                <a:chExt cx="565200" cy="568080"/>
              </a:xfrm>
            </p:grpSpPr>
            <p:sp>
              <p:nvSpPr>
                <p:cNvPr id="518" name="AutoShape 944"/>
                <p:cNvSpPr/>
                <p:nvPr/>
              </p:nvSpPr>
              <p:spPr>
                <a:xfrm flipH="1">
                  <a:off x="501480" y="442800"/>
                  <a:ext cx="565200" cy="2826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945"/>
                <p:cNvSpPr/>
                <p:nvPr/>
              </p:nvSpPr>
              <p:spPr>
                <a:xfrm flipH="1">
                  <a:off x="783360" y="580680"/>
                  <a:ext cx="282600" cy="4287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946"/>
                <p:cNvSpPr/>
                <p:nvPr/>
              </p:nvSpPr>
              <p:spPr>
                <a:xfrm>
                  <a:off x="502560" y="581760"/>
                  <a:ext cx="282600" cy="429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961"/>
              <p:cNvGrpSpPr/>
              <p:nvPr/>
            </p:nvGrpSpPr>
            <p:grpSpPr>
              <a:xfrm>
                <a:off x="501480" y="158760"/>
                <a:ext cx="565200" cy="566640"/>
                <a:chOff x="501480" y="158760"/>
                <a:chExt cx="565200" cy="566640"/>
              </a:xfrm>
            </p:grpSpPr>
            <p:sp>
              <p:nvSpPr>
                <p:cNvPr id="522" name="AutoShape 948"/>
                <p:cNvSpPr/>
                <p:nvPr/>
              </p:nvSpPr>
              <p:spPr>
                <a:xfrm flipH="1">
                  <a:off x="501480" y="15876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949"/>
                <p:cNvSpPr/>
                <p:nvPr/>
              </p:nvSpPr>
              <p:spPr>
                <a:xfrm flipH="1">
                  <a:off x="783360" y="29700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950"/>
                <p:cNvSpPr/>
                <p:nvPr/>
              </p:nvSpPr>
              <p:spPr>
                <a:xfrm>
                  <a:off x="503280" y="29844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965"/>
              <p:cNvGrpSpPr/>
              <p:nvPr/>
            </p:nvGrpSpPr>
            <p:grpSpPr>
              <a:xfrm>
                <a:off x="860400" y="879480"/>
                <a:ext cx="565200" cy="566640"/>
                <a:chOff x="860400" y="879480"/>
                <a:chExt cx="565200" cy="566640"/>
              </a:xfrm>
            </p:grpSpPr>
            <p:sp>
              <p:nvSpPr>
                <p:cNvPr id="526" name="AutoShape 952"/>
                <p:cNvSpPr/>
                <p:nvPr/>
              </p:nvSpPr>
              <p:spPr>
                <a:xfrm flipH="1">
                  <a:off x="860400" y="87948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953"/>
                <p:cNvSpPr/>
                <p:nvPr/>
              </p:nvSpPr>
              <p:spPr>
                <a:xfrm flipH="1">
                  <a:off x="1142280" y="101772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954"/>
                <p:cNvSpPr/>
                <p:nvPr/>
              </p:nvSpPr>
              <p:spPr>
                <a:xfrm>
                  <a:off x="861840" y="1017720"/>
                  <a:ext cx="28260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9" name="PlaceHolder 1"/>
          <p:cNvSpPr>
            <a:spLocks noGrp="1"/>
          </p:cNvSpPr>
          <p:nvPr>
            <p:ph type="dt" idx="9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0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1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389-0A43-43A4-975F-4E0A0265F65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AB10-1FC6-4772-910F-92BDD39E3FB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6EBE-E2E9-4188-819C-F731C252EE8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1C5B-604D-4618-922D-470BD17E288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2EFF-305E-4882-A9E1-38884211608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9CD-4BDC-418A-B841-EACE219D5DE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16000" y="1904760"/>
            <a:ext cx="579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经典</a:t>
            </a:r>
            <a:r>
              <a:rPr b="0" lang="en-US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模板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Rectangle 656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657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42720" y="2533680"/>
            <a:ext cx="57020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600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Rectangle 9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19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20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4" name="图片 9" descr=""/>
          <p:cNvPicPr/>
          <p:nvPr/>
        </p:nvPicPr>
        <p:blipFill>
          <a:blip r:embed="rId2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1585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Picture 10" descr="png-0644"/>
          <p:cNvPicPr/>
          <p:nvPr/>
        </p:nvPicPr>
        <p:blipFill>
          <a:blip r:embed="rId3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1" descr="png-0652"/>
          <p:cNvPicPr/>
          <p:nvPr/>
        </p:nvPicPr>
        <p:blipFill>
          <a:blip r:embed="rId4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31"/>
          <p:cNvGrpSpPr/>
          <p:nvPr/>
        </p:nvGrpSpPr>
        <p:grpSpPr>
          <a:xfrm>
            <a:off x="1397160" y="2030400"/>
            <a:ext cx="4651200" cy="623880"/>
            <a:chOff x="1397160" y="2030400"/>
            <a:chExt cx="4651200" cy="623880"/>
          </a:xfrm>
        </p:grpSpPr>
        <p:sp>
          <p:nvSpPr>
            <p:cNvPr id="1479" name="AutoShape 6"/>
            <p:cNvSpPr/>
            <p:nvPr/>
          </p:nvSpPr>
          <p:spPr>
            <a:xfrm>
              <a:off x="1397160" y="2055960"/>
              <a:ext cx="464796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AutoShape 7"/>
            <p:cNvSpPr/>
            <p:nvPr/>
          </p:nvSpPr>
          <p:spPr>
            <a:xfrm>
              <a:off x="1397160" y="20304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8"/>
            <p:cNvSpPr/>
            <p:nvPr/>
          </p:nvSpPr>
          <p:spPr>
            <a:xfrm rot="19033200">
              <a:off x="1422360" y="212544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2" name="Group 32"/>
          <p:cNvGrpSpPr/>
          <p:nvPr/>
        </p:nvGrpSpPr>
        <p:grpSpPr>
          <a:xfrm>
            <a:off x="1409760" y="2868480"/>
            <a:ext cx="4651200" cy="623880"/>
            <a:chOff x="1409760" y="2868480"/>
            <a:chExt cx="4651200" cy="623880"/>
          </a:xfrm>
        </p:grpSpPr>
        <p:sp>
          <p:nvSpPr>
            <p:cNvPr id="1483" name="AutoShape 10"/>
            <p:cNvSpPr/>
            <p:nvPr/>
          </p:nvSpPr>
          <p:spPr>
            <a:xfrm>
              <a:off x="1409760" y="28940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AutoShape 11"/>
            <p:cNvSpPr/>
            <p:nvPr/>
          </p:nvSpPr>
          <p:spPr>
            <a:xfrm>
              <a:off x="1409760" y="28684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12"/>
            <p:cNvSpPr/>
            <p:nvPr/>
          </p:nvSpPr>
          <p:spPr>
            <a:xfrm rot="19033200">
              <a:off x="1434960" y="29635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Group 30"/>
          <p:cNvGrpSpPr/>
          <p:nvPr/>
        </p:nvGrpSpPr>
        <p:grpSpPr>
          <a:xfrm>
            <a:off x="1397160" y="3732120"/>
            <a:ext cx="4651200" cy="623880"/>
            <a:chOff x="1397160" y="3732120"/>
            <a:chExt cx="4651200" cy="623880"/>
          </a:xfrm>
        </p:grpSpPr>
        <p:sp>
          <p:nvSpPr>
            <p:cNvPr id="1487" name="AutoShape 14"/>
            <p:cNvSpPr/>
            <p:nvPr/>
          </p:nvSpPr>
          <p:spPr>
            <a:xfrm>
              <a:off x="1397160" y="3757680"/>
              <a:ext cx="464796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15"/>
            <p:cNvSpPr/>
            <p:nvPr/>
          </p:nvSpPr>
          <p:spPr>
            <a:xfrm>
              <a:off x="1397160" y="3732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16"/>
            <p:cNvSpPr/>
            <p:nvPr/>
          </p:nvSpPr>
          <p:spPr>
            <a:xfrm rot="19033200">
              <a:off x="1422360" y="382716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Group 33"/>
          <p:cNvGrpSpPr/>
          <p:nvPr/>
        </p:nvGrpSpPr>
        <p:grpSpPr>
          <a:xfrm>
            <a:off x="1409760" y="4570560"/>
            <a:ext cx="4651200" cy="623880"/>
            <a:chOff x="1409760" y="4570560"/>
            <a:chExt cx="4651200" cy="623880"/>
          </a:xfrm>
        </p:grpSpPr>
        <p:sp>
          <p:nvSpPr>
            <p:cNvPr id="1491" name="AutoShape 18"/>
            <p:cNvSpPr/>
            <p:nvPr/>
          </p:nvSpPr>
          <p:spPr>
            <a:xfrm>
              <a:off x="1409760" y="45957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19"/>
            <p:cNvSpPr/>
            <p:nvPr/>
          </p:nvSpPr>
          <p:spPr>
            <a:xfrm>
              <a:off x="1409760" y="45705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20"/>
            <p:cNvSpPr/>
            <p:nvPr/>
          </p:nvSpPr>
          <p:spPr>
            <a:xfrm rot="19033200">
              <a:off x="1434960" y="46652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Rectangle 21"/>
          <p:cNvSpPr/>
          <p:nvPr/>
        </p:nvSpPr>
        <p:spPr>
          <a:xfrm>
            <a:off x="1841400" y="2136600"/>
            <a:ext cx="3633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2"/>
          <p:cNvSpPr/>
          <p:nvPr/>
        </p:nvSpPr>
        <p:spPr>
          <a:xfrm>
            <a:off x="1854360" y="29624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23"/>
          <p:cNvSpPr/>
          <p:nvPr/>
        </p:nvSpPr>
        <p:spPr>
          <a:xfrm>
            <a:off x="1866960" y="3825720"/>
            <a:ext cx="3887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24"/>
          <p:cNvSpPr/>
          <p:nvPr/>
        </p:nvSpPr>
        <p:spPr>
          <a:xfrm>
            <a:off x="1879560" y="46641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AutoShape 26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5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12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Group 18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503" name="AutoShape 14"/>
            <p:cNvSpPr/>
            <p:nvPr/>
          </p:nvSpPr>
          <p:spPr>
            <a:xfrm>
              <a:off x="952560" y="1487160"/>
              <a:ext cx="313488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15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Oval 16"/>
            <p:cNvSpPr/>
            <p:nvPr/>
          </p:nvSpPr>
          <p:spPr>
            <a:xfrm rot="19033200">
              <a:off x="977400" y="1556640"/>
              <a:ext cx="22644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Rectangle 17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utoShape 19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Group 25"/>
          <p:cNvGrpSpPr/>
          <p:nvPr/>
        </p:nvGrpSpPr>
        <p:grpSpPr>
          <a:xfrm>
            <a:off x="4913280" y="1457280"/>
            <a:ext cx="3136680" cy="623880"/>
            <a:chOff x="4913280" y="1457280"/>
            <a:chExt cx="3136680" cy="623880"/>
          </a:xfrm>
        </p:grpSpPr>
        <p:sp>
          <p:nvSpPr>
            <p:cNvPr id="1509" name="AutoShape 21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2"/>
            <p:cNvSpPr/>
            <p:nvPr/>
          </p:nvSpPr>
          <p:spPr>
            <a:xfrm>
              <a:off x="4913280" y="145728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Oval 23"/>
            <p:cNvSpPr/>
            <p:nvPr/>
          </p:nvSpPr>
          <p:spPr>
            <a:xfrm rot="19033200">
              <a:off x="4938480" y="15523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Rectangle 24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4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6"/>
          <p:cNvSpPr/>
          <p:nvPr/>
        </p:nvSpPr>
        <p:spPr>
          <a:xfrm>
            <a:off x="3486240" y="3745080"/>
            <a:ext cx="2135160" cy="2135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8"/>
          <p:cNvSpPr/>
          <p:nvPr/>
        </p:nvSpPr>
        <p:spPr>
          <a:xfrm>
            <a:off x="5853240" y="3743280"/>
            <a:ext cx="2135160" cy="214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Oval 7"/>
          <p:cNvSpPr/>
          <p:nvPr/>
        </p:nvSpPr>
        <p:spPr>
          <a:xfrm>
            <a:off x="1100160" y="3743280"/>
            <a:ext cx="214308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AutoShape 18"/>
          <p:cNvSpPr/>
          <p:nvPr/>
        </p:nvSpPr>
        <p:spPr>
          <a:xfrm>
            <a:off x="1874880" y="2411280"/>
            <a:ext cx="5251320" cy="1306800"/>
          </a:xfrm>
          <a:prstGeom prst="upArrow">
            <a:avLst>
              <a:gd name="adj1" fmla="val 78056"/>
              <a:gd name="adj2" fmla="val 75333"/>
            </a:avLst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AutoShape 19"/>
          <p:cNvSpPr/>
          <p:nvPr/>
        </p:nvSpPr>
        <p:spPr>
          <a:xfrm>
            <a:off x="1069920" y="1406520"/>
            <a:ext cx="6869160" cy="95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26"/>
          <p:cNvSpPr/>
          <p:nvPr/>
        </p:nvSpPr>
        <p:spPr>
          <a:xfrm>
            <a:off x="7759800" y="2658960"/>
            <a:ext cx="60156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27"/>
          <p:cNvSpPr/>
          <p:nvPr/>
        </p:nvSpPr>
        <p:spPr>
          <a:xfrm>
            <a:off x="7746840" y="3776760"/>
            <a:ext cx="64008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28"/>
          <p:cNvSpPr/>
          <p:nvPr/>
        </p:nvSpPr>
        <p:spPr>
          <a:xfrm>
            <a:off x="7785000" y="4894200"/>
            <a:ext cx="60192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25"/>
          <p:cNvSpPr/>
          <p:nvPr/>
        </p:nvSpPr>
        <p:spPr>
          <a:xfrm>
            <a:off x="7721640" y="1541520"/>
            <a:ext cx="63972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20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29"/>
          <p:cNvSpPr/>
          <p:nvPr/>
        </p:nvSpPr>
        <p:spPr>
          <a:xfrm>
            <a:off x="3666960" y="2658960"/>
            <a:ext cx="41007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0"/>
          <p:cNvSpPr/>
          <p:nvPr/>
        </p:nvSpPr>
        <p:spPr>
          <a:xfrm>
            <a:off x="3679920" y="377676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31"/>
          <p:cNvSpPr/>
          <p:nvPr/>
        </p:nvSpPr>
        <p:spPr>
          <a:xfrm>
            <a:off x="3692520" y="489420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2"/>
          <p:cNvSpPr/>
          <p:nvPr/>
        </p:nvSpPr>
        <p:spPr>
          <a:xfrm>
            <a:off x="3654360" y="154152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Freeform 19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Freeform 18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Freeform 17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194a21"/>
              </a:gs>
              <a:gs pos="100000">
                <a:srgbClr val="36a04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Freeform 4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94a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6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Freeform 7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Freeform 8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94a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Freeform 9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Freeform 11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Freeform 14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1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2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3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7634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4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6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8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9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10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1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2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14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5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7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8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9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0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21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22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23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4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25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26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27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28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29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日期占位符 2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Object 4" descr=""/>
          <p:cNvPicPr/>
          <p:nvPr/>
        </p:nvPicPr>
        <p:blipFill>
          <a:blip r:embed="rId1"/>
          <a:stretch/>
        </p:blipFill>
        <p:spPr>
          <a:xfrm>
            <a:off x="1230480" y="1276200"/>
            <a:ext cx="6648120" cy="4867560"/>
          </a:xfrm>
          <a:prstGeom prst="rect">
            <a:avLst/>
          </a:prstGeom>
          <a:ln w="0">
            <a:noFill/>
          </a:ln>
        </p:spPr>
      </p:pic>
      <p:sp>
        <p:nvSpPr>
          <p:cNvPr id="1574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日期占位符 2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6" name="Object 4" descr=""/>
          <p:cNvPicPr/>
          <p:nvPr/>
        </p:nvPicPr>
        <p:blipFill>
          <a:blip r:embed="rId1"/>
          <a:stretch/>
        </p:blipFill>
        <p:spPr>
          <a:xfrm>
            <a:off x="1008000" y="1146240"/>
            <a:ext cx="7153200" cy="5229000"/>
          </a:xfrm>
          <a:prstGeom prst="rect">
            <a:avLst/>
          </a:prstGeom>
          <a:ln w="0">
            <a:noFill/>
          </a:ln>
        </p:spPr>
      </p:pic>
      <p:sp>
        <p:nvSpPr>
          <p:cNvPr id="1577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3:16:39Z</dcterms:created>
  <dc:creator>雨林木风</dc:creator>
  <dc:description/>
  <dc:language>en-US</dc:language>
  <cp:lastModifiedBy>a</cp:lastModifiedBy>
  <dcterms:modified xsi:type="dcterms:W3CDTF">2015-03-16T08:50:21Z</dcterms:modified>
  <cp:revision>6</cp:revision>
  <dc:subject/>
  <dc:title>PowerPoint                  Template</dc:title>
</cp:coreProperties>
</file>