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31F1-9722-4231-86F3-780105CF1B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6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F833-58A2-4BB0-9F4C-3CA7C5DC1ADB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6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4B9C-5583-4A30-B2DC-4A037BA2EF63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6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27F1-CE0C-4267-9C19-8DA27A2F6A95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BD4-A118-40A8-99FE-D4A0D602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B08-E9A5-406A-9852-2FD51B4A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E120E-57CC-4BAC-B44C-E3AA27F6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E18E2-9F2B-4F99-827E-199EB0EE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BBB1A-F1C1-4D41-84F9-7701749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52578-A484-4B84-AA16-39D0555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3810B-75A1-400F-9A91-3EDF5A72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C91D-C988-4905-85A8-A216BCD0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3E251-53E4-44FA-834E-3D57FAFD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84B35-C299-4EB3-969C-81E4C15E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C7845-47BC-4D4C-9C9E-13C34688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00AB0-4EF1-4094-9221-8105881B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C97-D90A-4ADA-9BB3-734B9310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A1186-6B85-4147-909A-611F3003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20B79-9953-4B6D-8FDD-0A97F1D3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6F362-3148-468D-B832-343FD65F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37E1C-22FB-4588-913E-DF4C216D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4F75C-8222-492E-985F-F74D4EA8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BD8D1-23EF-4EDB-9362-0E72DE8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54AFC-2186-4B1B-A711-70A40B15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8F3D2-BC42-43C6-AA67-5A5B22ED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F5AAC-C600-4618-9199-A9AFA67F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2EF5E-010F-448D-AC61-E6299226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CEC-0E52-4EFF-9509-CD0CA624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AEFAC-E5D0-4D5B-8A5D-9DC6B8E4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82B8A-C15A-4F32-8E43-922326FB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3701E-AB57-410B-8BC2-AB7F53FB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755BC-99B4-4D5C-BF88-85310764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99712-370E-4C9C-ABFE-7E117E58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55D3F-E017-45BE-8D90-52F5A644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A9203-8658-4E70-A2B7-F9934198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184C8-DEA0-4DD4-9950-16D07D55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51963-ADFB-4CFA-BA36-62E7401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0C0DA-8C39-4CCA-B2B6-2C6CB94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2E3B-5453-4CED-B7BB-46E81F7A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87AE4-731C-4B12-8CD3-79B55BA7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EADEA-73DF-464B-9CCC-E23E1891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EF438-D3FF-469E-A6FA-60BE3169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4A253-DB64-41E5-86CC-0A5B14F8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42B57-3729-44A2-9275-1368ABA6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07EF2-5502-4D90-8095-11853228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316C4-A7A3-4F59-8F40-E60C3A76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FC33A-7A69-4CCB-B3C6-F3127A04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3B0A0-ACE3-4F9F-984C-9F919360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5D192-4793-4C59-9B88-0677387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F858-3C28-409B-9CBC-AF615030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9ACF9-4CA3-4CD2-BD0C-DAC92800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2541A-28B5-4BAD-8340-65990E51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7AA12-E755-4718-9702-8F5F38EE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AFEDA-5D30-4874-B708-C7EBFD47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AA1AA-F439-493D-81CF-5827E861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7BE10-39F1-4583-B3A6-57C173FB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609C4-852B-402B-8730-9AD6BE42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276B4-368D-4698-9C80-E656F1C4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4A742-AD30-4FB2-8A32-35C20119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DCE58-7F85-4636-948E-39E4C0BB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4A0C-EA1B-4659-B46D-39CB89C9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BEB15-98AA-4B1C-B73F-CD6DFA93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59E6B-D25B-4793-B498-9C4DA67A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C9D75-07F4-44DB-834D-45F4564C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4AAF9-B16F-41D3-9313-EE847914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00396-98C8-46A6-9FFC-6DCABAA4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0648B-C9B0-4506-96CD-9B26A5E0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E5AA9-274F-43AC-9432-E3857C74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B5527-30FB-4FD0-B6D1-B8D314D3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F9F88-8F5A-42E1-AC95-1FC56810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5C868-1757-4B93-9714-3BC9C41A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B210-EE3B-46CA-831E-E5D4C160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33BDD-07C6-4486-B2A1-686D6167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1ADED-3794-44FF-82D6-D2C56211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C75A1-7C71-49B8-9DF7-B9D1661F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64F60-FD48-4C58-BB22-649479F5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8FC5E-8F15-48E5-8069-4AD17D9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8C435-F4AA-4D8F-8C3B-3E020054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EEDAD-8A26-4A45-9BA2-EF132E37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1CE05-D064-49C5-B79E-C68E2C96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48127-4C5E-4148-AF45-C13B22F7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5DC7C-8CA7-4315-BD8E-5889B6AA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BA65-7D1B-447E-832E-277B7D97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B23F1-103E-4CBB-9DB5-FBC0974D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A759D-C3EF-4C62-A437-5AA193E6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1F423-0B0D-4A7B-831E-00D34E3D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917A9-3AEE-433F-AA5B-17673AC2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4BE8C-ABBD-4916-949E-7D6B7F9B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A8FDF-F62E-4F8F-A0C9-4776C7B2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55D21-1874-4489-83C2-DD89ED7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767ED-84F4-4402-BA8B-0E01B201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38EB8-FBD6-4605-BE8D-BFD6FC40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8B397-6339-47F3-82BA-A607AA8D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A9EB-C0A2-4F5E-8654-C5FB9C61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5A1A4-C162-4C29-8F9E-7BBBC6CC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D6C2-13F8-4154-A12E-1308D41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348-5A7B-418C-A0F1-A768C0CC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38DF-FE13-44E3-B080-71FDC8E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5708-808F-4535-B6B5-42BC761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529C-3AB0-4E4C-8323-56660D30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F375-FC74-4800-A40D-2EBA8FB9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095B-D012-458C-BEDB-1C468658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CC6-C54E-4D35-BA06-1F55C78D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9F70-A646-4953-9DB9-4DCDC733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28D7-60F8-4869-8432-6800E34F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F7B4-4C3D-4F9C-8341-D62C31CD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429-E867-4B91-AE0C-AB15C61C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0715-7B28-4F3D-8D33-E3EDA574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C6FF-264D-4110-965A-3F2DD005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E8EB-F139-458E-9C01-1D17B6E3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6002-1BE7-4ED4-B40B-0555B346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6189-394D-4A34-8252-893CE69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07C9-D7F8-4771-8CF7-CD790AE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8834-38FC-4A04-B1F3-AF194E4D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3893-CB37-4FCC-8835-2F2BFF79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2E87-3D86-4A0E-AEC2-B088A4C2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7548-0485-49AC-94FF-95A1E1F4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98D-0445-4C3A-BFD2-106140C2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AD99-90BE-4CB4-90CC-A7DDEAAA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9249A-0750-4023-979F-CED16BF9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4A646-D58E-4606-8B56-F59B640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3764-9AB9-4D10-86F7-18900E34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9AC35-9FDF-4E4E-B619-06B83191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51EE-3E7B-4DDB-9106-17ECC9B1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234B-3A65-41AD-8A70-B0B5F74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27280-9202-4506-8A3B-8DAD46C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3CEC-CB8F-4787-BDA3-0FB2BFA8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64880-1619-48F9-A091-DA46BBE1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1C5-E5A6-43AE-809A-41CA87F9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E87B-EA77-476A-A488-0203CB6B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D0AD-F641-4741-8AFD-FD1373B9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13007-7E39-47D1-93CA-CE8D99D1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1F56D-5680-4273-85F9-239B3C24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8B337-ECA7-4CBF-B5D0-C47D20B3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6AD32-9F2B-4FE9-AAE0-8857EAD5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C43D-BC71-466F-A0DE-95E9C891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5FCB-A519-42F5-8B06-E4BFBF6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DE9DA-4DEF-426B-9CE1-C30A4FD2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C895-0972-4CD6-87E3-25CA88D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1E1-C415-4014-A3F5-15479B6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486BD-4FB7-4045-BB30-5976B5DA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C2371-E21C-48BA-A0CB-53E2391B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548CA-C723-43E4-AD8C-089E2E5B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9F0ED-56F8-48C3-BB7C-361F545F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D6B6A-520D-4BDF-8339-1002C81F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3669-D996-4A0D-8EAB-8041E07D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3B9DD-BF86-4EB9-BFCC-FD660D25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F6837-FC19-4B17-8D43-8C9A2C14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58170-1A0B-42C5-AEEE-B464030D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F736C-1693-4C8B-BD02-22F7BEE9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499-38FA-42A8-96BA-6D28C05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0E21-F579-451D-94E7-27C865C9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7448C-1A88-470B-8BE7-528429A8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05A48-0DE7-40A5-91FC-E3577CD8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20184-1EEC-47C7-9971-9707977A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D5C2-2213-4B1F-A708-52C6DD6F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8907A-493A-4621-AFA0-59B4D3A3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C5FA-FCF4-4F56-9436-EF2F3B1E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232A1-05DC-47DB-AB7E-35A242A5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4106B-D318-4C91-9264-15E3205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B0C7-8636-4CB6-85D4-0B823E3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7CC-6A80-477C-BC61-4AA48C0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4D6D2-80A8-445A-9884-BA5C7E6A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BA358-265F-4BFC-BED6-A96B277D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56BC7-3FB0-4D5E-9EFF-C635A96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0FA8B-A0DF-4939-A3B6-052FFCFF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52F4B-5A56-4D62-9C28-B22DC70E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44F2-CDF0-4EBC-A8A3-DF59A21A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FF078-2D78-41DA-BFC8-C70182CA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490B6-B1E1-4C64-A5FB-0896F5D4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CEAE7-658C-4B96-84C5-BC5EF811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9172C-F80B-45C4-BDD6-033DCE92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rcRect l="0" t="0" r="400" b="674"/>
          <a:stretch/>
        </p:blipFill>
        <p:spPr>
          <a:xfrm>
            <a:off x="109440" y="9360"/>
            <a:ext cx="9034560" cy="684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8FF4-F105-4FCB-B693-3B65A813045B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组合 6"/>
          <p:cNvGrpSpPr/>
          <p:nvPr/>
        </p:nvGrpSpPr>
        <p:grpSpPr>
          <a:xfrm>
            <a:off x="-12600" y="0"/>
            <a:ext cx="642960" cy="476280"/>
            <a:chOff x="-12600" y="0"/>
            <a:chExt cx="642960" cy="476280"/>
          </a:xfrm>
        </p:grpSpPr>
        <p:sp>
          <p:nvSpPr>
            <p:cNvPr id="6" name="矩形 8"/>
            <p:cNvSpPr/>
            <p:nvPr/>
          </p:nvSpPr>
          <p:spPr>
            <a:xfrm>
              <a:off x="-12600" y="0"/>
              <a:ext cx="250920" cy="381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" name="矩形 9"/>
            <p:cNvSpPr/>
            <p:nvPr/>
          </p:nvSpPr>
          <p:spPr>
            <a:xfrm>
              <a:off x="290520" y="190440"/>
              <a:ext cx="339840" cy="2858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1E88-98F8-4734-A3B2-7AC17FB32D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F542-F0A2-46DA-B72F-15438D5BE6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993C-707B-4A29-852A-7C54440FEB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53D7-658C-4A52-B854-12E4D3F1A4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6F96-FB39-4EB0-8812-3AC346A9D9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F349-036D-4218-A35D-4093AD7939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D700-4F74-4FB5-A4B8-AE68C19337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3F2A-5592-4410-83F4-812C35ACC1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BAF6-8CFB-4EC8-AB1C-4CF87D87E2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5A5D-45B2-4C3C-99D9-6F2A89DB70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8ABC-6B80-4754-8606-4EB8539FE4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5DEF-934C-436C-80FD-E3DF8286AA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984E-59A4-4467-A275-DD7DC56845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9BAA-C5E6-4D3C-A20F-89D14A08FC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"/>
          <p:cNvPicPr/>
          <p:nvPr/>
        </p:nvPicPr>
        <p:blipFill>
          <a:blip r:embed="rId2"/>
          <a:stretch/>
        </p:blipFill>
        <p:spPr>
          <a:xfrm>
            <a:off x="73080" y="-4680"/>
            <a:ext cx="9070920" cy="6894360"/>
          </a:xfrm>
          <a:prstGeom prst="rect">
            <a:avLst/>
          </a:prstGeom>
          <a:ln w="0">
            <a:noFill/>
          </a:ln>
        </p:spPr>
      </p:pic>
      <p:sp>
        <p:nvSpPr>
          <p:cNvPr id="87" name="矩形 11"/>
          <p:cNvSpPr/>
          <p:nvPr/>
        </p:nvSpPr>
        <p:spPr>
          <a:xfrm>
            <a:off x="0" y="3860640"/>
            <a:ext cx="378000" cy="576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457200" y="4149720"/>
            <a:ext cx="514440" cy="43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4932360" y="5516640"/>
            <a:ext cx="257040" cy="216000"/>
          </a:xfrm>
          <a:prstGeom prst="rect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5189400" y="5300640"/>
            <a:ext cx="257400" cy="216000"/>
          </a:xfrm>
          <a:prstGeom prst="rect">
            <a:avLst/>
          </a:prstGeom>
          <a:solidFill>
            <a:srgbClr val="00b0f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0" descr=""/>
          <p:cNvPicPr/>
          <p:nvPr/>
        </p:nvPicPr>
        <p:blipFill>
          <a:blip r:embed="rId2"/>
          <a:srcRect l="0" t="0" r="400" b="674"/>
          <a:stretch/>
        </p:blipFill>
        <p:spPr>
          <a:xfrm>
            <a:off x="109440" y="9360"/>
            <a:ext cx="9034560" cy="6848640"/>
          </a:xfrm>
          <a:prstGeom prst="rect">
            <a:avLst/>
          </a:prstGeom>
          <a:ln w="0">
            <a:noFill/>
          </a:ln>
        </p:spPr>
      </p:pic>
      <p:sp>
        <p:nvSpPr>
          <p:cNvPr id="130" name="矩形 11"/>
          <p:cNvSpPr/>
          <p:nvPr/>
        </p:nvSpPr>
        <p:spPr>
          <a:xfrm>
            <a:off x="1378080" y="2062080"/>
            <a:ext cx="379440" cy="576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1835280" y="2349360"/>
            <a:ext cx="514080" cy="433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5641920" y="3860640"/>
            <a:ext cx="257400" cy="216000"/>
          </a:xfrm>
          <a:prstGeom prst="rect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5899320" y="3646440"/>
            <a:ext cx="257040" cy="216000"/>
          </a:xfrm>
          <a:prstGeom prst="rect">
            <a:avLst/>
          </a:prstGeom>
          <a:solidFill>
            <a:srgbClr val="00b0f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A922-1D28-4F2A-B875-15551F4D545C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B575-C635-41FA-9FE3-07C05CB0CD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7573-C47A-42D1-AC46-8AFA617BD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7E51-815E-4935-9627-C6EFEB5815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EEE2-13F0-4ABF-9819-F92B04CD70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1E5D-584B-454A-A752-AA0D9EE5EC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628-3406-4303-AFD6-1502377E78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1F54-8C37-4292-B052-0BA09D3EA5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61C8-F1CA-4B2C-91A6-8BA1B39FFE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5AB-E42E-4479-A416-E1C3B5BB9B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12EF-5E70-45DC-ABFE-555B1416A5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23760" y="436536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777"/>
                </a:solidFill>
                <a:latin typeface="微软雅黑"/>
              </a:rPr>
              <a:t>蓝色格子商务幻灯片模板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4" name="矩形 4"/>
          <p:cNvSpPr/>
          <p:nvPr/>
        </p:nvSpPr>
        <p:spPr>
          <a:xfrm>
            <a:off x="-22320" y="2232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445040" y="5271480"/>
            <a:ext cx="3732120" cy="2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92360" y="2782440"/>
            <a:ext cx="540072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add title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604960" y="3479040"/>
            <a:ext cx="335808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5000"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3c3c"/>
                </a:solidFill>
                <a:latin typeface="Arial"/>
              </a:rPr>
              <a:t>Click here to add your sub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温馨提示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403280" y="1628640"/>
            <a:ext cx="6048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十字星 5"/>
          <p:cNvSpPr/>
          <p:nvPr/>
        </p:nvSpPr>
        <p:spPr>
          <a:xfrm>
            <a:off x="1785960" y="272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adee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十字星 6"/>
          <p:cNvSpPr/>
          <p:nvPr/>
        </p:nvSpPr>
        <p:spPr>
          <a:xfrm>
            <a:off x="1801800" y="3446640"/>
            <a:ext cx="71280" cy="72720"/>
          </a:xfrm>
          <a:custGeom>
            <a:avLst/>
            <a:gdLst>
              <a:gd name="textAreaLeft" fmla="*/ 29160 w 71280"/>
              <a:gd name="textAreaRight" fmla="*/ 42120 w 71280"/>
              <a:gd name="textAreaTop" fmla="*/ 29880 h 72720"/>
              <a:gd name="textAreaBottom" fmla="*/ 42840 h 7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6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;ivywang</dc:creator>
  <dc:description/>
  <dc:language>en-US</dc:language>
  <cp:lastModifiedBy>a</cp:lastModifiedBy>
  <dcterms:modified xsi:type="dcterms:W3CDTF">2015-02-10T03:00:30Z</dcterms:modified>
  <cp:revision>1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P等级">
    <vt:lpwstr>2</vt:lpwstr>
  </property>
  <property fmtid="{D5CDD505-2E9C-101B-9397-08002B2CF9AE}" pid="3" name="价格">
    <vt:lpwstr>20</vt:lpwstr>
  </property>
  <property fmtid="{D5CDD505-2E9C-101B-9397-08002B2CF9AE}" pid="4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5" name="使用软件">
    <vt:lpwstr>ppt</vt:lpwstr>
  </property>
  <property fmtid="{D5CDD505-2E9C-101B-9397-08002B2CF9AE}" pid="6" name="关键字">
    <vt:lpwstr>PPT背景模板 EN PPT 格式 小方格 方格 方块 几何 图形 图案 渐变 抽象 科技 技术 蓝 蓝色 排列 背景 清新 时尚 V2</vt:lpwstr>
  </property>
  <property fmtid="{D5CDD505-2E9C-101B-9397-08002B2CF9AE}" pid="7" name="操作代码">
    <vt:lpwstr>2</vt:lpwstr>
  </property>
  <property fmtid="{D5CDD505-2E9C-101B-9397-08002B2CF9AE}" pid="8" name="是否可购买">
    <vt:lpwstr>1</vt:lpwstr>
  </property>
  <property fmtid="{D5CDD505-2E9C-101B-9397-08002B2CF9AE}" pid="9" name="显示VIP等级">
    <vt:lpwstr>2</vt:lpwstr>
  </property>
  <property fmtid="{D5CDD505-2E9C-101B-9397-08002B2CF9AE}" pid="10" name="标题">
    <vt:lpwstr>小方格排列</vt:lpwstr>
  </property>
  <property fmtid="{D5CDD505-2E9C-101B-9397-08002B2CF9AE}" pid="11" name="模板ID">
    <vt:lpwstr>A30220130428A02</vt:lpwstr>
  </property>
  <property fmtid="{D5CDD505-2E9C-101B-9397-08002B2CF9AE}" pid="12" name="模板缩略图">
    <vt:lpwstr>A30220130428A02.png</vt:lpwstr>
  </property>
  <property fmtid="{D5CDD505-2E9C-101B-9397-08002B2CF9AE}" pid="13" name="相关案例">
    <vt:lpwstr>854</vt:lpwstr>
  </property>
  <property fmtid="{D5CDD505-2E9C-101B-9397-08002B2CF9AE}" pid="14" name="缩略图标题">
    <vt:lpwstr>小方格排列</vt:lpwstr>
  </property>
  <property fmtid="{D5CDD505-2E9C-101B-9397-08002B2CF9AE}" pid="15" name="适用软件">
    <vt:lpwstr>PowerPoint 2007及以上版本</vt:lpwstr>
  </property>
  <property fmtid="{D5CDD505-2E9C-101B-9397-08002B2CF9AE}" pid="16" name="附件ID">
    <vt:lpwstr>A30220130428A0201</vt:lpwstr>
  </property>
  <property fmtid="{D5CDD505-2E9C-101B-9397-08002B2CF9AE}" pid="17" name="附件缩略图">
    <vt:lpwstr>A30220130428A0201.png</vt:lpwstr>
  </property>
  <property fmtid="{D5CDD505-2E9C-101B-9397-08002B2CF9AE}" pid="18" name="附件路径">
    <vt:lpwstr>A30220130428A0201.pptx</vt:lpwstr>
  </property>
</Properties>
</file>