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FE6-64C3-4D49-A876-501074E3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322-75B4-4C9D-AC97-0221788A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C301F-1BA9-47B7-91A0-FA651E84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57038-C9F7-469D-A5C8-4B629513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1AED8-DA8D-49E3-87C5-77ADE1B6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E0AEB-24B7-4F58-85FD-743F5D30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724C0-3C39-46E0-812F-A0330F78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39CC4-E347-439F-B924-198261C1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722AB-2131-4BEA-9AF4-52659EAE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3BE82-03DA-4865-B5E7-67EFBE7F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7D91A-CE74-43CA-BE61-8F233CD0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54E1C-78D6-409D-A609-5E79309B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CE1-3CAF-4CFD-B75D-F82A2A50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3CC3F-4D5E-4128-B7D3-BDDBD7E5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FE2C0-F0CC-4ED2-A185-16EC1AC0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AB607-B60C-4707-AE1D-AF0BD482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449E3-135A-40C3-9C50-51409284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50DCE-1B62-48B9-A34A-6AC04011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8FEC3-04C4-4D35-B005-E171DA0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24915-B3DD-4CD8-9C2F-3D62D4AA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7A9DA-58F6-411A-93F9-5F99B1F7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A02F5-2D37-47A7-9D21-EA346A05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678BF-05B4-4FFD-B76C-FF2BE836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59BD-ECF0-41F8-9380-3DA8ACC1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7E9A9-5D36-4158-826E-8F22DBE0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3DB34-E7BA-42D5-912A-031B0313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6964A-461F-40EC-BB04-06CA72B8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45A9F-CECB-4F09-AE94-1D63BF1D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FFF4E-9029-4F33-A386-7D323A1C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D3C09-89AD-4E4A-A4F4-08005100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D3BBC-94FD-48CA-9D25-20F4D9CE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87505-A669-48F4-8E21-6B9CDB6B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5E627-07E9-416F-BDEC-4161D325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C789D-4D51-40E1-9446-B09DC932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2CD3-2DFF-4913-8921-88D8BFDF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25CB7-133F-4352-94DF-7F1DA568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FDD44-ACA1-4335-BE24-3204A213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38464-F08A-48F1-BDA8-7874AAFE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D03C3-B30F-4502-A5CB-34437AB5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152B8-97F4-443E-A7BE-3DBE9BDB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573D9-9624-4833-B664-55E1F8CC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ED5D8-0B1B-46E6-9364-48383BD3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F94E8-8416-4757-A371-60492626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B0021-AFFE-4F40-97A7-AA35250D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AB533-C1EF-4966-9A7D-D5771960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9C14-4650-4CCB-ACC2-FD18D814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04651-0E8A-462B-A6C2-66E0C54F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EB6B4-1660-462F-B4EE-9BD6094E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25808-FBE5-49B3-900D-E68725B8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6E13C-BF93-4EF6-99A7-5D377656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0637E-7E9C-458A-83D9-961FC711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A282D-2E64-4195-A486-F5E22954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DCD13-C9ED-4705-85A3-93761B03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028FB-3628-42F3-9115-6D12A918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D44D4-3462-4D18-AA46-570D9486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02FC0-0133-4A20-B217-2A1E7CBD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26DE-E582-428A-BAAC-BBE0E884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1BA9C-A986-4199-85D7-84A5FCC0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FF4CE-CA04-4005-8CA4-E241E743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375B0-AB99-46F8-B11C-5ACA22F9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AE9B2-A453-4C94-A2B2-66144B68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3587A-97BC-48D5-81C4-13D50E8D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F8E75-5A0B-4A93-8037-71DCD3E6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94EA4-E8E2-48A3-BDF3-895D74DB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17C9-08FE-4263-87A6-6B01E971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8838-FC8D-49F3-A519-481A179B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2598-E46C-408C-99EF-54116792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9F96-6EA4-4033-AFB2-7D0C96E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1CD-DA65-4755-972B-1C5AB809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3D68-8F65-4B48-9E4A-3ABE996F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3FE8-464D-4DFF-9320-9E58A547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0869-2890-4697-8903-1DB89182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CB07-30CE-4D01-B874-E79FAFA0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0599-D10A-4562-B881-85437A5D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A127B-3371-455F-9EFD-255E7BED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E519C-647D-4275-B05D-D79EDDDA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621F3-DF84-4F10-88E5-27872C94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424B-335B-4CB7-8975-6D34B8C0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9A439-44F2-4A93-BDCE-40EF19C6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53F-6F5C-491B-8BAA-94AC5A68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51E9-B1DC-4E52-8707-09E0B4FF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BC71-1B8F-4155-994E-A759C9C3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9C4F4-FCD7-4307-B440-AF57B448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A5BC-A5B1-49CB-8B83-B4A28D15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C945F-F75C-4B34-AF51-7352DFD3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65C9-B592-4BC2-A06F-EFEA4EA1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28DD5-5C37-44A6-822A-D6E8A494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5DA4-238B-4048-ACA6-BBA261B4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2464A-86FD-4838-86E6-F99E0E87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384CE-0CA9-4239-AA79-E9A67E7B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2C3-E501-4798-89F7-21F9BD1E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32BA0-A437-4513-9135-4BF9AC6F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6E737-3920-4010-879A-7C4C580C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31FA5-B974-4EBF-A008-A147BDF7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2B8DD-F32F-45F4-9B85-C21C85FF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566D-A137-4291-8DAB-DF6F324E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35F67-0F16-4C2A-918A-B44DABB6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C7A19-A2D8-4B6B-87AC-F21F8269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B5F1-CFC6-4CE8-99D3-BA85DDC6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E2C78-57B8-4272-B14E-8BDB18E3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52814-7137-40BF-B93B-714A0954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153-7754-446B-BA8E-F6BFD840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1EFA1-9BA4-40CA-8042-F096C201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8F8B4-CB12-49F7-B4A3-0B145CA3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F22F2-9CD6-447D-A9DD-E1FBE72F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C5A50-82CB-495D-9905-312B7303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EF35-F475-454B-A577-ACAC5F60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3DADE-F0D5-44D1-BDFC-524D00D2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BD9C-1C81-49DC-904F-072247C3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1D4A5-C4EF-4AFB-981C-94BBF9E6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5D8B6-D1CA-4391-818E-9E816FF0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4BF71-518E-43CC-B0CE-8B9821DA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DF7-7C6D-4BA3-BA6A-C620AE3C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86C09-9B65-41B1-9F3F-F1C19F06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41EAA-59A4-4DA2-B4C8-B27290AA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C0D1F-557F-4508-9AD3-E7AAEEF5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9F5BE-1050-4C3F-A002-F7D0B1F8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5E719-6582-4897-8D24-4A81F13A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86630-9D96-4577-A516-B87B0C9B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E5840-E678-4FF7-8DD4-1FCEE18D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6A446-103E-4224-9D9D-8F203344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993C2-BAFB-4D76-8E20-64EFEBC7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73BD9-9CAF-4765-AA93-7F3EDD2C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24D-8D43-4637-A128-7014033B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0717A-0C9F-4BED-8305-60686087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132C8-54C3-44DE-9B0A-2FEE4DCD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C6125-392C-415C-B3F3-0B8CCBF6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9E59E-B8FF-42E3-BCF0-CA871375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FF3BC-04BD-49B3-B679-D9D832F9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7B6A9-329A-40CD-A9D9-622DE751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9D2ED-B15B-4240-91C3-4824F3AF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43D55-F38E-4A2A-9C8A-824FB3D4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408D3-98B3-4865-81AD-677B3F67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D088C-DD49-4235-A2A2-74E49B24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CCE-4C16-42FC-A8E1-4E9B4661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0EF0A-D7C1-40ED-B56D-0DDDB98B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6842B-041F-45F5-B142-8A928574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E5EF3-2FFE-43D1-8E12-46AA7B00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37782-24A4-4D7D-A81A-67AF7C37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49B1A-4FD6-48A2-A030-DD015BE9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17FEE-1090-4195-A6C6-CA5E18BB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323FF-DBD7-48AF-8BCD-383CE5EA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90ED1-A4D6-4EB0-99B3-5B9BA44F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01B2E-7BA0-4B92-B6E2-983CEB95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5AF8E-07F7-4967-A8C4-CF71EDE9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92D-D9C4-43C8-B71A-63BAD92E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BF650-A100-4029-91B5-99A6BE7E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84CBE-8726-4A5A-8950-6811C94D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8EA49-779D-48BF-AB8C-FB07CCD7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A0D9C-2D2C-4314-8B11-828B5E67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03EC7-1ED0-4C3F-BEFF-53331347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DB398-E1AE-4492-B03D-90B4F576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2BA77-5DEA-4612-B5EF-C363DF73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7DB61-48AD-4214-8D5A-CC37B165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892AE-8022-43FC-9D84-53274558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5AEDF-15C6-487F-8886-CE4AEED4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F5D1-7401-45C9-B87E-D528DF06BC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303E-A178-4189-AD17-D22CB28CE3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FB98-4C51-47E6-ADC9-ECF5A5C952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CB1B-D28D-4FFB-98FB-0131CDA98E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57D4-0315-4FCF-AB72-F8DF41FADE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87F1-A57F-44B4-82C6-9ED7BDB7CB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AA48-1AF5-4B37-ADD0-4902339B6A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7610-3071-425F-9C08-50A6F7D6B2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E158-DA9A-41AA-BEDC-01BC657F59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FF8A-1360-4439-BCC8-0B2A6317570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EC34-4A05-4D1B-9662-A66F41732E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0705-DFFE-4033-B85D-6C38B83933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1AF1-1AAF-4871-85E1-DD1C2F79F4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0CFB-1C89-456B-BF0C-913BC78C7C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01BF-4265-4F69-BE1B-69C8CEA7D7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0863-8076-42F8-B8FF-ACF9D605AB5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7116-CA30-42A7-BD0A-197FC4433D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FD87-0E88-43C0-9B27-4910867BA9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502-4837-40BC-9B3F-CA5568D83A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CF3B-F503-4DB9-AAFE-F1CE683C696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8D70-20B6-4FD0-A5F6-AC75D78383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6C3D-8797-4CAD-B8C4-A1EDF3A3A4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1DD1-F01B-4109-A46E-D9B0A11154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9313-F060-47BB-83E7-6E7E371C54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B64C-7F58-44A1-B024-CD509CF8BC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3214800" y="1714680"/>
            <a:ext cx="4857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3286080" y="221472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2" descr="2.png"/>
          <p:cNvPicPr/>
          <p:nvPr/>
        </p:nvPicPr>
        <p:blipFill>
          <a:blip r:embed="rId2"/>
          <a:stretch/>
        </p:blipFill>
        <p:spPr>
          <a:xfrm>
            <a:off x="2928960" y="1643040"/>
            <a:ext cx="4686120" cy="6350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21" descr="1.png"/>
          <p:cNvPicPr/>
          <p:nvPr/>
        </p:nvPicPr>
        <p:blipFill>
          <a:blip r:embed="rId3"/>
          <a:stretch/>
        </p:blipFill>
        <p:spPr>
          <a:xfrm>
            <a:off x="2500200" y="1428840"/>
            <a:ext cx="1041480" cy="105408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23" descr="2.png"/>
          <p:cNvPicPr/>
          <p:nvPr/>
        </p:nvPicPr>
        <p:blipFill>
          <a:blip r:embed="rId4"/>
          <a:stretch/>
        </p:blipFill>
        <p:spPr>
          <a:xfrm>
            <a:off x="2928960" y="2500200"/>
            <a:ext cx="4686120" cy="63504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24" descr="1.png"/>
          <p:cNvPicPr/>
          <p:nvPr/>
        </p:nvPicPr>
        <p:blipFill>
          <a:blip r:embed="rId5"/>
          <a:stretch/>
        </p:blipFill>
        <p:spPr>
          <a:xfrm>
            <a:off x="2500200" y="2286000"/>
            <a:ext cx="1041480" cy="10540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25" descr="2.png"/>
          <p:cNvPicPr/>
          <p:nvPr/>
        </p:nvPicPr>
        <p:blipFill>
          <a:blip r:embed="rId6"/>
          <a:stretch/>
        </p:blipFill>
        <p:spPr>
          <a:xfrm>
            <a:off x="2928960" y="3446640"/>
            <a:ext cx="4686120" cy="634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6" descr="1.png"/>
          <p:cNvPicPr/>
          <p:nvPr/>
        </p:nvPicPr>
        <p:blipFill>
          <a:blip r:embed="rId7"/>
          <a:stretch/>
        </p:blipFill>
        <p:spPr>
          <a:xfrm>
            <a:off x="2500200" y="3232080"/>
            <a:ext cx="1041480" cy="105408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27" descr="2.png"/>
          <p:cNvPicPr/>
          <p:nvPr/>
        </p:nvPicPr>
        <p:blipFill>
          <a:blip r:embed="rId8"/>
          <a:stretch/>
        </p:blipFill>
        <p:spPr>
          <a:xfrm>
            <a:off x="2928960" y="4303800"/>
            <a:ext cx="4686120" cy="6350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28" descr="1.png"/>
          <p:cNvPicPr/>
          <p:nvPr/>
        </p:nvPicPr>
        <p:blipFill>
          <a:blip r:embed="rId9"/>
          <a:stretch/>
        </p:blipFill>
        <p:spPr>
          <a:xfrm>
            <a:off x="2500200" y="4089240"/>
            <a:ext cx="1041480" cy="1054440"/>
          </a:xfrm>
          <a:prstGeom prst="rect">
            <a:avLst/>
          </a:prstGeom>
          <a:ln w="0">
            <a:noFill/>
          </a:ln>
        </p:spPr>
      </p:pic>
      <p:sp>
        <p:nvSpPr>
          <p:cNvPr id="5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0"/>
          <p:cNvSpPr/>
          <p:nvPr/>
        </p:nvSpPr>
        <p:spPr>
          <a:xfrm>
            <a:off x="4497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1"/>
          <p:cNvSpPr/>
          <p:nvPr/>
        </p:nvSpPr>
        <p:spPr>
          <a:xfrm>
            <a:off x="4569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2"/>
          <p:cNvSpPr/>
          <p:nvPr/>
        </p:nvSpPr>
        <p:spPr>
          <a:xfrm>
            <a:off x="45691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9"/>
          <p:cNvSpPr/>
          <p:nvPr/>
        </p:nvSpPr>
        <p:spPr>
          <a:xfrm>
            <a:off x="4497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图片 31" descr="4.png"/>
          <p:cNvPicPr/>
          <p:nvPr/>
        </p:nvPicPr>
        <p:blipFill>
          <a:blip r:embed="rId2"/>
          <a:stretch/>
        </p:blipFill>
        <p:spPr>
          <a:xfrm>
            <a:off x="4572000" y="2482920"/>
            <a:ext cx="2603520" cy="269244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30" descr="3.png"/>
          <p:cNvPicPr/>
          <p:nvPr/>
        </p:nvPicPr>
        <p:blipFill>
          <a:blip r:embed="rId3"/>
          <a:stretch/>
        </p:blipFill>
        <p:spPr>
          <a:xfrm>
            <a:off x="2724120" y="3460680"/>
            <a:ext cx="3276720" cy="196848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28" descr="1.png"/>
          <p:cNvPicPr/>
          <p:nvPr/>
        </p:nvPicPr>
        <p:blipFill>
          <a:blip r:embed="rId4"/>
          <a:stretch/>
        </p:blipFill>
        <p:spPr>
          <a:xfrm>
            <a:off x="2357280" y="1031760"/>
            <a:ext cx="3238560" cy="303552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29" descr="2.png"/>
          <p:cNvPicPr/>
          <p:nvPr/>
        </p:nvPicPr>
        <p:blipFill>
          <a:blip r:embed="rId5"/>
          <a:stretch/>
        </p:blipFill>
        <p:spPr>
          <a:xfrm>
            <a:off x="4929120" y="763560"/>
            <a:ext cx="2210040" cy="3022560"/>
          </a:xfrm>
          <a:prstGeom prst="rect">
            <a:avLst/>
          </a:prstGeom>
          <a:ln w="0">
            <a:noFill/>
          </a:ln>
        </p:spPr>
      </p:pic>
      <p:sp>
        <p:nvSpPr>
          <p:cNvPr id="5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2"/>
          <p:cNvSpPr/>
          <p:nvPr/>
        </p:nvSpPr>
        <p:spPr>
          <a:xfrm>
            <a:off x="5997960" y="4049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3"/>
          <p:cNvSpPr/>
          <p:nvPr/>
        </p:nvSpPr>
        <p:spPr>
          <a:xfrm>
            <a:off x="3783600" y="433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4"/>
          <p:cNvSpPr/>
          <p:nvPr/>
        </p:nvSpPr>
        <p:spPr>
          <a:xfrm>
            <a:off x="3497760" y="233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5"/>
          <p:cNvSpPr/>
          <p:nvPr/>
        </p:nvSpPr>
        <p:spPr>
          <a:xfrm>
            <a:off x="5783760" y="2406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片 17" descr="1.png"/>
          <p:cNvPicPr/>
          <p:nvPr/>
        </p:nvPicPr>
        <p:blipFill>
          <a:blip r:embed="rId2"/>
          <a:stretch/>
        </p:blipFill>
        <p:spPr>
          <a:xfrm>
            <a:off x="5429160" y="857160"/>
            <a:ext cx="1895400" cy="355608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8" descr="2.png"/>
          <p:cNvPicPr/>
          <p:nvPr/>
        </p:nvPicPr>
        <p:blipFill>
          <a:blip r:embed="rId3"/>
          <a:stretch/>
        </p:blipFill>
        <p:spPr>
          <a:xfrm>
            <a:off x="2428920" y="857160"/>
            <a:ext cx="3584520" cy="207180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19" descr="3.png"/>
          <p:cNvPicPr/>
          <p:nvPr/>
        </p:nvPicPr>
        <p:blipFill>
          <a:blip r:embed="rId4"/>
          <a:stretch/>
        </p:blipFill>
        <p:spPr>
          <a:xfrm>
            <a:off x="3973680" y="2428920"/>
            <a:ext cx="1857240" cy="186696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20" descr="1.png"/>
          <p:cNvPicPr/>
          <p:nvPr/>
        </p:nvPicPr>
        <p:blipFill>
          <a:blip r:embed="rId5"/>
          <a:stretch/>
        </p:blipFill>
        <p:spPr>
          <a:xfrm>
            <a:off x="2643120" y="2214720"/>
            <a:ext cx="1895400" cy="355572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21" descr="2.png"/>
          <p:cNvPicPr/>
          <p:nvPr/>
        </p:nvPicPr>
        <p:blipFill>
          <a:blip r:embed="rId6"/>
          <a:stretch/>
        </p:blipFill>
        <p:spPr>
          <a:xfrm>
            <a:off x="3929040" y="3714840"/>
            <a:ext cx="3584520" cy="2071440"/>
          </a:xfrm>
          <a:prstGeom prst="rect">
            <a:avLst/>
          </a:prstGeom>
          <a:ln w="0">
            <a:noFill/>
          </a:ln>
        </p:spPr>
      </p:pic>
      <p:sp>
        <p:nvSpPr>
          <p:cNvPr id="5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0"/>
          <p:cNvSpPr/>
          <p:nvPr/>
        </p:nvSpPr>
        <p:spPr>
          <a:xfrm>
            <a:off x="24976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1"/>
          <p:cNvSpPr/>
          <p:nvPr/>
        </p:nvSpPr>
        <p:spPr>
          <a:xfrm>
            <a:off x="6212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5"/>
          <p:cNvSpPr/>
          <p:nvPr/>
        </p:nvSpPr>
        <p:spPr>
          <a:xfrm>
            <a:off x="59979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16"/>
          <p:cNvSpPr/>
          <p:nvPr/>
        </p:nvSpPr>
        <p:spPr>
          <a:xfrm>
            <a:off x="27835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22" descr="1.png"/>
          <p:cNvPicPr/>
          <p:nvPr/>
        </p:nvPicPr>
        <p:blipFill>
          <a:blip r:embed="rId2"/>
          <a:stretch/>
        </p:blipFill>
        <p:spPr>
          <a:xfrm>
            <a:off x="2711520" y="2400480"/>
            <a:ext cx="2038320" cy="173808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23" descr="2.png"/>
          <p:cNvPicPr/>
          <p:nvPr/>
        </p:nvPicPr>
        <p:blipFill>
          <a:blip r:embed="rId3"/>
          <a:stretch/>
        </p:blipFill>
        <p:spPr>
          <a:xfrm>
            <a:off x="642960" y="2394000"/>
            <a:ext cx="2178000" cy="174780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24" descr="1.png"/>
          <p:cNvPicPr/>
          <p:nvPr/>
        </p:nvPicPr>
        <p:blipFill>
          <a:blip r:embed="rId4"/>
          <a:stretch/>
        </p:blipFill>
        <p:spPr>
          <a:xfrm>
            <a:off x="6711840" y="2436840"/>
            <a:ext cx="2038320" cy="173844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25" descr="2.png"/>
          <p:cNvPicPr/>
          <p:nvPr/>
        </p:nvPicPr>
        <p:blipFill>
          <a:blip r:embed="rId5"/>
          <a:stretch/>
        </p:blipFill>
        <p:spPr>
          <a:xfrm>
            <a:off x="4643280" y="2430360"/>
            <a:ext cx="2178360" cy="1749600"/>
          </a:xfrm>
          <a:prstGeom prst="rect">
            <a:avLst/>
          </a:prstGeom>
          <a:ln w="0">
            <a:noFill/>
          </a:ln>
        </p:spPr>
      </p:pic>
      <p:sp>
        <p:nvSpPr>
          <p:cNvPr id="58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5212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7"/>
          <p:cNvSpPr/>
          <p:nvPr/>
        </p:nvSpPr>
        <p:spPr>
          <a:xfrm>
            <a:off x="1211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8"/>
          <p:cNvSpPr/>
          <p:nvPr/>
        </p:nvSpPr>
        <p:spPr>
          <a:xfrm>
            <a:off x="3211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26"/>
          <p:cNvSpPr/>
          <p:nvPr/>
        </p:nvSpPr>
        <p:spPr>
          <a:xfrm>
            <a:off x="7212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17" descr="1.png"/>
          <p:cNvPicPr/>
          <p:nvPr/>
        </p:nvPicPr>
        <p:blipFill>
          <a:blip r:embed="rId2"/>
          <a:stretch/>
        </p:blipFill>
        <p:spPr>
          <a:xfrm>
            <a:off x="4857840" y="857160"/>
            <a:ext cx="2435040" cy="246564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18" descr="2.png"/>
          <p:cNvPicPr/>
          <p:nvPr/>
        </p:nvPicPr>
        <p:blipFill>
          <a:blip r:embed="rId3"/>
          <a:stretch/>
        </p:blipFill>
        <p:spPr>
          <a:xfrm>
            <a:off x="2571840" y="1031760"/>
            <a:ext cx="2435040" cy="22910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9" descr="1.png"/>
          <p:cNvPicPr/>
          <p:nvPr/>
        </p:nvPicPr>
        <p:blipFill>
          <a:blip r:embed="rId4"/>
          <a:stretch/>
        </p:blipFill>
        <p:spPr>
          <a:xfrm>
            <a:off x="2422440" y="3322800"/>
            <a:ext cx="2435400" cy="246672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20" descr="2.png"/>
          <p:cNvPicPr/>
          <p:nvPr/>
        </p:nvPicPr>
        <p:blipFill>
          <a:blip r:embed="rId5"/>
          <a:stretch/>
        </p:blipFill>
        <p:spPr>
          <a:xfrm>
            <a:off x="5065560" y="3497400"/>
            <a:ext cx="2435400" cy="2292120"/>
          </a:xfrm>
          <a:prstGeom prst="rect">
            <a:avLst/>
          </a:prstGeom>
          <a:ln w="0">
            <a:noFill/>
          </a:ln>
        </p:spPr>
      </p:pic>
      <p:sp>
        <p:nvSpPr>
          <p:cNvPr id="5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1"/>
          <p:cNvSpPr/>
          <p:nvPr/>
        </p:nvSpPr>
        <p:spPr>
          <a:xfrm>
            <a:off x="3211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2"/>
          <p:cNvSpPr/>
          <p:nvPr/>
        </p:nvSpPr>
        <p:spPr>
          <a:xfrm>
            <a:off x="32835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3"/>
          <p:cNvSpPr/>
          <p:nvPr/>
        </p:nvSpPr>
        <p:spPr>
          <a:xfrm>
            <a:off x="57837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4"/>
          <p:cNvSpPr/>
          <p:nvPr/>
        </p:nvSpPr>
        <p:spPr>
          <a:xfrm>
            <a:off x="5640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18" descr="1.png"/>
          <p:cNvPicPr/>
          <p:nvPr/>
        </p:nvPicPr>
        <p:blipFill>
          <a:blip r:embed="rId2"/>
          <a:stretch/>
        </p:blipFill>
        <p:spPr>
          <a:xfrm>
            <a:off x="2286000" y="1862280"/>
            <a:ext cx="2676600" cy="292716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9" descr="2.png"/>
          <p:cNvPicPr/>
          <p:nvPr/>
        </p:nvPicPr>
        <p:blipFill>
          <a:blip r:embed="rId3"/>
          <a:stretch/>
        </p:blipFill>
        <p:spPr>
          <a:xfrm>
            <a:off x="3427560" y="647640"/>
            <a:ext cx="3093840" cy="278136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20" descr="1.png"/>
          <p:cNvPicPr/>
          <p:nvPr/>
        </p:nvPicPr>
        <p:blipFill>
          <a:blip r:embed="rId4"/>
          <a:stretch/>
        </p:blipFill>
        <p:spPr>
          <a:xfrm>
            <a:off x="4786200" y="1862280"/>
            <a:ext cx="2676600" cy="292716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21" descr="2.png"/>
          <p:cNvPicPr/>
          <p:nvPr/>
        </p:nvPicPr>
        <p:blipFill>
          <a:blip r:embed="rId5"/>
          <a:stretch/>
        </p:blipFill>
        <p:spPr>
          <a:xfrm>
            <a:off x="3440160" y="3219480"/>
            <a:ext cx="3093840" cy="2781360"/>
          </a:xfrm>
          <a:prstGeom prst="rect">
            <a:avLst/>
          </a:prstGeom>
          <a:ln w="0">
            <a:noFill/>
          </a:ln>
        </p:spPr>
      </p:pic>
      <p:sp>
        <p:nvSpPr>
          <p:cNvPr id="6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11"/>
          <p:cNvSpPr/>
          <p:nvPr/>
        </p:nvSpPr>
        <p:spPr>
          <a:xfrm>
            <a:off x="43549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2"/>
          <p:cNvSpPr/>
          <p:nvPr/>
        </p:nvSpPr>
        <p:spPr>
          <a:xfrm>
            <a:off x="2640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13"/>
          <p:cNvSpPr/>
          <p:nvPr/>
        </p:nvSpPr>
        <p:spPr>
          <a:xfrm>
            <a:off x="5997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7"/>
          <p:cNvSpPr/>
          <p:nvPr/>
        </p:nvSpPr>
        <p:spPr>
          <a:xfrm>
            <a:off x="4426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</cp:lastModifiedBy>
  <dcterms:modified xsi:type="dcterms:W3CDTF">2015-02-10T11:16:24Z</dcterms:modified>
  <cp:revision>297</cp:revision>
  <dc:subject/>
  <dc:title>幻灯片 1</dc:title>
</cp:coreProperties>
</file>