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5845-AABE-4026-A701-74E84069E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B622-EA81-4DC6-A5BA-5903F68E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BFEB2-50E2-4EA5-B2A1-E251F45C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26261-50B4-4131-95D6-E2F8BB6F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6FD08-3543-43F6-831E-47692FB4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83886-CB00-48D8-B2C4-5B500A5F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BCB02-BA3F-44F9-8CEB-E576DE45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418D3-39BF-401F-8069-49ADBA9B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C17935-55E5-4A10-8253-1965BF67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024BD-B9B9-44EA-A61E-F58459363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9C317F-E0C3-4E9C-A449-50EFB1194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BF1177-242A-486A-BA1E-68C3DFB7F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6BD1-07FE-433E-8242-35E506F12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64ECE-8A21-47FE-83D7-91C70020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689A3-0B88-4336-9E8C-11838456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D0F0D1-24C6-47D5-92AC-2682508C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C490E6-6F5F-4180-A92F-DC8C0DC7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158D17-9086-4A36-973C-CE752CA5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3CBFD4-BDA9-4675-9D73-A3BE0FF4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5A5F54-4CED-448E-BF05-63C25CF2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28639C-EDA1-4FE3-913F-ACD4273D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E4D85-6FF6-4048-8BF0-33D74D37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5D08B9-EF39-42EC-B7A7-A5E3FAB2A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9919-6B49-4EEE-A7EA-81A14F88B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1AC3C2-1611-4177-9FE6-90F1D8A05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D2341-E277-4837-9EBB-8DA5071D4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DB357-A934-412D-B854-20EBE78B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C8F9CC-7DFD-4F66-9ADC-547576A8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FD946-9796-4C86-9D3B-2227E8A7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46A2B-35A3-4BEC-911B-28FD2055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DF762-2BB3-4721-813A-4A68DF16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691EF-780B-44DC-82F3-27A12634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D8D4B7-95E1-4CD9-83B5-55904EE6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E030E-6DA7-481B-8CE3-4E864953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920B-9737-4632-A6C4-625A7BBA0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89935-A86A-48CF-9AE4-56C19A0E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819693-C82A-43A4-8E6E-C09BEE8E7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36557-ABC7-4C51-99D4-0E9CF6919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F0B78F-2730-4D97-B464-95D925704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8D93DD-C75D-4714-BC7B-8E4026E1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542A17-3A53-4DE7-ADA3-8203D5CF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33BF9F-06B3-48BA-9D1F-ED254743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90F437-7E18-46AC-9689-6331F317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8436A1-F3C3-4FD5-B5C6-84AD9ABE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8950D1-2822-4C8E-B978-112E4FD4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6349-F300-4718-86CF-661D1C95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49471C-3951-4B39-A329-CE940264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C64DC6-F78E-4095-9AA6-E587ED3A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F3839D-81C1-44EE-90CB-5D441C4A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089C09-797E-4387-853B-E475B6F0C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AEE7E5-A661-49CB-A755-E6B38122C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8C87F3-EA1D-4353-8A4A-2C974DB06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380FD5-8B60-4676-A4DD-287A52FE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12D8C6-D896-4298-A7E8-6C1EFABC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B20A59-3580-4C2F-AA10-1D36D819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F988F7-DB39-4E1B-9F3A-D98B314D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BF47-D33B-4343-AA32-5D98AEB0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16034C-B1EE-47F5-86C3-461B2A0C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821758-8986-4226-8CBB-8F765655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5172C2-B010-4C32-B23D-E59A7151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9B79FC-D646-4F62-93BC-A1E6C9C3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6F8316-05B8-49A5-AF15-B123D206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B438E3-DDDD-4027-8154-E5E08AC6E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6719C6-B821-4C6B-9B8A-6F28D60AF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F20F-975D-4A7C-B4C5-7D6FD35B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85D4-BB45-47AA-B229-AE25B347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3D1D-4FD1-44F0-A6C8-3B937330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ECE0-2A2D-410D-BB04-4D79F674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5A8B-69AA-466A-8CD9-591EAD83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6ED1-BD4B-4327-8632-0FFA290D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A75E-FF91-4B40-ABE2-6BE45926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9A03-2756-4613-9FE8-26AB2BCE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7A1A-9BBF-4D6A-A6DE-A5F623C56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7EB9-04A3-43D9-8F1A-A8F475F7F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43A09-B004-47C7-9C3E-52235E026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9CC1B-9AA1-4BD6-B7E4-ED757937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79311-7A47-4A52-8D8E-E01FC957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8B59A-1F0C-476B-87DE-5ABE0E45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27AA9-AD57-431A-B27C-6398601D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30B3-896F-463C-982B-3ED7602C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58790-2011-4344-B7DC-C77DD038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4AB7C-650C-48C1-AB78-981D931B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12DB5-1104-4603-9CE2-D7BC3CF7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8AED5-8214-49A2-BC21-83AD7A66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EA404-4238-442D-8D45-FDADCF56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8C7C2-1CE5-4853-8C89-05EE4C2C1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8F2BD-D74B-4F2F-9859-41AFC9BE4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82D7E-E336-4D4A-BB5B-B3D3D92B0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2A1A6-71AC-4276-A820-133A7DC9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A2C77-B116-48CF-9990-3F5AF477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C605-AB74-4AE1-8129-EE87CFD4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15902-44D0-4027-828F-42E60FE9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FC0FF-5825-479A-9B2F-57D507FF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F810D-37DE-4670-8251-5C15117B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633FE-C120-49BC-B101-5A1791E2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774C4-77A4-495B-BEFC-A32E4442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8BA28-661F-4E05-8D24-FB8E3DC4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25B48-04FB-4F9A-96B4-E085D4BE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B7E7E-3A55-4BED-8461-87AE6F62A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D4F90-23BD-40FC-962E-576638916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B281A-ED53-4872-A688-817BAAA5C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7DF8-FE4C-4657-8486-3994C035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6421D-0B46-4946-BC92-DB423AB0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E7779-BD16-48FA-AE33-55296CF8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C28A1-EFDE-4F3B-A132-DC11C72E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1C732-B269-401E-940A-10F7AA8E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3A21B-8A9E-43CF-9106-E87AFCFD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F5B19-5278-49E7-8472-B73625C5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AABC0-017F-4DBB-B524-5C48B69A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2E3ED-D1F7-4880-871F-886E31A8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ED9A6-3564-415D-AA61-C845228C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E6B88-63E5-42CC-91A4-604AAF039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DF0E-B2A0-4EB0-83F9-6F567A57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CEE93-4E04-4A71-8F85-594A9D0B5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60752-5407-4331-8A19-098FA69CC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FFD4E-E4A1-4282-8A05-839E172E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53FF7-67C6-4A9F-B3D7-0FB58629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112AC-2040-4BCF-AC1B-5C13F987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27B79-8279-49DD-915F-61939BA2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87B38-8F80-4C9C-8A76-EB026C77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6B1F7-90E9-46CA-BAB8-8EB23A0B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C9873-C593-491C-A5F3-6AF7FAC1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9A4DC-DEA1-46DF-8966-0CC34FFC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BD64-EBA0-49C5-BE87-568E263E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D9DB4-861F-4610-88AA-3EC17F09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621C0-D625-4D54-9E26-E605F7F17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9C194-5C06-4511-9301-C3AB8490A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114D7-B691-4B63-92EC-C92A00F3E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B7E4A-E523-4819-81A8-510AEF10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041C5-E9D9-4919-9EBD-2076B841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33567-C55F-4904-AC5A-99CC299F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998B9-AAB4-4142-89C6-7051DC19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333F0-52CD-4128-9502-EFC0DE81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6948C-A61B-4A4B-B1E9-7C6A23FA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7014-D6DE-4E71-8C95-5D1ADC65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D72B4-86E0-44CA-81F7-E8A5C2A3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03C1B-7868-4719-8936-8276C260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EA83E-D001-4508-8E52-AF98A0AD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68243-C4BB-4D12-B614-B57B3C1E9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E8BB2-73A7-44E9-B0F0-0405B5BE2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2F9F9-ED26-437E-83CD-2AE7DEEF3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EAE3A-6672-4720-8645-F4371478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CB906-C1E1-473A-8AE8-23756E98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26E4A-31F9-4853-B921-865620E1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0A42B-882B-4BDD-8FDD-D95FE6BC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0C0A-A67C-4BDD-8BDA-738C4331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B0AF4-D4DF-4AD2-BC09-57F1B3EE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A5E98-B746-49F0-B47E-A989DB60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77F39-9022-4E67-95F7-20BABCE4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D28A6-7B73-4BC5-B76A-C37B8AAD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612EF-0BB4-47D3-9D6E-343AFB7F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286E8-E870-4CFC-B341-24F9F0B39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09F5C-3C43-4123-8EBD-44BE43FAF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05CBE8-5F21-4CEA-A306-86163F0AA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067B8C-199D-4F95-9580-B66C4638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4404C-79CD-4ED0-9D53-DDF7A424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EBAA-958B-4A08-88C0-EEBD8A75A01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FEA9-5B5A-440D-A88A-1E47E48214F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508F-6192-4B15-B50E-150322AA95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70CF-FEC1-4758-96E4-53E2560F180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3AB2-DE2D-4BF7-8D9A-8267E4586F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41EA-9477-4FC5-BB58-70AA8BA1723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C074-FB02-405D-A263-D1B91B38EE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5774-E1B0-435C-9334-90FC169CC6F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A308-80D4-4FC9-8120-15BD3B6394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C5C6-EFD2-4EBD-8709-AC8FE4E821B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955B-5A81-4EAD-9B64-4947E58656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020E-A7F6-48B6-A932-69E507EBD2F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6220-CDEE-4E4B-AF59-B314439513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C1BF-5058-4E40-9216-9B170DFC9EC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FD85-0D7D-48EB-A53F-0030355DFC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1B2B-122E-48E9-821D-98C490F8EC2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999E-1DEE-4732-A0B3-32D6504933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59F3-F0F6-49FB-A614-AC693679D17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C2A0-F7B4-4CF3-999B-D4659ECC22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0E1C-A2CE-422A-9581-35E82D6F873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8D38-ACCF-4DB5-BF70-F625AA34D7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C2CF-AFA2-4A5D-A20B-23B7397546B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7A8C-4C60-4F13-8F00-8F5D02C7FB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00A7-9662-42F0-8B35-1112E149806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D02D-3572-42A3-BEA0-EC08349CFD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6"/>
          <p:cNvSpPr/>
          <p:nvPr/>
        </p:nvSpPr>
        <p:spPr>
          <a:xfrm rot="20847000">
            <a:off x="2165400" y="4654440"/>
            <a:ext cx="48578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POWERPOINT </a:t>
            </a:r>
            <a:r>
              <a:rPr b="0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微软雅黑"/>
                <a:ea typeface="微软雅黑"/>
              </a:rPr>
              <a:t>适用于情人节及相关类别演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图片 32" descr="1.png"/>
          <p:cNvPicPr/>
          <p:nvPr/>
        </p:nvPicPr>
        <p:blipFill>
          <a:blip r:embed="rId2"/>
          <a:stretch/>
        </p:blipFill>
        <p:spPr>
          <a:xfrm>
            <a:off x="1930320" y="2214720"/>
            <a:ext cx="5021280" cy="3870000"/>
          </a:xfrm>
          <a:prstGeom prst="rect">
            <a:avLst/>
          </a:prstGeom>
          <a:ln w="0">
            <a:noFill/>
          </a:ln>
        </p:spPr>
      </p:pic>
      <p:pic>
        <p:nvPicPr>
          <p:cNvPr id="535" name="图片 33" descr="2.png"/>
          <p:cNvPicPr/>
          <p:nvPr/>
        </p:nvPicPr>
        <p:blipFill>
          <a:blip r:embed="rId3"/>
          <a:stretch/>
        </p:blipFill>
        <p:spPr>
          <a:xfrm>
            <a:off x="3624120" y="2962440"/>
            <a:ext cx="1521000" cy="966600"/>
          </a:xfrm>
          <a:prstGeom prst="rect">
            <a:avLst/>
          </a:prstGeom>
          <a:ln w="0">
            <a:noFill/>
          </a:ln>
        </p:spPr>
      </p:pic>
      <p:sp>
        <p:nvSpPr>
          <p:cNvPr id="53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20"/>
          <p:cNvSpPr/>
          <p:nvPr/>
        </p:nvSpPr>
        <p:spPr>
          <a:xfrm>
            <a:off x="18561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21"/>
          <p:cNvSpPr/>
          <p:nvPr/>
        </p:nvSpPr>
        <p:spPr>
          <a:xfrm>
            <a:off x="392796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22"/>
          <p:cNvSpPr/>
          <p:nvPr/>
        </p:nvSpPr>
        <p:spPr>
          <a:xfrm>
            <a:off x="62139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34"/>
          <p:cNvSpPr/>
          <p:nvPr/>
        </p:nvSpPr>
        <p:spPr>
          <a:xfrm>
            <a:off x="39294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图片 15" descr="1.png"/>
          <p:cNvPicPr/>
          <p:nvPr/>
        </p:nvPicPr>
        <p:blipFill>
          <a:blip r:embed="rId2"/>
          <a:stretch/>
        </p:blipFill>
        <p:spPr>
          <a:xfrm>
            <a:off x="723960" y="2851200"/>
            <a:ext cx="2133720" cy="257796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17" descr="2.png"/>
          <p:cNvPicPr/>
          <p:nvPr/>
        </p:nvPicPr>
        <p:blipFill>
          <a:blip r:embed="rId3"/>
          <a:stretch/>
        </p:blipFill>
        <p:spPr>
          <a:xfrm>
            <a:off x="3081240" y="2851200"/>
            <a:ext cx="2121120" cy="248904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18" descr="1.png"/>
          <p:cNvPicPr/>
          <p:nvPr/>
        </p:nvPicPr>
        <p:blipFill>
          <a:blip r:embed="rId4"/>
          <a:stretch/>
        </p:blipFill>
        <p:spPr>
          <a:xfrm>
            <a:off x="5295960" y="2851200"/>
            <a:ext cx="2133720" cy="2577960"/>
          </a:xfrm>
          <a:prstGeom prst="rect">
            <a:avLst/>
          </a:prstGeom>
          <a:ln w="0">
            <a:noFill/>
          </a:ln>
        </p:spPr>
      </p:pic>
      <p:sp>
        <p:nvSpPr>
          <p:cNvPr id="54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6"/>
          <p:cNvSpPr/>
          <p:nvPr/>
        </p:nvSpPr>
        <p:spPr>
          <a:xfrm>
            <a:off x="650520" y="4287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12"/>
          <p:cNvSpPr/>
          <p:nvPr/>
        </p:nvSpPr>
        <p:spPr>
          <a:xfrm>
            <a:off x="35690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13"/>
          <p:cNvSpPr/>
          <p:nvPr/>
        </p:nvSpPr>
        <p:spPr>
          <a:xfrm>
            <a:off x="128304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14"/>
          <p:cNvSpPr/>
          <p:nvPr/>
        </p:nvSpPr>
        <p:spPr>
          <a:xfrm>
            <a:off x="592668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图片 16" descr="2.png"/>
          <p:cNvPicPr/>
          <p:nvPr/>
        </p:nvPicPr>
        <p:blipFill>
          <a:blip r:embed="rId2"/>
          <a:stretch/>
        </p:blipFill>
        <p:spPr>
          <a:xfrm>
            <a:off x="2008080" y="1428840"/>
            <a:ext cx="3149640" cy="2679480"/>
          </a:xfrm>
          <a:prstGeom prst="rect">
            <a:avLst/>
          </a:prstGeom>
          <a:ln w="0">
            <a:noFill/>
          </a:ln>
        </p:spPr>
      </p:pic>
      <p:pic>
        <p:nvPicPr>
          <p:cNvPr id="557" name="图片 17" descr="1.png"/>
          <p:cNvPicPr/>
          <p:nvPr/>
        </p:nvPicPr>
        <p:blipFill>
          <a:blip r:embed="rId3"/>
          <a:stretch/>
        </p:blipFill>
        <p:spPr>
          <a:xfrm>
            <a:off x="4143240" y="1357200"/>
            <a:ext cx="2514600" cy="3556080"/>
          </a:xfrm>
          <a:prstGeom prst="rect">
            <a:avLst/>
          </a:prstGeom>
          <a:ln w="0">
            <a:noFill/>
          </a:ln>
        </p:spPr>
      </p:pic>
      <p:pic>
        <p:nvPicPr>
          <p:cNvPr id="558" name="图片 18" descr="1.png"/>
          <p:cNvPicPr/>
          <p:nvPr/>
        </p:nvPicPr>
        <p:blipFill>
          <a:blip r:embed="rId4"/>
          <a:stretch/>
        </p:blipFill>
        <p:spPr>
          <a:xfrm>
            <a:off x="1857240" y="2944800"/>
            <a:ext cx="2514600" cy="3556080"/>
          </a:xfrm>
          <a:prstGeom prst="rect">
            <a:avLst/>
          </a:prstGeom>
          <a:ln w="0">
            <a:noFill/>
          </a:ln>
        </p:spPr>
      </p:pic>
      <p:pic>
        <p:nvPicPr>
          <p:cNvPr id="559" name="图片 14" descr="2.png"/>
          <p:cNvPicPr/>
          <p:nvPr/>
        </p:nvPicPr>
        <p:blipFill>
          <a:blip r:embed="rId5"/>
          <a:stretch/>
        </p:blipFill>
        <p:spPr>
          <a:xfrm>
            <a:off x="3365640" y="3606840"/>
            <a:ext cx="3149640" cy="2679840"/>
          </a:xfrm>
          <a:prstGeom prst="rect">
            <a:avLst/>
          </a:prstGeom>
          <a:ln w="0">
            <a:noFill/>
          </a:ln>
        </p:spPr>
      </p:pic>
      <p:sp>
        <p:nvSpPr>
          <p:cNvPr id="56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10"/>
          <p:cNvSpPr/>
          <p:nvPr/>
        </p:nvSpPr>
        <p:spPr>
          <a:xfrm>
            <a:off x="264060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 11"/>
          <p:cNvSpPr/>
          <p:nvPr/>
        </p:nvSpPr>
        <p:spPr>
          <a:xfrm>
            <a:off x="57121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 19"/>
          <p:cNvSpPr/>
          <p:nvPr/>
        </p:nvSpPr>
        <p:spPr>
          <a:xfrm>
            <a:off x="221184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矩形 20"/>
          <p:cNvSpPr/>
          <p:nvPr/>
        </p:nvSpPr>
        <p:spPr>
          <a:xfrm>
            <a:off x="464076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图片 18" descr="1.png"/>
          <p:cNvPicPr/>
          <p:nvPr/>
        </p:nvPicPr>
        <p:blipFill>
          <a:blip r:embed="rId2"/>
          <a:stretch/>
        </p:blipFill>
        <p:spPr>
          <a:xfrm>
            <a:off x="2214720" y="1285920"/>
            <a:ext cx="2971800" cy="4521240"/>
          </a:xfrm>
          <a:prstGeom prst="rect">
            <a:avLst/>
          </a:prstGeom>
          <a:ln w="0">
            <a:noFill/>
          </a:ln>
        </p:spPr>
      </p:pic>
      <p:pic>
        <p:nvPicPr>
          <p:cNvPr id="570" name="图片 19" descr="2.png"/>
          <p:cNvPicPr/>
          <p:nvPr/>
        </p:nvPicPr>
        <p:blipFill>
          <a:blip r:embed="rId3"/>
          <a:stretch/>
        </p:blipFill>
        <p:spPr>
          <a:xfrm>
            <a:off x="3776760" y="1760400"/>
            <a:ext cx="3009960" cy="4418280"/>
          </a:xfrm>
          <a:prstGeom prst="rect">
            <a:avLst/>
          </a:prstGeom>
          <a:ln w="0">
            <a:noFill/>
          </a:ln>
        </p:spPr>
      </p:pic>
      <p:sp>
        <p:nvSpPr>
          <p:cNvPr id="57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15"/>
          <p:cNvSpPr/>
          <p:nvPr/>
        </p:nvSpPr>
        <p:spPr>
          <a:xfrm>
            <a:off x="59266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矩形 17"/>
          <p:cNvSpPr/>
          <p:nvPr/>
        </p:nvSpPr>
        <p:spPr>
          <a:xfrm>
            <a:off x="22831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图片 13" descr="1.png"/>
          <p:cNvPicPr/>
          <p:nvPr/>
        </p:nvPicPr>
        <p:blipFill>
          <a:blip r:embed="rId2"/>
          <a:stretch/>
        </p:blipFill>
        <p:spPr>
          <a:xfrm>
            <a:off x="4929120" y="2786040"/>
            <a:ext cx="2046240" cy="2011320"/>
          </a:xfrm>
          <a:prstGeom prst="rect">
            <a:avLst/>
          </a:prstGeom>
          <a:ln w="0">
            <a:noFill/>
          </a:ln>
        </p:spPr>
      </p:pic>
      <p:pic>
        <p:nvPicPr>
          <p:cNvPr id="579" name="图片 14" descr="2.png"/>
          <p:cNvPicPr/>
          <p:nvPr/>
        </p:nvPicPr>
        <p:blipFill>
          <a:blip r:embed="rId3"/>
          <a:stretch/>
        </p:blipFill>
        <p:spPr>
          <a:xfrm>
            <a:off x="3584520" y="4357800"/>
            <a:ext cx="1827360" cy="1884240"/>
          </a:xfrm>
          <a:prstGeom prst="rect">
            <a:avLst/>
          </a:prstGeom>
          <a:ln w="0">
            <a:noFill/>
          </a:ln>
        </p:spPr>
      </p:pic>
      <p:pic>
        <p:nvPicPr>
          <p:cNvPr id="580" name="图片 15" descr="1.png"/>
          <p:cNvPicPr/>
          <p:nvPr/>
        </p:nvPicPr>
        <p:blipFill>
          <a:blip r:embed="rId4"/>
          <a:stretch/>
        </p:blipFill>
        <p:spPr>
          <a:xfrm>
            <a:off x="1882800" y="2786040"/>
            <a:ext cx="2046240" cy="2011320"/>
          </a:xfrm>
          <a:prstGeom prst="rect">
            <a:avLst/>
          </a:prstGeom>
          <a:ln w="0">
            <a:noFill/>
          </a:ln>
        </p:spPr>
      </p:pic>
      <p:pic>
        <p:nvPicPr>
          <p:cNvPr id="581" name="图片 16" descr="1.png"/>
          <p:cNvPicPr/>
          <p:nvPr/>
        </p:nvPicPr>
        <p:blipFill>
          <a:blip r:embed="rId5"/>
          <a:stretch/>
        </p:blipFill>
        <p:spPr>
          <a:xfrm>
            <a:off x="3429000" y="1239840"/>
            <a:ext cx="2011320" cy="2046240"/>
          </a:xfrm>
          <a:prstGeom prst="rect">
            <a:avLst/>
          </a:prstGeom>
          <a:ln w="0">
            <a:noFill/>
          </a:ln>
        </p:spPr>
      </p:pic>
      <p:sp>
        <p:nvSpPr>
          <p:cNvPr id="58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6"/>
          <p:cNvSpPr/>
          <p:nvPr/>
        </p:nvSpPr>
        <p:spPr>
          <a:xfrm>
            <a:off x="59112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11"/>
          <p:cNvSpPr/>
          <p:nvPr/>
        </p:nvSpPr>
        <p:spPr>
          <a:xfrm>
            <a:off x="385488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12"/>
          <p:cNvSpPr/>
          <p:nvPr/>
        </p:nvSpPr>
        <p:spPr>
          <a:xfrm>
            <a:off x="256896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13"/>
          <p:cNvSpPr/>
          <p:nvPr/>
        </p:nvSpPr>
        <p:spPr>
          <a:xfrm>
            <a:off x="58550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14"/>
          <p:cNvSpPr/>
          <p:nvPr/>
        </p:nvSpPr>
        <p:spPr>
          <a:xfrm>
            <a:off x="385488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图片 14" descr="2.png"/>
          <p:cNvPicPr/>
          <p:nvPr/>
        </p:nvPicPr>
        <p:blipFill>
          <a:blip r:embed="rId2"/>
          <a:stretch/>
        </p:blipFill>
        <p:spPr>
          <a:xfrm>
            <a:off x="2357280" y="1731960"/>
            <a:ext cx="2171880" cy="2197080"/>
          </a:xfrm>
          <a:prstGeom prst="rect">
            <a:avLst/>
          </a:prstGeom>
          <a:ln w="0">
            <a:noFill/>
          </a:ln>
        </p:spPr>
      </p:pic>
      <p:pic>
        <p:nvPicPr>
          <p:cNvPr id="592" name="图片 16" descr="1.png"/>
          <p:cNvPicPr/>
          <p:nvPr/>
        </p:nvPicPr>
        <p:blipFill>
          <a:blip r:embed="rId3"/>
          <a:stretch/>
        </p:blipFill>
        <p:spPr>
          <a:xfrm>
            <a:off x="2143080" y="3699000"/>
            <a:ext cx="2324160" cy="2158920"/>
          </a:xfrm>
          <a:prstGeom prst="rect">
            <a:avLst/>
          </a:prstGeom>
          <a:ln w="0">
            <a:noFill/>
          </a:ln>
        </p:spPr>
      </p:pic>
      <p:pic>
        <p:nvPicPr>
          <p:cNvPr id="593" name="图片 18" descr="2.png"/>
          <p:cNvPicPr/>
          <p:nvPr/>
        </p:nvPicPr>
        <p:blipFill>
          <a:blip r:embed="rId4"/>
          <a:stretch/>
        </p:blipFill>
        <p:spPr>
          <a:xfrm>
            <a:off x="4286160" y="1731960"/>
            <a:ext cx="2171880" cy="2197080"/>
          </a:xfrm>
          <a:prstGeom prst="rect">
            <a:avLst/>
          </a:prstGeom>
          <a:ln w="0">
            <a:noFill/>
          </a:ln>
        </p:spPr>
      </p:pic>
      <p:pic>
        <p:nvPicPr>
          <p:cNvPr id="594" name="图片 13" descr="1.png"/>
          <p:cNvPicPr/>
          <p:nvPr/>
        </p:nvPicPr>
        <p:blipFill>
          <a:blip r:embed="rId5"/>
          <a:stretch/>
        </p:blipFill>
        <p:spPr>
          <a:xfrm>
            <a:off x="4357800" y="3699000"/>
            <a:ext cx="2324160" cy="2158920"/>
          </a:xfrm>
          <a:prstGeom prst="rect">
            <a:avLst/>
          </a:prstGeom>
          <a:ln w="0">
            <a:noFill/>
          </a:ln>
        </p:spPr>
      </p:pic>
      <p:sp>
        <p:nvSpPr>
          <p:cNvPr id="59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 11"/>
          <p:cNvSpPr/>
          <p:nvPr/>
        </p:nvSpPr>
        <p:spPr>
          <a:xfrm>
            <a:off x="27118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12"/>
          <p:cNvSpPr/>
          <p:nvPr/>
        </p:nvSpPr>
        <p:spPr>
          <a:xfrm>
            <a:off x="271188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矩形 13"/>
          <p:cNvSpPr/>
          <p:nvPr/>
        </p:nvSpPr>
        <p:spPr>
          <a:xfrm>
            <a:off x="521208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19"/>
          <p:cNvSpPr/>
          <p:nvPr/>
        </p:nvSpPr>
        <p:spPr>
          <a:xfrm>
            <a:off x="492660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0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pptbz.com</dc:creator>
  <dc:description/>
  <dc:language>en-US</dc:language>
  <cp:lastModifiedBy>a</cp:lastModifiedBy>
  <dcterms:modified xsi:type="dcterms:W3CDTF">2015-02-10T11:17:25Z</dcterms:modified>
  <cp:revision>287</cp:revision>
  <dc:subject/>
  <dc:title>幻灯片 1</dc:title>
</cp:coreProperties>
</file>