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type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113-5B9C-479F-A402-D3CAF938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A6E-F3C1-4F1B-941F-816908F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5E68-888C-4003-B8B9-9EA56DB6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68F47-41F9-4C2A-8DD0-3470784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70095-4BF6-44B1-B400-995A3B00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40A48-9EC6-452A-A4E6-CDCABB9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D4EF8-F760-4252-976C-A53084A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120B6-8574-4CF0-BAC4-4BDA239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208A-2C00-4CFB-BE15-D5729DF5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53F5C-6607-49E0-88A2-A1440B48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539D-6758-4439-B5A3-09ACBDF6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E011A-5E5B-436F-8D83-9A5654D3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FAB-2976-4D08-B12A-30A0C7D1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32768-6FC4-48CD-B3F1-13C68193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63512-F59F-46EA-BB2C-E097E7E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F2588-8BF7-4492-880B-11FD054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4BB32-4248-4C5F-9C9B-3ABB481C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D73A8-1DB0-4C6D-AD2F-BC1F8F07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B196D-9D90-4848-AADB-EB2B593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ABEEE-713A-4492-89AA-ECCE2D7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787BB-3DF8-490F-8C9E-1A3D4B3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9CCC-7130-4BF8-8E05-D96070F2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81134-90CF-4C28-9AAA-FB043142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DCD-4591-4AAE-BC03-B0CE0AF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60844-6F7D-452F-BE34-2CB94AC0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D2988-AC49-4CEF-9F26-3F8D705A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A848F-EE79-4099-9140-9120937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67129-1DBE-4CFE-8799-5F1794D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22475-1220-4708-8EA7-9E7DE0B9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D0F7-A6CD-4BDF-A0CE-2A8E4CD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ABC8-E1D7-489F-96FF-206DADC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6ED2F-B278-46C6-BBB1-93DB2FC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4A509-66C4-44F3-82FC-88BAF0C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E3B8E-6754-48EC-83CC-0701376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B2AD-ED6D-4584-8362-03252F5F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4C90-2AFA-4103-8EB8-7DA64A5B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538D0-3E40-4CB0-9154-063BDDB5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10CA5-C42E-4BC4-B85D-54DEA2B3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3EB25-A8A9-4FAC-8CF9-E5A42C18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6B6F6-9C99-420E-A0D3-9E47A996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7C643-9607-40A6-BCD9-DFA8497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461F0-0E29-4096-8809-E8C87460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99394-E242-4B18-A753-F356A87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E4933-321E-4B28-ADF8-E95E4569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8BED1-0305-4A30-8CDC-2A7F101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7DDF-F9EA-4790-AD9A-011818E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248B4-6E49-414E-8615-4760A63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9D882-5D2D-4929-9AAD-1D5D6A2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34222-008E-4161-9304-A886BDA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6D8BF-F290-42A0-92FD-F12A042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38D06-D6A2-4832-8242-CCFFF44B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868A1-5777-4471-8A51-5517EEA1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230A3-60F2-4213-9A8B-C83361F1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A8707-3C01-4F53-95CA-3F8E3008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4E5B8-5A49-4919-B07E-9F92C9AE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73AC5-A208-4491-8B6C-D644E77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B6C-839B-4636-B0F3-BAB792A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0ED99-EAD1-4945-8E6D-C58B079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8633E-D4CF-497E-A3F3-BD4748E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C87EC-25B3-443C-AD4B-08F1C5A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46619-F1D8-4557-A1A1-38E5974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3DFE7-508B-4257-839F-23858A4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CC242-5D37-419E-8E34-F80B642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FA69A-9021-4734-84E7-CFBC6AB1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0314-BA5C-4775-99E5-939D1ACA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C4F-25A1-49CE-B20A-15F6468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93D8-5570-4CEA-9779-11ABA76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A12C-E4E6-44AF-93C9-8DFA755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4C3-4F2B-47A2-886A-F55F524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FF8-C853-44E7-9460-60451F2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ACE-7420-427E-AF7F-00EBCF6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513-E196-41DD-9257-4168CEA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EE4-EA45-484F-B0BF-C1125A9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B16-291A-482C-BE18-8EBBE993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1437-6737-4591-9ADA-885FD5C6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1CDD-A687-4825-84F4-D98F40A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99FBE-516E-449A-81BD-FD109787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8D18-0667-4D94-A084-768C5F7A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0683-9416-46AD-AF07-D146AC5F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47F-30AA-460C-86D7-97BC67C0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F2C3-1AE6-4F8E-99A1-E306385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14F0-93BC-4D85-A514-034B2BB6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014A-029A-46BC-B328-5462A01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08CF-CB65-4A95-A49E-E71D598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7589-ECD4-4069-B295-6250E1D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7F42-974B-4F61-A617-27DC4008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A298-F001-4470-9FE7-643F81BA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80EC-EECB-4030-BF7B-4D9F91EC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007B-0887-4BF1-AC25-F0F76CB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7932-A538-4D20-8488-5092025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07B-4884-4E9B-B08C-790E085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3E15-3A2C-4FBE-8796-24A2E8E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2D4B-A4AC-457E-BCD9-4A2B2809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FC18-3067-413F-AFFD-AE5CF897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4DE7-B315-4960-A9EC-D23916D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3178-6BB7-406D-B191-CE4A1FE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7C0B-5A34-4E59-970F-B7B0E1D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E404-D6FE-40A8-8A44-B3C5186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BC6F-0615-4CA6-9EE9-CEC2613E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2FCF-1E03-4D76-A932-507FC696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F43B-78B8-4291-A4E4-196C84A5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DFF-E83A-4A50-9DF4-E95616B8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8CE8-7B18-4B9C-BD2F-B9E321C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95EE-0AA0-4DC9-97B3-1B03B3C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5732-3A9F-42B5-B531-196AA4A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D1AA-DD1F-45DB-A42B-6E7C605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09A5-0AE6-4963-A988-8227C3CF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3B94A-EC01-4E81-9D4A-CC998AD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1CCD-B6F2-41A4-9584-293FA72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ED3BA-35BE-4DCE-B7E2-9A60E3D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7F64-8B95-4A99-AABE-87EFA02B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423A-5E47-499F-B69C-C2E63F31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5DB-19F0-45BD-AEFF-2DB8515A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1F24-7CEE-4BBA-9363-27A67240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6509-729F-488C-B8BF-2C585C57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38831-CF7B-4B68-9942-9125718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934E-2EB3-4ECF-B058-1933F72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5B13F-D77C-47B8-BD51-AA6914B3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30C3-4B81-4930-BE1C-D6020F21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D121-1562-40C6-A92C-1BA7D18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7AC7-202A-485A-B69F-D2139D4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026D5-4B37-40EF-A07B-B30C21F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FED1-AD95-4AF7-9F1C-A92B72E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B90-DCB0-4780-96FF-F7F74AF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DBBD-AE48-404A-8F7D-8BD6556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CA20E-210E-47BF-9D74-DCBCE3AF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1B1C9-EB28-4536-A89A-90912418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6D2E-4C3F-4FBB-B0E7-B7127956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EF23-B93E-41DF-8BDC-1F83083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C32C-1982-4E57-A13D-8C2C094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79ED-74D0-4BEC-A701-19EC0954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20C5-4283-4A0F-A9F8-76340FF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DB01-0978-4E6A-BFE6-3288080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2FA3-A4D3-4E26-9B9F-1033923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5D8-DDAD-4710-AB7B-8C715BF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5490C-608E-4C00-9BB6-BF3084B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B24C-B37C-4AEB-B041-E61A199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6A59-B8F3-4040-A726-14BBF96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FACD-9EA2-4188-8875-EEF25CAA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4BD0-50B8-4A19-8234-26CCB80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48DAC-C2E1-4FC5-B0C6-0012FA41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A3A3-D887-475B-938A-BA2A7DB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996F-C5B6-4453-AC43-FD58B31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0080E-4C47-4E68-A276-961653A2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E984-5BA0-4744-8666-FF000768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EAD-F1B0-45F6-94F4-068CC98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0926-C110-43C1-AA13-821FE87E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CBB9-2B52-4A13-82B3-6247A1D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60238-5B3D-402E-8162-112A69E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5A26-2406-4FD5-9F92-D5E44FD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2135-6C28-4F90-984F-42FE232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6D12-A539-45BC-9379-D982BF4C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E3D7-5FE4-49D2-87A4-1B77B50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5718-C796-4FAC-9D68-1F8EE0C3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186B9-6E84-4E88-8418-984421F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B42BB-0BD9-435D-8227-1822BC3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2A1F-5DA5-4422-B525-AF4F30CA40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FA9-4F6A-42D1-B415-565FF3AE8E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9C8-8497-4BF3-83FA-9C33B3F8DC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1726-42C9-4CBE-BC0A-B43AA85329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867-8889-49F2-84E1-A23FDBD26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9BBF-4922-4255-A8D0-79F73FF1AC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0B9-EB5C-48E8-AE4A-59947CC09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7E4-55E6-49B6-A0E6-A197B1246A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1BE9-2936-4310-9C96-C51F44F3E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E90-5E37-4CF4-AF32-F03246DB60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98A-A415-4A57-82E9-8E244BD76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4898-E8C8-4E08-977B-7C03CE5A24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CA92-4EA7-4793-B177-E968CB8FD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224-B5E1-40DE-AC7B-7C43ADA487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937C-06C2-4A69-A4C2-60CABEFBBD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C64-83E8-4781-B53B-65E1ADB850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180-09F1-434E-9B51-EE9E1D7D0D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B69-57B4-4914-A2F3-2B218A10A3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5CF-0811-4CDC-8ED7-CC1FC6FA4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E08-BD00-46D9-9B69-8E59602952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862-E524-41A9-B490-20DC15843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026-F3A9-4C03-A9BF-C57A6D5210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DDB-8F09-4943-A37E-E123F37128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4BC-48A2-4841-A185-B827600501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9EF-0A9E-42DB-915E-C0787243F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1" descr="20098521443525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4"/>
          <p:cNvGrpSpPr/>
          <p:nvPr/>
        </p:nvGrpSpPr>
        <p:grpSpPr>
          <a:xfrm>
            <a:off x="0" y="0"/>
            <a:ext cx="8457480" cy="519120"/>
            <a:chOff x="0" y="0"/>
            <a:chExt cx="8457480" cy="519120"/>
          </a:xfrm>
        </p:grpSpPr>
        <p:sp>
          <p:nvSpPr>
            <p:cNvPr id="537" name="Rectangle 5"/>
            <p:cNvSpPr/>
            <p:nvPr/>
          </p:nvSpPr>
          <p:spPr>
            <a:xfrm>
              <a:off x="0" y="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>
              <a:off x="0" y="0"/>
              <a:ext cx="845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0" y="5867280"/>
            <a:ext cx="5943240" cy="519120"/>
            <a:chOff x="0" y="5867280"/>
            <a:chExt cx="5943240" cy="519120"/>
          </a:xfrm>
        </p:grpSpPr>
        <p:sp>
          <p:nvSpPr>
            <p:cNvPr id="540" name="Rectangle 8"/>
            <p:cNvSpPr/>
            <p:nvPr/>
          </p:nvSpPr>
          <p:spPr>
            <a:xfrm>
              <a:off x="0" y="586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9"/>
            <p:cNvSpPr/>
            <p:nvPr/>
          </p:nvSpPr>
          <p:spPr>
            <a:xfrm>
              <a:off x="0" y="5867280"/>
              <a:ext cx="594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WordArt 10"/>
          <p:cNvSpPr txBox="1"/>
          <p:nvPr/>
        </p:nvSpPr>
        <p:spPr>
          <a:xfrm>
            <a:off x="2095560" y="836640"/>
            <a:ext cx="67975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金钱的魔力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7"/>
          <p:cNvSpPr/>
          <p:nvPr/>
        </p:nvSpPr>
        <p:spPr>
          <a:xfrm>
            <a:off x="4241880" y="60958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5" descr="200981735373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2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28600" y="112536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马克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吐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3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0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美国作家，本名塞谬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赫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莱门斯。马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吐温是其笔名。出生于密西西比河畔小城汉尼拔的一个乡村律师家庭，从小出外拜师学徒。当过排字工人，密西西比河水手、南军士兵，还经营过木材业、矿业和出版业，但比较成功的工作是当记者和写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5" descr="200951807499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447920" y="2133720"/>
            <a:ext cx="6400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魔力  通融  刻薄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断  熔岩  窘况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阔佬  撵跑  雅致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究  妙不可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全十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20095220117585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2"/>
          <p:cNvSpPr/>
          <p:nvPr/>
        </p:nvSpPr>
        <p:spPr>
          <a:xfrm>
            <a:off x="164304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860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蹩脚：质量不好；本领不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融：变通办法，给人方便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刻薄：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人、说话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冷酷无情，过分的苛求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断：只凭主观判断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熔岩：从火山或地面的裂缝中喷出来或溢出来的高温岩浆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冷却后凝固成岩石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窘况：非常困难又无法摆脱的境况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致勃勃：兴趣强烈的样子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阔佬：年纪较大的有钱的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撵跑：驱逐；赶走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雅致：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饰、器物、房屋等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观而不落俗套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爵：封建五等爵位的第一等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究：这里是讲究、精美的意思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不可言：美妙得不能用语言形容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全十美：各方面都非常完美，毫无缺陷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晚礼服：在晚会时穿的服装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便装：便服，休闲服装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王：皇帝或国王的亲属中被封王的人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6" descr="2009419042622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52280" y="1828800"/>
            <a:ext cx="8991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这是托德面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胆怯地请求通融时说的一句话。这句话比较集中地反映了托德起初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的态度。话说得很刻薄，充满了歧视与轻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料到了你没有带零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只会带大票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，说的是反话，意即你根本没有钱，挖苦、讽刺至极。透过这句话，一个藐视穷人，在穷人面前傲慢无礼的形象跃然纸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89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，是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哼，当然我也料到了你没有带零钱。我看像你这样的阔人是只会带大票子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6" descr="20091280922334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28600" y="1828800"/>
            <a:ext cx="8915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几句话主要描写的是托德见钱后的笑容。作家用夸张和辛辣的笔墨，先写托德见钱后的笑容，笑容遍布满脸，里面还有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纹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──折纹、皱纹、螺旋纹。好一个见钱眼开的家伙，托德见是大钱后的笑容，牢牢地凝结起来，像一片一片的熔岩。这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凝结起来的笑容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难堪，有窘迫，更多的还是对钱的贪恋，可能托德从未见过这么大的钞票，已呆若木鸡，不知所措。马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吐温不愧为语言大师，简单几笔，则淋漓尽致地刻画出了托德这个势利的拜金主义者令人作呕的丑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52280" y="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他微笑着接了过去，那种笑容是遍布满脸的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满是蛆虫似的一片一片的熔岩一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20091214181340359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2"/>
          <p:cNvSpPr/>
          <p:nvPr/>
        </p:nvSpPr>
        <p:spPr>
          <a:xfrm>
            <a:off x="16430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是本文的结尾，当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离店时老板说的话。老板要表达的意思其实很简单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您说得对，我送您，再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但由于此时站在老板面前的是位百万富翁，见钱眼开的老板已语无伦次，极尽奉承之能事，反反复复，啰啰唆唆，透过这言语，不难看出老板那副奴才相。同时，这一结尾与文章开头形成了鲜明的对比，开头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遭遇的是那般冷落；结尾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受到的是这般热情，为什么会发生这样大的变化，自然会引起读者的深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得很对，先生，您说得很对。您请稍等一会儿──我送您出去，先生。好吧──再见，先生，再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" descr="2009470183944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"/>
          <p:cNvSpPr/>
          <p:nvPr/>
        </p:nvSpPr>
        <p:spPr>
          <a:xfrm>
            <a:off x="164304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百万英镑》内容简介　讲一个贫穷、诚实的人，也就是这个故事的主人公收到了一对兄弟的信，信里面送给了他一百万英镑。原来这对兄弟打了一个赌，赌如果一个贫穷、诚实的人收到天上掉下的一百万英镑，他会有怎样的结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哥认为他会饿死，因为他无法证明这些钱是他自己的，会受到别人的怀疑，连银行都不会让他存钱。弟弟则认为他会过得很好，于是兄弟俩将一百万英镑的支票借给了这个贫穷的人，并出国呆了三十天。没想到在这段时间内，人们对这位突然暴富的罕见富翁，竟拼命地拉拢他，从免费吃饭，买衣服，到免费住宿，一个个讨好他，并不断提高他的社会地位，一直到了除王室外地位最高的公爵之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光如此，他还得到了一位好妻子和三万英镑的银行利息，最后还从两兄弟那儿得到了一份很好的工作，过着非常舒适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59:11Z</dcterms:modified>
  <cp:revision>13</cp:revision>
  <dc:subject>第一PPT模板网-WWW.1PPT.COM</dc:subject>
  <dc:title>第一PPT模板网-WWW.1PPT.COM</dc:title>
</cp:coreProperties>
</file>