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723-D7E9-4AA5-8669-C0BBC83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025-E654-40D8-A7FC-9EB545C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E949-C03F-4678-B64C-8B9EA23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A9EDD-956C-47A0-8A3D-83DC1B9F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C2D3F-2DE4-42E1-BC5C-739262E8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CFCF1-55B3-4FA6-B3EE-E1A7E08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D51A1-45B2-4CB8-A437-D737C9D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FBBD8-C610-4918-9D6F-5AE5F2A0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ED698-9340-4DF1-ACA2-FBB85916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CF9F-639D-47B1-BF55-B8E9DEF5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1E41A-B17B-4305-98D6-0D78F29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64556-B628-466C-BF9A-81E6B7FC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0CA-9A0B-4BCC-B736-5947BB4C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A42F5-4C44-47FD-86DD-4383CB4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449D0-4751-4D21-B455-118C867C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DF8A6-1203-48F6-B130-2170D41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F840F-64C3-4117-980B-1AF4B0B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7F93E-2A97-456F-BAC6-5B8FA28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4821B-5162-450A-8F3B-1FA70AC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7165A-0779-4482-9BDB-CCCE96D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1DC3-7898-4FD1-B046-34DC65A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74D1-B29A-4F42-9A7D-E4F9DED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E82BE-5BD1-4C27-B9EE-EE73275B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5C2-3386-470B-8EF6-9EC8DA39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61A40-A566-4FFF-BE1D-87B43300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5135-C5E8-4CA0-A905-A90D525E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C6CD-7A6A-4DC5-B472-EC0B39C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C3FD3-FBBA-40BC-B3FA-E3DF2A6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9BBC2-2563-4AF8-9C4A-82FA400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2039-C386-4E15-BF66-0E264D0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5ECB8-7A33-4A0C-903D-6E1DB98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622C4-A0C4-4E72-B73D-73D6932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05922-8F73-4349-B057-EBBB6AF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0563-4F18-4A21-AAAE-67025AC8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FF3-7313-4F09-A1BD-63CE769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7085-B707-4086-907B-2BD136E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3994-261B-4EF7-930A-B2019FE4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734B-8059-43F1-A507-6FA7CE3E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49D9A-49CB-4F44-A873-44833A37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FC7E7-071C-4628-B101-356AAC8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85FF0-0A5E-4CFE-A43B-7B548CB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A3A36-83D2-4526-9057-A56E6B5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35F11-D29F-4480-840C-AA42F692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65CB1-215A-44EB-8D6F-FA9143F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0ED7D-3096-4D78-8D3B-C70D7C0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082-F3AA-42E0-B563-1203352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D6769-D472-45F3-8CED-26EC292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4014C-5928-4E6B-A7DE-7991279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CB609-2BBD-4EFE-90C1-DDFEC22A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3039-573E-4EBB-9305-DEB8B63D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6A16-7D23-4F2E-8944-9637B560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E4394-D704-45D4-8F6C-F84FF1DA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EAA7A-4D7B-45B0-9773-1EE10D8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E887B-9BA6-44C2-B618-04203660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31CB8-4214-4322-A026-B93E2FE1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EF7CB-88A4-4C37-BFC6-8F1BA2A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067-B675-49D8-B3F5-C552C33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04306-D5EA-4AB4-8EE7-0F3C861F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4F015-9161-43B7-B8F0-E750314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C0F6A-4C52-4C98-B5DC-6CC9A6A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594ED-1BEE-4A0B-B8DD-564B481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F02C3-57F9-49E3-B084-590DE22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8AA17-C4EB-47B7-ABEC-7137A1E4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FDF10-3FC4-4921-B4FC-40AD5FBC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2BB3-0727-48CB-93AC-B012ECB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6944-B295-4A26-A0DD-0316BB22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FA16-3EAE-4A96-BBCE-CD6AC2B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B2B4-C03B-4735-8B5A-FD957F3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4AD-57CE-45E5-A9E3-A7009243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FFA5-0536-45F0-9554-71A0D0D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A236-1842-4953-AA69-8581906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D85D-D660-4EFE-84E7-B9E3EAC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3786-71DE-4288-A2C4-E5678B8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ED55-99B6-47D7-BCE1-ACF037E1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A541-6C92-4905-8EB5-AC4DCC07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AFA6-866A-4A26-860F-44EB4EE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0DC2-5553-4F50-8F26-83FD2EC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485B-76CB-4CA2-BABA-3EC7FED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AE20-0C12-486F-83A9-9E5F273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05D-A225-4F6C-9997-1A55330A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09DD-1358-4CEA-B09D-D3CF00E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5C4B-6632-49E9-8F7C-141EF51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AC9B-1D88-40C8-9CA8-60F8B43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6081-1CD1-4432-82ED-0F016AB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6BA1-4BE8-4939-987D-C80C308C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DF85-C732-4B9D-99A2-534B848F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EF0F-A175-41D3-9B84-60A3355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D4AB-A89E-4BF3-970C-27E77B6C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994F-0EDD-43AB-9139-F26E58B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61FA-E2E9-42A6-A2BD-F25EF64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A5C-8954-4A9F-8552-B3C9D5A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03EF-7389-4F06-9FC9-0DD44C64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6CCB-E379-4E88-9F26-FCB9983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DE07-BC22-44DD-9E6C-6C801173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3023-96AA-477C-A964-A6CD3D95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99A5-21A0-4EF2-9223-0022EAA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12E3-612D-4E56-83D8-27AFAF1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DE42-05E3-4D0C-B1E1-4B22206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CBB0-2BBF-4522-8721-6B421724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71C7-B639-47F3-B8B5-965A1C2E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6964-93B3-49F5-9502-D8853661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8F0-D5E1-4865-A4D9-72D06848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C45F-0A95-4AC6-82F3-AD03583B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6873-5410-4B45-A240-FE0E1C0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ABF7-B05E-44BF-892C-A8FA01F7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8CF4-C9A4-4DE2-A5AF-3E610ED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5E10-CB53-47E8-BD4A-A1E1D734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8079E-567A-4899-8EB7-9BC5A14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33E0-D363-4C09-AC81-13DE3B1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5B84-6C9D-473C-A3D1-EE81A94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D6F9-45BC-46BD-BF80-E7648EB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204F-88E1-4CCB-B606-876CBA1B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F84-CCAE-4DD9-A790-0778AE1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F211-370D-44CD-9AC3-92E2EEC1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6B2E-34BF-4D47-A470-AA5DD1DF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66E9-0A15-40C4-891C-4956C424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4E2F2-8A19-47C1-801E-3B065A9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837B-D959-416E-AA7C-EF734CB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E856-3B40-4F55-8EF3-D066C05A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5C6A-09B5-4DE0-AC97-6A0339E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3C19-9586-4AC3-BF0F-15BA649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A73F-6EC9-4821-BC50-6A7FD2A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AF4D-2176-45DE-9B6C-AA2A243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231-D7F4-4E79-9F7A-7883A5C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30B2-9379-45AD-8072-4C1B1B9A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B0B9-05D0-4AE8-BCC0-306BBB11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A7174-2EDE-491B-B0F2-E36F2277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854F-D090-4428-8E0A-12098E9F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B183-6099-46D8-95C0-A8447D2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1CDA-6E1C-4ABF-905D-E127DDA1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D096-FBCA-44BE-98E6-A246F938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52B5-0D73-4E1F-B1F8-2A6052E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7879-D93F-41D1-B6DF-B0850DE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82907-38B5-4B75-8007-330BD6C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0BB-EF2E-4C51-BE0A-FC8722D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39C14-3424-4C1B-9014-9F0F5741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A12E0-7968-468C-BFAA-2D6283A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20C3-AAA5-4E77-9F0C-F47E8681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E0D5-6C8A-4853-AD67-9846F840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E529-4BE1-4241-B8DD-E21D838A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E53E3-13D8-40EB-99AC-80928DAF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8769-766D-4EF7-B522-7C65E84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FDB2-1E73-42D2-A8F6-C202914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C421-44F7-4C25-9A29-DAA46B04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EB50-E8BB-4A6A-8D3C-FCC197D4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151-553E-4CC9-9C96-198BDD5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1EFA-4780-40B1-9B8E-1074095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A823-BFF8-494C-8C96-BAD1046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9CD3B-76E2-4764-8102-CAACDCE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99AF-3D0D-443B-8A5B-4676FF0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C3B8-71F0-40CB-8438-690C3D7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677F9-4147-438E-8FF3-67135FF4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157D-D1A9-4200-A756-85C84F70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CCF02-3742-4941-BB48-1487323D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FC20E-05F7-4A31-94FC-FAAA7441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B109-87AC-4166-A9F0-0FF7D7C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68B-C461-47DE-A810-0B4FE8B9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ED1-0DC1-49F2-9478-7414BBBCD5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3BC-1D05-4E0C-A52A-3C2BFCD69F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E53-1028-4E5A-8DA4-396154FEB1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A726-8D82-46A1-B140-D2455E5DD4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B9E-F622-4FA6-ACC6-207500F173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B26-D77C-416A-9C86-509BA3C0F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93E-D973-407E-BB33-0E2CCAB1AA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A21-03D5-48F9-8AD1-F2E89605C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1DB-FAC1-4B18-9F80-B51475BC6E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E527-CAE1-4634-89C1-5586E4181C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B3F-A51D-4212-87FA-FF46581D53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55A7-4773-44B0-95CF-F261D44B9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A1B5-F33D-4A43-8FF3-7103A08856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852-D1DB-4131-99D1-45FC4498E2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C24-76DB-4A1A-A89A-C00329EDEF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3CA-2B9F-48B8-8877-B3B871B54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4119-F665-439F-BAED-9361E666CD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2A3-932E-41B1-9A9F-16DC12559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EDB9-F4CD-4E0A-997E-3A7CA04E7C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DAB-5A5F-454A-AEBB-02E0AF2AA8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3A0-9EFE-485E-B7F8-2B0226D054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ABB-6D48-4547-B194-F6157987C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534-CFF6-4FE0-876F-AB47F860F9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CDB-86E0-4044-A70C-00E80DE720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609480" y="6094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入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敏同学在三次测试中的成绩分别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么张敏同学这三次测验的平均成绩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685800" y="6858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市三个郊县的人数及人均耕地面积如下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14400" y="1828800"/>
          <a:ext cx="6095880" cy="211932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50496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郊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均耕地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公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44"/>
          <p:cNvSpPr/>
          <p:nvPr/>
        </p:nvSpPr>
        <p:spPr>
          <a:xfrm>
            <a:off x="380880" y="396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市郊县的人均耕地面积是多少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5"/>
          <p:cNvSpPr/>
          <p:nvPr/>
        </p:nvSpPr>
        <p:spPr>
          <a:xfrm>
            <a:off x="609480" y="4876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实际问题中，一组数据里的各个数据的“重要程度”未必相同。因而，在计算这组数据时，往往给每个数据一个“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04920" y="228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家公司打算招聘一名英文翻译，对甲、乙两名应试者进行了听、说、读、写的英语水平测试，他们各项的成绩（百分制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447920"/>
          <a:ext cx="6858000" cy="1593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试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37"/>
          <p:cNvSpPr/>
          <p:nvPr/>
        </p:nvSpPr>
        <p:spPr>
          <a:xfrm>
            <a:off x="304920" y="31240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这家公司想招一名口语能力较强的翻译，听、说、读、写成绩按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比确定，计算两名应试者的平均成绩（百分制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们的成绩看应该录取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9"/>
          <p:cNvSpPr/>
          <p:nvPr/>
        </p:nvSpPr>
        <p:spPr>
          <a:xfrm>
            <a:off x="457200" y="472428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这家公司想招一名笔译能力较强的翻译，听、说、读、写成绩按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比确定，计算两名应试者的平均成绩（百分制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他们的成绩看应该录取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22860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次演讲比赛中，评委将从演讲内容、演讲能力、演讲效果三个方面为选手打分，各项成绩均按百分制，然后再按演讲内容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演讲能力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演讲效果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比例，计算选手的综合成绩（百分制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决赛的前两名选手的单项成绩如下表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80880" y="2819520"/>
          <a:ext cx="7010640" cy="15541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选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演讲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35"/>
          <p:cNvSpPr/>
          <p:nvPr/>
        </p:nvSpPr>
        <p:spPr>
          <a:xfrm>
            <a:off x="228600" y="4648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决出两人的名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数据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平均数是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这个平均数叫做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548640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638680" y="32004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算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某市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下旬最高气温统计如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29714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在这十个数据中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权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,3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权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57200" y="1676520"/>
          <a:ext cx="7848720" cy="103644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气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Text Box 27"/>
          <p:cNvSpPr/>
          <p:nvPr/>
        </p:nvSpPr>
        <p:spPr>
          <a:xfrm>
            <a:off x="6553080" y="28954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371600" y="3429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0"/>
          <p:cNvSpPr/>
          <p:nvPr/>
        </p:nvSpPr>
        <p:spPr>
          <a:xfrm>
            <a:off x="304920" y="434340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该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中旬最高气温的平均数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个平均数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均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7621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2"/>
          <p:cNvSpPr/>
          <p:nvPr/>
        </p:nvSpPr>
        <p:spPr>
          <a:xfrm>
            <a:off x="54100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  为了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的运营情况，公交部门统计了某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每个运行班次的载客量，得到下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447920" y="1066680"/>
          <a:ext cx="6019560" cy="3264120"/>
        </p:xfrm>
        <a:graphic>
          <a:graphicData uri="http://schemas.openxmlformats.org/drawingml/2006/table">
            <a:tbl>
              <a:tblPr/>
              <a:tblGrid>
                <a:gridCol w="2209680"/>
                <a:gridCol w="137160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载客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中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频数（班次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≤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56"/>
          <p:cNvSpPr/>
          <p:nvPr/>
        </p:nvSpPr>
        <p:spPr>
          <a:xfrm>
            <a:off x="304920" y="4495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公共汽车平均每班的载客量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7"/>
          <p:cNvSpPr/>
          <p:nvPr/>
        </p:nvSpPr>
        <p:spPr>
          <a:xfrm>
            <a:off x="457200" y="5105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统计中，常用各组的组中值代表各组的实际数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53352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各组的频数看作相应组中值的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灯泡厂为测量一批灯泡的使用寿命，从中抽查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灯泡，它们的寿命如下表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80880" y="1752480"/>
          <a:ext cx="8534520" cy="1524240"/>
        </p:xfrm>
        <a:graphic>
          <a:graphicData uri="http://schemas.openxmlformats.org/drawingml/2006/table">
            <a:tbl>
              <a:tblPr/>
              <a:tblGrid>
                <a:gridCol w="1384560"/>
                <a:gridCol w="1382400"/>
                <a:gridCol w="1382760"/>
                <a:gridCol w="1382760"/>
                <a:gridCol w="1384200"/>
                <a:gridCol w="161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用寿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≤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≤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灯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Text Box 45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这个问题中的总体、个体、样本、样本容量各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8"/>
          <p:cNvSpPr/>
          <p:nvPr/>
        </p:nvSpPr>
        <p:spPr>
          <a:xfrm>
            <a:off x="533520" y="4572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这批灯泡的平均使用寿命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2:27:42Z</dcterms:created>
  <dc:creator>weichuanyi</dc:creator>
  <dc:description/>
  <dc:language>en-US</dc:language>
  <cp:lastModifiedBy>a</cp:lastModifiedBy>
  <dcterms:modified xsi:type="dcterms:W3CDTF">2015-03-17T06:13:20Z</dcterms:modified>
  <cp:revision>30</cp:revision>
  <dc:subject/>
  <dc:title>PowerPoint 演示文稿</dc:title>
</cp:coreProperties>
</file>